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52.wmf" ContentType="image/x-wmf"/>
  <Override PartName="/ppt/media/image50.jpeg" ContentType="image/jpeg"/>
  <Override PartName="/ppt/media/image46.wmf" ContentType="image/x-wmf"/>
  <Override PartName="/ppt/media/image45.wmf" ContentType="image/x-wmf"/>
  <Override PartName="/ppt/media/image44.wmf" ContentType="image/x-wmf"/>
  <Override PartName="/ppt/media/image43.png" ContentType="image/png"/>
  <Override PartName="/ppt/media/image42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15.png" ContentType="image/png"/>
  <Override PartName="/ppt/media/image55.wmf" ContentType="image/x-wmf"/>
  <Override PartName="/ppt/media/image17.png" ContentType="image/png"/>
  <Override PartName="/ppt/media/image57.wmf" ContentType="image/x-wmf"/>
  <Override PartName="/ppt/media/image20.wmf" ContentType="image/x-wmf"/>
  <Override PartName="/ppt/media/image21.wmf" ContentType="image/x-wmf"/>
  <Override PartName="/ppt/media/image60.png" ContentType="image/png"/>
  <Override PartName="/ppt/media/image6.jpeg" ContentType="image/jpeg"/>
  <Override PartName="/ppt/media/image71.png" ContentType="image/png"/>
  <Override PartName="/ppt/media/image69.wmf" ContentType="image/x-wmf"/>
  <Override PartName="/ppt/media/image56.wmf" ContentType="image/x-wmf"/>
  <Override PartName="/ppt/media/image19.wmf" ContentType="image/x-wmf"/>
  <Override PartName="/ppt/media/image58.png" ContentType="image/png"/>
  <Override PartName="/ppt/media/image22.wmf" ContentType="image/x-wmf"/>
  <Override PartName="/ppt/media/image65.png" ContentType="image/png"/>
  <Override PartName="/ppt/media/image26.wmf" ContentType="image/x-wmf"/>
  <Override PartName="/ppt/media/image23.wmf" ContentType="image/x-wmf"/>
  <Override PartName="/ppt/media/image62.png" ContentType="image/png"/>
  <Override PartName="/ppt/media/image24.wmf" ContentType="image/x-wmf"/>
  <Override PartName="/ppt/media/image25.wmf" ContentType="image/x-wmf"/>
  <Override PartName="/ppt/media/image72.png" ContentType="image/png"/>
  <Override PartName="/ppt/media/image70.wmf" ContentType="image/x-wmf"/>
  <Override PartName="/ppt/media/image28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29.wmf" ContentType="image/x-wmf"/>
  <Override PartName="/ppt/media/image63.wmf" ContentType="image/x-wmf"/>
  <Override PartName="/ppt/media/image64.wmf" ContentType="image/x-wmf"/>
  <Override PartName="/ppt/media/image27.wmf" ContentType="image/x-wmf"/>
  <Override PartName="/ppt/media/image18.wmf" ContentType="image/x-wmf"/>
  <Override PartName="/ppt/media/image61.png" ContentType="image/png"/>
  <Override PartName="/ppt/media/image5.jpeg" ContentType="image/jpeg"/>
  <Override PartName="/ppt/media/image11.wmf" ContentType="image/x-wmf"/>
  <Override PartName="/ppt/media/image48.wmf" ContentType="image/x-wmf"/>
  <Override PartName="/ppt/media/image54.wmf" ContentType="image/x-wmf"/>
  <Override PartName="/ppt/media/image9.wmf" ContentType="image/x-wmf"/>
  <Override PartName="/ppt/media/image39.wmf" ContentType="image/x-wmf"/>
  <Override PartName="/ppt/media/image3.jpeg" ContentType="image/jpeg"/>
  <Override PartName="/ppt/media/image4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7.png" ContentType="image/png"/>
  <Override PartName="/ppt/media/image37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8.wmf" ContentType="image/x-wmf"/>
  <Override PartName="/ppt/media/image38.wmf" ContentType="image/x-wmf"/>
  <Override PartName="/ppt/media/image40.png" ContentType="image/png"/>
  <Override PartName="/ppt/media/image14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30.wmf" ContentType="image/x-wmf"/>
  <Override PartName="/ppt/media/image7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  <p:sldId id="321" r:id="rId77"/>
    <p:sldId id="322" r:id="rId78"/>
    <p:sldId id="323" r:id="rId79"/>
    <p:sldId id="324" r:id="rId80"/>
    <p:sldId id="325" r:id="rId81"/>
    <p:sldId id="326" r:id="rId82"/>
    <p:sldId id="327" r:id="rId83"/>
    <p:sldId id="328" r:id="rId84"/>
    <p:sldId id="329" r:id="rId85"/>
    <p:sldId id="330" r:id="rId86"/>
    <p:sldId id="331" r:id="rId87"/>
    <p:sldId id="332" r:id="rId88"/>
    <p:sldId id="333" r:id="rId89"/>
    <p:sldId id="334" r:id="rId90"/>
    <p:sldId id="335" r:id="rId91"/>
    <p:sldId id="336" r:id="rId92"/>
    <p:sldId id="337" r:id="rId93"/>
    <p:sldId id="338" r:id="rId94"/>
    <p:sldId id="339" r:id="rId95"/>
    <p:sldId id="340" r:id="rId96"/>
    <p:sldId id="341" r:id="rId97"/>
    <p:sldId id="342" r:id="rId98"/>
    <p:sldId id="343" r:id="rId99"/>
    <p:sldId id="344" r:id="rId10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slide" Target="slides/slide66.xml"/><Relationship Id="rId78" Type="http://schemas.openxmlformats.org/officeDocument/2006/relationships/slide" Target="slides/slide67.xml"/><Relationship Id="rId79" Type="http://schemas.openxmlformats.org/officeDocument/2006/relationships/slide" Target="slides/slide68.xml"/><Relationship Id="rId80" Type="http://schemas.openxmlformats.org/officeDocument/2006/relationships/slide" Target="slides/slide69.xml"/><Relationship Id="rId81" Type="http://schemas.openxmlformats.org/officeDocument/2006/relationships/slide" Target="slides/slide70.xml"/><Relationship Id="rId82" Type="http://schemas.openxmlformats.org/officeDocument/2006/relationships/slide" Target="slides/slide71.xml"/><Relationship Id="rId83" Type="http://schemas.openxmlformats.org/officeDocument/2006/relationships/slide" Target="slides/slide72.xml"/><Relationship Id="rId84" Type="http://schemas.openxmlformats.org/officeDocument/2006/relationships/slide" Target="slides/slide73.xml"/><Relationship Id="rId85" Type="http://schemas.openxmlformats.org/officeDocument/2006/relationships/slide" Target="slides/slide74.xml"/><Relationship Id="rId86" Type="http://schemas.openxmlformats.org/officeDocument/2006/relationships/slide" Target="slides/slide75.xml"/><Relationship Id="rId87" Type="http://schemas.openxmlformats.org/officeDocument/2006/relationships/slide" Target="slides/slide76.xml"/><Relationship Id="rId88" Type="http://schemas.openxmlformats.org/officeDocument/2006/relationships/slide" Target="slides/slide77.xml"/><Relationship Id="rId89" Type="http://schemas.openxmlformats.org/officeDocument/2006/relationships/slide" Target="slides/slide78.xml"/><Relationship Id="rId90" Type="http://schemas.openxmlformats.org/officeDocument/2006/relationships/slide" Target="slides/slide79.xml"/><Relationship Id="rId91" Type="http://schemas.openxmlformats.org/officeDocument/2006/relationships/slide" Target="slides/slide80.xml"/><Relationship Id="rId92" Type="http://schemas.openxmlformats.org/officeDocument/2006/relationships/slide" Target="slides/slide81.xml"/><Relationship Id="rId93" Type="http://schemas.openxmlformats.org/officeDocument/2006/relationships/slide" Target="slides/slide82.xml"/><Relationship Id="rId94" Type="http://schemas.openxmlformats.org/officeDocument/2006/relationships/slide" Target="slides/slide83.xml"/><Relationship Id="rId95" Type="http://schemas.openxmlformats.org/officeDocument/2006/relationships/slide" Target="slides/slide84.xml"/><Relationship Id="rId96" Type="http://schemas.openxmlformats.org/officeDocument/2006/relationships/slide" Target="slides/slide85.xml"/><Relationship Id="rId97" Type="http://schemas.openxmlformats.org/officeDocument/2006/relationships/slide" Target="slides/slide86.xml"/><Relationship Id="rId98" Type="http://schemas.openxmlformats.org/officeDocument/2006/relationships/slide" Target="slides/slide87.xml"/><Relationship Id="rId99" Type="http://schemas.openxmlformats.org/officeDocument/2006/relationships/slide" Target="slides/slide88.xml"/><Relationship Id="rId100" Type="http://schemas.openxmlformats.org/officeDocument/2006/relationships/slide" Target="slides/slide89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5F4A-1EBF-47DC-A5C7-EB4A73BBE9A7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BEFE-1B68-43E8-A067-A186CB489631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83A5-AEC1-46AB-87E5-227B6F1E8B1B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F3B6-0B72-4FD1-8F53-2330015A33D4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13B2-E348-499E-9979-D6B1FC8707B5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B020-D397-47C4-B045-43BF772EACFF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8DBC-CF78-4C56-8D31-5DC6ACB5EBD8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694A-DE84-430D-825C-E7E750871957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6B2B-FE76-43A9-8D51-0118C17B3845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7581-A606-47D7-A446-AC0480889A86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A3E7-56DE-4F1D-B154-4822E397A6BA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2215-D353-4124-A878-0663CF9C922F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B7B3-1CBE-4463-BADB-B8DEF4D6FD15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F791-9A85-47B1-AD0B-EE296A64B2F0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F561-DD43-41B0-A2B9-255509EA8033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1468-209A-47C9-B3DD-B299172E111B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14AB-F35D-4CF1-9B81-3A71B9694C73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95D8-BA92-4DC6-9736-60D4D4E2B244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893A-B43F-4989-8013-E0A6C6608394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5B42-F4A2-4EBB-857C-E164F0FC4C09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D70E-9A21-49D3-9095-6E0267706F23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FAD7-7EEA-44CD-98E2-29952A24C74F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CC7D-551F-4331-859C-F61EECFEC0B1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1FAB-3C95-4CDF-BEC5-C00C54A635D2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B947-D23E-46AA-B1A9-E49E552C4D92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8BBB-ECAF-4BAE-90B9-CC3DA9F83CFF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CEF5-6153-4A79-B4B3-A2C259EFEA11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E748-21A6-4350-A38A-AE41DC071492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9315-3FBF-448C-A368-636BDE66B1FC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3EE1-F354-4FDD-A32A-832CF2C78B50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9049-F983-4272-9254-2C7895601E67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BA81-12BB-4778-801C-0CF9BEB9F440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0E6C-CD22-4391-A34B-95D66843A531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8CCD-D579-492D-B67B-F395D3276C4D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C6ED-2D57-4D72-A76E-B7D4DE37AF68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084B-592B-40D4-A8D7-6AB848BF506C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C20C-8D85-4B3A-AAD3-62935F5CCADB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2AD9-CB5B-4AE2-B74C-61D2DF7EDB79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1A1D-4D24-41C7-8925-97068610BCCC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1A44-CF14-43CC-990C-3306A786847B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4E33-575A-4FCE-8CE5-D33E75CA1EAC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49E2-F0DE-4D1E-A91F-7777319C19A1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F4B7-ED16-414B-AB2C-E71D3CBE5E37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2D59-E996-4B71-8D6B-3731FBCB0213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A974-9325-466B-A9DE-F91F0D440B88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1AFA-F036-46DA-905D-B74A4FBF6B7A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6FF1-E98B-48AE-B968-C513036F990B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88CF-5A9F-429D-AA46-E6A8A78A4CCD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B95C-8B88-4802-B878-596E4CC7601D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F70B-8718-45D3-AFD5-D0948BA03579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9031-CAD9-47BC-B112-40910236B248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1839-BB88-4B08-B1C5-BB01246F4BF1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8EDA-33B1-4755-9AB7-F54AC1630529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4C93-9999-4DE3-B703-DF68FAE0228E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9516-2779-47CE-BBE8-A3934E1F53A6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DAC0-3B80-4AC5-8A3F-D0D8FEB005BA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2892-2C0D-4C65-A203-673F7ECEA822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D893-977E-4744-8602-BCAC2856BE87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D1E5-ECA1-45D5-B118-04B891EE9287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8D83-2E26-460E-B5BA-5A29E6C348B0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3D32-016D-4351-B590-5BED194F5624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6706-A6B6-4BFE-8079-1AFD8E4D1ECB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60F7-160B-4A21-AADE-4E7AA4ECD91D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91F8-46F8-4048-AD54-A1A871AB6849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4267-9C06-4DC5-895E-72F28344AC83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3B51-2118-41DA-A6C5-6291DC830FC0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CC1C-FF10-4312-B87A-21BE4EFF66EB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9BF6-4204-4CB6-BB87-F234EB74B6DF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AD19-966E-4C43-9093-D09D6FEC9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CC74-6E7C-4723-BB78-9CF949113DB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0E07-F408-4C83-A8FC-D5C0B3EC0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3DE5-F976-4F65-8BB0-49E9B2D0E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C290-E931-4F90-9621-36A866186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7E20-B98C-45AB-B7D4-7F4E24516A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1411-67E8-451F-B111-D456355482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D306-BCE2-4680-B54D-2D24C197F4B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E7B1-E210-4EDB-9CED-55C15DD21ED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8471-9E1E-48B7-B842-00D9C31B067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CFC3-5BEB-44DF-8C0D-DEADA508FAB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41B6-B077-4CE8-A59E-46B978A3665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64120" y="6586200"/>
            <a:ext cx="249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ce11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0EC6-D29E-4B29-ABBA-B398B458EDF2}" type="slidenum">
              <a:rPr b="0" lang="en-AU" sz="900" spc="-1" strike="noStrike">
                <a:solidFill>
                  <a:srgbClr val="ce11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47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071720" y="0"/>
            <a:ext cx="8072280" cy="57862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0"/>
          <p:cNvGrpSpPr/>
          <p:nvPr/>
        </p:nvGrpSpPr>
        <p:grpSpPr>
          <a:xfrm>
            <a:off x="262080" y="5715000"/>
            <a:ext cx="1612800" cy="789120"/>
            <a:chOff x="262080" y="5715000"/>
            <a:chExt cx="1612800" cy="789120"/>
          </a:xfrm>
        </p:grpSpPr>
        <p:sp>
          <p:nvSpPr>
            <p:cNvPr id="53" name="Rectangle 17"/>
            <p:cNvSpPr/>
            <p:nvPr/>
          </p:nvSpPr>
          <p:spPr>
            <a:xfrm flipH="1">
              <a:off x="262080" y="5715000"/>
              <a:ext cx="161280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18" descr="USY_MB1_rgb_Reversed_Standard_Logo.png"/>
            <p:cNvPicPr/>
            <p:nvPr/>
          </p:nvPicPr>
          <p:blipFill>
            <a:blip r:embed="rId3"/>
            <a:stretch/>
          </p:blipFill>
          <p:spPr>
            <a:xfrm>
              <a:off x="433800" y="5889960"/>
              <a:ext cx="126900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4" descr="ITLS-blue-red-no-text"/>
          <p:cNvPicPr/>
          <p:nvPr/>
        </p:nvPicPr>
        <p:blipFill>
          <a:blip r:embed="rId4"/>
          <a:stretch/>
        </p:blipFill>
        <p:spPr>
          <a:xfrm>
            <a:off x="8035920" y="582948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97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71720" y="0"/>
            <a:ext cx="8072280" cy="578628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2" descr="USY_MB1_rgb_Reversed_Standard_Logo.png"/>
          <p:cNvPicPr/>
          <p:nvPr/>
        </p:nvPicPr>
        <p:blipFill>
          <a:blip r:embed="rId3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ITLS-blue-red-no-text"/>
          <p:cNvPicPr/>
          <p:nvPr/>
        </p:nvPicPr>
        <p:blipFill>
          <a:blip r:embed="rId4"/>
          <a:stretch/>
        </p:blipFill>
        <p:spPr>
          <a:xfrm>
            <a:off x="8035920" y="582948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1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Picture 11" descr="lecture_theatre.jpg"/>
          <p:cNvPicPr/>
          <p:nvPr/>
        </p:nvPicPr>
        <p:blipFill>
          <a:blip r:embed="rId3"/>
          <a:srcRect l="12702" t="6509" r="5986" b="13735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4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5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1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Picture 11" descr="quad copy.jpg"/>
          <p:cNvPicPr/>
          <p:nvPr/>
        </p:nvPicPr>
        <p:blipFill>
          <a:blip r:embed="rId3"/>
          <a:srcRect l="21188" t="0" r="1320" b="22060"/>
          <a:stretch/>
        </p:blipFill>
        <p:spPr>
          <a:xfrm>
            <a:off x="0" y="3071880"/>
            <a:ext cx="9144000" cy="3786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0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2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6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2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8" name="Picture 11" descr="science_lab copy.jpg"/>
          <p:cNvPicPr/>
          <p:nvPr/>
        </p:nvPicPr>
        <p:blipFill>
          <a:blip r:embed="rId3"/>
          <a:stretch/>
        </p:blipFill>
        <p:spPr>
          <a:xfrm>
            <a:off x="0" y="3246480"/>
            <a:ext cx="9144000" cy="36115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0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2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6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2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1"/>
          <p:cNvSpPr/>
          <p:nvPr/>
        </p:nvSpPr>
        <p:spPr>
          <a:xfrm flipH="1"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8"/>
          <p:cNvGrpSpPr/>
          <p:nvPr/>
        </p:nvGrpSpPr>
        <p:grpSpPr>
          <a:xfrm>
            <a:off x="223920" y="5248440"/>
            <a:ext cx="1990800" cy="1358640"/>
            <a:chOff x="223920" y="5248440"/>
            <a:chExt cx="1990800" cy="1358640"/>
          </a:xfrm>
        </p:grpSpPr>
        <p:sp>
          <p:nvSpPr>
            <p:cNvPr id="301" name="Rectangle 32"/>
            <p:cNvSpPr/>
            <p:nvPr/>
          </p:nvSpPr>
          <p:spPr>
            <a:xfrm>
              <a:off x="854280" y="5248440"/>
              <a:ext cx="1360440" cy="1358640"/>
            </a:xfrm>
            <a:prstGeom prst="rect">
              <a:avLst/>
            </a:prstGeom>
            <a:solidFill>
              <a:srgbClr val="124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14"/>
            <p:cNvGrpSpPr/>
            <p:nvPr/>
          </p:nvGrpSpPr>
          <p:grpSpPr>
            <a:xfrm>
              <a:off x="223920" y="5967360"/>
              <a:ext cx="1268640" cy="639720"/>
              <a:chOff x="223920" y="5967360"/>
              <a:chExt cx="1268640" cy="639720"/>
            </a:xfrm>
          </p:grpSpPr>
          <p:sp>
            <p:nvSpPr>
              <p:cNvPr id="303" name="Rectangle 15"/>
              <p:cNvSpPr/>
              <p:nvPr/>
            </p:nvSpPr>
            <p:spPr>
              <a:xfrm flipH="1">
                <a:off x="223920" y="5967360"/>
                <a:ext cx="1268640" cy="639720"/>
              </a:xfrm>
              <a:prstGeom prst="rect">
                <a:avLst/>
              </a:prstGeom>
              <a:solidFill>
                <a:srgbClr val="ce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4" name="Picture 17" descr="USY_MB1_rgb_Reversed_Standard_Logo.png"/>
              <p:cNvPicPr/>
              <p:nvPr/>
            </p:nvPicPr>
            <p:blipFill>
              <a:blip r:embed="rId3"/>
              <a:stretch/>
            </p:blipFill>
            <p:spPr>
              <a:xfrm>
                <a:off x="358920" y="6108480"/>
                <a:ext cx="997920" cy="35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3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 flipH="1"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4"/>
          <p:cNvGrpSpPr/>
          <p:nvPr/>
        </p:nvGrpSpPr>
        <p:grpSpPr>
          <a:xfrm>
            <a:off x="223920" y="5248440"/>
            <a:ext cx="1990800" cy="1358640"/>
            <a:chOff x="223920" y="5248440"/>
            <a:chExt cx="1990800" cy="1358640"/>
          </a:xfrm>
        </p:grpSpPr>
        <p:sp>
          <p:nvSpPr>
            <p:cNvPr id="351" name="Rectangle 17"/>
            <p:cNvSpPr/>
            <p:nvPr/>
          </p:nvSpPr>
          <p:spPr>
            <a:xfrm>
              <a:off x="854280" y="5248440"/>
              <a:ext cx="1360440" cy="1358640"/>
            </a:xfrm>
            <a:prstGeom prst="rect">
              <a:avLst/>
            </a:prstGeom>
            <a:solidFill>
              <a:srgbClr val="124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14"/>
            <p:cNvGrpSpPr/>
            <p:nvPr/>
          </p:nvGrpSpPr>
          <p:grpSpPr>
            <a:xfrm>
              <a:off x="223920" y="5967360"/>
              <a:ext cx="1268640" cy="639720"/>
              <a:chOff x="223920" y="5967360"/>
              <a:chExt cx="1268640" cy="639720"/>
            </a:xfrm>
          </p:grpSpPr>
          <p:sp>
            <p:nvSpPr>
              <p:cNvPr id="353" name="Rectangle 19"/>
              <p:cNvSpPr/>
              <p:nvPr/>
            </p:nvSpPr>
            <p:spPr>
              <a:xfrm flipH="1">
                <a:off x="223920" y="5967360"/>
                <a:ext cx="1268640" cy="639720"/>
              </a:xfrm>
              <a:prstGeom prst="rect">
                <a:avLst/>
              </a:prstGeom>
              <a:solidFill>
                <a:srgbClr val="ce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4" name="Picture 20" descr="USY_MB1_rgb_Reversed_Standard_Logo.png"/>
              <p:cNvPicPr/>
              <p:nvPr/>
            </p:nvPicPr>
            <p:blipFill>
              <a:blip r:embed="rId3"/>
              <a:stretch/>
            </p:blipFill>
            <p:spPr>
              <a:xfrm>
                <a:off x="358920" y="6108480"/>
                <a:ext cx="997920" cy="35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3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9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32000" y="285840"/>
            <a:ext cx="7704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ixed Multinomial Logi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429000" y="5286240"/>
            <a:ext cx="5572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DCA| 18-22 August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429000" y="5000400"/>
            <a:ext cx="5572080" cy="2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74600" indent="-174600"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ubtitle 12"/>
          <p:cNvSpPr/>
          <p:nvPr/>
        </p:nvSpPr>
        <p:spPr>
          <a:xfrm>
            <a:off x="1332000" y="1362240"/>
            <a:ext cx="770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0000"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Arial"/>
              </a:rPr>
              <a:t>AKA the mixed logit (ML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Arial"/>
              </a:rPr>
              <a:t>AKA random parameter logit (RPL)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1019160" y="3330720"/>
            <a:ext cx="8124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Reference Source: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 Hensher, D.A., Rose, J.M., and Greene, W.H. (200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Applied Choice Analysis: A Primer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, Cambridge University Press, Cambridge (Second edition to appear 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185760" y="2905200"/>
            <a:ext cx="4033800" cy="33624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"/>
          <p:cNvPicPr/>
          <p:nvPr/>
        </p:nvPicPr>
        <p:blipFill>
          <a:blip r:embed="rId2"/>
          <a:stretch/>
        </p:blipFill>
        <p:spPr>
          <a:xfrm>
            <a:off x="4219560" y="2952720"/>
            <a:ext cx="4908600" cy="33339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"/>
          <p:cNvPicPr/>
          <p:nvPr/>
        </p:nvPicPr>
        <p:blipFill>
          <a:blip r:embed="rId3"/>
          <a:stretch/>
        </p:blipFill>
        <p:spPr>
          <a:xfrm>
            <a:off x="1376280" y="1300320"/>
            <a:ext cx="6715080" cy="1590480"/>
          </a:xfrm>
          <a:prstGeom prst="rect">
            <a:avLst/>
          </a:prstGeom>
          <a:ln w="0">
            <a:noFill/>
          </a:ln>
        </p:spPr>
      </p:pic>
      <p:sp>
        <p:nvSpPr>
          <p:cNvPr id="494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Arial"/>
              </a:rPr>
              <a:t>: Heterogeneity of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Heterogeneity of p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other way of writing the utility function of the MMNL model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= respondent,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= alternative,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= attribute and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j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ID EV1 and where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k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az-Cyrl-AZ" sz="2000" spc="-1" strike="noStrike">
                <a:solidFill>
                  <a:srgbClr val="000000"/>
                </a:solidFill>
                <a:latin typeface="Calibri"/>
              </a:rPr>
              <a:t>Ѳ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ote however that the resulting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choice probabilities are now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  dependent on the value of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4A90-FDBF-46E6-BCB9-6609D1FA39F0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Object 2"/>
          <p:cNvGraphicFramePr/>
          <p:nvPr/>
        </p:nvGraphicFramePr>
        <p:xfrm>
          <a:off x="817560" y="2084400"/>
          <a:ext cx="317340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2084400"/>
                    <a:ext cx="317340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Object 8"/>
          <p:cNvGraphicFramePr/>
          <p:nvPr/>
        </p:nvGraphicFramePr>
        <p:xfrm>
          <a:off x="4521240" y="3817800"/>
          <a:ext cx="3300480" cy="22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1240" y="3817800"/>
                    <a:ext cx="3300480" cy="22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NL Mode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Relaxing I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Relaxation of I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50920" y="3011040"/>
            <a:ext cx="8663040" cy="21891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Variance in the unobserved individual-specific parameters induces correlation over alternatives in the stochastic portion of utility. As a result, MMNL model does not exhibit the restrictive forecasting patterns of standard logit (i.e., it does not exhibit independence from irrelevant alternatives)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283f6e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283f6e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283f6e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283f6e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283f6e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velt and Train (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12760" y="1963440"/>
            <a:ext cx="866304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ID and the MM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DA52-3EBB-4622-B448-B5B76B91E3EA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Relaxation of I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41200" y="1590840"/>
            <a:ext cx="8663040" cy="43243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math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For the moment, assume </a:t>
            </a:r>
            <a:r>
              <a:rPr b="0" lang="en-AU" sz="19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 does not vary across choice situations and that the marginal utility of attribute k is the same in all alternatives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individual’s preference structure does not change during the experime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et utility be written as (nominally, in matrix notatio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n, expanding the term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F160-5700-45EF-B0D1-E918DAB87517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2"/>
          <p:cNvGraphicFramePr/>
          <p:nvPr/>
        </p:nvGraphicFramePr>
        <p:xfrm>
          <a:off x="1316160" y="3852720"/>
          <a:ext cx="36208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6160" y="3852720"/>
                    <a:ext cx="36208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Object 11"/>
          <p:cNvGraphicFramePr/>
          <p:nvPr/>
        </p:nvGraphicFramePr>
        <p:xfrm>
          <a:off x="1395360" y="5703840"/>
          <a:ext cx="358956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5360" y="5703840"/>
                    <a:ext cx="3589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Rounded Rectangle 11"/>
          <p:cNvSpPr/>
          <p:nvPr/>
        </p:nvSpPr>
        <p:spPr>
          <a:xfrm>
            <a:off x="3295800" y="5724360"/>
            <a:ext cx="1895400" cy="600120"/>
          </a:xfrm>
          <a:prstGeom prst="roundRect">
            <a:avLst>
              <a:gd name="adj" fmla="val 16667"/>
            </a:avLst>
          </a:prstGeom>
          <a:solidFill>
            <a:srgbClr val="ce1126">
              <a:alpha val="19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2"/>
          <p:cNvSpPr/>
          <p:nvPr/>
        </p:nvSpPr>
        <p:spPr>
          <a:xfrm>
            <a:off x="5591160" y="5838840"/>
            <a:ext cx="1619280" cy="368280"/>
          </a:xfrm>
          <a:prstGeom prst="rect">
            <a:avLst/>
          </a:prstGeom>
          <a:solidFill>
            <a:srgbClr val="fbcacf"/>
          </a:solidFill>
          <a:ln w="19080">
            <a:solidFill>
              <a:srgbClr val="da4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Relaxation of I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sider two alternatives, i and j, with a generic random coefficent,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D69D-D208-465B-B7D3-C9B487BC1484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Object 2"/>
          <p:cNvGraphicFramePr/>
          <p:nvPr/>
        </p:nvGraphicFramePr>
        <p:xfrm>
          <a:off x="1176480" y="2878200"/>
          <a:ext cx="3411360" cy="5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6480" y="2878200"/>
                    <a:ext cx="34113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3"/>
          <p:cNvGraphicFramePr/>
          <p:nvPr/>
        </p:nvGraphicFramePr>
        <p:xfrm>
          <a:off x="1192320" y="2252520"/>
          <a:ext cx="3381120" cy="5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2320" y="2252520"/>
                    <a:ext cx="33811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4"/>
          <p:cNvGraphicFramePr/>
          <p:nvPr/>
        </p:nvGraphicFramePr>
        <p:xfrm>
          <a:off x="958680" y="3908520"/>
          <a:ext cx="6674040" cy="13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8680" y="3908520"/>
                    <a:ext cx="667404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Text Box 4"/>
          <p:cNvSpPr/>
          <p:nvPr/>
        </p:nvSpPr>
        <p:spPr>
          <a:xfrm>
            <a:off x="349200" y="5530680"/>
            <a:ext cx="8489880" cy="642600"/>
          </a:xfrm>
          <a:prstGeom prst="rect">
            <a:avLst/>
          </a:prstGeom>
          <a:solidFill>
            <a:srgbClr val="12416c"/>
          </a:solidFill>
          <a:ln w="9360">
            <a:solidFill>
              <a:srgbClr val="124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Hence random parameters can produce correlation over alternatives.  This relaxes the independence assumption (rather incidenta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NL Mode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Esti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ed model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(unmixed) logit model, we estimat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maximi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mixed logit model, with random paramet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we should maxim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imation of the Mixed Logit Model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Object 2"/>
          <p:cNvGraphicFramePr/>
          <p:nvPr/>
        </p:nvGraphicFramePr>
        <p:xfrm>
          <a:off x="1262160" y="2325600"/>
          <a:ext cx="587376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2325600"/>
                    <a:ext cx="587376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Object 3"/>
          <p:cNvGraphicFramePr/>
          <p:nvPr/>
        </p:nvGraphicFramePr>
        <p:xfrm>
          <a:off x="6305400" y="3513240"/>
          <a:ext cx="14004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5400" y="3513240"/>
                    <a:ext cx="14004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2"/>
          <p:cNvGraphicFramePr/>
          <p:nvPr/>
        </p:nvGraphicFramePr>
        <p:xfrm>
          <a:off x="863640" y="4327560"/>
          <a:ext cx="5918040" cy="191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4327560"/>
                    <a:ext cx="5918040" cy="19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ed model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50920" y="1773360"/>
            <a:ext cx="8663040" cy="19224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possible to maximize L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ntains the unobserved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 it cannot be computed for any observ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 maximize a function that involves the expected values of the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sible Log Likeli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2"/>
          <p:cNvGraphicFramePr/>
          <p:nvPr/>
        </p:nvGraphicFramePr>
        <p:xfrm>
          <a:off x="698400" y="3708360"/>
          <a:ext cx="6477120" cy="19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3708360"/>
                    <a:ext cx="647712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ed model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compute the expected val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Object 2"/>
          <p:cNvGraphicFramePr/>
          <p:nvPr/>
        </p:nvGraphicFramePr>
        <p:xfrm>
          <a:off x="749160" y="1943280"/>
          <a:ext cx="7191360" cy="40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943280"/>
                    <a:ext cx="719136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Point: The MNL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ed model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Object 2"/>
          <p:cNvGraphicFramePr/>
          <p:nvPr/>
        </p:nvGraphicFramePr>
        <p:xfrm>
          <a:off x="301680" y="1943280"/>
          <a:ext cx="8405640" cy="34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1943280"/>
                    <a:ext cx="840564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Computing the expecte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ed model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ing the expecte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2"/>
          <p:cNvGraphicFramePr/>
          <p:nvPr/>
        </p:nvGraphicFramePr>
        <p:xfrm>
          <a:off x="895320" y="1874880"/>
          <a:ext cx="6688080" cy="41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1874880"/>
                    <a:ext cx="668808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ed model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22120" y="2382840"/>
            <a:ext cx="8663040" cy="20750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obtain the "random draws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draws, R, do we need to use to get a good approxi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Placeholder 3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Computing the expecte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ed model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1" name="Object 2"/>
          <p:cNvGraphicFramePr/>
          <p:nvPr/>
        </p:nvGraphicFramePr>
        <p:xfrm>
          <a:off x="533520" y="2162160"/>
          <a:ext cx="7731000" cy="30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62160"/>
                    <a:ext cx="773100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Text Placeholder 3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Simulated log likeli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sider the equation for a random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k are population level parameter estim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is a random draw from some underlying (multivariate)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hat do the parameters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7495-F1D5-4256-92F8-309F981B165C}" type="slidenum">
              <a:rPr b="0" lang="en-US" sz="8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Object 2"/>
          <p:cNvGraphicFramePr/>
          <p:nvPr/>
        </p:nvGraphicFramePr>
        <p:xfrm>
          <a:off x="1660680" y="2128680"/>
          <a:ext cx="250020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2128680"/>
                    <a:ext cx="2500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0" name="Picture 2" descr=""/>
          <p:cNvPicPr/>
          <p:nvPr/>
        </p:nvPicPr>
        <p:blipFill>
          <a:blip r:embed="rId3"/>
          <a:stretch/>
        </p:blipFill>
        <p:spPr>
          <a:xfrm>
            <a:off x="2990880" y="3508200"/>
            <a:ext cx="4276800" cy="2697480"/>
          </a:xfrm>
          <a:prstGeom prst="rect">
            <a:avLst/>
          </a:prstGeom>
          <a:ln w="0">
            <a:noFill/>
          </a:ln>
        </p:spPr>
      </p:pic>
      <p:sp>
        <p:nvSpPr>
          <p:cNvPr id="571" name="TextBox 12"/>
          <p:cNvSpPr/>
          <p:nvPr/>
        </p:nvSpPr>
        <p:spPr>
          <a:xfrm>
            <a:off x="444600" y="4133880"/>
            <a:ext cx="8056440" cy="95436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Notice that we do not know what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i="1" lang="en-A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k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 is for any particular respondent </a:t>
            </a: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  as z</a:t>
            </a:r>
            <a:r>
              <a:rPr b="0" i="1" lang="en-A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sjk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 is a random draw from some underlying distribution. As such, the (</a:t>
            </a: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conditional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) probabilities are a function of what draw is obser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NL Mode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ake a draw from </a:t>
            </a:r>
            <a:r>
              <a:rPr b="0" i="1" lang="en-AU" sz="2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n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az-Cyrl-AZ" sz="2200" spc="-1" strike="noStrike">
                <a:solidFill>
                  <a:srgbClr val="000000"/>
                </a:solidFill>
                <a:latin typeface="Calibri"/>
              </a:rPr>
              <a:t>Ѳ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Calculate the conditional (logit) probability for this dra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Repeat many ti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Average the choice probabil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imulation of choice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A42D-240D-4E9F-BD6D-EC4AF98FA447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Object 2"/>
          <p:cNvGraphicFramePr/>
          <p:nvPr/>
        </p:nvGraphicFramePr>
        <p:xfrm>
          <a:off x="665280" y="2052720"/>
          <a:ext cx="552132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2052720"/>
                    <a:ext cx="552132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Rectangle 10"/>
          <p:cNvSpPr/>
          <p:nvPr/>
        </p:nvSpPr>
        <p:spPr>
          <a:xfrm>
            <a:off x="4948560" y="2641680"/>
            <a:ext cx="388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333440" indent="-34272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we use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Object 9"/>
          <p:cNvGraphicFramePr/>
          <p:nvPr/>
        </p:nvGraphicFramePr>
        <p:xfrm>
          <a:off x="4813200" y="4970520"/>
          <a:ext cx="2268720" cy="14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3200" y="4970520"/>
                    <a:ext cx="226872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sider the fact that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j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re random draws from some underlying (multivariate)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f we estimate the same model twice, unless we control this explicitly, different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j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re likely to be obse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nsid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90AB-3EAD-47EB-8EFF-546EB920C771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8" descr=""/>
          <p:cNvPicPr/>
          <p:nvPr/>
        </p:nvPicPr>
        <p:blipFill>
          <a:blip r:embed="rId1"/>
          <a:stretch/>
        </p:blipFill>
        <p:spPr>
          <a:xfrm>
            <a:off x="1023840" y="3267000"/>
            <a:ext cx="67532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s will lead to diffe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d henc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d hence different estimates of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tting the ‘seed’ of the random number generator will solve the problem of different strings of pseudo-random dra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hich is not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F1FD-F71A-4927-9A26-13093B219F2E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Object 2"/>
          <p:cNvGraphicFramePr/>
          <p:nvPr/>
        </p:nvGraphicFramePr>
        <p:xfrm>
          <a:off x="3076560" y="3135240"/>
          <a:ext cx="298152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6560" y="3135240"/>
                    <a:ext cx="29815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3"/>
          <p:cNvGraphicFramePr/>
          <p:nvPr/>
        </p:nvGraphicFramePr>
        <p:xfrm>
          <a:off x="3573360" y="1346040"/>
          <a:ext cx="2492640" cy="16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3360" y="1346040"/>
                    <a:ext cx="249264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t, if not enough draws,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are taken, then the coverage of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az-Cyrl-AZ" sz="2000" spc="-1" strike="noStrike">
                <a:solidFill>
                  <a:srgbClr val="000000"/>
                </a:solidFill>
                <a:latin typeface="Arial"/>
              </a:rPr>
              <a:t>Ѳ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 may be sparse and insufficient to give a good approxi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1743-6720-4B04-A1A4-12ED57636354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5" descr=""/>
          <p:cNvPicPr/>
          <p:nvPr/>
        </p:nvPicPr>
        <p:blipFill>
          <a:blip r:embed="rId1"/>
          <a:stretch/>
        </p:blipFill>
        <p:spPr>
          <a:xfrm>
            <a:off x="157320" y="2938320"/>
            <a:ext cx="8772480" cy="28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troduction: The MN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152880" y="2163240"/>
            <a:ext cx="5703840" cy="3418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MNL model represents the mostly widely used choic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ever the model is based on very strict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ID random components of 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dependence of observed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Homogeneity of preferences – the same preference weights, </a:t>
            </a:r>
            <a:r>
              <a:rPr b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, apply to all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e MN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56C5-5A5E-4B03-BD8C-F388754C9F2E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611280" y="2060640"/>
          <a:ext cx="2406600" cy="3657600"/>
        </p:xfrm>
        <a:graphic>
          <a:graphicData uri="http://schemas.openxmlformats.org/drawingml/2006/table">
            <a:tbl>
              <a:tblPr/>
              <a:tblGrid>
                <a:gridCol w="1096920"/>
                <a:gridCol w="541440"/>
                <a:gridCol w="7682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7.6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7.7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6.9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8.9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1.6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0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6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37.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us, if pseudo random draws are taken from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j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then it is necessary to fix the seed for the draws during estimation, otherwise different parameter estimates will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t is also necessary to take a large number of draws to ensure coverage of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Tahoma"/>
              </a:rPr>
              <a:t>β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az-Cyrl-AZ" sz="2000" spc="-1" strike="noStrike">
                <a:solidFill>
                  <a:srgbClr val="000000"/>
                </a:solidFill>
                <a:latin typeface="Arial"/>
              </a:rPr>
              <a:t>Ѳ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How many is enoug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38D7-0839-49F8-A99D-E2C003D17343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406440" y="3759120"/>
            <a:ext cx="8318520" cy="642600"/>
          </a:xfrm>
          <a:prstGeom prst="rect">
            <a:avLst/>
          </a:prstGeom>
          <a:solidFill>
            <a:srgbClr val="12416c"/>
          </a:solidFill>
          <a:ln w="9360">
            <a:solidFill>
              <a:srgbClr val="124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How many draws represents a large number of draws remains an open debate. Up to 1,000 random draws are often used. Sometimes m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406440" y="4530600"/>
            <a:ext cx="8318520" cy="916920"/>
          </a:xfrm>
          <a:prstGeom prst="rect">
            <a:avLst/>
          </a:prstGeom>
          <a:solidFill>
            <a:srgbClr val="12416c"/>
          </a:solidFill>
          <a:ln w="9360">
            <a:solidFill>
              <a:srgbClr val="124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Analysts often use small numbers of draws (50-100) for testing and exploratory analysis, then use a large number of draws (1,000+) once the final model form is decided up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ther than use pseudo random draws, a number of researchers advise using quasi random (or intelligent) dr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si-random draws (Halton draws, Sobol draws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ified latin hypercube (MLHS) dra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lligent draws select are not (pseudo-) random.  They are computed deterministically in such a way that they cover the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Tahoma"/>
              </a:rPr>
              <a:t>β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az-Cyrl-AZ" sz="2000" spc="-1" strike="noStrike">
                <a:solidFill>
                  <a:srgbClr val="000000"/>
                </a:solidFill>
                <a:latin typeface="Arial"/>
              </a:rPr>
              <a:t>Ѳ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 space with as few draws as is possible. There is no problem of simulation ‘noise’ or simulation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lligent draws are always the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nother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E9D2-47D5-472F-9EA9-C0A76109D8B4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alton draws are sequences of values that are specific functions of a prime number and the sequence of integers:  H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pi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=  Halton(p,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ton sequences are therefore just tables of values with a range between 0 and 1, as below, of what can be thought of as prob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andom parameter is assigned a different column from th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E70B-3CF3-490E-A672-C189D81F19EC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38" descr=""/>
          <p:cNvPicPr/>
          <p:nvPr/>
        </p:nvPicPr>
        <p:blipFill>
          <a:blip r:embed="rId1"/>
          <a:stretch/>
        </p:blipFill>
        <p:spPr>
          <a:xfrm>
            <a:off x="295200" y="3790800"/>
            <a:ext cx="8286840" cy="196236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Halton dr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that the random parameter draws,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j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re no longer stochastic, and hence you will obtain the same model every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lso, the probabilities are chosen specifically to cover the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az-Cyrl-AZ" sz="2000" spc="-1" strike="noStrike">
                <a:solidFill>
                  <a:srgbClr val="000000"/>
                </a:solidFill>
                <a:latin typeface="Arial"/>
              </a:rPr>
              <a:t>Ѳ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 space with as few draws as is poss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ntelligent dr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8622-2ADA-4722-9B68-656C545902C2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6" descr=""/>
          <p:cNvPicPr/>
          <p:nvPr/>
        </p:nvPicPr>
        <p:blipFill>
          <a:blip r:embed="rId1"/>
          <a:stretch/>
        </p:blipFill>
        <p:spPr>
          <a:xfrm>
            <a:off x="142920" y="3181320"/>
            <a:ext cx="8763120" cy="25718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7" descr=""/>
          <p:cNvPicPr/>
          <p:nvPr/>
        </p:nvPicPr>
        <p:blipFill>
          <a:blip r:embed="rId2"/>
          <a:stretch/>
        </p:blipFill>
        <p:spPr>
          <a:xfrm>
            <a:off x="876240" y="5724360"/>
            <a:ext cx="758196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241200" y="1763280"/>
            <a:ext cx="8663040" cy="13892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ossible shortcoming of  Halton sequences is the fact that the individual sequences are correlated with each other, leading to problems with poor multi-dimensional coverage in models with many random parameters.   ('Many' is more than 2 or 3 or 4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1F4F-86F7-4A7B-A26F-A70793C36F2E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231840" y="1763640"/>
            <a:ext cx="8663040" cy="28656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draw type are Modified Latin Hypercube Sampling (ML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random paramet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the 0-1 space into R evenly spaced points (e.g., {0,0.1,0.2,…,0.9}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random number between 0 and 1/R to each point (e.g., 0.03; {0,0.1,0.2,…,0.9} →{0.03,0.13,0.23,…,0.93}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ly shuffle the order (e.g., 0.53,0.33,0.93,…,0.73}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A5CB-4E0F-47DB-9898-ABA73978613D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Placeholder 1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ML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s far, we have assumed that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j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re drawn from (multivariate) normal distrib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ther distributions can be assumed however. Cons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distribution from which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re drawn will dictate the shape of the population distributions,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Tahoma"/>
              </a:rPr>
              <a:t>β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az-Cyrl-AZ" sz="2000" spc="-1" strike="noStrike">
                <a:solidFill>
                  <a:srgbClr val="000000"/>
                </a:solidFill>
                <a:latin typeface="Arial"/>
              </a:rPr>
              <a:t>Ѳ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.  For example, the set supported in NLOGIT includ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istribution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DE41-7A5E-4153-BC37-F1F870FDC1DF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Object 2"/>
          <p:cNvGraphicFramePr/>
          <p:nvPr/>
        </p:nvGraphicFramePr>
        <p:xfrm>
          <a:off x="2222640" y="3038400"/>
          <a:ext cx="24987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3038400"/>
                    <a:ext cx="2498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TextBox 8"/>
          <p:cNvSpPr/>
          <p:nvPr/>
        </p:nvSpPr>
        <p:spPr>
          <a:xfrm>
            <a:off x="1447920" y="4626000"/>
            <a:ext cx="201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i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0"/>
          <p:cNvSpPr/>
          <p:nvPr/>
        </p:nvSpPr>
        <p:spPr>
          <a:xfrm>
            <a:off x="3219480" y="4626000"/>
            <a:ext cx="256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l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eb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n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1"/>
          <p:cNvSpPr/>
          <p:nvPr/>
        </p:nvSpPr>
        <p:spPr>
          <a:xfrm>
            <a:off x="5505480" y="4645080"/>
            <a:ext cx="350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yle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ew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uncated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mm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NL Mode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Practical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of the MMNL requires that the analyst make a number of estimation related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include in the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treat as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istributional form should the parameters tak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type of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draws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draws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use in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cisions, decisions, deci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26F0-350F-4540-B5C9-D31988C1321A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of the MMNL requires that the analyst make a number of estimation related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include in the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88a0b5"/>
                </a:solidFill>
                <a:latin typeface="Arial"/>
              </a:rPr>
              <a:t>What parameters to treat as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istributional form should the parameters tak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type of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draws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use in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cisions, decisions, deci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ED03-9BCD-4BD5-A1AB-AEDF8883B5EE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troduction: The MN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e MN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6226-D713-42F2-B8EA-2CF633E121A9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5219640" y="6553080"/>
            <a:ext cx="34671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17C1-487F-4509-AE7F-FC575773287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utility functions of the MNL model may be written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500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= respondent, 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= choice task, 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= alternative, 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=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sulting in choice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2"/>
          <p:cNvGraphicFramePr/>
          <p:nvPr/>
        </p:nvGraphicFramePr>
        <p:xfrm>
          <a:off x="639720" y="2265480"/>
          <a:ext cx="612000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2265480"/>
                    <a:ext cx="612000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3"/>
          <p:cNvGraphicFramePr/>
          <p:nvPr/>
        </p:nvGraphicFramePr>
        <p:xfrm>
          <a:off x="4260960" y="4255920"/>
          <a:ext cx="2319120" cy="19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0960" y="4255920"/>
                    <a:ext cx="231912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of random parameter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0AE7-C77B-4570-A920-CACB76494314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2664000" y="1770120"/>
          <a:ext cx="3876480" cy="4735440"/>
        </p:xfrm>
        <a:graphic>
          <a:graphicData uri="http://schemas.openxmlformats.org/drawingml/2006/table">
            <a:tbl>
              <a:tblPr/>
              <a:tblGrid>
                <a:gridCol w="1168200"/>
                <a:gridCol w="662040"/>
                <a:gridCol w="692280"/>
                <a:gridCol w="663480"/>
                <a:gridCol w="69048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1 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2 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6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9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9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9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6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1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7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9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6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5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5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9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9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3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3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8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9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4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2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9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7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8.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09.4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of the MMNL requires that the analyst make a number of estimation related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include in the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treat as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88a0b5"/>
                </a:solidFill>
                <a:latin typeface="Arial"/>
              </a:rPr>
              <a:t>What distributional form should the parameters tak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type of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many draws to use in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cisions, decisions, deci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93EF-8EC2-485D-AADB-3BB82CDA2652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of distribution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68A2-D90B-4D49-8A8E-5C14D979CFF7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700200" y="1816200"/>
          <a:ext cx="7867440" cy="4543200"/>
        </p:xfrm>
        <a:graphic>
          <a:graphicData uri="http://schemas.openxmlformats.org/drawingml/2006/table">
            <a:tbl>
              <a:tblPr/>
              <a:tblGrid>
                <a:gridCol w="1295280"/>
                <a:gridCol w="858960"/>
                <a:gridCol w="730080"/>
                <a:gridCol w="901800"/>
                <a:gridCol w="730080"/>
                <a:gridCol w="858960"/>
                <a:gridCol w="730080"/>
                <a:gridCol w="858960"/>
                <a:gridCol w="903240"/>
              </a:tblGrid>
              <a:tr h="239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1 (N) 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2 (L)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(Halton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3 (T) 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4 (U) 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5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.1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9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5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8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8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4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.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9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0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3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8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3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9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.14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9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8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7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 gridSpan="9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Paramet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mea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8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7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7.7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std dev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4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4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7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.7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mea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.5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8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90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std dev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6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8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6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3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9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 gridSpan="9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aramet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7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9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6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0.7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6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4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8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3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4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9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8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6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 gridSpan="9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3.2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92.2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2.4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8.1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of distribution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871C-C6E8-4EFB-B663-46F00C474D48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449360" y="1816200"/>
          <a:ext cx="6337440" cy="4543200"/>
        </p:xfrm>
        <a:graphic>
          <a:graphicData uri="http://schemas.openxmlformats.org/drawingml/2006/table">
            <a:tbl>
              <a:tblPr/>
              <a:tblGrid>
                <a:gridCol w="1295280"/>
                <a:gridCol w="858960"/>
                <a:gridCol w="870120"/>
                <a:gridCol w="901440"/>
                <a:gridCol w="719280"/>
                <a:gridCol w="858960"/>
                <a:gridCol w="833400"/>
              </a:tblGrid>
              <a:tr h="239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1 (Mix 1) 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2 Mix 2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3 Mix 1) 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4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5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4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5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3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.2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5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3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5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8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4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8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5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8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5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3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3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 gridSpan="7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.55Random Paramet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mean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0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7.6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1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std dev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29) (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45) (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55) (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mean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13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90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std dev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99) (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8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82) (U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1) (U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 gridSpan="7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aramet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1.7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2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4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4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6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7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9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9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9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0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2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 gridSpan="7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90.6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85.8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16.2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of the MMNL requires that the analyst make a number of estimation related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include in the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treat as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istributional form should the parameters tak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88a0b5"/>
                </a:solidFill>
                <a:latin typeface="Arial"/>
              </a:rPr>
              <a:t>What type of </a:t>
            </a:r>
            <a:r>
              <a:rPr b="1" i="1" lang="en-AU" sz="1800" spc="-1" strike="noStrike">
                <a:solidFill>
                  <a:srgbClr val="88a0b5"/>
                </a:solidFill>
                <a:latin typeface="Arial"/>
              </a:rPr>
              <a:t>draws </a:t>
            </a:r>
            <a:r>
              <a:rPr b="1" lang="en-AU" sz="1800" spc="-1" strike="noStrike">
                <a:solidFill>
                  <a:srgbClr val="88a0b5"/>
                </a:solidFill>
                <a:latin typeface="Arial"/>
              </a:rPr>
              <a:t>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draws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use in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cisions, decisions, deci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5605-1E77-4A2A-BBF2-EA33F1097F54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of type of dr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BD2D-4EF3-47EE-B37F-E127B6AF0C3B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631800" y="1871640"/>
          <a:ext cx="7878960" cy="4308480"/>
        </p:xfrm>
        <a:graphic>
          <a:graphicData uri="http://schemas.openxmlformats.org/drawingml/2006/table">
            <a:tbl>
              <a:tblPr/>
              <a:tblGrid>
                <a:gridCol w="1106640"/>
                <a:gridCol w="662040"/>
                <a:gridCol w="691920"/>
                <a:gridCol w="663480"/>
                <a:gridCol w="690840"/>
                <a:gridCol w="663480"/>
                <a:gridCol w="692280"/>
                <a:gridCol w="661680"/>
                <a:gridCol w="692280"/>
                <a:gridCol w="662040"/>
                <a:gridCol w="692280"/>
              </a:tblGrid>
              <a:tr h="2437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ndom 1 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ndom 2 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ndom 3 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 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uffled Halton  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6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9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9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5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7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5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9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4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6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4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5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9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9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5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3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8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4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11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1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8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5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8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5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9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6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2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4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6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5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0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9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9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4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6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5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6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9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4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11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3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7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0.2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8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1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9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16)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1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4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5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7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4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4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9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8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1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11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8.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7.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19.7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3.2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08.2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of the MMNL requires that the analyst make a number of estimation related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include in the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treat as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istributional form should the parameters tak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type of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88a0b5"/>
                </a:solidFill>
                <a:latin typeface="Arial"/>
              </a:rPr>
              <a:t>How many draws to use in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cisions, decisions, deci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FA99-F118-426A-9E9E-B17723947BE7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umber of dr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D96C-F218-49D6-9785-0B2E8BC65C71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592200" y="1811160"/>
          <a:ext cx="7959600" cy="4724640"/>
        </p:xfrm>
        <a:graphic>
          <a:graphicData uri="http://schemas.openxmlformats.org/drawingml/2006/table">
            <a:tbl>
              <a:tblPr/>
              <a:tblGrid>
                <a:gridCol w="1187280"/>
                <a:gridCol w="662040"/>
                <a:gridCol w="692280"/>
                <a:gridCol w="663480"/>
                <a:gridCol w="690480"/>
                <a:gridCol w="663840"/>
                <a:gridCol w="691920"/>
                <a:gridCol w="662040"/>
                <a:gridCol w="692280"/>
                <a:gridCol w="662040"/>
                <a:gridCol w="691920"/>
              </a:tblGrid>
              <a:tr h="2318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1 (50 Halto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2 (100 Halto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3 (250 Halto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4 (500 Halto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5 (1000) Halt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8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4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8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1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8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1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8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6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2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6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1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5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1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4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3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1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1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0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9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11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2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8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0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0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7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6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4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3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3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8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0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1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3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0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6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3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7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2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0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1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11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3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2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1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6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1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8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8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9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4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9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9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6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0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0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0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3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11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imation 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Minu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11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16.3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3.2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15.7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15.4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08.2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of the MMNL requires that the analyst make a number of estimation related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include in the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treat as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istributional form should the parameters tak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type of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many draws to use in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cisions, decisions, deci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78F5-1E42-4E53-87DA-A991B6F486B4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NL mode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Correlated random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troduction: The MN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e MN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924D-9E45-4FA3-B856-2C0939757CA9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95320" y="2039400"/>
            <a:ext cx="7182000" cy="3418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MNL model represents the mostly widely used choic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ever the model is based on very strict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ID random components of 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dependence of observed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Homogeneity of preferences – the same preference weights, </a:t>
            </a:r>
            <a:r>
              <a:rPr b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, apply to all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70c0"/>
                </a:solidFill>
                <a:latin typeface="Arial"/>
              </a:rPr>
              <a:t>Relaxing the homogeneity assumption relaxes the other assumptions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ane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of the MMNL requires that the analyst make a number of estimation related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include in the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treat as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istributional form should the parameters tak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type of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many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88a0b5"/>
                </a:solidFill>
                <a:latin typeface="Arial"/>
              </a:rPr>
              <a:t>Whether to allow for correlated random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cisions, decisions, deci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689E-75B8-4143-9834-F6EA71B89627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Correlated random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us far, we have made the (implicit) assumption that the random parameters are uncorrelated with each other. Cons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n there is more than one random parameter, we have thus far assumed that 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re drawn from independent distribu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hat have we been do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2" name="Object 2"/>
          <p:cNvGraphicFramePr/>
          <p:nvPr/>
        </p:nvGraphicFramePr>
        <p:xfrm>
          <a:off x="2200320" y="2470320"/>
          <a:ext cx="306684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2470320"/>
                    <a:ext cx="30668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2B4F-F7DB-4090-BE7D-C97B49A9B032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Correlated random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250920" y="1773000"/>
            <a:ext cx="8663040" cy="10270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 begin with the natural case, correlated normals:  A three parameter model will be sufficiently general to illust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 set of correlated random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5D01-EC39-4B09-B977-80C27F76889D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9" name="Object 7"/>
          <p:cNvGraphicFramePr/>
          <p:nvPr/>
        </p:nvGraphicFramePr>
        <p:xfrm>
          <a:off x="771480" y="2728800"/>
          <a:ext cx="7005600" cy="33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2728800"/>
                    <a:ext cx="700560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Correlated random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250920" y="1773000"/>
            <a:ext cx="8663040" cy="10270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 begin with the natural case, correlated normals:  A three parameter model will illust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 set of correlated random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F8E5-416F-47E1-85A0-1D6E2E18655A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Object 2"/>
          <p:cNvGraphicFramePr/>
          <p:nvPr/>
        </p:nvGraphicFramePr>
        <p:xfrm>
          <a:off x="638280" y="2830680"/>
          <a:ext cx="8061120" cy="31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830680"/>
                    <a:ext cx="8061120" cy="31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Correlated random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 set of correlated random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E934-16F7-4196-93DE-028F0B639F56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0" name="Object 2"/>
          <p:cNvGraphicFramePr/>
          <p:nvPr/>
        </p:nvGraphicFramePr>
        <p:xfrm>
          <a:off x="717480" y="1890720"/>
          <a:ext cx="7324920" cy="42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890720"/>
                    <a:ext cx="732492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Correlated random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A259-6BF1-435F-A21A-D21B40B7444C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2185920" y="1227240"/>
          <a:ext cx="6510240" cy="5610240"/>
        </p:xfrm>
        <a:graphic>
          <a:graphicData uri="http://schemas.openxmlformats.org/drawingml/2006/table">
            <a:tbl>
              <a:tblPr/>
              <a:tblGrid>
                <a:gridCol w="1150920"/>
                <a:gridCol w="749520"/>
                <a:gridCol w="539640"/>
                <a:gridCol w="852480"/>
                <a:gridCol w="538200"/>
                <a:gridCol w="749160"/>
                <a:gridCol w="538200"/>
                <a:gridCol w="854280"/>
                <a:gridCol w="537840"/>
              </a:tblGrid>
              <a:tr h="239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1 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2 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13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1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8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7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8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6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8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7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9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7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6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7.6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7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5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6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.3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3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.8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8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2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8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9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9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1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9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2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.8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7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6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9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gonal Cholesky Transformed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7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3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2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9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ow Diagonal Cholesky Transformed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:Far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7.0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 : Fa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.4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:Flight 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.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1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9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09.4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83.9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1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16" name="Rectangle 5"/>
          <p:cNvSpPr/>
          <p:nvPr/>
        </p:nvSpPr>
        <p:spPr>
          <a:xfrm>
            <a:off x="3990960" y="6114960"/>
            <a:ext cx="3905280" cy="381240"/>
          </a:xfrm>
          <a:prstGeom prst="rect">
            <a:avLst/>
          </a:prstGeom>
          <a:solidFill>
            <a:srgbClr val="ce1126">
              <a:alpha val="14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ight Triangle 6"/>
          <p:cNvSpPr/>
          <p:nvPr/>
        </p:nvSpPr>
        <p:spPr>
          <a:xfrm>
            <a:off x="257040" y="4543560"/>
            <a:ext cx="1324080" cy="761760"/>
          </a:xfrm>
          <a:prstGeom prst="rtTriangle">
            <a:avLst/>
          </a:prstGeom>
          <a:solidFill>
            <a:srgbClr val="ce1126">
              <a:alpha val="19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8" name="Object 203"/>
          <p:cNvGraphicFramePr/>
          <p:nvPr/>
        </p:nvGraphicFramePr>
        <p:xfrm>
          <a:off x="184320" y="4092480"/>
          <a:ext cx="1817640" cy="12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Object 20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4092480"/>
                    <a:ext cx="181764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Rectangle 8"/>
          <p:cNvSpPr/>
          <p:nvPr/>
        </p:nvSpPr>
        <p:spPr>
          <a:xfrm>
            <a:off x="6039000" y="5124600"/>
            <a:ext cx="1295280" cy="618840"/>
          </a:xfrm>
          <a:prstGeom prst="rect">
            <a:avLst/>
          </a:prstGeom>
          <a:solidFill>
            <a:srgbClr val="ce1126">
              <a:alpha val="20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ounded Rectangle 9"/>
          <p:cNvSpPr/>
          <p:nvPr/>
        </p:nvSpPr>
        <p:spPr>
          <a:xfrm rot="1856400">
            <a:off x="144000" y="4562280"/>
            <a:ext cx="1905120" cy="438120"/>
          </a:xfrm>
          <a:prstGeom prst="roundRect">
            <a:avLst>
              <a:gd name="adj" fmla="val 16667"/>
            </a:avLst>
          </a:prstGeom>
          <a:solidFill>
            <a:srgbClr val="00b0f0">
              <a:alpha val="19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0"/>
          <p:cNvSpPr/>
          <p:nvPr/>
        </p:nvSpPr>
        <p:spPr>
          <a:xfrm>
            <a:off x="6019920" y="4248000"/>
            <a:ext cx="1314360" cy="628920"/>
          </a:xfrm>
          <a:prstGeom prst="rect">
            <a:avLst/>
          </a:prstGeom>
          <a:solidFill>
            <a:srgbClr val="00b0f0">
              <a:alpha val="19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1"/>
          <p:cNvSpPr/>
          <p:nvPr/>
        </p:nvSpPr>
        <p:spPr>
          <a:xfrm>
            <a:off x="200160" y="1790640"/>
            <a:ext cx="1743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R Tes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L(Uncor)=-27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L(Corr)   =-26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i squ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= 52 with 3 d.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ject the null hypothesis of the uncorelated parameters mod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NL Mode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Panel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ane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of the MMNL requires that the analyst make a number of estimation related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include in the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treat as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istributional form should the parameters tak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type of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many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ther to allow for correlated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88a0b5"/>
                </a:solidFill>
                <a:latin typeface="Arial"/>
              </a:rPr>
              <a:t>Account for the panel nature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cisions, decisions, deci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2E55-758B-4AF7-AC51-ECD954FFA5D5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ane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C data, respondents often complete more than one choice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gnificant proportion of research is currently looking at the impact repeated choice observations has on mo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research assumed that repeated choice observations only impacted on the standard errors of the estimators of the model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recent research suggests that it can also impact on the parameter estimates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llenge for the model builder is to construct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model so that the set of choices that a specific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makes are connected to each other whi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being independent of the choices made by ot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ane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EF72-9036-4FCF-ABDC-A4589E9BDFE2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5" descr="MPj04022660000[1]"/>
          <p:cNvPicPr/>
          <p:nvPr/>
        </p:nvPicPr>
        <p:blipFill>
          <a:blip r:embed="rId1"/>
          <a:stretch/>
        </p:blipFill>
        <p:spPr>
          <a:xfrm>
            <a:off x="6791400" y="4065480"/>
            <a:ext cx="15429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ane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ink of it this way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CE2A-8F7B-4703-8E8B-C87BD406252B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2" descr=""/>
          <p:cNvPicPr/>
          <p:nvPr/>
        </p:nvPicPr>
        <p:blipFill>
          <a:blip r:embed="rId1"/>
          <a:stretch/>
        </p:blipFill>
        <p:spPr>
          <a:xfrm>
            <a:off x="157320" y="1671480"/>
            <a:ext cx="87915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NL Mode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Heterogeneity of P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e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0" name="Object 2"/>
          <p:cNvGraphicFramePr/>
          <p:nvPr/>
        </p:nvGraphicFramePr>
        <p:xfrm>
          <a:off x="542880" y="1411200"/>
          <a:ext cx="7818480" cy="47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1411200"/>
                    <a:ext cx="781848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2" name="Object 2"/>
          <p:cNvGraphicFramePr/>
          <p:nvPr/>
        </p:nvGraphicFramePr>
        <p:xfrm>
          <a:off x="685800" y="1490760"/>
          <a:ext cx="775008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90760"/>
                    <a:ext cx="775008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Arial"/>
              </a:rPr>
              <a:t>: Pane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5" name="Object 2"/>
          <p:cNvGraphicFramePr/>
          <p:nvPr/>
        </p:nvGraphicFramePr>
        <p:xfrm>
          <a:off x="914400" y="1535040"/>
          <a:ext cx="73087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35040"/>
                    <a:ext cx="73087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Arial"/>
              </a:rPr>
              <a:t>: Pane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Object 2"/>
          <p:cNvGraphicFramePr/>
          <p:nvPr/>
        </p:nvGraphicFramePr>
        <p:xfrm>
          <a:off x="504720" y="1571760"/>
          <a:ext cx="7844040" cy="43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571760"/>
                    <a:ext cx="7844040" cy="43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0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Arial"/>
              </a:rPr>
              <a:t>: Pane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1" name="Object 2"/>
          <p:cNvGraphicFramePr/>
          <p:nvPr/>
        </p:nvGraphicFramePr>
        <p:xfrm>
          <a:off x="933480" y="1490760"/>
          <a:ext cx="7415280" cy="47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1490760"/>
                    <a:ext cx="7415280" cy="47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Arial"/>
              </a:rPr>
              <a:t>: Pane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ane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BD91-1147-464D-ABEF-8678DEB8ABDC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2300400" y="1811160"/>
          <a:ext cx="4338360" cy="4557960"/>
        </p:xfrm>
        <a:graphic>
          <a:graphicData uri="http://schemas.openxmlformats.org/drawingml/2006/table">
            <a:tbl>
              <a:tblPr/>
              <a:tblGrid>
                <a:gridCol w="1295280"/>
                <a:gridCol w="766800"/>
                <a:gridCol w="789120"/>
                <a:gridCol w="734760"/>
                <a:gridCol w="752400"/>
              </a:tblGrid>
              <a:tr h="2448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ross Sec. (N) (Halton = 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nel (N) (Halton = 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4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7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9.4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9.5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3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9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 gridSpan="5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8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3.6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4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8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6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6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.5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 gridSpan="5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2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1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4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4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8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8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9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 gridSpan="5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3.2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34.5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343080" y="1828800"/>
            <a:ext cx="832464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95000"/>
              </a:lnSpc>
              <a:spcBef>
                <a:spcPts val="374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ornia Electricity Supply, Stated Preference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374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1 customers presented with 8-12 choice situations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374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r attrib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5000"/>
              </a:lnSpc>
              <a:spcBef>
                <a:spcPts val="337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price: cents per k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5000"/>
              </a:lnSpc>
              <a:spcBef>
                <a:spcPts val="337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of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5000"/>
              </a:lnSpc>
              <a:spcBef>
                <a:spcPts val="337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5000"/>
              </a:lnSpc>
              <a:spcBef>
                <a:spcPts val="337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-known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5000"/>
              </a:lnSpc>
              <a:spcBef>
                <a:spcPts val="337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of-day rates (11¢ in day, 5¢ at n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5000"/>
              </a:lnSpc>
              <a:spcBef>
                <a:spcPts val="337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 rates (10¢ in summer, 8¢ in winter, 6¢ in spring/f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5000"/>
              </a:lnSpc>
              <a:spcBef>
                <a:spcPts val="337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II (Due to Ken Tr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pulation Distrib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42720" y="1838160"/>
            <a:ext cx="4609800" cy="36482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224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224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224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-known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224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-normal 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224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of-day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224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coefficient held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3" name="Object 2"/>
          <p:cNvGraphicFramePr/>
          <p:nvPr/>
        </p:nvGraphicFramePr>
        <p:xfrm>
          <a:off x="4038480" y="3271680"/>
          <a:ext cx="286704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271680"/>
                    <a:ext cx="286704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II (Due to Ken Tr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imated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 Box 3"/>
          <p:cNvSpPr/>
          <p:nvPr/>
        </p:nvSpPr>
        <p:spPr>
          <a:xfrm>
            <a:off x="1278720" y="1835280"/>
            <a:ext cx="6657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.883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.213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 dev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386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3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 dev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75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n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59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 dev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962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*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3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 dev*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411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sonal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*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6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 dev*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281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Parameters of underlying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II (Due to Ken Tr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tribution of Brand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1666800" y="4952520"/>
            <a:ext cx="5958000" cy="6908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d value of local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4"/>
          <p:cNvSpPr/>
          <p:nvPr/>
        </p:nvSpPr>
        <p:spPr>
          <a:xfrm>
            <a:off x="5962680" y="2260440"/>
            <a:ext cx="1803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5"/>
          <p:cNvSpPr/>
          <p:nvPr/>
        </p:nvSpPr>
        <p:spPr>
          <a:xfrm>
            <a:off x="1782720" y="3603600"/>
            <a:ext cx="592200" cy="419040"/>
          </a:xfrm>
          <a:custGeom>
            <a:avLst/>
            <a:gdLst>
              <a:gd name="textAreaLeft" fmla="*/ 0 w 592200"/>
              <a:gd name="textAreaRight" fmla="*/ 592560 w 5922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373" h="264">
                <a:moveTo>
                  <a:pt x="373" y="264"/>
                </a:moveTo>
                <a:lnTo>
                  <a:pt x="370" y="0"/>
                </a:lnTo>
                <a:lnTo>
                  <a:pt x="273" y="22"/>
                </a:lnTo>
                <a:lnTo>
                  <a:pt x="204" y="34"/>
                </a:lnTo>
                <a:lnTo>
                  <a:pt x="163" y="42"/>
                </a:lnTo>
                <a:lnTo>
                  <a:pt x="102" y="51"/>
                </a:lnTo>
                <a:lnTo>
                  <a:pt x="48" y="57"/>
                </a:lnTo>
                <a:lnTo>
                  <a:pt x="0" y="64"/>
                </a:lnTo>
                <a:lnTo>
                  <a:pt x="0" y="264"/>
                </a:lnTo>
                <a:lnTo>
                  <a:pt x="373" y="26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6"/>
          <p:cNvSpPr/>
          <p:nvPr/>
        </p:nvSpPr>
        <p:spPr>
          <a:xfrm>
            <a:off x="4689360" y="2260440"/>
            <a:ext cx="0" cy="1779840"/>
          </a:xfrm>
          <a:prstGeom prst="line">
            <a:avLst/>
          </a:prstGeom>
          <a:ln w="38160">
            <a:solidFill>
              <a:srgbClr val="fbcd6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7"/>
          <p:cNvSpPr/>
          <p:nvPr/>
        </p:nvSpPr>
        <p:spPr>
          <a:xfrm>
            <a:off x="1782720" y="2216160"/>
            <a:ext cx="5540400" cy="1676520"/>
          </a:xfrm>
          <a:custGeom>
            <a:avLst/>
            <a:gdLst>
              <a:gd name="textAreaLeft" fmla="*/ 0 w 5540400"/>
              <a:gd name="textAreaRight" fmla="*/ 5540760 w 55404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3490" h="1056">
                <a:moveTo>
                  <a:pt x="3490" y="1056"/>
                </a:moveTo>
                <a:cubicBezTo>
                  <a:pt x="3419" y="1039"/>
                  <a:pt x="3207" y="1017"/>
                  <a:pt x="3063" y="956"/>
                </a:cubicBezTo>
                <a:cubicBezTo>
                  <a:pt x="2919" y="895"/>
                  <a:pt x="2757" y="813"/>
                  <a:pt x="2627" y="692"/>
                </a:cubicBezTo>
                <a:cubicBezTo>
                  <a:pt x="2497" y="571"/>
                  <a:pt x="2390" y="338"/>
                  <a:pt x="2285" y="229"/>
                </a:cubicBezTo>
                <a:cubicBezTo>
                  <a:pt x="2180" y="120"/>
                  <a:pt x="2098" y="70"/>
                  <a:pt x="1997" y="37"/>
                </a:cubicBezTo>
                <a:cubicBezTo>
                  <a:pt x="1896" y="4"/>
                  <a:pt x="1780" y="0"/>
                  <a:pt x="1677" y="29"/>
                </a:cubicBezTo>
                <a:cubicBezTo>
                  <a:pt x="1574" y="58"/>
                  <a:pt x="1488" y="134"/>
                  <a:pt x="1381" y="213"/>
                </a:cubicBezTo>
                <a:cubicBezTo>
                  <a:pt x="1274" y="292"/>
                  <a:pt x="1154" y="415"/>
                  <a:pt x="1036" y="502"/>
                </a:cubicBezTo>
                <a:cubicBezTo>
                  <a:pt x="918" y="589"/>
                  <a:pt x="784" y="676"/>
                  <a:pt x="672" y="738"/>
                </a:cubicBezTo>
                <a:cubicBezTo>
                  <a:pt x="560" y="800"/>
                  <a:pt x="475" y="841"/>
                  <a:pt x="363" y="874"/>
                </a:cubicBezTo>
                <a:cubicBezTo>
                  <a:pt x="251" y="907"/>
                  <a:pt x="76" y="925"/>
                  <a:pt x="0" y="93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8"/>
          <p:cNvSpPr/>
          <p:nvPr/>
        </p:nvSpPr>
        <p:spPr>
          <a:xfrm>
            <a:off x="2367000" y="3603600"/>
            <a:ext cx="0" cy="423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9"/>
          <p:cNvSpPr/>
          <p:nvPr/>
        </p:nvSpPr>
        <p:spPr>
          <a:xfrm>
            <a:off x="1782720" y="4027320"/>
            <a:ext cx="554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0"/>
          <p:cNvSpPr/>
          <p:nvPr/>
        </p:nvSpPr>
        <p:spPr>
          <a:xfrm>
            <a:off x="339840" y="2602080"/>
            <a:ext cx="33940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% dislike local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1"/>
          <p:cNvSpPr/>
          <p:nvPr/>
        </p:nvSpPr>
        <p:spPr>
          <a:xfrm>
            <a:off x="2367000" y="40273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2"/>
          <p:cNvSpPr/>
          <p:nvPr/>
        </p:nvSpPr>
        <p:spPr>
          <a:xfrm>
            <a:off x="4689360" y="40273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3"/>
          <p:cNvSpPr/>
          <p:nvPr/>
        </p:nvSpPr>
        <p:spPr>
          <a:xfrm>
            <a:off x="2252520" y="41004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4"/>
          <p:cNvSpPr/>
          <p:nvPr/>
        </p:nvSpPr>
        <p:spPr>
          <a:xfrm>
            <a:off x="4021200" y="410040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"/>
          <p:cNvSpPr/>
          <p:nvPr/>
        </p:nvSpPr>
        <p:spPr>
          <a:xfrm>
            <a:off x="4727520" y="2952720"/>
            <a:ext cx="885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7"/>
          <p:cNvSpPr/>
          <p:nvPr/>
        </p:nvSpPr>
        <p:spPr>
          <a:xfrm>
            <a:off x="7391520" y="2359080"/>
            <a:ext cx="1371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2.0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8"/>
          <p:cNvSpPr/>
          <p:nvPr/>
        </p:nvSpPr>
        <p:spPr>
          <a:xfrm>
            <a:off x="1782720" y="2952720"/>
            <a:ext cx="252360" cy="93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9"/>
          <p:cNvSpPr/>
          <p:nvPr/>
        </p:nvSpPr>
        <p:spPr>
          <a:xfrm>
            <a:off x="5054760" y="2579760"/>
            <a:ext cx="812520" cy="312840"/>
          </a:xfrm>
          <a:custGeom>
            <a:avLst/>
            <a:gdLst>
              <a:gd name="textAreaLeft" fmla="*/ 0 w 812520"/>
              <a:gd name="textAreaRight" fmla="*/ 812880 w 812520"/>
              <a:gd name="textAreaTop" fmla="*/ 0 h 312840"/>
              <a:gd name="textAreaBottom" fmla="*/ 312840 h 312840"/>
            </a:gdLst>
            <a:ahLst/>
            <a:rect l="textAreaLeft" t="textAreaTop" r="textAreaRight" b="textAreaBottom"/>
            <a:pathLst>
              <a:path w="512" h="197">
                <a:moveTo>
                  <a:pt x="512" y="0"/>
                </a:moveTo>
                <a:cubicBezTo>
                  <a:pt x="468" y="0"/>
                  <a:pt x="313" y="0"/>
                  <a:pt x="246" y="3"/>
                </a:cubicBezTo>
                <a:cubicBezTo>
                  <a:pt x="179" y="6"/>
                  <a:pt x="141" y="6"/>
                  <a:pt x="108" y="17"/>
                </a:cubicBezTo>
                <a:cubicBezTo>
                  <a:pt x="75" y="28"/>
                  <a:pt x="63" y="39"/>
                  <a:pt x="45" y="69"/>
                </a:cubicBezTo>
                <a:cubicBezTo>
                  <a:pt x="27" y="99"/>
                  <a:pt x="9" y="170"/>
                  <a:pt x="0" y="19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II (Due to Ken Tr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Heterogeneity of p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ne or more of the parameter estimates of the MMNL model are now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represented as being randomly distributed among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500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936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936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936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936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s the mean marginal utility in the sampled population and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is the standard deviation of the marginal utilities held by respondents for attribute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belonging to alternative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 choice set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.  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represents some underlying distribution such as 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~ N(0,1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andom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1664-B440-4290-A6FF-6BFE6B4C67DC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Object 2"/>
          <p:cNvGraphicFramePr/>
          <p:nvPr/>
        </p:nvGraphicFramePr>
        <p:xfrm>
          <a:off x="768240" y="2668680"/>
          <a:ext cx="6585120" cy="18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2668680"/>
                    <a:ext cx="6585120" cy="18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6890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ndom Parameter Distrib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1" name="Picture 2" descr=""/>
          <p:cNvPicPr/>
          <p:nvPr/>
        </p:nvPicPr>
        <p:blipFill>
          <a:blip r:embed="rId1"/>
          <a:stretch/>
        </p:blipFill>
        <p:spPr>
          <a:xfrm>
            <a:off x="1523880" y="1670040"/>
            <a:ext cx="6658200" cy="4492800"/>
          </a:xfrm>
          <a:prstGeom prst="rect">
            <a:avLst/>
          </a:prstGeom>
          <a:ln w="0">
            <a:noFill/>
          </a:ln>
        </p:spPr>
      </p:pic>
      <p:sp>
        <p:nvSpPr>
          <p:cNvPr id="792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II (Due to Ken Tr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2" descr=""/>
          <p:cNvPicPr/>
          <p:nvPr/>
        </p:nvPicPr>
        <p:blipFill>
          <a:blip r:embed="rId1"/>
          <a:stretch/>
        </p:blipFill>
        <p:spPr>
          <a:xfrm>
            <a:off x="2057400" y="2768760"/>
            <a:ext cx="5943600" cy="17748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3" descr=""/>
          <p:cNvPicPr/>
          <p:nvPr/>
        </p:nvPicPr>
        <p:blipFill>
          <a:blip r:embed="rId2"/>
          <a:stretch/>
        </p:blipFill>
        <p:spPr>
          <a:xfrm>
            <a:off x="1866960" y="4680000"/>
            <a:ext cx="6143400" cy="1825560"/>
          </a:xfrm>
          <a:prstGeom prst="rect">
            <a:avLst/>
          </a:prstGeom>
          <a:ln w="0">
            <a:noFill/>
          </a:ln>
        </p:spPr>
      </p:pic>
      <p:sp>
        <p:nvSpPr>
          <p:cNvPr id="796" name="Rectangle 2"/>
          <p:cNvSpPr/>
          <p:nvPr/>
        </p:nvSpPr>
        <p:spPr>
          <a:xfrm>
            <a:off x="457200" y="1917720"/>
            <a:ext cx="8229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ime of Day Rates (Customers do not like. 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Negative lognormal coefficient, multiply variable by -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II (Due to Ken Tr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NL Mode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Error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Error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of the MMNL requires that the analyst make a number of estimation related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include in the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treat as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istributional form should the parameters tak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type of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many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ther to allow for correlated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ount for the panel nature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88a0b5"/>
                </a:solidFill>
                <a:latin typeface="Arial"/>
              </a:rPr>
              <a:t>Include error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cisions, decisions, deci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D58C-5427-4ABD-937E-A186DEC70998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: Shoe Brand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47680" y="1771560"/>
            <a:ext cx="6934320" cy="4600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d Choi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 respond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choice situations, 3,200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hoice/attributes + 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hion = High /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= High /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= 25/50/75,100 coded 1,2,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terogeneit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 (Male=1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 (&lt;25, 25-39, 40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Error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2" descr=""/>
          <p:cNvPicPr/>
          <p:nvPr/>
        </p:nvPicPr>
        <p:blipFill>
          <a:blip r:embed="rId1"/>
          <a:stretch/>
        </p:blipFill>
        <p:spPr>
          <a:xfrm>
            <a:off x="1190520" y="1763640"/>
            <a:ext cx="6677280" cy="4786560"/>
          </a:xfrm>
          <a:prstGeom prst="rect">
            <a:avLst/>
          </a:prstGeom>
          <a:ln w="0">
            <a:noFill/>
          </a:ln>
        </p:spPr>
      </p:pic>
      <p:sp>
        <p:nvSpPr>
          <p:cNvPr id="809" name="TextBox 2"/>
          <p:cNvSpPr/>
          <p:nvPr/>
        </p:nvSpPr>
        <p:spPr>
          <a:xfrm>
            <a:off x="714240" y="1305000"/>
            <a:ext cx="78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d Choice Experiment: Unlabeled Alternatives, First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3"/>
          <p:cNvSpPr/>
          <p:nvPr/>
        </p:nvSpPr>
        <p:spPr>
          <a:xfrm>
            <a:off x="8229600" y="1676520"/>
            <a:ext cx="533520" cy="4782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Error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rror Components Logit Mod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457200" y="20574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approach to building cross choice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‘effects.’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‘random individual effect’ that is consta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across choice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4" name="Object 2"/>
          <p:cNvGraphicFramePr/>
          <p:nvPr/>
        </p:nvGraphicFramePr>
        <p:xfrm>
          <a:off x="369720" y="3257640"/>
          <a:ext cx="778536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257640"/>
                    <a:ext cx="778536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Rectangle 4"/>
          <p:cNvSpPr/>
          <p:nvPr/>
        </p:nvSpPr>
        <p:spPr>
          <a:xfrm>
            <a:off x="7475400" y="3247920"/>
            <a:ext cx="762120" cy="1295640"/>
          </a:xfrm>
          <a:prstGeom prst="rect">
            <a:avLst/>
          </a:prstGeom>
          <a:solidFill>
            <a:srgbClr val="0066ff">
              <a:alpha val="14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Error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ied Covariance Matri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sted Logit For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9" name="Object 2"/>
          <p:cNvGraphicFramePr/>
          <p:nvPr/>
        </p:nvGraphicFramePr>
        <p:xfrm>
          <a:off x="1828800" y="4572000"/>
          <a:ext cx="58024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572000"/>
                    <a:ext cx="58024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1" name="Picture 3" descr=""/>
          <p:cNvPicPr/>
          <p:nvPr/>
        </p:nvPicPr>
        <p:blipFill>
          <a:blip r:embed="rId3"/>
          <a:stretch/>
        </p:blipFill>
        <p:spPr>
          <a:xfrm>
            <a:off x="914400" y="2209680"/>
            <a:ext cx="7315200" cy="226224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4"/>
          <p:cNvSpPr/>
          <p:nvPr/>
        </p:nvSpPr>
        <p:spPr>
          <a:xfrm>
            <a:off x="3886200" y="5105520"/>
            <a:ext cx="2971800" cy="761760"/>
          </a:xfrm>
          <a:prstGeom prst="rect">
            <a:avLst/>
          </a:prstGeom>
          <a:solidFill>
            <a:srgbClr val="ffc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Error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399960" y="5764320"/>
            <a:ext cx="82296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Correlation = {0.0959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/ [1.6449 + 0.0959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]}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1/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= 0.09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5"/>
          <p:cNvSpPr/>
          <p:nvPr/>
        </p:nvSpPr>
        <p:spPr>
          <a:xfrm>
            <a:off x="419040" y="1725480"/>
            <a:ext cx="8305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 Components (Random Effects)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pendent variable              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g likelihood function     -4158.450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ion based on N =   3200, K = 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 data are given as ind.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plications for simulated probs. = 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lton sequences used for sim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CM model with panel has     400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xed number of obsrvs./group=      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obs.=  3200, skipped    0 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+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able| Coefficient    Standard Error  b/St.Er. P[|Z|&gt;z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+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Nonrandom parameters in utility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SH|    1.47913***       .06971       21.218   .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AL|    1.01385***       .06580       15.409   .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|   -11.8052***       .86019      -13.724   .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C4|     .03363          .07441         .452   .65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gmaE01|     .09585***       .02529        3.791   .0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+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6"/>
          <p:cNvSpPr/>
          <p:nvPr/>
        </p:nvSpPr>
        <p:spPr>
          <a:xfrm>
            <a:off x="6019920" y="2916360"/>
            <a:ext cx="297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 Effects Logit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earance of Latent Ran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ffects in Ut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ternative   E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+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BRAND1     | *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+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BRAND2     | *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+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BRAND3     | *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+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NONE       |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+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Error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Error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ther than associate separate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sj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r each, the error components model utilise dummy variables to place subsets of alternatives into different ‘nests’  (It creates the equivalent of the nested logit mode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t is possible to have random parameters in the model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mplicated error structures can be created with error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7808-518C-4884-9AD4-D706912AC788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2" name="Object 5"/>
          <p:cNvGraphicFramePr/>
          <p:nvPr/>
        </p:nvGraphicFramePr>
        <p:xfrm>
          <a:off x="1400040" y="2928960"/>
          <a:ext cx="56581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2928960"/>
                    <a:ext cx="56581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Heterogeneity of p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742920" y="1773360"/>
            <a:ext cx="517068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fare, flight time and variability are random parameters assumed to be normally distribu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sider the fare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8065-7D78-41F7-B6FB-734D9E847BB3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611280" y="2060640"/>
          <a:ext cx="2896920" cy="4403520"/>
        </p:xfrm>
        <a:graphic>
          <a:graphicData uri="http://schemas.openxmlformats.org/drawingml/2006/table">
            <a:tbl>
              <a:tblPr/>
              <a:tblGrid>
                <a:gridCol w="1527120"/>
                <a:gridCol w="601560"/>
                <a:gridCol w="768240"/>
              </a:tblGrid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8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6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mea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7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std dev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6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  (mea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5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  (std dev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90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6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2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mea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1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std dev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3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 gridSpan="3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09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1" name="Object 2"/>
          <p:cNvGraphicFramePr/>
          <p:nvPr/>
        </p:nvGraphicFramePr>
        <p:xfrm>
          <a:off x="3867120" y="3384720"/>
          <a:ext cx="25941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7120" y="3384720"/>
                    <a:ext cx="2594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3"/>
          <p:cNvGraphicFramePr/>
          <p:nvPr/>
        </p:nvGraphicFramePr>
        <p:xfrm>
          <a:off x="4037040" y="4665600"/>
          <a:ext cx="435780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7040" y="4665600"/>
                    <a:ext cx="43578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Error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10F9-72FD-4E3E-B1FC-F947F4BA5A42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1530360" y="1239840"/>
          <a:ext cx="6983280" cy="5243400"/>
        </p:xfrm>
        <a:graphic>
          <a:graphicData uri="http://schemas.openxmlformats.org/drawingml/2006/table">
            <a:tbl>
              <a:tblPr/>
              <a:tblGrid>
                <a:gridCol w="1320840"/>
                <a:gridCol w="915840"/>
                <a:gridCol w="895320"/>
                <a:gridCol w="955800"/>
                <a:gridCol w="795240"/>
                <a:gridCol w="1001880"/>
                <a:gridCol w="1098360"/>
              </a:tblGrid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MNL model (Halton =100) (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C (Halton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MNL (N) + EC model (Halton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7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9.4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.2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5.0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9.5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.3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5.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9.2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.7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.5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7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3.6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1.2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3.0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4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8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2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4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6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2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4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5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4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 gridSpan="7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2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7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1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4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6.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4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8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6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.0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4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1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7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ror Compon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, Qantas, Virg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.7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8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, Qan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9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4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7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34.5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64.7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20.0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we estimat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 An exercise using Bay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Object 2"/>
          <p:cNvGraphicFramePr/>
          <p:nvPr/>
        </p:nvGraphicFramePr>
        <p:xfrm>
          <a:off x="584280" y="1836720"/>
          <a:ext cx="783756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1836720"/>
                    <a:ext cx="783756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we estimat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 An exercise using Bay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Object 2"/>
          <p:cNvGraphicFramePr/>
          <p:nvPr/>
        </p:nvGraphicFramePr>
        <p:xfrm>
          <a:off x="407880" y="2227320"/>
          <a:ext cx="8020080" cy="28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2227320"/>
                    <a:ext cx="8020080" cy="28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we compute E[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|choices]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0" name="Object 2"/>
          <p:cNvGraphicFramePr/>
          <p:nvPr/>
        </p:nvGraphicFramePr>
        <p:xfrm>
          <a:off x="264960" y="2120760"/>
          <a:ext cx="8020080" cy="34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2120760"/>
                    <a:ext cx="802008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: Shoe Brand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3"/>
          <p:cNvSpPr/>
          <p:nvPr/>
        </p:nvSpPr>
        <p:spPr>
          <a:xfrm>
            <a:off x="247680" y="1771560"/>
            <a:ext cx="693432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Simula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Stated Choi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400 respond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8 choice situations, 3,200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3 choice/attributes + 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Fashion = High /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Quality = High /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Price = 25/50/75,100 coded 1,2,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Heterogeneit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Sex (Male=1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ge (&lt;25, 25-39, 40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vidual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2" descr=""/>
          <p:cNvPicPr/>
          <p:nvPr/>
        </p:nvPicPr>
        <p:blipFill>
          <a:blip r:embed="rId1"/>
          <a:stretch/>
        </p:blipFill>
        <p:spPr>
          <a:xfrm>
            <a:off x="1190520" y="1763640"/>
            <a:ext cx="6677280" cy="4786560"/>
          </a:xfrm>
          <a:prstGeom prst="rect">
            <a:avLst/>
          </a:prstGeom>
          <a:ln w="0">
            <a:noFill/>
          </a:ln>
        </p:spPr>
      </p:pic>
      <p:sp>
        <p:nvSpPr>
          <p:cNvPr id="856" name="TextBox 2"/>
          <p:cNvSpPr/>
          <p:nvPr/>
        </p:nvSpPr>
        <p:spPr>
          <a:xfrm>
            <a:off x="714240" y="1305000"/>
            <a:ext cx="78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d Choice Experiment: Unlabeled Alternatives, First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3"/>
          <p:cNvSpPr/>
          <p:nvPr/>
        </p:nvSpPr>
        <p:spPr>
          <a:xfrm>
            <a:off x="8229600" y="1676520"/>
            <a:ext cx="533520" cy="4782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vidual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rror Components Logit Mod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0" name="Object 2"/>
          <p:cNvGraphicFramePr/>
          <p:nvPr/>
        </p:nvGraphicFramePr>
        <p:xfrm>
          <a:off x="338040" y="2103480"/>
          <a:ext cx="8213760" cy="27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2103480"/>
                    <a:ext cx="821376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2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vidual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1576440" y="1352520"/>
            <a:ext cx="6330960" cy="5095800"/>
          </a:xfrm>
          <a:prstGeom prst="rect">
            <a:avLst/>
          </a:prstGeom>
          <a:ln w="0">
            <a:noFill/>
          </a:ln>
        </p:spPr>
      </p:pic>
      <p:sp>
        <p:nvSpPr>
          <p:cNvPr id="864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vidual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2" descr=""/>
          <p:cNvPicPr/>
          <p:nvPr/>
        </p:nvPicPr>
        <p:blipFill>
          <a:blip r:embed="rId1"/>
          <a:stretch/>
        </p:blipFill>
        <p:spPr>
          <a:xfrm>
            <a:off x="142920" y="2633760"/>
            <a:ext cx="8878680" cy="392904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" descr=""/>
          <p:cNvPicPr/>
          <p:nvPr/>
        </p:nvPicPr>
        <p:blipFill>
          <a:blip r:embed="rId2"/>
          <a:stretch/>
        </p:blipFill>
        <p:spPr>
          <a:xfrm>
            <a:off x="1724040" y="1314360"/>
            <a:ext cx="5200560" cy="1333440"/>
          </a:xfrm>
          <a:prstGeom prst="rect">
            <a:avLst/>
          </a:prstGeom>
          <a:ln w="0">
            <a:noFill/>
          </a:ln>
        </p:spPr>
      </p:pic>
      <p:sp>
        <p:nvSpPr>
          <p:cNvPr id="867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vidual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Heterogeneity of p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cel example: The population distribution of fare coefficients might appear as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1489-C8EB-489E-9DD8-902F2C032CFE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1" descr=""/>
          <p:cNvPicPr/>
          <p:nvPr/>
        </p:nvPicPr>
        <p:blipFill>
          <a:blip r:embed="rId1"/>
          <a:stretch/>
        </p:blipFill>
        <p:spPr>
          <a:xfrm>
            <a:off x="5591160" y="3284640"/>
            <a:ext cx="3505320" cy="3066840"/>
          </a:xfrm>
          <a:prstGeom prst="rect">
            <a:avLst/>
          </a:prstGeom>
          <a:ln w="0">
            <a:noFill/>
          </a:ln>
        </p:spPr>
      </p:pic>
      <p:sp>
        <p:nvSpPr>
          <p:cNvPr id="489" name="TextBox 13"/>
          <p:cNvSpPr/>
          <p:nvPr/>
        </p:nvSpPr>
        <p:spPr>
          <a:xfrm>
            <a:off x="5686560" y="1886040"/>
            <a:ext cx="303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=normsinv(rand()) takes a random draw from a standard normal dis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314280" y="1787400"/>
            <a:ext cx="51102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3:28:42Z</dcterms:created>
  <dc:creator>PresentationStudio.com</dc:creator>
  <dc:description/>
  <dc:language>en-US</dc:language>
  <cp:lastModifiedBy>Andrew</cp:lastModifiedBy>
  <dcterms:modified xsi:type="dcterms:W3CDTF">2014-07-20T07:09:16Z</dcterms:modified>
  <cp:revision>805</cp:revision>
  <dc:subject/>
  <dc:title>UNIS Template</dc:title>
</cp:coreProperties>
</file>