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7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22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8800-A4A8-4554-952E-B1B5B1A9ADED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2DC1-DE69-4334-A7FD-6DD77AD4F861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8EFA-28CB-4BF8-80DE-D6A79A2823D2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2D97-0CC6-48F2-B94F-6C2A01891F01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F6D3-1F44-4836-B41E-E9AC7AF9FDC8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A92C-FDB9-40C7-8F8A-D01F627B1E78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88EC-1AAB-4775-8393-0F49726E8A05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0CB5-FAA6-4560-B33F-733D3FF33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CF33-F828-42BA-B45C-70BB1BFDA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84C7-CC13-4305-B442-66D5F790C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0C78-E1BF-4B1D-98DD-9B278AC26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022A-1E8E-4A4D-816C-DF9C2D01E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CBB5-856E-4797-B06D-9F98DCE54B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DBE8-5931-4C14-B80E-D866B802D5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195D-9B62-49DA-84DD-AF997880183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496D-EA00-4770-866F-A0AEE4392E0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D76C-835A-4A40-9B91-C7C49FC402E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E126-77C1-4F30-A790-CC75145B1C8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BA47-0D60-4C4F-8543-287C3F100C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64120" y="6586200"/>
            <a:ext cx="24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ce11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E086-9325-4251-8FBB-74D04C522705}" type="slidenum">
              <a:rPr b="0" lang="en-AU" sz="900" spc="-1" strike="noStrike">
                <a:solidFill>
                  <a:srgbClr val="ce11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4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0"/>
          <p:cNvGrpSpPr/>
          <p:nvPr/>
        </p:nvGrpSpPr>
        <p:grpSpPr>
          <a:xfrm>
            <a:off x="262080" y="5715000"/>
            <a:ext cx="1612800" cy="789120"/>
            <a:chOff x="262080" y="5715000"/>
            <a:chExt cx="1612800" cy="789120"/>
          </a:xfrm>
        </p:grpSpPr>
        <p:sp>
          <p:nvSpPr>
            <p:cNvPr id="53" name="Rectangle 17"/>
            <p:cNvSpPr/>
            <p:nvPr/>
          </p:nvSpPr>
          <p:spPr>
            <a:xfrm flipH="1">
              <a:off x="262080" y="5715000"/>
              <a:ext cx="161280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8" descr="USY_MB1_rgb_Reversed_Standard_Logo.png"/>
            <p:cNvPicPr/>
            <p:nvPr/>
          </p:nvPicPr>
          <p:blipFill>
            <a:blip r:embed="rId3"/>
            <a:stretch/>
          </p:blipFill>
          <p:spPr>
            <a:xfrm>
              <a:off x="433800" y="5889960"/>
              <a:ext cx="126900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4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9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2" descr="USY_MB1_rgb_Reversed_Standard_Logo.png"/>
          <p:cNvPicPr/>
          <p:nvPr/>
        </p:nvPicPr>
        <p:blipFill>
          <a:blip r:embed="rId3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11" descr="lecture_theatre.jpg"/>
          <p:cNvPicPr/>
          <p:nvPr/>
        </p:nvPicPr>
        <p:blipFill>
          <a:blip r:embed="rId3"/>
          <a:srcRect l="12702" t="6509" r="5986" b="13735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11" descr="quad copy.jpg"/>
          <p:cNvPicPr/>
          <p:nvPr/>
        </p:nvPicPr>
        <p:blipFill>
          <a:blip r:embed="rId3"/>
          <a:srcRect l="21188" t="0" r="1320" b="22060"/>
          <a:stretch/>
        </p:blipFill>
        <p:spPr>
          <a:xfrm>
            <a:off x="0" y="3071880"/>
            <a:ext cx="9144000" cy="3786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Picture 11" descr="science_lab copy.jpg"/>
          <p:cNvPicPr/>
          <p:nvPr/>
        </p:nvPicPr>
        <p:blipFill>
          <a:blip r:embed="rId3"/>
          <a:stretch/>
        </p:blipFill>
        <p:spPr>
          <a:xfrm>
            <a:off x="0" y="3246480"/>
            <a:ext cx="9144000" cy="36115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8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01" name="Rectangle 32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03" name="Rectangle 15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Picture 17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51" name="Rectangle 17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53" name="Rectangle 19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4" name="Picture 20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32000" y="285840"/>
            <a:ext cx="770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tional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429000" y="5286240"/>
            <a:ext cx="5572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DCA| 18-22 August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429000" y="5000400"/>
            <a:ext cx="5572080" cy="2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ubtitle 12"/>
          <p:cNvSpPr/>
          <p:nvPr/>
        </p:nvSpPr>
        <p:spPr>
          <a:xfrm>
            <a:off x="1332000" y="1285920"/>
            <a:ext cx="770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ttribute Processing, Latent Class Var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1019160" y="3330720"/>
            <a:ext cx="81248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ffffff"/>
                </a:solidFill>
                <a:latin typeface="Arial"/>
              </a:rPr>
              <a:t>Reference Source: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Hensher, D.A., Rose, J.M., and Greene, W.H. (200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Applied Choice Analysis: A Primer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, Cambridge University Press, Cam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econd Edition to appear i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Modeling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4440" y="1819440"/>
            <a:ext cx="806292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ix ignored attributes at zero?  Definitely no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Zero is an unrealistic value of the attribute (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is a function of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l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, so the substitution distorts the prob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ppropriate model:  for that individual, the specific coefficient is zero – consistent with the utility assumption.  A person specific, exogenously determin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rprisingly simple to implement.  -888 coding in NLOG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for Application of Information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14440" y="1819440"/>
            <a:ext cx="806292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ated/Revealed preference study, Sydney car commuters.  500+ surveyed, about 10 choice situations for eac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xisting route vs. 3 proposed alternativ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Original attribute design: respondents presented with 3, 4, 5, or 6 attribu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Attribut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Free flow 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Slowed down 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Stop/start 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Trip time variabil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Toll c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Running cos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Final attribute design: respondents use only some attributes </a:t>
            </a:r>
            <a:r>
              <a:rPr b="1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and indicate when surveyed which ones they ignor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d Choice Exper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562360" cy="37515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3"/>
          <p:cNvSpPr/>
          <p:nvPr/>
        </p:nvSpPr>
        <p:spPr>
          <a:xfrm>
            <a:off x="1103400" y="5715000"/>
            <a:ext cx="682128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cillary questions:  Did you ignore any of these attribu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1219320" y="1219320"/>
          <a:ext cx="7162560" cy="53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7162560" cy="53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plici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14440" y="1819440"/>
            <a:ext cx="806292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sher, D.A. and Greene, W.H. (2010) Non-attendance and dual processing of common-metric attributes in choice analysis: a latent class specification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pirical 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9 (2), 413-4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bell, D., Hensher, D.A. and Scarpa, R. (2011) Non-attendance to attributes in environmental choice analysis: a latent class specification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urnal of Environmental Planning and Manag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54 (8), 1061-10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nsher, D.A., Rose, J.M. and Greene, W.H. (2012) Inferring attribute non-attendance from stated choice data: implications for willingness to pay estimates and a warning for stated choice experiment design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39 (2), 235-2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llins, A.T., Rose, J.M. and Hensher, D.A. (2013) Specification issues in a generalised random parameters attribute nonattendance model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Transportation Research Part B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56, 234-2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d Choice Exper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782720" y="2255760"/>
            <a:ext cx="5562720" cy="3751200"/>
          </a:xfrm>
          <a:prstGeom prst="rect">
            <a:avLst/>
          </a:prstGeom>
          <a:ln w="0">
            <a:noFill/>
          </a:ln>
        </p:spPr>
      </p:pic>
      <p:sp>
        <p:nvSpPr>
          <p:cNvPr id="454" name="TextBox 3"/>
          <p:cNvSpPr/>
          <p:nvPr/>
        </p:nvSpPr>
        <p:spPr>
          <a:xfrm>
            <a:off x="374760" y="1517760"/>
            <a:ext cx="84121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als seem to be ignoring attributes.  Unknown to the analy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ajor benefit of the LCM is that is capable of modeling different potential information processing strategies that respondents might have applied in making their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ular, the model may be used to explore different attribute processing rules that may have been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respondents (different classes) may have ignored (attended to) some attributes more or less than oth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asking the respondent what they did, such attendance is latent within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formation processing strategies (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D041-FF0D-4797-94D7-D6EE2E77CB84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ubgroups (classes) of respondents ‘ignored’ different subsets of attributes, then the parameter estimates for those attributes should be 0 for the different subgroups (cla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restricting different patterns of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 to equal 0 across the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asses, one can attempt to model the different IPS that respondents may have used in making their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class assignment model is also fitted, then this may offer clues as to who applied different IPS strategies (or why depending on the variables used in the class assignment mod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LCM and 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A84E-6B4D-4304-8FD7-1CA35B12C5B4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5196-4B43-45AC-800D-3A6AACC3E2E6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738440" y="1987560"/>
          <a:ext cx="5667120" cy="4257720"/>
        </p:xfrm>
        <a:graphic>
          <a:graphicData uri="http://schemas.openxmlformats.org/drawingml/2006/table">
            <a:tbl>
              <a:tblPr/>
              <a:tblGrid>
                <a:gridCol w="1039680"/>
                <a:gridCol w="563400"/>
                <a:gridCol w="615960"/>
                <a:gridCol w="538200"/>
                <a:gridCol w="582840"/>
                <a:gridCol w="601560"/>
                <a:gridCol w="561960"/>
                <a:gridCol w="601560"/>
                <a:gridCol w="561960"/>
              </a:tblGrid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tent Class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tent Class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tent Class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tent Class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8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.5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.2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.6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.8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6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9.2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9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5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9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5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2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4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28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Probabil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Class P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.7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.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1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.7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60.1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7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Content Placeholder 5"/>
          <p:cNvSpPr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nalyst believes some attributes are ignored.  There is no indic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asses distinguished by which attributes are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me model applies, now a latent class.  For K attributes there are 2</a:t>
            </a:r>
            <a:r>
              <a:rPr b="0" lang="en-AU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candidate coefficient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85480" y="2536920"/>
            <a:ext cx="75992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tent Class and Probabilistic Decision Rule Models</a:t>
            </a:r>
            <a:br>
              <a:rPr sz="1700"/>
            </a:br>
            <a:br>
              <a:rPr sz="1700"/>
            </a:br>
            <a:br>
              <a:rPr sz="1000"/>
            </a:br>
            <a:br>
              <a:rPr sz="1000"/>
            </a:b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1096920"/>
            <a:ext cx="815328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tent Class Models with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 Class Restr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2" name="Object 2"/>
          <p:cNvGraphicFramePr/>
          <p:nvPr/>
        </p:nvGraphicFramePr>
        <p:xfrm>
          <a:off x="747720" y="1716120"/>
          <a:ext cx="77104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716120"/>
                    <a:ext cx="77104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Content Placeholder 5"/>
          <p:cNvSpPr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8 Class Model: 6 structural utility parameters, 7 unrestricted prior probabilit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Reduced form has 8(6)+8 = 56 parameters.  (</a:t>
            </a:r>
            <a:r>
              <a:rPr b="0" lang="en-AU" sz="1900" spc="-1" strike="noStrike">
                <a:solidFill>
                  <a:srgbClr val="000000"/>
                </a:solidFill>
                <a:latin typeface="Tahoma"/>
                <a:ea typeface="Tahoma"/>
              </a:rPr>
              <a:t>π</a:t>
            </a:r>
            <a:r>
              <a:rPr b="0" lang="en-AU" sz="19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en-AU" sz="1900" spc="-1" strike="noStrike">
                <a:solidFill>
                  <a:srgbClr val="000000"/>
                </a:solidFill>
                <a:latin typeface="Tahoma"/>
                <a:ea typeface="Tahoma"/>
              </a:rPr>
              <a:t> = exp(α</a:t>
            </a:r>
            <a:r>
              <a:rPr b="0" lang="en-AU" sz="19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en-AU" sz="1900" spc="-1" strike="noStrike">
                <a:solidFill>
                  <a:srgbClr val="000000"/>
                </a:solidFill>
                <a:latin typeface="Tahoma"/>
                <a:ea typeface="Tahoma"/>
              </a:rPr>
              <a:t>)/∑</a:t>
            </a:r>
            <a:r>
              <a:rPr b="0" lang="en-AU" sz="19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en-AU" sz="1900" spc="-1" strike="noStrike">
                <a:solidFill>
                  <a:srgbClr val="000000"/>
                </a:solidFill>
                <a:latin typeface="Tahoma"/>
                <a:ea typeface="Tahoma"/>
              </a:rPr>
              <a:t>exp(α</a:t>
            </a:r>
            <a:r>
              <a:rPr b="0" lang="en-AU" sz="19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en-AU" sz="1900" spc="-1" strike="noStrike">
                <a:solidFill>
                  <a:srgbClr val="000000"/>
                </a:solidFill>
                <a:latin typeface="Tahoma"/>
                <a:ea typeface="Tahoma"/>
              </a:rPr>
              <a:t>), α</a:t>
            </a:r>
            <a:r>
              <a:rPr b="0" lang="en-AU" sz="19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en-AU" sz="1900" spc="-1" strike="noStrike">
                <a:solidFill>
                  <a:srgbClr val="000000"/>
                </a:solidFill>
                <a:latin typeface="Tahoma"/>
                <a:ea typeface="Tahoma"/>
              </a:rPr>
              <a:t> =  0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EM Algorithm:  Does not provide any means to impose cross class restrictio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Bayesian” MCMC Methods:  May be possible to force the restrictions – it will not be simp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Conventional Maximization:  Simp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 for the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250120" cy="4496040"/>
          </a:xfrm>
          <a:prstGeom prst="rect">
            <a:avLst/>
          </a:prstGeom>
          <a:ln w="0">
            <a:noFill/>
          </a:ln>
        </p:spPr>
      </p:pic>
      <p:sp>
        <p:nvSpPr>
          <p:cNvPr id="478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91680" cy="3733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8539200" cy="8384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4"/>
          <p:cNvSpPr/>
          <p:nvPr/>
        </p:nvSpPr>
        <p:spPr>
          <a:xfrm>
            <a:off x="6324480" y="5410080"/>
            <a:ext cx="2514600" cy="2286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380880" y="5640480"/>
            <a:ext cx="6858000" cy="234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3" descr=""/>
          <p:cNvPicPr/>
          <p:nvPr/>
        </p:nvPicPr>
        <p:blipFill>
          <a:blip r:embed="rId1"/>
          <a:stretch/>
        </p:blipFill>
        <p:spPr>
          <a:xfrm>
            <a:off x="685800" y="3025800"/>
            <a:ext cx="7848720" cy="3473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334360" cy="901800"/>
          </a:xfrm>
          <a:prstGeom prst="rect">
            <a:avLst/>
          </a:prstGeom>
          <a:ln w="0">
            <a:noFill/>
          </a:ln>
        </p:spPr>
      </p:pic>
      <p:sp>
        <p:nvSpPr>
          <p:cNvPr id="486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model with 6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82240" cy="1192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8443800" cy="2320920"/>
          </a:xfrm>
          <a:prstGeom prst="rect">
            <a:avLst/>
          </a:prstGeom>
          <a:ln w="0">
            <a:noFill/>
          </a:ln>
        </p:spPr>
      </p:pic>
      <p:sp>
        <p:nvSpPr>
          <p:cNvPr id="490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tated choic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362800" cy="2500560"/>
          </a:xfrm>
          <a:prstGeom prst="rect">
            <a:avLst/>
          </a:prstGeom>
          <a:ln w="0">
            <a:noFill/>
          </a:ln>
        </p:spPr>
      </p:pic>
      <p:sp>
        <p:nvSpPr>
          <p:cNvPr id="493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Latent class model – Prior class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Latent Class, Fixed Parameters, No ANA, No AC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2997-8BE7-45AC-BDAE-6EDA8EA61099}" type="slidenum">
              <a:rPr b="0" lang="en-AU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608040" y="1720800"/>
            <a:ext cx="80294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Latent Class, Fixed Parameters, FAA, ANA, AC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B57C-5379-442F-88AE-53BF88C5F234}" type="slidenum">
              <a:rPr b="0" lang="en-AU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905040" y="1498680"/>
            <a:ext cx="73022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73080" y="428400"/>
            <a:ext cx="70408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50920" y="1754280"/>
            <a:ext cx="8663040" cy="47354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sher, D.A. (in press)Attribute processing as a behavioural strategy in choice making, in Hess, S. and Daly, A.J. (eds.)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andbook of Discrete Choice Modell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Edward Elgar, U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nsher, D.A. (2010) Attribute Processing, Heuristics and Preference Construction in Choice Analysis. in Hess, S. and Daly, A. (eds.)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State-of Art and State-of Practice in Choice Modelling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, Emerald Press, UK., 35-7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nsher, D.A., Rose, J.M. and Greene, W.H. (2012) Inferring attribute non-attendance from stated choice data: implications for willingness to pay estimates and a warning for stated choice experiment design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, 39 (2) 235-25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nsher, D.A., Rose, J. and Greene, W. (2005) The Implications on Willingness to Pay of Respondents Ignoring Specific Attributes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, 32 (3), 203-22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nsher, D.A. (2006a) How do Respondents Process Stated Choice Experiments? – Attribute consideration under varying information load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Journal of Applied Econometric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, 21, 861-8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nsher, D.A. and Collins, A. (2011) Interrogation of Responses to Stated Choice Experiments: Is there sense in what respondents tell us? A Closer Look at what Respondents Choose in Stated Choice Experiments.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Journal of Choice Modelling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, 4 (1), 62-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C545-DF5B-4C42-8836-2C3248E4508A}" type="slidenum">
              <a:rPr b="0" lang="en-AU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ttribute processing: Some key 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873080" y="428400"/>
            <a:ext cx="70408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920" y="1753920"/>
            <a:ext cx="8663040" cy="46990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arpa, R., Gilbride, T., Campbell, D. and Hensher, D.A. (2009) Modeling attribute non-attendance in choice experiments for rural landscape valuation 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Review of Agricultural Economic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36 (2), 151-17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arpa, R,  Zanoli, R.,  Bruschi, V. and  Naspetti, S. (2012) Inferred and stated attribute non-attendance in food choice experiments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merican Journal of Agricultural Economic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doi: 10.1093/ajae/aas07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arpa, R., Thiene, M. and Hensher, D.A., (2010) Monitoring Choice Task Attribute Attendance in Non-Market Valuation of Multiple Park Management Services: Does it Matter?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nd Economic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86(4), 817-83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eene, W.H. and Hensher, D.A. (2013) Revealing additional dimensions of preference heterogeneity in a latent class mixed multinomial logit model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Economic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45 (14) 1897-1902. DOI:10.1080/00036846.2011.65032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0D6B-9256-4A15-B0F3-873DE68D5E50}" type="slidenum">
              <a:rPr b="0" lang="en-AU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ttribute processing: Some key 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sion Strategy in Multinomial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6" name="Object 2"/>
          <p:cNvGraphicFramePr/>
          <p:nvPr/>
        </p:nvGraphicFramePr>
        <p:xfrm>
          <a:off x="685800" y="2158920"/>
          <a:ext cx="794844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58920"/>
                    <a:ext cx="79484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nomial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"/>
          <p:cNvGraphicFramePr/>
          <p:nvPr/>
        </p:nvGraphicFramePr>
        <p:xfrm>
          <a:off x="533520" y="2133720"/>
          <a:ext cx="80024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024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2"/>
          <p:cNvSpPr/>
          <p:nvPr/>
        </p:nvSpPr>
        <p:spPr>
          <a:xfrm>
            <a:off x="687240" y="70135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1014480" y="5408640"/>
            <a:ext cx="7424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ice situations in which the individual explicitly states that they ignored certain attributes in their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plici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514440" y="1819440"/>
            <a:ext cx="8062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sher, D.A., Rose, J. and Greene, W. (2005) The Implications on Willingness to Pay of Respondents Ignoring Specific Attributes (DoD#6) Transportation, 32 (3), 203-22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sher, D.A. and Rose, J.M. (2009) Simplifying Choice through Attribute Preservation or Non-Attendance: Implications for Willingness to Pay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portation Research Part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45, 583-5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ose, J., Hensher, D., Greene, W. and Washington, S. Attribute Exclusion Strategies in Airline Choice: Accounting for Exogenous Information on Decision Maker Processing Strategies in Models of Discrete Choice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Transportmetrica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Object 2"/>
          <p:cNvGraphicFramePr/>
          <p:nvPr/>
        </p:nvGraphicFramePr>
        <p:xfrm>
          <a:off x="914400" y="2824200"/>
          <a:ext cx="556272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24200"/>
                    <a:ext cx="5562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Rectangle 6"/>
          <p:cNvSpPr/>
          <p:nvPr/>
        </p:nvSpPr>
        <p:spPr>
          <a:xfrm>
            <a:off x="762120" y="2735280"/>
            <a:ext cx="6095880" cy="990720"/>
          </a:xfrm>
          <a:prstGeom prst="rect">
            <a:avLst/>
          </a:prstGeom>
          <a:solidFill>
            <a:srgbClr val="ff0000">
              <a:alpha val="1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514440" y="1819440"/>
            <a:ext cx="806292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ethodologically, a rather minor point – construct appropriate likelihood given know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t a latent class model. Classes are not la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t the ‘variable selection’ issue (the worst form of “stepwise” mode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amiliar strategy gives the wrong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114624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: Sydne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ters’ Route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514440" y="1819440"/>
            <a:ext cx="806292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ated Preference study – several possible choice situations considered by each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ultinomial and mixed (random parameters) log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umers included data on which attributes were ign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gnored attributes visibly coded as ignored are automatically treated by constraining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for that obser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3:28:42Z</dcterms:created>
  <dc:creator>PresentationStudio.com</dc:creator>
  <dc:description/>
  <dc:language>en-US</dc:language>
  <cp:lastModifiedBy>Bill</cp:lastModifiedBy>
  <dcterms:modified xsi:type="dcterms:W3CDTF">2015-05-07T00:22:19Z</dcterms:modified>
  <cp:revision>727</cp:revision>
  <dc:subject/>
  <dc:title>UNIS Template</dc:title>
</cp:coreProperties>
</file>