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73.png" ContentType="image/png"/>
  <Override PartName="/ppt/media/image50.wmf" ContentType="image/x-wmf"/>
  <Override PartName="/ppt/media/image10.png" ContentType="image/png"/>
  <Override PartName="/ppt/media/image38.wmf" ContentType="image/x-wmf"/>
  <Override PartName="/ppt/media/image8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31.png" ContentType="image/png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26.wmf" ContentType="image/x-wmf"/>
  <Override PartName="/ppt/media/image63.wmf" ContentType="image/x-wmf"/>
  <Override PartName="/ppt/media/image78.png" ContentType="image/png"/>
  <Override PartName="/ppt/media/image9.wmf" ContentType="image/x-wmf"/>
  <Override PartName="/ppt/media/image3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2.wmf" ContentType="image/x-wmf"/>
  <Override PartName="/ppt/media/image2.png" ContentType="image/png"/>
  <Override PartName="/ppt/media/image69.wmf" ContentType="image/x-wmf"/>
  <Override PartName="/ppt/media/image70.wmf" ContentType="image/x-wmf"/>
  <Override PartName="/ppt/media/image3.jpeg" ContentType="image/jpeg"/>
  <Override PartName="/ppt/media/image28.wmf" ContentType="image/x-wmf"/>
  <Override PartName="/ppt/media/image68.wmf" ContentType="image/x-wmf"/>
  <Override PartName="/ppt/media/image66.wmf" ContentType="image/x-wmf"/>
  <Override PartName="/ppt/media/image82.wmf" ContentType="image/x-wmf"/>
  <Override PartName="/ppt/media/image17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48.wmf" ContentType="image/x-wmf"/>
  <Override PartName="/ppt/media/image12.wmf" ContentType="image/x-wmf"/>
  <Override PartName="/ppt/media/image49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54.png" ContentType="image/png"/>
  <Override PartName="/ppt/media/image40.wmf" ContentType="image/x-wmf"/>
  <Override PartName="/ppt/media/image83.png" ContentType="image/png"/>
  <Override PartName="/ppt/media/image1.png" ContentType="image/png"/>
  <Override PartName="/ppt/media/image13.png" ContentType="image/png"/>
  <Override PartName="/ppt/media/image5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7A1B-CCC9-42B6-87C7-9DD81B3B90C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6CEA-D118-4850-83B0-E4AE4A440E1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DF44-2828-4B8E-8E18-4430A410EDE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FF9-5D03-4851-AC0E-C2AC1E5BCA4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9C6-07ED-468E-8246-F1A8C0DDBB3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16D3-25D5-49D5-8721-F8544206AB2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DB7D-9B3D-4CBF-AF38-4CD0C7F9865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B42-4F16-465D-8F23-DEC604A8568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D01-D872-4C0F-BDE9-12155D6273C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78D8-1CA6-4F85-823D-DBC61448B7A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426-5E57-4773-850B-4B3CABE62F8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A01-72B8-4DB9-8D4E-86A10F8B7F0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F5F-01C6-43D6-9239-578AF9E6E8E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5BF-DE67-4D7D-BC6B-BBF07C85DE1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BFB-2C55-42B4-BB84-EE909C369AD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80B2-1782-4BD1-A4D5-50EAB2873F4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928-2597-41B5-8E23-7E516D2428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1656-6C19-4CC0-95D4-349BD6C467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8042-44C9-47C7-A0C9-1A49DBAD7F7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CD7-A34D-48C5-A6C7-0B3ECF5041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FC17-311C-46E0-A3C8-DEDE9F7BA36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834-9083-4B5C-AA5B-905963D933D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2EC-66EC-469E-8B79-1180518566A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E2B-8545-49FC-8717-A53CF47A790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C6AF-8DB5-423A-8F8C-F723F4A69A6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B94-8880-440F-9B13-1B8CAFD4174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3A1-B16E-490C-9BA9-ECD4C3413B5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FD4-E3EE-4EC2-805B-2EB2AB05BB5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867-055A-4ACB-99B5-A62B2DE4FBF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002-FF99-4AFA-9BFD-112F0BBB24C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C561-8632-42BD-A6EC-4FAA62569F3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4ED-D541-4D95-AC17-F96733666B9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C8A-1121-49C3-9E6E-B4663C4FF82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BA1A-E627-4EFB-9E1B-4CFD91C0448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0166-B6FD-4F57-90A0-870BDEC7426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56C0-8B4C-4840-A2AD-A417AE585FB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AD1-C27C-4762-BF84-E752506CDEC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DE0-50A8-452A-A176-C647ECF7EFF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C81-14EE-43C1-AEC2-3F915D810E7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C70-0993-48CE-A895-BC6FD699BAB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8DF-881B-4D3B-9AFC-6074E4EA05D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72E0-637D-43D6-9FF7-FCF590BB5EF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100-2FC9-4B6E-8B1B-2350B3FAABA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6CFB-C7FA-4DF6-9E32-9C5593AAC5F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D4E-2E2D-41F3-AAB9-C1AA0F38952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A9C2-125F-4E1A-A67F-5D3EFED5AA1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582D-CDC2-4EFF-884B-65BE3A87CBF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0E5-4A22-436F-9551-98E99B937AE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46C-6230-4501-8553-42CC8E9FACE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293-8905-4659-9079-321D6A3620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0917-1CC9-4419-B3E1-B09EDB7A49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3DD6-CBE7-4B98-B40A-8D5DE0F6BA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B6B-B2D1-46DD-95BC-D500FBDA7B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804D-F2D2-4838-8F83-E15952F967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BE6-6424-457B-BB80-816232961BB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A4A-7183-407F-AB6A-C5CA23D6376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E349-F409-4E00-BBD1-026BF6B48ED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1150-1CF2-448F-85AF-B2EA8E109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B7DE-F12C-41A9-B42F-A5B16023B7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921F-395E-4E1C-AACD-6B120C34E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1CEB-316B-41EF-B34E-75F24C662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9CAD-6424-4A06-A17E-06E55F6D3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7281-1E62-47CE-8B63-11E3E6C3E5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7721-37C3-4EE5-A569-830BCBE5F2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F4C0-6E2C-4077-96C3-7F75758918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C66B-B995-4100-91DB-BF5049C9D94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7215-29B4-4CF8-A754-7748859946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69A4-5E9A-40D5-81D1-8BC1271DB1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F21D-1FA7-4E85-AC96-8941AD08EA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A42-5426-4A4C-8CE7-C005CB89378B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The Hierarchic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Cambridge University Press, Cambridge (Second edition to appear 20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 approximation of the variance of the EV1 distribu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3.141593…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normalised to 1 in the MNL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o how does it wor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155-AACD-43DC-8741-EF2F9FA2B17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4"/>
          <p:cNvGraphicFramePr/>
          <p:nvPr/>
        </p:nvGraphicFramePr>
        <p:xfrm>
          <a:off x="1077840" y="2219400"/>
          <a:ext cx="134460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2219400"/>
                    <a:ext cx="13446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9"/>
          <p:cNvGraphicFramePr/>
          <p:nvPr/>
        </p:nvGraphicFramePr>
        <p:xfrm>
          <a:off x="917640" y="4033800"/>
          <a:ext cx="396396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033800"/>
                    <a:ext cx="39639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2760" y="1763640"/>
            <a:ext cx="8663040" cy="408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MNL model is implied i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0000" y="1265040"/>
            <a:ext cx="86630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back to the MN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3135-EBD0-4644-88BD-7EC96B44012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1290600" y="2165400"/>
          <a:ext cx="514836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165400"/>
                    <a:ext cx="51483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2"/>
          <p:cNvGraphicFramePr/>
          <p:nvPr/>
        </p:nvGraphicFramePr>
        <p:xfrm>
          <a:off x="1335240" y="4175280"/>
          <a:ext cx="545940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5240" y="4175280"/>
                    <a:ext cx="54594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sted Logi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08D-45E7-4D3A-B9DB-367FC0930D7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4"/>
          <p:cNvGraphicFramePr/>
          <p:nvPr/>
        </p:nvGraphicFramePr>
        <p:xfrm>
          <a:off x="4870440" y="1434960"/>
          <a:ext cx="1608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0440" y="1434960"/>
                    <a:ext cx="1608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5"/>
          <p:cNvGraphicFramePr/>
          <p:nvPr/>
        </p:nvGraphicFramePr>
        <p:xfrm>
          <a:off x="1442880" y="1692360"/>
          <a:ext cx="239904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1692360"/>
                    <a:ext cx="23990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7"/>
          <p:cNvSpPr/>
          <p:nvPr/>
        </p:nvSpPr>
        <p:spPr>
          <a:xfrm>
            <a:off x="231840" y="3232080"/>
            <a:ext cx="4152960" cy="11134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dddddd"/>
                </a:solidFill>
                <a:latin typeface="Arial"/>
                <a:ea typeface="Arial"/>
              </a:rPr>
              <a:t>π</a:t>
            </a:r>
            <a:r>
              <a:rPr b="0" i="1" lang="en-AU" sz="26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and 6 are fixed values, hence if we allow </a:t>
            </a:r>
            <a:r>
              <a:rPr b="0" i="1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i="1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o change, the only thing that can change is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σ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 baseline="30000">
                <a:solidFill>
                  <a:srgbClr val="dddddd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7"/>
          <p:cNvGraphicFramePr/>
          <p:nvPr/>
        </p:nvGraphicFramePr>
        <p:xfrm>
          <a:off x="2987640" y="4441680"/>
          <a:ext cx="5316480" cy="17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441680"/>
                    <a:ext cx="531648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Content Placeholder 5"/>
          <p:cNvSpPr/>
          <p:nvPr/>
        </p:nvSpPr>
        <p:spPr>
          <a:xfrm>
            <a:off x="3838680" y="1803240"/>
            <a:ext cx="25714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sted Logit model groups alternatives together into different ‘nests’ or ‘branch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BCF-05AC-4249-B6C2-B6ED8084695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ct 4"/>
          <p:cNvGraphicFramePr/>
          <p:nvPr/>
        </p:nvGraphicFramePr>
        <p:xfrm>
          <a:off x="639720" y="316080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316080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0"/>
          <p:cNvGraphicFramePr/>
          <p:nvPr/>
        </p:nvGraphicFramePr>
        <p:xfrm>
          <a:off x="6997680" y="2976480"/>
          <a:ext cx="129060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7680" y="2976480"/>
                    <a:ext cx="12906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1"/>
          <p:cNvGraphicFramePr/>
          <p:nvPr/>
        </p:nvGraphicFramePr>
        <p:xfrm>
          <a:off x="6994440" y="4148280"/>
          <a:ext cx="142416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94440" y="4148280"/>
                    <a:ext cx="14241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Right Brace 14"/>
          <p:cNvSpPr/>
          <p:nvPr/>
        </p:nvSpPr>
        <p:spPr>
          <a:xfrm rot="10800000">
            <a:off x="6372000" y="3000240"/>
            <a:ext cx="695160" cy="2152800"/>
          </a:xfrm>
          <a:custGeom>
            <a:avLst/>
            <a:gdLst>
              <a:gd name="textAreaLeft" fmla="*/ 0 w 695160"/>
              <a:gd name="textAreaRight" fmla="*/ 250920 w 695160"/>
              <a:gd name="textAreaTop" fmla="*/ 18000 h 2152800"/>
              <a:gd name="textAreaBottom" fmla="*/ 213480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6915240" y="32004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3629160" y="321948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4162320" y="360036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4762440" y="4019400"/>
            <a:ext cx="561960" cy="52416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9"/>
          <p:cNvSpPr/>
          <p:nvPr/>
        </p:nvSpPr>
        <p:spPr>
          <a:xfrm>
            <a:off x="5372280" y="44481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>
            <a:off x="6953400" y="440064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343-B178-4243-BE04-14D8327BA3E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5157720" y="1314360"/>
            <a:ext cx="3484800" cy="11912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Each branch (nest) of the tree groups the variances of the error terms of the alternatives contained within that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20"/>
          <p:cNvGraphicFramePr/>
          <p:nvPr/>
        </p:nvGraphicFramePr>
        <p:xfrm>
          <a:off x="768240" y="4033800"/>
          <a:ext cx="19843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4033800"/>
                    <a:ext cx="1984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21"/>
          <p:cNvGraphicFramePr/>
          <p:nvPr/>
        </p:nvGraphicFramePr>
        <p:xfrm>
          <a:off x="3193920" y="4189320"/>
          <a:ext cx="5448600" cy="17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3920" y="4189320"/>
                    <a:ext cx="544860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6" name="Picture 22" descr=""/>
          <p:cNvPicPr/>
          <p:nvPr/>
        </p:nvPicPr>
        <p:blipFill>
          <a:blip r:embed="rId5"/>
          <a:stretch/>
        </p:blipFill>
        <p:spPr>
          <a:xfrm>
            <a:off x="414360" y="1986120"/>
            <a:ext cx="4676760" cy="1895400"/>
          </a:xfrm>
          <a:prstGeom prst="rect">
            <a:avLst/>
          </a:prstGeom>
          <a:ln w="0">
            <a:noFill/>
          </a:ln>
        </p:spPr>
      </p:pic>
      <p:sp>
        <p:nvSpPr>
          <p:cNvPr id="557" name="Oval 23"/>
          <p:cNvSpPr/>
          <p:nvPr/>
        </p:nvSpPr>
        <p:spPr>
          <a:xfrm>
            <a:off x="7286760" y="50673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4"/>
          <p:cNvSpPr/>
          <p:nvPr/>
        </p:nvSpPr>
        <p:spPr>
          <a:xfrm>
            <a:off x="7867800" y="547704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5"/>
          <p:cNvSpPr/>
          <p:nvPr/>
        </p:nvSpPr>
        <p:spPr>
          <a:xfrm>
            <a:off x="6162840" y="42102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6"/>
          <p:cNvSpPr/>
          <p:nvPr/>
        </p:nvSpPr>
        <p:spPr>
          <a:xfrm>
            <a:off x="6705720" y="46386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5162400" y="2527200"/>
            <a:ext cx="3480120" cy="9169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his not necessarily a decision tree. It is a mathematical form of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5164200" y="3457440"/>
            <a:ext cx="3478320" cy="6800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What counts are similarities in the variances of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ε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53E-2C29-4A49-B6DB-92B84373A19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4703760" y="2225520"/>
            <a:ext cx="4079880" cy="6426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his not necessarily a decision tree. It is a mathematical form of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45200" y="3197160"/>
            <a:ext cx="3122640" cy="6800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What counts are similarities in the variances of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ε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36"/>
          <p:cNvGrpSpPr/>
          <p:nvPr/>
        </p:nvGrpSpPr>
        <p:grpSpPr>
          <a:xfrm>
            <a:off x="328680" y="2239200"/>
            <a:ext cx="4383000" cy="1631160"/>
            <a:chOff x="328680" y="2239200"/>
            <a:chExt cx="4383000" cy="1631160"/>
          </a:xfrm>
        </p:grpSpPr>
        <p:sp>
          <p:nvSpPr>
            <p:cNvPr id="569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3" name="AutoShape 19"/>
            <p:cNvCxnSpPr>
              <a:stCxn id="569" idx="0"/>
              <a:endCxn id="570" idx="0"/>
            </p:cNvCxnSpPr>
            <p:nvPr/>
          </p:nvCxnSpPr>
          <p:spPr>
            <a:xfrm flipH="1" rot="16200000">
              <a:off x="1374120" y="2956320"/>
              <a:ext cx="216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4" name="Text Box 21"/>
            <p:cNvSpPr/>
            <p:nvPr/>
          </p:nvSpPr>
          <p:spPr>
            <a:xfrm>
              <a:off x="1633680" y="248436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3"/>
            <p:cNvSpPr/>
            <p:nvPr/>
          </p:nvSpPr>
          <p:spPr>
            <a:xfrm flipV="1">
              <a:off x="1909800" y="2824200"/>
              <a:ext cx="1807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4"/>
            <p:cNvSpPr/>
            <p:nvPr/>
          </p:nvSpPr>
          <p:spPr>
            <a:xfrm flipH="1" flipV="1">
              <a:off x="3163680" y="2808000"/>
              <a:ext cx="106524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8" name="AutoShape 25"/>
            <p:cNvCxnSpPr>
              <a:stCxn id="574" idx="0"/>
              <a:endCxn id="575" idx="0"/>
            </p:cNvCxnSpPr>
            <p:nvPr/>
          </p:nvCxnSpPr>
          <p:spPr>
            <a:xfrm flipH="1" flipV="1" rot="5400000">
              <a:off x="2645640" y="1957680"/>
              <a:ext cx="1476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9" name="AutoShape 29"/>
            <p:cNvCxnSpPr>
              <a:stCxn id="570" idx="0"/>
              <a:endCxn id="571" idx="0"/>
            </p:cNvCxnSpPr>
            <p:nvPr/>
          </p:nvCxnSpPr>
          <p:spPr>
            <a:xfrm flipH="1" rot="16200000">
              <a:off x="2493360" y="2929320"/>
              <a:ext cx="2160" cy="1146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580" name="Object 3"/>
          <p:cNvGraphicFramePr/>
          <p:nvPr/>
        </p:nvGraphicFramePr>
        <p:xfrm>
          <a:off x="2935440" y="444672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44672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4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Oval 20"/>
          <p:cNvSpPr/>
          <p:nvPr/>
        </p:nvSpPr>
        <p:spPr>
          <a:xfrm>
            <a:off x="5915160" y="446724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6505560" y="4933800"/>
            <a:ext cx="561960" cy="52416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22"/>
          <p:cNvSpPr/>
          <p:nvPr/>
        </p:nvSpPr>
        <p:spPr>
          <a:xfrm>
            <a:off x="7077240" y="53532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3"/>
          <p:cNvSpPr/>
          <p:nvPr/>
        </p:nvSpPr>
        <p:spPr>
          <a:xfrm>
            <a:off x="7696080" y="57531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A376-C129-4771-80C8-EE24F7AC70C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592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AutoShape 19"/>
            <p:cNvCxnSpPr>
              <a:stCxn id="592" idx="0"/>
              <a:endCxn id="593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AutoShape 20"/>
            <p:cNvCxnSpPr>
              <a:stCxn id="594" idx="0"/>
              <a:endCxn id="595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8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2" name="AutoShape 25"/>
            <p:cNvCxnSpPr>
              <a:stCxn id="598" idx="0"/>
              <a:endCxn id="599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03" name="Object 3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5" name="Picture 23" descr=""/>
          <p:cNvPicPr/>
          <p:nvPr/>
        </p:nvPicPr>
        <p:blipFill>
          <a:blip r:embed="rId3"/>
          <a:stretch/>
        </p:blipFill>
        <p:spPr>
          <a:xfrm>
            <a:off x="4948200" y="1757520"/>
            <a:ext cx="3414600" cy="33336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4165560" y="5232240"/>
            <a:ext cx="4152960" cy="10087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ddddd"/>
                </a:solidFill>
                <a:latin typeface="Arial"/>
                <a:ea typeface="Arial"/>
              </a:rPr>
              <a:t>These are conditional probabilities. We also model the probabilities of belonging to branches A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C84-62CC-481E-B37E-C2EFF688B36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1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AutoShape 19"/>
            <p:cNvCxnSpPr>
              <a:stCxn id="611" idx="0"/>
              <a:endCxn id="61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AutoShape 20"/>
            <p:cNvCxnSpPr>
              <a:stCxn id="613" idx="0"/>
              <a:endCxn id="61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1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1" name="AutoShape 25"/>
            <p:cNvCxnSpPr>
              <a:stCxn id="617" idx="0"/>
              <a:endCxn id="61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22" name="Object 2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3"/>
          <p:cNvGraphicFramePr/>
          <p:nvPr/>
        </p:nvGraphicFramePr>
        <p:xfrm>
          <a:off x="5388120" y="1666800"/>
          <a:ext cx="27763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8120" y="166680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4"/>
          <p:cNvGraphicFramePr/>
          <p:nvPr/>
        </p:nvGraphicFramePr>
        <p:xfrm>
          <a:off x="5388120" y="2316240"/>
          <a:ext cx="29890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8120" y="2316240"/>
                    <a:ext cx="2989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5"/>
          <p:cNvGraphicFramePr/>
          <p:nvPr/>
        </p:nvGraphicFramePr>
        <p:xfrm>
          <a:off x="5388120" y="3051000"/>
          <a:ext cx="28620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8120" y="3051000"/>
                    <a:ext cx="28620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6"/>
          <p:cNvGraphicFramePr/>
          <p:nvPr/>
        </p:nvGraphicFramePr>
        <p:xfrm>
          <a:off x="5388120" y="3811680"/>
          <a:ext cx="27763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8120" y="381168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7"/>
          <p:cNvGraphicFramePr/>
          <p:nvPr/>
        </p:nvGraphicFramePr>
        <p:xfrm>
          <a:off x="4406760" y="5487840"/>
          <a:ext cx="17384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06760" y="5487840"/>
                    <a:ext cx="1738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8"/>
          <p:cNvGraphicFramePr/>
          <p:nvPr/>
        </p:nvGraphicFramePr>
        <p:xfrm>
          <a:off x="6734160" y="5568840"/>
          <a:ext cx="1738440" cy="69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4160" y="5568840"/>
                    <a:ext cx="1738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Text Box 7"/>
          <p:cNvSpPr/>
          <p:nvPr/>
        </p:nvSpPr>
        <p:spPr>
          <a:xfrm>
            <a:off x="4299120" y="4737240"/>
            <a:ext cx="4152600" cy="7038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ddddd"/>
                </a:solidFill>
                <a:latin typeface="Arial"/>
                <a:ea typeface="Arial"/>
              </a:rPr>
              <a:t>These are the probabilities of belonging to branches A o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6F6-530B-4955-B136-2567C6F5B11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4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AutoShape 19"/>
            <p:cNvCxnSpPr>
              <a:stCxn id="641" idx="0"/>
              <a:endCxn id="64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6" name="AutoShape 20"/>
            <p:cNvCxnSpPr>
              <a:stCxn id="643" idx="0"/>
              <a:endCxn id="64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AutoShape 25"/>
            <p:cNvCxnSpPr>
              <a:stCxn id="647" idx="0"/>
              <a:endCxn id="64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52" name="Object 2"/>
          <p:cNvGraphicFramePr/>
          <p:nvPr/>
        </p:nvGraphicFramePr>
        <p:xfrm>
          <a:off x="5280120" y="2689200"/>
          <a:ext cx="296712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0120" y="2689200"/>
                    <a:ext cx="29671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9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28"/>
          <p:cNvSpPr/>
          <p:nvPr/>
        </p:nvSpPr>
        <p:spPr>
          <a:xfrm>
            <a:off x="4921200" y="3886200"/>
            <a:ext cx="3873600" cy="17773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Where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present socio-demographic influences that explain association with Nest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respectively and ln[.]  are the influences of the alternatives associated with the n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ID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2FE-E7FA-4489-AA52-29431FE921C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6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AutoShape 19"/>
            <p:cNvCxnSpPr>
              <a:stCxn id="661" idx="0"/>
              <a:endCxn id="66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6" name="AutoShape 20"/>
            <p:cNvCxnSpPr>
              <a:stCxn id="663" idx="0"/>
              <a:endCxn id="66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6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1" name="AutoShape 25"/>
            <p:cNvCxnSpPr>
              <a:stCxn id="667" idx="0"/>
              <a:endCxn id="66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72" name="Object 2"/>
          <p:cNvGraphicFramePr/>
          <p:nvPr/>
        </p:nvGraphicFramePr>
        <p:xfrm>
          <a:off x="5280120" y="2689200"/>
          <a:ext cx="296712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0120" y="2689200"/>
                    <a:ext cx="29671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3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Text Box 28"/>
          <p:cNvSpPr/>
          <p:nvPr/>
        </p:nvSpPr>
        <p:spPr>
          <a:xfrm>
            <a:off x="4921200" y="3886200"/>
            <a:ext cx="3873600" cy="9169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e that there are now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s belonging to the branch level ut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AE2-F908-4B5F-B549-7C76F163E5A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8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5" name="AutoShape 19"/>
            <p:cNvCxnSpPr>
              <a:stCxn id="681" idx="0"/>
              <a:endCxn id="68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AutoShape 20"/>
            <p:cNvCxnSpPr>
              <a:stCxn id="683" idx="0"/>
              <a:endCxn id="68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AutoShape 25"/>
            <p:cNvCxnSpPr>
              <a:stCxn id="687" idx="0"/>
              <a:endCxn id="68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92" name="Object 2"/>
          <p:cNvGraphicFramePr/>
          <p:nvPr/>
        </p:nvGraphicFramePr>
        <p:xfrm>
          <a:off x="5597640" y="2689200"/>
          <a:ext cx="233208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7640" y="2689200"/>
                    <a:ext cx="2332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3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28"/>
          <p:cNvSpPr/>
          <p:nvPr/>
        </p:nvSpPr>
        <p:spPr>
          <a:xfrm>
            <a:off x="4921200" y="3886200"/>
            <a:ext cx="3873600" cy="9918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Many applications do not include demographics for estimation of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12760" y="151596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VI:  P(Choice,Branch)=P(Choice|Branch)P(Bran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0185-7AB1-4E8E-A483-3511948B828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70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5" name="AutoShape 19"/>
            <p:cNvCxnSpPr>
              <a:stCxn id="701" idx="0"/>
              <a:endCxn id="70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6" name="AutoShape 20"/>
            <p:cNvCxnSpPr>
              <a:stCxn id="703" idx="0"/>
              <a:endCxn id="70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1" name="AutoShape 25"/>
            <p:cNvCxnSpPr>
              <a:stCxn id="707" idx="0"/>
              <a:endCxn id="70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712" name="Object 7"/>
          <p:cNvGraphicFramePr/>
          <p:nvPr/>
        </p:nvGraphicFramePr>
        <p:xfrm>
          <a:off x="4950000" y="2281320"/>
          <a:ext cx="36874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2281320"/>
                    <a:ext cx="3687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8"/>
          <p:cNvGraphicFramePr/>
          <p:nvPr/>
        </p:nvGraphicFramePr>
        <p:xfrm>
          <a:off x="6327720" y="5624640"/>
          <a:ext cx="17384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7720" y="5624640"/>
                    <a:ext cx="17384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9"/>
          <p:cNvGraphicFramePr/>
          <p:nvPr/>
        </p:nvGraphicFramePr>
        <p:xfrm>
          <a:off x="257040" y="3954600"/>
          <a:ext cx="277668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3954600"/>
                    <a:ext cx="2776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"/>
          <p:cNvGraphicFramePr/>
          <p:nvPr/>
        </p:nvGraphicFramePr>
        <p:xfrm>
          <a:off x="246240" y="4757760"/>
          <a:ext cx="2989080" cy="7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240" y="4757760"/>
                    <a:ext cx="2989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276120" y="5559480"/>
          <a:ext cx="2862360" cy="74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120" y="5559480"/>
                    <a:ext cx="286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2"/>
          <p:cNvGraphicFramePr/>
          <p:nvPr/>
        </p:nvGraphicFramePr>
        <p:xfrm>
          <a:off x="3246480" y="5508720"/>
          <a:ext cx="277632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6480" y="550872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13"/>
          <p:cNvGraphicFramePr/>
          <p:nvPr/>
        </p:nvGraphicFramePr>
        <p:xfrm>
          <a:off x="3065400" y="4336920"/>
          <a:ext cx="1739880" cy="69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65400" y="4336920"/>
                    <a:ext cx="1739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4"/>
          <p:cNvGraphicFramePr/>
          <p:nvPr/>
        </p:nvGraphicFramePr>
        <p:xfrm>
          <a:off x="4950000" y="3889440"/>
          <a:ext cx="379224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0000" y="3889440"/>
                    <a:ext cx="37922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5"/>
          <p:cNvGraphicFramePr/>
          <p:nvPr/>
        </p:nvGraphicFramePr>
        <p:xfrm>
          <a:off x="4924440" y="3054240"/>
          <a:ext cx="3921120" cy="74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4440" y="3054240"/>
                    <a:ext cx="39211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6"/>
          <p:cNvGraphicFramePr/>
          <p:nvPr/>
        </p:nvGraphicFramePr>
        <p:xfrm>
          <a:off x="5035680" y="4595760"/>
          <a:ext cx="3706560" cy="72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35680" y="4595760"/>
                    <a:ext cx="37065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Rectangle 1"/>
          <p:cNvSpPr/>
          <p:nvPr/>
        </p:nvSpPr>
        <p:spPr>
          <a:xfrm>
            <a:off x="4862520" y="2077920"/>
            <a:ext cx="4119480" cy="3351240"/>
          </a:xfrm>
          <a:prstGeom prst="rect">
            <a:avLst/>
          </a:prstGeom>
          <a:solidFill>
            <a:srgbClr val="ce1126">
              <a:alpha val="2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122184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ed Formulation of the M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143000" y="175248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of simila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Utility: U(Alt)=U(Alt|Branch)+U(bra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implications – Correlations within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"/>
          <p:cNvSpPr/>
          <p:nvPr/>
        </p:nvSpPr>
        <p:spPr>
          <a:xfrm flipH="1">
            <a:off x="1981080" y="3505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"/>
          <p:cNvSpPr/>
          <p:nvPr/>
        </p:nvSpPr>
        <p:spPr>
          <a:xfrm>
            <a:off x="29718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52578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61722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2971800" y="266652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4572000" y="26668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419112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2209680" y="32004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6095880" y="3200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600200" y="4006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350532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480060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>
            <a:off x="6781680" y="4083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685800" y="236232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33520" y="3200400"/>
            <a:ext cx="9903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685800" y="407052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1752480" y="2362320"/>
            <a:ext cx="5791320" cy="205740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for a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990720" y="1859040"/>
          <a:ext cx="75466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9040"/>
                    <a:ext cx="75466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5334120" y="3581280"/>
            <a:ext cx="3200400" cy="990720"/>
          </a:xfrm>
          <a:prstGeom prst="rect">
            <a:avLst/>
          </a:prstGeom>
          <a:solidFill>
            <a:srgbClr val="ff3300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4572000" y="5105520"/>
            <a:ext cx="4038480" cy="99036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Level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295280" y="4952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 Location (Neighborh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ing Type (Rent, Buy, House, A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ing (# Bedro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072560" cy="26161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4"/>
          <p:cNvSpPr/>
          <p:nvPr/>
        </p:nvSpPr>
        <p:spPr>
          <a:xfrm>
            <a:off x="1143000" y="1676520"/>
            <a:ext cx="7315200" cy="304776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generat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"/>
          <p:cNvSpPr/>
          <p:nvPr/>
        </p:nvSpPr>
        <p:spPr>
          <a:xfrm flipH="1">
            <a:off x="5257800" y="3505320"/>
            <a:ext cx="914400" cy="533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"/>
          <p:cNvSpPr/>
          <p:nvPr/>
        </p:nvSpPr>
        <p:spPr>
          <a:xfrm>
            <a:off x="6172200" y="3505320"/>
            <a:ext cx="914400" cy="533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6"/>
          <p:cNvSpPr/>
          <p:nvPr/>
        </p:nvSpPr>
        <p:spPr>
          <a:xfrm flipV="1">
            <a:off x="2971800" y="266652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4572000" y="26668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419112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209680" y="3200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095880" y="3200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2743200" y="4083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571500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480060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6781680" y="4083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6"/>
          <p:cNvSpPr/>
          <p:nvPr/>
        </p:nvSpPr>
        <p:spPr>
          <a:xfrm>
            <a:off x="685800" y="3200400"/>
            <a:ext cx="1066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914400" y="399420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W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6172200" y="3505320"/>
            <a:ext cx="0" cy="53316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9"/>
          <p:cNvSpPr/>
          <p:nvPr/>
        </p:nvSpPr>
        <p:spPr>
          <a:xfrm>
            <a:off x="2971800" y="3505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1981080" y="2362320"/>
            <a:ext cx="5791320" cy="205740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838080" y="2362320"/>
            <a:ext cx="83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V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sted logit model is under-identified.  The sample does not contain sufficient information to estimate all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parameters at both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estimate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each level of the model, it is necessary to estimate the ratios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the different levels for each n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se ratios are known 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as inclusive value (IV)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dentific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C8C-C541-4AB8-B8CA-EBC2168429B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4"/>
          <p:cNvGraphicFramePr/>
          <p:nvPr/>
        </p:nvGraphicFramePr>
        <p:xfrm>
          <a:off x="658800" y="3954600"/>
          <a:ext cx="740556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954600"/>
                    <a:ext cx="74055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can be show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rearrang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V parameters and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217-C7BD-49BF-B934-1828EACBE17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Object 4"/>
          <p:cNvGraphicFramePr/>
          <p:nvPr/>
        </p:nvGraphicFramePr>
        <p:xfrm>
          <a:off x="409680" y="2284560"/>
          <a:ext cx="7896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2284560"/>
                    <a:ext cx="789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5"/>
          <p:cNvGraphicFramePr/>
          <p:nvPr/>
        </p:nvGraphicFramePr>
        <p:xfrm>
          <a:off x="1338120" y="3179880"/>
          <a:ext cx="309096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8120" y="3179880"/>
                    <a:ext cx="30909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6"/>
          <p:cNvGraphicFramePr/>
          <p:nvPr/>
        </p:nvGraphicFramePr>
        <p:xfrm>
          <a:off x="2376360" y="4371840"/>
          <a:ext cx="3065760" cy="120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6360" y="4371840"/>
                    <a:ext cx="30657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00400" y="2401560"/>
            <a:ext cx="5694480" cy="3141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mogeneity of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8C8-FFE5-4459-890D-4797388DDEB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11280" y="206064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iven the previous result, the true error structure of the nested logit model now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EFC-D32D-48A8-8549-C255121618E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2"/>
          <p:cNvGraphicFramePr/>
          <p:nvPr/>
        </p:nvGraphicFramePr>
        <p:xfrm>
          <a:off x="30240" y="316080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316080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Double Bracket 11"/>
          <p:cNvSpPr/>
          <p:nvPr/>
        </p:nvSpPr>
        <p:spPr>
          <a:xfrm>
            <a:off x="3105000" y="3254400"/>
            <a:ext cx="971640" cy="8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uble Bracket 13"/>
          <p:cNvSpPr/>
          <p:nvPr/>
        </p:nvSpPr>
        <p:spPr>
          <a:xfrm>
            <a:off x="4243320" y="4078440"/>
            <a:ext cx="971640" cy="82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ight Brace 10"/>
          <p:cNvSpPr/>
          <p:nvPr/>
        </p:nvSpPr>
        <p:spPr>
          <a:xfrm>
            <a:off x="5457960" y="2962440"/>
            <a:ext cx="323640" cy="2181240"/>
          </a:xfrm>
          <a:custGeom>
            <a:avLst/>
            <a:gdLst>
              <a:gd name="textAreaLeft" fmla="*/ 0 w 323640"/>
              <a:gd name="textAreaRight" fmla="*/ 117000 w 32364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11"/>
          <p:cNvGraphicFramePr/>
          <p:nvPr/>
        </p:nvGraphicFramePr>
        <p:xfrm>
          <a:off x="5959440" y="3100320"/>
          <a:ext cx="295596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9440" y="3100320"/>
                    <a:ext cx="29559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levels of a NL tree contain the variance not only at that level, but also from linked level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, the variances, which are positive, must increase as one goes higher up the t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the scale parameters are inversely related to the variances, as the variance increases, the scale must decr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the scale parameters at higher levels of the tree must be smaller than scale parameters at lower levels of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rror 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B07-2FF4-4983-8D2C-A385E7C05F0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Object 3"/>
          <p:cNvGraphicFramePr/>
          <p:nvPr/>
        </p:nvGraphicFramePr>
        <p:xfrm>
          <a:off x="2889360" y="4016520"/>
          <a:ext cx="153324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4016520"/>
                    <a:ext cx="153324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5"/>
          <p:cNvGraphicFramePr/>
          <p:nvPr/>
        </p:nvGraphicFramePr>
        <p:xfrm>
          <a:off x="2978280" y="5546880"/>
          <a:ext cx="1425600" cy="103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8280" y="5546880"/>
                    <a:ext cx="14256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 with estimating the IV parameters rather than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, the model still remains over-identif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such, it is necessary to normalise all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one level of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identification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325-3241-4427-85C1-43125FAD4CD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4937040" y="4362480"/>
            <a:ext cx="4105440" cy="2077920"/>
          </a:xfrm>
          <a:prstGeom prst="rect">
            <a:avLst/>
          </a:prstGeom>
          <a:solidFill>
            <a:srgbClr val="7bb5e9"/>
          </a:solidFill>
          <a:ln w="9360">
            <a:solidFill>
              <a:srgbClr val="3a8f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779400" y="4362480"/>
            <a:ext cx="4029120" cy="2077920"/>
          </a:xfrm>
          <a:prstGeom prst="rect">
            <a:avLst/>
          </a:prstGeom>
          <a:solidFill>
            <a:srgbClr val="bddaf4"/>
          </a:solidFill>
          <a:ln w="9360">
            <a:solidFill>
              <a:srgbClr val="c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Object 4"/>
          <p:cNvGraphicFramePr/>
          <p:nvPr/>
        </p:nvGraphicFramePr>
        <p:xfrm>
          <a:off x="1576440" y="3198960"/>
          <a:ext cx="164772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198960"/>
                    <a:ext cx="1647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13"/>
          <p:cNvSpPr/>
          <p:nvPr/>
        </p:nvSpPr>
        <p:spPr>
          <a:xfrm>
            <a:off x="1550520" y="4437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andom utility 1 (RU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5"/>
          <p:cNvSpPr/>
          <p:nvPr/>
        </p:nvSpPr>
        <p:spPr>
          <a:xfrm>
            <a:off x="5746320" y="4437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andom utility 2 (RU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ight Arrow 13"/>
          <p:cNvSpPr/>
          <p:nvPr/>
        </p:nvSpPr>
        <p:spPr>
          <a:xfrm>
            <a:off x="326880" y="4951440"/>
            <a:ext cx="959040" cy="439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0000"/>
          </a:solidFill>
          <a:ln w="9360">
            <a:solidFill>
              <a:srgbClr val="5b79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8"/>
          <p:cNvGrpSpPr/>
          <p:nvPr/>
        </p:nvGrpSpPr>
        <p:grpSpPr>
          <a:xfrm>
            <a:off x="4978440" y="4800600"/>
            <a:ext cx="4022640" cy="1488960"/>
            <a:chOff x="4978440" y="4800600"/>
            <a:chExt cx="4022640" cy="1488960"/>
          </a:xfrm>
        </p:grpSpPr>
        <p:graphicFrame>
          <p:nvGraphicFramePr>
            <p:cNvPr id="829" name="Object 6"/>
            <p:cNvGraphicFramePr/>
            <p:nvPr/>
          </p:nvGraphicFramePr>
          <p:xfrm>
            <a:off x="6221520" y="4800600"/>
            <a:ext cx="1647720" cy="78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1520" y="4800600"/>
                      <a:ext cx="164772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1" name="Object 9"/>
            <p:cNvGraphicFramePr/>
            <p:nvPr/>
          </p:nvGraphicFramePr>
          <p:xfrm>
            <a:off x="4978440" y="5576760"/>
            <a:ext cx="1593720" cy="63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78440" y="5576760"/>
                      <a:ext cx="159372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3" name="Object 10"/>
            <p:cNvGraphicFramePr/>
            <p:nvPr/>
          </p:nvGraphicFramePr>
          <p:xfrm>
            <a:off x="6883560" y="5576760"/>
            <a:ext cx="211752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83560" y="5576760"/>
                      <a:ext cx="21175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5" name="Group 19"/>
          <p:cNvGrpSpPr/>
          <p:nvPr/>
        </p:nvGrpSpPr>
        <p:grpSpPr>
          <a:xfrm>
            <a:off x="843120" y="4800600"/>
            <a:ext cx="3902040" cy="1488960"/>
            <a:chOff x="843120" y="4800600"/>
            <a:chExt cx="3902040" cy="1488960"/>
          </a:xfrm>
        </p:grpSpPr>
        <p:graphicFrame>
          <p:nvGraphicFramePr>
            <p:cNvPr id="836" name="Object 7"/>
            <p:cNvGraphicFramePr/>
            <p:nvPr/>
          </p:nvGraphicFramePr>
          <p:xfrm>
            <a:off x="1657080" y="4800600"/>
            <a:ext cx="1961280" cy="706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57080" y="4800600"/>
                      <a:ext cx="19612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8" name="Object 11"/>
            <p:cNvGraphicFramePr/>
            <p:nvPr/>
          </p:nvGraphicFramePr>
          <p:xfrm>
            <a:off x="843120" y="5576760"/>
            <a:ext cx="1225080" cy="595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39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3120" y="5576760"/>
                      <a:ext cx="1225080" cy="59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0" name="Object 12"/>
            <p:cNvGraphicFramePr/>
            <p:nvPr/>
          </p:nvGraphicFramePr>
          <p:xfrm>
            <a:off x="2498040" y="5576760"/>
            <a:ext cx="2247120" cy="71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41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98040" y="5576760"/>
                      <a:ext cx="22471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Logit Model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demonstrate the impact of this, consider a simulated data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 alternatives (ANZ, Qantas, Virg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6 attributes (fare, travel time, Dep6, Dep10, Dep2,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0 respondents, 10 choices each giving 500 choice obs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sumed true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rrelated error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1366920" y="4068720"/>
          <a:ext cx="1811160" cy="2193840"/>
        </p:xfrm>
        <a:graphic>
          <a:graphicData uri="http://schemas.openxmlformats.org/drawingml/2006/table">
            <a:tbl>
              <a:tblPr/>
              <a:tblGrid>
                <a:gridCol w="1096920"/>
                <a:gridCol w="714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8" name="TextBox 12"/>
          <p:cNvSpPr/>
          <p:nvPr/>
        </p:nvSpPr>
        <p:spPr>
          <a:xfrm>
            <a:off x="4014720" y="49435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3300480" y="5853240"/>
            <a:ext cx="550080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Qantas and Virgin become closer sub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F242-303A-4D29-AE89-856553B591D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4668840" y="4884840"/>
          <a:ext cx="38466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4884840"/>
                    <a:ext cx="38466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36"/>
          <p:cNvGraphicFramePr/>
          <p:nvPr/>
        </p:nvGraphicFramePr>
        <p:xfrm>
          <a:off x="3859200" y="3700440"/>
          <a:ext cx="26114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4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0" y="3700440"/>
                    <a:ext cx="2611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37"/>
          <p:cNvGraphicFramePr/>
          <p:nvPr/>
        </p:nvGraphicFramePr>
        <p:xfrm>
          <a:off x="3844800" y="4297320"/>
          <a:ext cx="484992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4800" y="4297320"/>
                    <a:ext cx="48499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results ar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42920" y="2373480"/>
          <a:ext cx="3406680" cy="3412800"/>
        </p:xfrm>
        <a:graphic>
          <a:graphicData uri="http://schemas.openxmlformats.org/drawingml/2006/table">
            <a:tbl>
              <a:tblPr/>
              <a:tblGrid>
                <a:gridCol w="1222200"/>
                <a:gridCol w="714600"/>
                <a:gridCol w="716040"/>
                <a:gridCol w="7538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N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L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Air N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Qantas, Virg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7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6.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800520" y="2712960"/>
          <a:ext cx="4935600" cy="1379520"/>
        </p:xfrm>
        <a:graphic>
          <a:graphicData uri="http://schemas.openxmlformats.org/drawingml/2006/table">
            <a:tbl>
              <a:tblPr/>
              <a:tblGrid>
                <a:gridCol w="846000"/>
                <a:gridCol w="1562040"/>
                <a:gridCol w="1378080"/>
                <a:gridCol w="1149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L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L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ant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66EE-8043-4422-AE21-8F5D8B8E3FE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42" descr=""/>
          <p:cNvPicPr/>
          <p:nvPr/>
        </p:nvPicPr>
        <p:blipFill>
          <a:blip r:embed="rId1"/>
          <a:stretch/>
        </p:blipFill>
        <p:spPr>
          <a:xfrm>
            <a:off x="3638520" y="4348080"/>
            <a:ext cx="53913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results ar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46160" y="2373480"/>
          <a:ext cx="3406680" cy="3412800"/>
        </p:xfrm>
        <a:graphic>
          <a:graphicData uri="http://schemas.openxmlformats.org/drawingml/2006/table">
            <a:tbl>
              <a:tblPr/>
              <a:tblGrid>
                <a:gridCol w="1222200"/>
                <a:gridCol w="714600"/>
                <a:gridCol w="715680"/>
                <a:gridCol w="75420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N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L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Air N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Qantas, Virg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7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6.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8" name="Object 3"/>
          <p:cNvGraphicFramePr/>
          <p:nvPr/>
        </p:nvGraphicFramePr>
        <p:xfrm>
          <a:off x="4064040" y="3516480"/>
          <a:ext cx="45496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3516480"/>
                    <a:ext cx="4549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4"/>
          <p:cNvGraphicFramePr/>
          <p:nvPr/>
        </p:nvGraphicFramePr>
        <p:xfrm>
          <a:off x="4078440" y="4406760"/>
          <a:ext cx="4044960" cy="6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440" y="4406760"/>
                    <a:ext cx="4044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927-4A87-4AAA-83F0-87CA0B5FCFF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55760" y="1871640"/>
          <a:ext cx="472284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541080"/>
                <a:gridCol w="627120"/>
                <a:gridCol w="541440"/>
                <a:gridCol w="627120"/>
                <a:gridCol w="568440"/>
                <a:gridCol w="7207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8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0.5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76" name="Group 132"/>
          <p:cNvGrpSpPr/>
          <p:nvPr/>
        </p:nvGrpSpPr>
        <p:grpSpPr>
          <a:xfrm>
            <a:off x="5364000" y="3219480"/>
            <a:ext cx="3686400" cy="1155960"/>
            <a:chOff x="5364000" y="3219480"/>
            <a:chExt cx="3686400" cy="1155960"/>
          </a:xfrm>
        </p:grpSpPr>
        <p:grpSp>
          <p:nvGrpSpPr>
            <p:cNvPr id="877" name="Group 133"/>
            <p:cNvGrpSpPr/>
            <p:nvPr/>
          </p:nvGrpSpPr>
          <p:grpSpPr>
            <a:xfrm>
              <a:off x="5364000" y="3604680"/>
              <a:ext cx="3686400" cy="770760"/>
              <a:chOff x="5364000" y="3604680"/>
              <a:chExt cx="3686400" cy="770760"/>
            </a:xfrm>
          </p:grpSpPr>
          <p:sp>
            <p:nvSpPr>
              <p:cNvPr id="878" name="Text Box 134"/>
              <p:cNvSpPr/>
              <p:nvPr/>
            </p:nvSpPr>
            <p:spPr>
              <a:xfrm>
                <a:off x="7273800" y="409896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135"/>
              <p:cNvSpPr/>
              <p:nvPr/>
            </p:nvSpPr>
            <p:spPr>
              <a:xfrm>
                <a:off x="8229600" y="4098960"/>
                <a:ext cx="82080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136"/>
              <p:cNvSpPr/>
              <p:nvPr/>
            </p:nvSpPr>
            <p:spPr>
              <a:xfrm>
                <a:off x="5364000" y="409896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37"/>
              <p:cNvSpPr/>
              <p:nvPr/>
            </p:nvSpPr>
            <p:spPr>
              <a:xfrm>
                <a:off x="6318360" y="4098960"/>
                <a:ext cx="82044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2" name="AutoShape 138"/>
              <p:cNvCxnSpPr>
                <a:stCxn id="878" idx="0"/>
                <a:endCxn id="878" idx="0"/>
              </p:cNvCxnSpPr>
              <p:nvPr/>
            </p:nvCxnSpPr>
            <p:spPr>
              <a:xfrm flipH="1" rot="16200000">
                <a:off x="7684920" y="4098600"/>
                <a:ext cx="2160" cy="2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3" name="AutoShape 139"/>
              <p:cNvCxnSpPr>
                <a:stCxn id="878" idx="0"/>
                <a:endCxn id="879" idx="0"/>
              </p:cNvCxnSpPr>
              <p:nvPr/>
            </p:nvCxnSpPr>
            <p:spPr>
              <a:xfrm flipH="1" rot="16200000">
                <a:off x="8161920" y="362160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AutoShape 140"/>
              <p:cNvCxnSpPr>
                <a:stCxn id="881" idx="0"/>
                <a:endCxn id="880" idx="0"/>
              </p:cNvCxnSpPr>
              <p:nvPr/>
            </p:nvCxnSpPr>
            <p:spPr>
              <a:xfrm rot="5400000">
                <a:off x="6250680" y="3622320"/>
                <a:ext cx="2160" cy="95508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5" name="Text Box 141"/>
              <p:cNvSpPr/>
              <p:nvPr/>
            </p:nvSpPr>
            <p:spPr>
              <a:xfrm>
                <a:off x="6035760" y="3886200"/>
                <a:ext cx="43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6" name="AutoShape 142"/>
              <p:cNvCxnSpPr/>
              <p:nvPr/>
            </p:nvCxnSpPr>
            <p:spPr>
              <a:xfrm flipH="1" rot="16200000">
                <a:off x="7198200" y="2918520"/>
                <a:ext cx="5760" cy="1896120"/>
              </a:xfrm>
              <a:prstGeom prst="bentConnector3">
                <a:avLst>
                  <a:gd name="adj1" fmla="val -48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7" name="Text Box 143"/>
            <p:cNvSpPr/>
            <p:nvPr/>
          </p:nvSpPr>
          <p:spPr>
            <a:xfrm>
              <a:off x="6621480" y="321948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44"/>
          <p:cNvGrpSpPr/>
          <p:nvPr/>
        </p:nvGrpSpPr>
        <p:grpSpPr>
          <a:xfrm>
            <a:off x="5364000" y="1836720"/>
            <a:ext cx="3686040" cy="1148040"/>
            <a:chOff x="5364000" y="1836720"/>
            <a:chExt cx="3686040" cy="1148040"/>
          </a:xfrm>
        </p:grpSpPr>
        <p:grpSp>
          <p:nvGrpSpPr>
            <p:cNvPr id="889" name="Group 145"/>
            <p:cNvGrpSpPr/>
            <p:nvPr/>
          </p:nvGrpSpPr>
          <p:grpSpPr>
            <a:xfrm>
              <a:off x="5364000" y="2126880"/>
              <a:ext cx="3686040" cy="857880"/>
              <a:chOff x="5364000" y="2126880"/>
              <a:chExt cx="3686040" cy="857880"/>
            </a:xfrm>
          </p:grpSpPr>
          <p:sp>
            <p:nvSpPr>
              <p:cNvPr id="890" name="Text Box 146"/>
              <p:cNvSpPr/>
              <p:nvPr/>
            </p:nvSpPr>
            <p:spPr>
              <a:xfrm>
                <a:off x="7273800" y="270828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Text Box 147"/>
              <p:cNvSpPr/>
              <p:nvPr/>
            </p:nvSpPr>
            <p:spPr>
              <a:xfrm>
                <a:off x="8229600" y="270828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148"/>
              <p:cNvSpPr/>
              <p:nvPr/>
            </p:nvSpPr>
            <p:spPr>
              <a:xfrm>
                <a:off x="5364000" y="270828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149"/>
              <p:cNvSpPr/>
              <p:nvPr/>
            </p:nvSpPr>
            <p:spPr>
              <a:xfrm>
                <a:off x="6318000" y="270828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4" name="AutoShape 150"/>
              <p:cNvCxnSpPr>
                <a:stCxn id="893" idx="0"/>
                <a:endCxn id="890" idx="0"/>
              </p:cNvCxnSpPr>
              <p:nvPr/>
            </p:nvCxnSpPr>
            <p:spPr>
              <a:xfrm flipH="1" rot="16200000">
                <a:off x="7206120" y="223092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5" name="AutoShape 151"/>
              <p:cNvCxnSpPr>
                <a:stCxn id="890" idx="0"/>
                <a:endCxn id="891" idx="0"/>
              </p:cNvCxnSpPr>
              <p:nvPr/>
            </p:nvCxnSpPr>
            <p:spPr>
              <a:xfrm flipH="1" rot="16200000">
                <a:off x="8161920" y="223092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AutoShape 152"/>
              <p:cNvCxnSpPr>
                <a:stCxn id="890" idx="0"/>
                <a:endCxn id="892" idx="0"/>
              </p:cNvCxnSpPr>
              <p:nvPr/>
            </p:nvCxnSpPr>
            <p:spPr>
              <a:xfrm rot="5400000">
                <a:off x="6728400" y="1753920"/>
                <a:ext cx="2160" cy="1910520"/>
              </a:xfrm>
              <a:prstGeom prst="bentConnector3">
                <a:avLst>
                  <a:gd name="adj1" fmla="val -323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97" name="Text Box 153"/>
            <p:cNvSpPr/>
            <p:nvPr/>
          </p:nvSpPr>
          <p:spPr>
            <a:xfrm>
              <a:off x="6622920" y="1836720"/>
              <a:ext cx="110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154"/>
          <p:cNvGrpSpPr/>
          <p:nvPr/>
        </p:nvGrpSpPr>
        <p:grpSpPr>
          <a:xfrm>
            <a:off x="5364000" y="4510080"/>
            <a:ext cx="3686040" cy="1187640"/>
            <a:chOff x="5364000" y="4510080"/>
            <a:chExt cx="3686040" cy="1187640"/>
          </a:xfrm>
        </p:grpSpPr>
        <p:grpSp>
          <p:nvGrpSpPr>
            <p:cNvPr id="899" name="Group 155"/>
            <p:cNvGrpSpPr/>
            <p:nvPr/>
          </p:nvGrpSpPr>
          <p:grpSpPr>
            <a:xfrm>
              <a:off x="5364000" y="4850640"/>
              <a:ext cx="3686040" cy="847080"/>
              <a:chOff x="5364000" y="4850640"/>
              <a:chExt cx="3686040" cy="847080"/>
            </a:xfrm>
          </p:grpSpPr>
          <p:sp>
            <p:nvSpPr>
              <p:cNvPr id="900" name="Text Box 156"/>
              <p:cNvSpPr/>
              <p:nvPr/>
            </p:nvSpPr>
            <p:spPr>
              <a:xfrm>
                <a:off x="7273800" y="542124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157"/>
              <p:cNvSpPr/>
              <p:nvPr/>
            </p:nvSpPr>
            <p:spPr>
              <a:xfrm>
                <a:off x="8229600" y="542124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158"/>
              <p:cNvSpPr/>
              <p:nvPr/>
            </p:nvSpPr>
            <p:spPr>
              <a:xfrm>
                <a:off x="5364000" y="542124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159"/>
              <p:cNvSpPr/>
              <p:nvPr/>
            </p:nvSpPr>
            <p:spPr>
              <a:xfrm>
                <a:off x="6318000" y="542124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4" name="AutoShape 160"/>
              <p:cNvCxnSpPr>
                <a:stCxn id="903" idx="0"/>
                <a:endCxn id="900" idx="0"/>
              </p:cNvCxnSpPr>
              <p:nvPr/>
            </p:nvCxnSpPr>
            <p:spPr>
              <a:xfrm flipH="1" rot="16200000">
                <a:off x="7206120" y="494388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5" name="AutoShape 161"/>
              <p:cNvCxnSpPr>
                <a:stCxn id="903" idx="0"/>
                <a:endCxn id="901" idx="0"/>
              </p:cNvCxnSpPr>
              <p:nvPr/>
            </p:nvCxnSpPr>
            <p:spPr>
              <a:xfrm flipH="1" rot="16200000">
                <a:off x="7684200" y="4465800"/>
                <a:ext cx="2160" cy="1912320"/>
              </a:xfrm>
              <a:prstGeom prst="bentConnector3">
                <a:avLst>
                  <a:gd name="adj1" fmla="val -317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AutoShape 162"/>
              <p:cNvCxnSpPr>
                <a:stCxn id="903" idx="0"/>
                <a:endCxn id="902" idx="0"/>
              </p:cNvCxnSpPr>
              <p:nvPr/>
            </p:nvCxnSpPr>
            <p:spPr>
              <a:xfrm rot="5400000">
                <a:off x="6250680" y="4944960"/>
                <a:ext cx="2160" cy="9547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7" name="Text Box 163"/>
            <p:cNvSpPr/>
            <p:nvPr/>
          </p:nvSpPr>
          <p:spPr>
            <a:xfrm>
              <a:off x="6622920" y="4510080"/>
              <a:ext cx="110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95E-EDDF-4F22-B7C5-78F101E739C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473040" y="256212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3700440" y="1812960"/>
          <a:ext cx="472284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627120"/>
                <a:gridCol w="541080"/>
                <a:gridCol w="627120"/>
                <a:gridCol w="568440"/>
                <a:gridCol w="7207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8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0.5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0B40-DC43-4808-8498-92964DF6C74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enerate Bra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is derived from the IID asus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IID assum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319F-ACBD-42B8-B1A8-2905DD0BC3F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4"/>
          <p:cNvGraphicFramePr/>
          <p:nvPr/>
        </p:nvGraphicFramePr>
        <p:xfrm>
          <a:off x="263520" y="2903400"/>
          <a:ext cx="55069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2903400"/>
                    <a:ext cx="55069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10"/>
          <p:cNvGraphicFramePr/>
          <p:nvPr/>
        </p:nvGraphicFramePr>
        <p:xfrm>
          <a:off x="6378480" y="3129120"/>
          <a:ext cx="2343240" cy="13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8480" y="3129120"/>
                    <a:ext cx="234324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ight Brace 10"/>
          <p:cNvSpPr/>
          <p:nvPr/>
        </p:nvSpPr>
        <p:spPr>
          <a:xfrm>
            <a:off x="5810400" y="2733840"/>
            <a:ext cx="371160" cy="2181240"/>
          </a:xfrm>
          <a:custGeom>
            <a:avLst/>
            <a:gdLst>
              <a:gd name="textAreaLeft" fmla="*/ 0 w 371160"/>
              <a:gd name="textAreaRight" fmla="*/ 133920 w 371160"/>
              <a:gd name="textAreaTop" fmla="*/ 9360 h 2181240"/>
              <a:gd name="textAreaBottom" fmla="*/ 2171880 h 21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250920" y="1773000"/>
            <a:ext cx="8663040" cy="3436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ranch or nest is said to be degenerate if it contains only on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additional variance exists at the top of a degenerate branch that does not exist at the bottom? 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155"/>
          <p:cNvGrpSpPr/>
          <p:nvPr/>
        </p:nvGrpSpPr>
        <p:grpSpPr>
          <a:xfrm>
            <a:off x="768240" y="2685960"/>
            <a:ext cx="3686040" cy="962280"/>
            <a:chOff x="768240" y="2685960"/>
            <a:chExt cx="3686040" cy="962280"/>
          </a:xfrm>
        </p:grpSpPr>
        <p:sp>
          <p:nvSpPr>
            <p:cNvPr id="920" name="Text Box 156"/>
            <p:cNvSpPr/>
            <p:nvPr/>
          </p:nvSpPr>
          <p:spPr>
            <a:xfrm>
              <a:off x="2678040" y="3371760"/>
              <a:ext cx="82080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57"/>
            <p:cNvSpPr/>
            <p:nvPr/>
          </p:nvSpPr>
          <p:spPr>
            <a:xfrm>
              <a:off x="3633840" y="337176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58"/>
            <p:cNvSpPr/>
            <p:nvPr/>
          </p:nvSpPr>
          <p:spPr>
            <a:xfrm>
              <a:off x="768240" y="3371760"/>
              <a:ext cx="82080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59"/>
            <p:cNvSpPr/>
            <p:nvPr/>
          </p:nvSpPr>
          <p:spPr>
            <a:xfrm>
              <a:off x="1722240" y="3371760"/>
              <a:ext cx="82080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4" name="AutoShape 160"/>
            <p:cNvCxnSpPr>
              <a:stCxn id="923" idx="0"/>
              <a:endCxn id="920" idx="0"/>
            </p:cNvCxnSpPr>
            <p:nvPr/>
          </p:nvCxnSpPr>
          <p:spPr>
            <a:xfrm flipH="1" rot="16200000">
              <a:off x="2610000" y="2893680"/>
              <a:ext cx="2520" cy="9565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5" name="AutoShape 161"/>
            <p:cNvCxnSpPr>
              <a:stCxn id="923" idx="0"/>
              <a:endCxn id="921" idx="0"/>
            </p:cNvCxnSpPr>
            <p:nvPr/>
          </p:nvCxnSpPr>
          <p:spPr>
            <a:xfrm flipH="1" rot="16200000">
              <a:off x="3088080" y="2415600"/>
              <a:ext cx="2520" cy="1912320"/>
            </a:xfrm>
            <a:prstGeom prst="bentConnector3">
              <a:avLst>
                <a:gd name="adj1" fmla="val -3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6" name="AutoShape 162"/>
            <p:cNvCxnSpPr>
              <a:stCxn id="923" idx="0"/>
              <a:endCxn id="922" idx="0"/>
            </p:cNvCxnSpPr>
            <p:nvPr/>
          </p:nvCxnSpPr>
          <p:spPr>
            <a:xfrm rot="5400000">
              <a:off x="1654920" y="289404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927" name="Object 3"/>
              <p:cNvSpPr txBox="1"/>
              <p:nvPr/>
            </p:nvSpPr>
            <p:spPr>
              <a:xfrm>
                <a:off x="4627440" y="2639880"/>
                <a:ext cx="1446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|</m:t>
                                      </m:r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Object 8"/>
              <p:cNvSpPr txBox="1"/>
              <p:nvPr/>
            </p:nvSpPr>
            <p:spPr>
              <a:xfrm>
                <a:off x="3637080" y="3668760"/>
                <a:ext cx="90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or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29" name="Object 21"/>
          <p:cNvGraphicFramePr/>
          <p:nvPr/>
        </p:nvGraphicFramePr>
        <p:xfrm>
          <a:off x="6200640" y="2581200"/>
          <a:ext cx="25448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2581200"/>
                    <a:ext cx="2544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22"/>
          <p:cNvGraphicFramePr/>
          <p:nvPr/>
        </p:nvGraphicFramePr>
        <p:xfrm>
          <a:off x="6208560" y="3076560"/>
          <a:ext cx="2306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8560" y="3076560"/>
                    <a:ext cx="2306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F0D-237D-4D6C-BB02-47854444CEB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No additional variance exists at the top of a degenerate branch that does not exist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For this reason, it is necessary to normalise both </a:t>
            </a:r>
            <a:r>
              <a:rPr b="0" lang="el-GR" sz="2000" spc="-1" strike="noStrike">
                <a:solidFill>
                  <a:srgbClr val="283f6e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|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283f6e"/>
                </a:solidFill>
                <a:latin typeface="Arial"/>
              </a:rPr>
              <a:t>λ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to 1. Hence, IV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= 1 for each degene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55"/>
          <p:cNvGrpSpPr/>
          <p:nvPr/>
        </p:nvGrpSpPr>
        <p:grpSpPr>
          <a:xfrm>
            <a:off x="682560" y="2581200"/>
            <a:ext cx="3686040" cy="962280"/>
            <a:chOff x="682560" y="2581200"/>
            <a:chExt cx="3686040" cy="962280"/>
          </a:xfrm>
        </p:grpSpPr>
        <p:sp>
          <p:nvSpPr>
            <p:cNvPr id="938" name="Text Box 156"/>
            <p:cNvSpPr/>
            <p:nvPr/>
          </p:nvSpPr>
          <p:spPr>
            <a:xfrm>
              <a:off x="2592360" y="3267000"/>
              <a:ext cx="82080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57"/>
            <p:cNvSpPr/>
            <p:nvPr/>
          </p:nvSpPr>
          <p:spPr>
            <a:xfrm>
              <a:off x="3548160" y="326700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58"/>
            <p:cNvSpPr/>
            <p:nvPr/>
          </p:nvSpPr>
          <p:spPr>
            <a:xfrm>
              <a:off x="682560" y="3267000"/>
              <a:ext cx="82080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59"/>
            <p:cNvSpPr/>
            <p:nvPr/>
          </p:nvSpPr>
          <p:spPr>
            <a:xfrm>
              <a:off x="1636560" y="3267000"/>
              <a:ext cx="82080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2" name="AutoShape 160"/>
            <p:cNvCxnSpPr>
              <a:stCxn id="941" idx="0"/>
              <a:endCxn id="938" idx="0"/>
            </p:cNvCxnSpPr>
            <p:nvPr/>
          </p:nvCxnSpPr>
          <p:spPr>
            <a:xfrm flipH="1" rot="16200000">
              <a:off x="2524320" y="2788920"/>
              <a:ext cx="2520" cy="9565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AutoShape 161"/>
            <p:cNvCxnSpPr>
              <a:stCxn id="941" idx="0"/>
              <a:endCxn id="939" idx="0"/>
            </p:cNvCxnSpPr>
            <p:nvPr/>
          </p:nvCxnSpPr>
          <p:spPr>
            <a:xfrm flipH="1" rot="16200000">
              <a:off x="3002400" y="2310840"/>
              <a:ext cx="2520" cy="1912320"/>
            </a:xfrm>
            <a:prstGeom prst="bentConnector3">
              <a:avLst>
                <a:gd name="adj1" fmla="val -3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4" name="AutoShape 162"/>
            <p:cNvCxnSpPr>
              <a:stCxn id="941" idx="0"/>
              <a:endCxn id="940" idx="0"/>
            </p:cNvCxnSpPr>
            <p:nvPr/>
          </p:nvCxnSpPr>
          <p:spPr>
            <a:xfrm rot="5400000">
              <a:off x="1569240" y="278928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945" name="Object 2"/>
              <p:cNvSpPr txBox="1"/>
              <p:nvPr/>
            </p:nvSpPr>
            <p:spPr>
              <a:xfrm>
                <a:off x="4541760" y="2535120"/>
                <a:ext cx="1446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|</m:t>
                                      </m:r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6"/>
              <p:cNvSpPr txBox="1"/>
              <p:nvPr/>
            </p:nvSpPr>
            <p:spPr>
              <a:xfrm>
                <a:off x="3551400" y="3564000"/>
                <a:ext cx="90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or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47" name="Object 19"/>
          <p:cNvGraphicFramePr/>
          <p:nvPr/>
        </p:nvGraphicFramePr>
        <p:xfrm>
          <a:off x="6114960" y="2476440"/>
          <a:ext cx="25448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2476440"/>
                    <a:ext cx="2544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20"/>
          <p:cNvGraphicFramePr/>
          <p:nvPr/>
        </p:nvGraphicFramePr>
        <p:xfrm>
          <a:off x="6122880" y="2971800"/>
          <a:ext cx="2306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2880" y="2971800"/>
                    <a:ext cx="2306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4B4D-557F-4585-8703-B2DA9508EFA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283f6e"/>
                </a:solidFill>
                <a:latin typeface="Arial"/>
              </a:rPr>
              <a:t>What does this mean for nested logit models with more than one degenerate branch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283f6e"/>
                </a:solidFill>
                <a:latin typeface="Arial"/>
              </a:rPr>
              <a:t>The NL model should theoretically only include at most one degenerate bran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283f6e"/>
                </a:solidFill>
                <a:latin typeface="Arial"/>
              </a:rPr>
              <a:t>Degenerative branches should collapse toge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283f6e"/>
                </a:solidFill>
                <a:latin typeface="Arial"/>
              </a:rPr>
              <a:t>See Hensher et al. (2005) or Hunt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Object 3"/>
              <p:cNvSpPr txBox="1"/>
              <p:nvPr/>
            </p:nvSpPr>
            <p:spPr>
              <a:xfrm>
                <a:off x="4095720" y="2997360"/>
                <a:ext cx="9144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56" name="Group 24"/>
          <p:cNvGrpSpPr/>
          <p:nvPr/>
        </p:nvGrpSpPr>
        <p:grpSpPr>
          <a:xfrm>
            <a:off x="704880" y="2750760"/>
            <a:ext cx="3685680" cy="959400"/>
            <a:chOff x="704880" y="2750760"/>
            <a:chExt cx="3685680" cy="959400"/>
          </a:xfrm>
        </p:grpSpPr>
        <p:sp>
          <p:nvSpPr>
            <p:cNvPr id="957" name="Text Box 6"/>
            <p:cNvSpPr/>
            <p:nvPr/>
          </p:nvSpPr>
          <p:spPr>
            <a:xfrm>
              <a:off x="2614320" y="3433680"/>
              <a:ext cx="82044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7"/>
            <p:cNvSpPr/>
            <p:nvPr/>
          </p:nvSpPr>
          <p:spPr>
            <a:xfrm>
              <a:off x="3570120" y="343368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8"/>
            <p:cNvSpPr/>
            <p:nvPr/>
          </p:nvSpPr>
          <p:spPr>
            <a:xfrm>
              <a:off x="704880" y="3433680"/>
              <a:ext cx="82044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9"/>
            <p:cNvSpPr/>
            <p:nvPr/>
          </p:nvSpPr>
          <p:spPr>
            <a:xfrm>
              <a:off x="1658520" y="3433680"/>
              <a:ext cx="82044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AutoShape 11"/>
            <p:cNvCxnSpPr>
              <a:stCxn id="957" idx="0"/>
              <a:endCxn id="958" idx="0"/>
            </p:cNvCxnSpPr>
            <p:nvPr/>
          </p:nvCxnSpPr>
          <p:spPr>
            <a:xfrm flipH="1" rot="16200000">
              <a:off x="3502440" y="2956320"/>
              <a:ext cx="2160" cy="956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62" name="Text Box 14"/>
            <p:cNvSpPr/>
            <p:nvPr/>
          </p:nvSpPr>
          <p:spPr>
            <a:xfrm>
              <a:off x="3379680" y="3205080"/>
              <a:ext cx="244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AutoShape 19"/>
            <p:cNvCxnSpPr>
              <a:stCxn id="959" idx="0"/>
            </p:cNvCxnSpPr>
            <p:nvPr/>
          </p:nvCxnSpPr>
          <p:spPr>
            <a:xfrm flipV="1">
              <a:off x="1115280" y="2751120"/>
              <a:ext cx="139284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AutoShape 20"/>
            <p:cNvCxnSpPr>
              <a:stCxn id="960" idx="0"/>
            </p:cNvCxnSpPr>
            <p:nvPr/>
          </p:nvCxnSpPr>
          <p:spPr>
            <a:xfrm flipV="1">
              <a:off x="2070000" y="2751120"/>
              <a:ext cx="43848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AutoShape 23"/>
            <p:cNvCxnSpPr>
              <a:endCxn id="962" idx="0"/>
            </p:cNvCxnSpPr>
            <p:nvPr/>
          </p:nvCxnSpPr>
          <p:spPr>
            <a:xfrm>
              <a:off x="2507760" y="2750760"/>
              <a:ext cx="993960" cy="45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66" name="Group 133"/>
          <p:cNvGrpSpPr/>
          <p:nvPr/>
        </p:nvGrpSpPr>
        <p:grpSpPr>
          <a:xfrm>
            <a:off x="4830840" y="2920680"/>
            <a:ext cx="3685680" cy="770760"/>
            <a:chOff x="4830840" y="2920680"/>
            <a:chExt cx="3685680" cy="770760"/>
          </a:xfrm>
        </p:grpSpPr>
        <p:sp>
          <p:nvSpPr>
            <p:cNvPr id="967" name="Text Box 134"/>
            <p:cNvSpPr/>
            <p:nvPr/>
          </p:nvSpPr>
          <p:spPr>
            <a:xfrm>
              <a:off x="6740280" y="3414960"/>
              <a:ext cx="82044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135"/>
            <p:cNvSpPr/>
            <p:nvPr/>
          </p:nvSpPr>
          <p:spPr>
            <a:xfrm>
              <a:off x="7696080" y="341496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36"/>
            <p:cNvSpPr/>
            <p:nvPr/>
          </p:nvSpPr>
          <p:spPr>
            <a:xfrm>
              <a:off x="4830840" y="3414960"/>
              <a:ext cx="82044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37"/>
            <p:cNvSpPr/>
            <p:nvPr/>
          </p:nvSpPr>
          <p:spPr>
            <a:xfrm>
              <a:off x="5784840" y="3414960"/>
              <a:ext cx="82008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1" name="AutoShape 138"/>
            <p:cNvCxnSpPr>
              <a:stCxn id="967" idx="0"/>
              <a:endCxn id="967" idx="0"/>
            </p:cNvCxnSpPr>
            <p:nvPr/>
          </p:nvCxnSpPr>
          <p:spPr>
            <a:xfrm flipH="1" rot="16200000">
              <a:off x="7151400" y="3414600"/>
              <a:ext cx="2160" cy="2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AutoShape 139"/>
            <p:cNvCxnSpPr>
              <a:stCxn id="967" idx="0"/>
              <a:endCxn id="968" idx="0"/>
            </p:cNvCxnSpPr>
            <p:nvPr/>
          </p:nvCxnSpPr>
          <p:spPr>
            <a:xfrm flipH="1" rot="16200000">
              <a:off x="7628400" y="2937600"/>
              <a:ext cx="2160" cy="956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AutoShape 140"/>
            <p:cNvCxnSpPr>
              <a:stCxn id="970" idx="0"/>
              <a:endCxn id="969" idx="0"/>
            </p:cNvCxnSpPr>
            <p:nvPr/>
          </p:nvCxnSpPr>
          <p:spPr>
            <a:xfrm rot="5400000">
              <a:off x="5717160" y="293868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4" name="Text Box 141"/>
            <p:cNvSpPr/>
            <p:nvPr/>
          </p:nvSpPr>
          <p:spPr>
            <a:xfrm>
              <a:off x="5502240" y="3202200"/>
              <a:ext cx="434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AutoShape 142"/>
            <p:cNvCxnSpPr/>
            <p:nvPr/>
          </p:nvCxnSpPr>
          <p:spPr>
            <a:xfrm flipH="1" rot="16200000">
              <a:off x="6664680" y="2234520"/>
              <a:ext cx="5760" cy="1895760"/>
            </a:xfrm>
            <a:prstGeom prst="bentConnector3">
              <a:avLst>
                <a:gd name="adj1" fmla="val -48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76" name="Right Arrow 48"/>
          <p:cNvSpPr/>
          <p:nvPr/>
        </p:nvSpPr>
        <p:spPr>
          <a:xfrm>
            <a:off x="4206960" y="2887560"/>
            <a:ext cx="958680" cy="439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5b79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C8CC-C8C1-4091-B583-AAB0C7E283E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1 versus RU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12760" y="1563480"/>
            <a:ext cx="8663040" cy="467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a nested logit model, there are two ways to formulate the scale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dels estimated under RU1 and RU2 assumptions will give the same results if and only if there are no parameters that are generic across branch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3276-92FE-44C7-BFB3-DF74800F936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8" descr=""/>
          <p:cNvPicPr/>
          <p:nvPr/>
        </p:nvPicPr>
        <p:blipFill>
          <a:blip r:embed="rId1"/>
          <a:stretch/>
        </p:blipFill>
        <p:spPr>
          <a:xfrm>
            <a:off x="295200" y="2328840"/>
            <a:ext cx="85154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712800" y="1863720"/>
          <a:ext cx="795636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854280"/>
                <a:gridCol w="803160"/>
                <a:gridCol w="984240"/>
                <a:gridCol w="852480"/>
                <a:gridCol w="896760"/>
                <a:gridCol w="854280"/>
                <a:gridCol w="853920"/>
                <a:gridCol w="76032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2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2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1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8.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1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3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2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15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F56-6331-4BA3-B7F3-AECF98DFE54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1087560" y="1636560"/>
          <a:ext cx="6875280" cy="3678480"/>
        </p:xfrm>
        <a:graphic>
          <a:graphicData uri="http://schemas.openxmlformats.org/drawingml/2006/table">
            <a:tbl>
              <a:tblPr/>
              <a:tblGrid>
                <a:gridCol w="1096920"/>
                <a:gridCol w="966600"/>
                <a:gridCol w="968400"/>
                <a:gridCol w="954000"/>
                <a:gridCol w="966960"/>
                <a:gridCol w="968400"/>
                <a:gridCol w="95400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β</a:t>
                      </a:r>
                      <a:r>
                        <a:rPr b="0" lang="en-AU" sz="1000" spc="-1" strike="noStrike" baseline="-25000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×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β</a:t>
                      </a:r>
                      <a:r>
                        <a:rPr b="0" lang="en-AU" sz="1000" spc="-1" strike="noStrike" baseline="-25000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×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  <a:tr h="2440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</a:tbl>
          </a:graphicData>
        </a:graphic>
      </p:graphicFrame>
      <p:grpSp>
        <p:nvGrpSpPr>
          <p:cNvPr id="991" name="Group 147"/>
          <p:cNvGrpSpPr/>
          <p:nvPr/>
        </p:nvGrpSpPr>
        <p:grpSpPr>
          <a:xfrm>
            <a:off x="1047600" y="5448240"/>
            <a:ext cx="3686400" cy="1155960"/>
            <a:chOff x="1047600" y="5448240"/>
            <a:chExt cx="3686400" cy="1155960"/>
          </a:xfrm>
        </p:grpSpPr>
        <p:grpSp>
          <p:nvGrpSpPr>
            <p:cNvPr id="992" name="Group 148"/>
            <p:cNvGrpSpPr/>
            <p:nvPr/>
          </p:nvGrpSpPr>
          <p:grpSpPr>
            <a:xfrm>
              <a:off x="1047600" y="5833440"/>
              <a:ext cx="3686400" cy="770760"/>
              <a:chOff x="1047600" y="5833440"/>
              <a:chExt cx="3686400" cy="770760"/>
            </a:xfrm>
          </p:grpSpPr>
          <p:sp>
            <p:nvSpPr>
              <p:cNvPr id="993" name="Text Box 149"/>
              <p:cNvSpPr/>
              <p:nvPr/>
            </p:nvSpPr>
            <p:spPr>
              <a:xfrm>
                <a:off x="2957400" y="632772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150"/>
              <p:cNvSpPr/>
              <p:nvPr/>
            </p:nvSpPr>
            <p:spPr>
              <a:xfrm>
                <a:off x="3913200" y="6327720"/>
                <a:ext cx="82080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151"/>
              <p:cNvSpPr/>
              <p:nvPr/>
            </p:nvSpPr>
            <p:spPr>
              <a:xfrm>
                <a:off x="1047600" y="632772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152"/>
              <p:cNvSpPr/>
              <p:nvPr/>
            </p:nvSpPr>
            <p:spPr>
              <a:xfrm>
                <a:off x="2001960" y="6327720"/>
                <a:ext cx="82044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7" name="AutoShape 153"/>
              <p:cNvCxnSpPr>
                <a:stCxn id="993" idx="0"/>
                <a:endCxn id="993" idx="0"/>
              </p:cNvCxnSpPr>
              <p:nvPr/>
            </p:nvCxnSpPr>
            <p:spPr>
              <a:xfrm flipH="1" rot="16200000">
                <a:off x="3368520" y="6327360"/>
                <a:ext cx="2160" cy="2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8" name="AutoShape 154"/>
              <p:cNvCxnSpPr>
                <a:stCxn id="993" idx="0"/>
                <a:endCxn id="994" idx="0"/>
              </p:cNvCxnSpPr>
              <p:nvPr/>
            </p:nvCxnSpPr>
            <p:spPr>
              <a:xfrm flipH="1" rot="16200000">
                <a:off x="3845520" y="585036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9" name="AutoShape 155"/>
              <p:cNvCxnSpPr>
                <a:stCxn id="996" idx="0"/>
                <a:endCxn id="995" idx="0"/>
              </p:cNvCxnSpPr>
              <p:nvPr/>
            </p:nvCxnSpPr>
            <p:spPr>
              <a:xfrm rot="5400000">
                <a:off x="1934280" y="5851080"/>
                <a:ext cx="2160" cy="95508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0" name="Text Box 156"/>
              <p:cNvSpPr/>
              <p:nvPr/>
            </p:nvSpPr>
            <p:spPr>
              <a:xfrm>
                <a:off x="1719360" y="6114960"/>
                <a:ext cx="43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1" name="AutoShape 157"/>
              <p:cNvCxnSpPr/>
              <p:nvPr/>
            </p:nvCxnSpPr>
            <p:spPr>
              <a:xfrm flipH="1" rot="16200000">
                <a:off x="2881800" y="5147280"/>
                <a:ext cx="5760" cy="1896120"/>
              </a:xfrm>
              <a:prstGeom prst="bentConnector3">
                <a:avLst>
                  <a:gd name="adj1" fmla="val -48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002" name="Text Box 158"/>
            <p:cNvSpPr/>
            <p:nvPr/>
          </p:nvSpPr>
          <p:spPr>
            <a:xfrm>
              <a:off x="2305080" y="544824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59"/>
          <p:cNvGrpSpPr/>
          <p:nvPr/>
        </p:nvGrpSpPr>
        <p:grpSpPr>
          <a:xfrm>
            <a:off x="4954680" y="5416560"/>
            <a:ext cx="3686040" cy="1187280"/>
            <a:chOff x="4954680" y="5416560"/>
            <a:chExt cx="3686040" cy="1187280"/>
          </a:xfrm>
        </p:grpSpPr>
        <p:grpSp>
          <p:nvGrpSpPr>
            <p:cNvPr id="1004" name="Group 160"/>
            <p:cNvGrpSpPr/>
            <p:nvPr/>
          </p:nvGrpSpPr>
          <p:grpSpPr>
            <a:xfrm>
              <a:off x="4954680" y="5756760"/>
              <a:ext cx="3686040" cy="847080"/>
              <a:chOff x="4954680" y="5756760"/>
              <a:chExt cx="3686040" cy="847080"/>
            </a:xfrm>
          </p:grpSpPr>
          <p:sp>
            <p:nvSpPr>
              <p:cNvPr id="1005" name="Text Box 161"/>
              <p:cNvSpPr/>
              <p:nvPr/>
            </p:nvSpPr>
            <p:spPr>
              <a:xfrm>
                <a:off x="6864480" y="632736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Text Box 162"/>
              <p:cNvSpPr/>
              <p:nvPr/>
            </p:nvSpPr>
            <p:spPr>
              <a:xfrm>
                <a:off x="7820280" y="632736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Text Box 163"/>
              <p:cNvSpPr/>
              <p:nvPr/>
            </p:nvSpPr>
            <p:spPr>
              <a:xfrm>
                <a:off x="4954680" y="632736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164"/>
              <p:cNvSpPr/>
              <p:nvPr/>
            </p:nvSpPr>
            <p:spPr>
              <a:xfrm>
                <a:off x="5908680" y="632736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9" name="AutoShape 165"/>
              <p:cNvCxnSpPr>
                <a:stCxn id="1008" idx="0"/>
                <a:endCxn id="1005" idx="0"/>
              </p:cNvCxnSpPr>
              <p:nvPr/>
            </p:nvCxnSpPr>
            <p:spPr>
              <a:xfrm flipH="1" rot="16200000">
                <a:off x="6796800" y="585000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0" name="AutoShape 166"/>
              <p:cNvCxnSpPr>
                <a:stCxn id="1008" idx="0"/>
                <a:endCxn id="1006" idx="0"/>
              </p:cNvCxnSpPr>
              <p:nvPr/>
            </p:nvCxnSpPr>
            <p:spPr>
              <a:xfrm flipH="1" rot="16200000">
                <a:off x="7274880" y="5371920"/>
                <a:ext cx="2160" cy="1912320"/>
              </a:xfrm>
              <a:prstGeom prst="bentConnector3">
                <a:avLst>
                  <a:gd name="adj1" fmla="val -317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AutoShape 167"/>
              <p:cNvCxnSpPr>
                <a:stCxn id="1008" idx="0"/>
                <a:endCxn id="1007" idx="0"/>
              </p:cNvCxnSpPr>
              <p:nvPr/>
            </p:nvCxnSpPr>
            <p:spPr>
              <a:xfrm rot="5400000">
                <a:off x="5841360" y="5851080"/>
                <a:ext cx="2160" cy="9547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012" name="Text Box 168"/>
            <p:cNvSpPr/>
            <p:nvPr/>
          </p:nvSpPr>
          <p:spPr>
            <a:xfrm>
              <a:off x="6213240" y="541656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TextBox 30"/>
          <p:cNvSpPr/>
          <p:nvPr/>
        </p:nvSpPr>
        <p:spPr>
          <a:xfrm>
            <a:off x="6681960" y="3097080"/>
            <a:ext cx="10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1"/>
          <p:cNvSpPr/>
          <p:nvPr/>
        </p:nvSpPr>
        <p:spPr>
          <a:xfrm>
            <a:off x="3762360" y="3146400"/>
            <a:ext cx="10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121-2CD0-4F40-9A9F-4D5745C889B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Two Data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l-GR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l-GR" sz="18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SP 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arameter vecto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alternative specific const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set of attributes common to both data s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ts of data specific attribut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 ε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V1 IID error terms associated with data set specific alternatives.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CB3B-B422-4B0E-9456-6B7CE3A3C26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4"/>
          <p:cNvGraphicFramePr/>
          <p:nvPr/>
        </p:nvGraphicFramePr>
        <p:xfrm>
          <a:off x="1079640" y="2422440"/>
          <a:ext cx="36511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422440"/>
                    <a:ext cx="36511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7"/>
          <p:cNvGraphicFramePr/>
          <p:nvPr/>
        </p:nvGraphicFramePr>
        <p:xfrm>
          <a:off x="5532480" y="242244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2480" y="242244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8"/>
          <p:cNvSpPr/>
          <p:nvPr/>
        </p:nvSpPr>
        <p:spPr>
          <a:xfrm>
            <a:off x="1049400" y="5881680"/>
            <a:ext cx="770724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e that at least 1 alternative,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must be common to both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n it is NOT possi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mply pool the two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are the parameter estimates from the two data set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know whether observed differences are due to scale or due to true differences in parameters amongst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DBDB-0148-44B8-9BAC-07141DB5AF1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9" name="Object 4"/>
          <p:cNvGraphicFramePr/>
          <p:nvPr/>
        </p:nvGraphicFramePr>
        <p:xfrm>
          <a:off x="1079640" y="2498760"/>
          <a:ext cx="3651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498760"/>
                    <a:ext cx="3651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3"/>
          <p:cNvGraphicFramePr/>
          <p:nvPr/>
        </p:nvGraphicFramePr>
        <p:xfrm>
          <a:off x="5532480" y="249876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2480" y="249876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69920" y="166212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ny modellers talk about IIA, not I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A → independence from irrelevant altern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→ independent and ident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IA or I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3C9-B9C1-4B55-A575-114517E00E3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4" descr="iia.PNG"/>
          <p:cNvPicPr/>
          <p:nvPr/>
        </p:nvPicPr>
        <p:blipFill>
          <a:blip r:embed="rId1"/>
          <a:stretch/>
        </p:blipFill>
        <p:spPr>
          <a:xfrm>
            <a:off x="4133880" y="3195720"/>
            <a:ext cx="4495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in combining two data sets, it is crucial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D84F-9FBD-4613-8FB4-D2315B0EDAB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Object 4"/>
          <p:cNvGraphicFramePr/>
          <p:nvPr/>
        </p:nvGraphicFramePr>
        <p:xfrm>
          <a:off x="1098720" y="2508120"/>
          <a:ext cx="36511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2508120"/>
                    <a:ext cx="36511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Object 3"/>
          <p:cNvGraphicFramePr/>
          <p:nvPr/>
        </p:nvGraphicFramePr>
        <p:xfrm>
          <a:off x="5551560" y="250812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1560" y="250812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4"/>
          <p:cNvGraphicFramePr/>
          <p:nvPr/>
        </p:nvGraphicFramePr>
        <p:xfrm>
          <a:off x="1308240" y="4402080"/>
          <a:ext cx="2570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8240" y="4402080"/>
                    <a:ext cx="2570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3" name="Object 5"/>
          <p:cNvGraphicFramePr/>
          <p:nvPr/>
        </p:nvGraphicFramePr>
        <p:xfrm>
          <a:off x="4832280" y="4130640"/>
          <a:ext cx="2189160" cy="105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2280" y="4130640"/>
                    <a:ext cx="2189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Right Arrow 10"/>
          <p:cNvSpPr/>
          <p:nvPr/>
        </p:nvSpPr>
        <p:spPr>
          <a:xfrm>
            <a:off x="4005360" y="4476600"/>
            <a:ext cx="745920" cy="31608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oining RP/SP data sets is commonly used to enrich the data. This ass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RP data is deficient and hence SP data are pooled to enrich the RP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SP constants are meaningless whilst RP constants have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omogeneous (generic) parameters are require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A9D-AEFE-4C97-BDFF-578198B3D83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Object 4"/>
          <p:cNvGraphicFramePr/>
          <p:nvPr/>
        </p:nvGraphicFramePr>
        <p:xfrm>
          <a:off x="1106640" y="4148280"/>
          <a:ext cx="3651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4148280"/>
                    <a:ext cx="3651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Oval 9"/>
          <p:cNvSpPr/>
          <p:nvPr/>
        </p:nvSpPr>
        <p:spPr>
          <a:xfrm>
            <a:off x="2432160" y="4114800"/>
            <a:ext cx="284040" cy="941400"/>
          </a:xfrm>
          <a:prstGeom prst="ellipse">
            <a:avLst/>
          </a:prstGeom>
          <a:noFill/>
          <a:ln w="2844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28"/>
          <p:cNvSpPr/>
          <p:nvPr/>
        </p:nvSpPr>
        <p:spPr>
          <a:xfrm>
            <a:off x="2852640" y="5313240"/>
            <a:ext cx="216720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Assumes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δ</a:t>
            </a:r>
            <a:r>
              <a:rPr b="0" i="1" lang="en-AU" sz="1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P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=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δ</a:t>
            </a:r>
            <a:r>
              <a:rPr b="0" i="1" lang="en-AU" sz="1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SP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=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Shape 11"/>
          <p:cNvCxnSpPr>
            <a:stCxn id="1052" idx="4"/>
            <a:endCxn id="1053" idx="1"/>
          </p:cNvCxnSpPr>
          <p:nvPr/>
        </p:nvCxnSpPr>
        <p:spPr>
          <a:xfrm flipH="1" rot="16200000">
            <a:off x="2492280" y="5136840"/>
            <a:ext cx="442080" cy="280080"/>
          </a:xfrm>
          <a:prstGeom prst="bentConnector2">
            <a:avLst/>
          </a:prstGeom>
          <a:ln w="28440">
            <a:solidFill>
              <a:srgbClr val="12416c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Nested Logi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ion Strateg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53352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tep estimation (ca. 198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each branch, just fit MN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es efficiency – replicates coeffic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ranch level, fit separate model, just includi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the inclusive values in the branch level utility fun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ain loses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information ML (current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 the entire model at once, imposing all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NL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609480" y="1295280"/>
            <a:ext cx="67820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ete choice (multinomial logit)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 -172.943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ion based on N =    210, K =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=1-LogL/LogL* Log-L fncn R-sqrd R2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ants only   -283.7588  .3905 .37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-squared[ 7]          =    221.63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 [ chi squared &gt; value ] =   .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data are given as ind.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 210, skipped    0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|     .07578***       .01833        4.134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ME|    -.10289***       .01109       -9.28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T|    -.01399***       .00267       -5.24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C|    -.08044***       .01995       -4.032   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AIR|    4.37035***      1.05734        4.133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IR_HIN1|     .00428          .01306         .327   .74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TRAIN|    5.91407***       .68993        8.572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_HIN3|    -.05907***       .01471       -4.016   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BUS|    4.46269***       .72333        6.17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S_HIN4|    -.02295          .01592       -1.442   .1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181480" y="19810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ML Parameter Est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304920" y="1295280"/>
            <a:ext cx="6858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ML Nested Multinomial Logit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 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 -166.648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l has 2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Utility Form 1:IVparms = LMDAb|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 210, skipped    0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Attributes in the Utility Functions (be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|     .06579***       .01878        3.504   .0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ME|    -.07738***       .01217       -6.358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T|    -.01335***       .00270       -4.948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C|    -.07046***       .02052       -3.433   .0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AIR|    2.49364**       1.01084        2.467   .0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IR_HIN1|     .00357          .01057         .337   .73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TRAIN|    3.49867***       .80634        4.339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_HIN3|    -.03581***       .01379       -2.597   .0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BUS|    2.30142***       .81284        2.831   .00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S_HIN4|    -.01128          .01459        -.773   .4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IV parameters, lambda(b|l),gamma(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nb-NO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|    2.16095***       .47193        4.579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|    1.56295***       .34500        4.53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3"/>
          <p:cNvSpPr/>
          <p:nvPr/>
        </p:nvSpPr>
        <p:spPr>
          <a:xfrm>
            <a:off x="1371600" y="6019920"/>
            <a:ext cx="5410080" cy="533160"/>
          </a:xfrm>
          <a:prstGeom prst="rect">
            <a:avLst/>
          </a:prstGeom>
          <a:solidFill>
            <a:srgbClr val="ff3300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ticities Decompose Addi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49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990720" y="1106640"/>
            <a:ext cx="7391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Elasticity             averaged over observations.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AIR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Decomposition of Effect if Nest    Total Effect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Trunk   Limb   Branch   Choice     Mean  St.Dev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AIR        .000   .000  -2.456  -3.091     -5.547  3.52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CAR        .000   .000  -2.456   2.916       .460  3.178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TRAIN      .000   .000   3.846    .000      3.846  4.86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 3.846    .000      3.846  4.86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CAR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AIR        .000   .000   -.757    .650      -.107   .589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CAR        .000   .000   -.757   -.830     -1.587  1.292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TRAIN      .000   .000    .647    .000       .647   .60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  .647    .000       .647   .60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TRAIN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AIR        .000   .000   1.340    .000      1.340  1.47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CAR        .000   .000   1.340    .000      1.340  1.47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TRAIN      .000   .000  -1.986  -1.490     -3.475  2.539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-1.986   2.128       .142  1.321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indicates direct Elasticity effect of the attribute.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vs. the M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1447920" y="1828440"/>
            <a:ext cx="6705360" cy="453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 for the 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 IV parameters to equal 1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; IVSET(list of branches)=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ikelihood rati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  (NL)   = -166.684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 (MNL) = -172.94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with 2 d.f. = 2(-166.68435-(-172.94366)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= 12.5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itical value is 5.99 (9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NL (and a fortiori, IIA)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920" y="2270160"/>
            <a:ext cx="4735440" cy="186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171000" indent="-171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dellers talk about IIA, not I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240" indent="-180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A → independence from irrelevant alterna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240" indent="-180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D → independent and identically distrib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A is the behavioural result of the IID as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ath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965-AB40-42F6-9385-9ABE7BDE65D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11"/>
          <p:cNvGraphicFramePr/>
          <p:nvPr/>
        </p:nvGraphicFramePr>
        <p:xfrm>
          <a:off x="5610240" y="2309760"/>
          <a:ext cx="28875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0240" y="2309760"/>
                    <a:ext cx="28875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2"/>
          <p:cNvGraphicFramePr/>
          <p:nvPr/>
        </p:nvGraphicFramePr>
        <p:xfrm>
          <a:off x="6215040" y="4605480"/>
          <a:ext cx="1555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4605480"/>
                    <a:ext cx="1555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Box 16"/>
          <p:cNvSpPr/>
          <p:nvPr/>
        </p:nvSpPr>
        <p:spPr>
          <a:xfrm>
            <a:off x="1428840" y="5353200"/>
            <a:ext cx="7543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States that the ratio of any two choice probabilities is independent of the presence or absence of all other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A Implic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7242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0" name="Object 3"/>
          <p:cNvGraphicFramePr/>
          <p:nvPr/>
        </p:nvGraphicFramePr>
        <p:xfrm>
          <a:off x="1533600" y="1482840"/>
          <a:ext cx="6076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482840"/>
                    <a:ext cx="607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4"/>
          <p:cNvSpPr/>
          <p:nvPr/>
        </p:nvSpPr>
        <p:spPr>
          <a:xfrm>
            <a:off x="4056120" y="3962520"/>
            <a:ext cx="2362320" cy="1981080"/>
          </a:xfrm>
          <a:prstGeom prst="rect">
            <a:avLst/>
          </a:prstGeom>
          <a:solidFill>
            <a:srgbClr val="ff0000">
              <a:alpha val="12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happens if omitted (unmodelled or unobserved) variables exist that have the same influence across (subsets of) alterna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w, the error terms are no longer independently distributes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mitt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A02-E2F3-41EE-B393-7577755CE75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4"/>
          <p:cNvGraphicFramePr/>
          <p:nvPr/>
        </p:nvGraphicFramePr>
        <p:xfrm>
          <a:off x="3863880" y="2543040"/>
          <a:ext cx="1981440" cy="15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3880" y="2543040"/>
                    <a:ext cx="198144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5"/>
          <p:cNvGraphicFramePr/>
          <p:nvPr/>
        </p:nvGraphicFramePr>
        <p:xfrm>
          <a:off x="3863880" y="4946760"/>
          <a:ext cx="218124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3880" y="4946760"/>
                    <a:ext cx="21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 far, we have expressed the utility functions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utility functions should include a scale factor (1/the std.dev. of </a:t>
            </a:r>
            <a:r>
              <a:rPr b="0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A3F-8DA4-448B-BADF-D5ABA08D684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5"/>
          <p:cNvGraphicFramePr/>
          <p:nvPr/>
        </p:nvGraphicFramePr>
        <p:xfrm>
          <a:off x="3416400" y="2216160"/>
          <a:ext cx="209700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216160"/>
                    <a:ext cx="2097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5"/>
          <p:cNvGraphicFramePr/>
          <p:nvPr/>
        </p:nvGraphicFramePr>
        <p:xfrm>
          <a:off x="3348000" y="3708360"/>
          <a:ext cx="23986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708360"/>
                    <a:ext cx="2398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Box 10"/>
          <p:cNvSpPr/>
          <p:nvPr/>
        </p:nvSpPr>
        <p:spPr>
          <a:xfrm>
            <a:off x="419040" y="4543560"/>
            <a:ext cx="8420040" cy="405720"/>
          </a:xfrm>
          <a:prstGeom prst="rect">
            <a:avLst/>
          </a:prstGeom>
          <a:solidFill>
            <a:srgbClr val="004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In the MNL model, we have simply assumed that this extra </a:t>
            </a:r>
            <a:r>
              <a:rPr b="0" i="1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i="1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 term equal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438120" y="5133960"/>
            <a:ext cx="8448840" cy="642600"/>
          </a:xfrm>
          <a:prstGeom prst="rect">
            <a:avLst/>
          </a:prstGeom>
          <a:solidFill>
            <a:srgbClr val="004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Note that you cannot directly compare the parameters from two different data sets – are observed differences due to differences in the parameters or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 or bo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williamgreene</cp:lastModifiedBy>
  <dcterms:modified xsi:type="dcterms:W3CDTF">2015-05-06T19:48:15Z</dcterms:modified>
  <cp:revision>769</cp:revision>
  <dc:subject/>
  <dc:title>UNIS Template</dc:title>
</cp:coreProperties>
</file>