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31.wmf" ContentType="image/x-wmf"/>
  <Override PartName="/ppt/media/image26.png" ContentType="image/png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29.wmf" ContentType="image/x-wmf"/>
  <Override PartName="/ppt/media/image15.png" ContentType="image/png"/>
  <Override PartName="/ppt/media/image3.jpeg" ContentType="image/jpeg"/>
  <Override PartName="/ppt/media/image25.png" ContentType="image/png"/>
  <Override PartName="/ppt/media/image2.png" ContentType="image/png"/>
  <Override PartName="/ppt/media/image27.png" ContentType="image/png"/>
  <Override PartName="/ppt/media/image30.wmf" ContentType="image/x-wmf"/>
  <Override PartName="/ppt/media/image4.png" ContentType="image/png"/>
  <Override PartName="/ppt/media/image5.jpeg" ContentType="image/jpeg"/>
  <Override PartName="/ppt/media/image14.png" ContentType="image/png"/>
  <Override PartName="/ppt/media/image36.wmf" ContentType="image/x-wmf"/>
  <Override PartName="/ppt/media/image40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4.wmf" ContentType="image/x-wmf"/>
  <Override PartName="/ppt/media/image45.wmf" ContentType="image/x-wmf"/>
  <Override PartName="/ppt/media/image34.wmf" ContentType="image/x-wmf"/>
  <Override PartName="/ppt/media/image35.png" ContentType="image/png"/>
  <Override PartName="/ppt/media/image46.wmf" ContentType="image/x-wmf"/>
  <Override PartName="/ppt/media/image47.wmf" ContentType="image/x-wmf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2.wmf" ContentType="image/x-wmf"/>
  <Override PartName="/ppt/media/image53.wmf" ContentType="image/x-wmf"/>
  <Override PartName="/ppt/media/image13.png" ContentType="image/png"/>
  <Override PartName="/ppt/media/image51.wmf" ContentType="image/x-wmf"/>
  <Override PartName="/ppt/media/image48.png" ContentType="image/png"/>
  <Override PartName="/ppt/media/image11.png" ContentType="image/png"/>
  <Override PartName="/ppt/media/image50.wmf" ContentType="image/x-wmf"/>
  <Override PartName="/ppt/media/image10.png" ContentType="image/png"/>
  <Override PartName="/ppt/media/image49.png" ContentType="image/png"/>
  <Override PartName="/ppt/media/image12.png" ContentType="image/png"/>
  <Override PartName="/ppt/media/image52.wmf" ContentType="image/x-wmf"/>
  <Override PartName="/ppt/media/image7.png" ContentType="image/png"/>
  <Override PartName="/ppt/media/image37.png" ContentType="image/png"/>
  <Override PartName="/ppt/media/image9.wmf" ContentType="image/x-wmf"/>
  <Override PartName="/ppt/media/image39.wmf" ContentType="image/x-wmf"/>
  <Override PartName="/ppt/media/image4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ftr" idx="3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 type="sldNum" idx="4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BFBF-291C-4005-8C07-37C5A9F4FE30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F619-950C-44DE-9275-C604CBF2242A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6409-2061-4D9F-875F-682B88A1072F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6E1A-641D-49B0-B2FB-E043FAE48716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0E9D-59A2-4225-8741-1CF4723542FF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8387-300C-4E54-BB5E-18AA3C78F435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73E4-8A43-420B-953E-36B5E7BB28CF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DF0E-8EE4-4AF6-82D3-928B9D0D9F7A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C419-FD86-47E6-813F-620294D48F7D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E96C-C22C-413F-8CB7-D181F50F76AB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4778-C60A-4B92-8A2D-17BDC93C6148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598B-A3A9-4412-B7ED-963CD8EF1AA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FA77-941C-4096-B39A-3D8E57C3D7A2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76A2-5D35-481C-8CB1-0CFF5BDD9668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3703-7BA6-467E-BFA6-8CE056F4F3F4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5FC8-D908-4EBC-8AFB-523222351126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1517-143A-470C-AE75-7C73E2E292E7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F810-7366-42CA-80D6-E6A4EEFB449E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4023-599C-4097-A941-EFC2FA78923E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045E-80D4-4FA5-8629-96467C21ACAD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20EE-C5C9-4543-8F47-4022D992C3F6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4EDE-1237-4039-B9C6-9C37617EF09D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A6B3-2225-4599-AB4B-C86A962100D7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375E-1BBB-4A1E-9449-D76150647CD5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D22E-CA6B-428E-815B-41CEFBA89411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39C5-1C2E-4492-B381-0ED1AF13F45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6E92-A0DC-4DE8-ABFE-8E476A6CE133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A963-73DE-4C9B-A903-EB477C02A148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F272-8CD8-47A5-8DA0-9D10DBD9B2C7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46176-1D81-42BE-B517-13E3A5D1F4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BA987-3FB8-4AE0-BB5C-30DE9684C38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EE78D-8981-4925-AEB6-B98BDC8536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A3FF8-16D8-43A0-84BD-3C77515B7A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CE783-FB35-4F5F-BADB-D6AF90FCC9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4E967-D7BA-4F19-9F6D-C761F3500F9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CE715-6F06-4392-8735-E52FDDE7A7E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6207B-212A-40D6-A4BD-3B22B780760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EB966-51D6-46F9-9DF2-599E58D9425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6BEB1-7F34-447E-B0CB-E06FBF6CF26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5A668-D5B8-49AF-8004-EC1014D054D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D4491-C89F-4980-A518-F1C5F54BFA1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64120" y="6586200"/>
            <a:ext cx="249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ce11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D106-FA23-4AC8-B0AA-2A44B578BCD7}" type="slidenum">
              <a:rPr b="0" lang="en-AU" sz="900" spc="-1" strike="noStrike">
                <a:solidFill>
                  <a:srgbClr val="ce11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47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071720" y="0"/>
            <a:ext cx="8072280" cy="57862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1"/>
          <p:cNvSpPr/>
          <p:nvPr/>
        </p:nvSpPr>
        <p:spPr>
          <a:xfrm>
            <a:off x="1071720" y="4200480"/>
            <a:ext cx="2303280" cy="23036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0"/>
          <p:cNvGrpSpPr/>
          <p:nvPr/>
        </p:nvGrpSpPr>
        <p:grpSpPr>
          <a:xfrm>
            <a:off x="262080" y="5715000"/>
            <a:ext cx="1612800" cy="789120"/>
            <a:chOff x="262080" y="5715000"/>
            <a:chExt cx="1612800" cy="789120"/>
          </a:xfrm>
        </p:grpSpPr>
        <p:sp>
          <p:nvSpPr>
            <p:cNvPr id="53" name="Rectangle 17"/>
            <p:cNvSpPr/>
            <p:nvPr/>
          </p:nvSpPr>
          <p:spPr>
            <a:xfrm flipH="1">
              <a:off x="262080" y="5715000"/>
              <a:ext cx="161280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18" descr="USY_MB1_rgb_Reversed_Standard_Logo.png"/>
            <p:cNvPicPr/>
            <p:nvPr/>
          </p:nvPicPr>
          <p:blipFill>
            <a:blip r:embed="rId3"/>
            <a:stretch/>
          </p:blipFill>
          <p:spPr>
            <a:xfrm>
              <a:off x="433800" y="5889960"/>
              <a:ext cx="1269000" cy="43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Picture 14" descr="ITLS-blue-red-no-text"/>
          <p:cNvPicPr/>
          <p:nvPr/>
        </p:nvPicPr>
        <p:blipFill>
          <a:blip r:embed="rId4"/>
          <a:stretch/>
        </p:blipFill>
        <p:spPr>
          <a:xfrm>
            <a:off x="8035920" y="5829480"/>
            <a:ext cx="1008000" cy="9158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97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Rectangle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071720" y="0"/>
            <a:ext cx="8072280" cy="5786280"/>
          </a:xfrm>
          <a:prstGeom prst="rect">
            <a:avLst/>
          </a:prstGeom>
          <a:solidFill>
            <a:srgbClr val="f9b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1071720" y="4200480"/>
            <a:ext cx="2303280" cy="23036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"/>
          <p:cNvSpPr/>
          <p:nvPr/>
        </p:nvSpPr>
        <p:spPr>
          <a:xfrm flipH="1">
            <a:off x="262080" y="5715000"/>
            <a:ext cx="1612800" cy="78912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2" descr="USY_MB1_rgb_Reversed_Standard_Logo.png"/>
          <p:cNvPicPr/>
          <p:nvPr/>
        </p:nvPicPr>
        <p:blipFill>
          <a:blip r:embed="rId3"/>
          <a:stretch/>
        </p:blipFill>
        <p:spPr>
          <a:xfrm>
            <a:off x="433440" y="5889600"/>
            <a:ext cx="1268280" cy="439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ITLS-blue-red-no-text"/>
          <p:cNvPicPr/>
          <p:nvPr/>
        </p:nvPicPr>
        <p:blipFill>
          <a:blip r:embed="rId4"/>
          <a:stretch/>
        </p:blipFill>
        <p:spPr>
          <a:xfrm>
            <a:off x="8035920" y="5829480"/>
            <a:ext cx="1008000" cy="9158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14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8" name="Picture 11" descr="lecture_theatre.jpg"/>
          <p:cNvPicPr/>
          <p:nvPr/>
        </p:nvPicPr>
        <p:blipFill>
          <a:blip r:embed="rId3"/>
          <a:srcRect l="12702" t="6509" r="5986" b="13735"/>
          <a:stretch/>
        </p:blipFill>
        <p:spPr>
          <a:xfrm>
            <a:off x="0" y="3357720"/>
            <a:ext cx="9144000" cy="35002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7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1071720" y="4200480"/>
            <a:ext cx="2303280" cy="23036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 flipH="1">
            <a:off x="262080" y="5715000"/>
            <a:ext cx="1612800" cy="78912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USY_MB1_rgb_Reversed_Standard_Logo.png"/>
          <p:cNvPicPr/>
          <p:nvPr/>
        </p:nvPicPr>
        <p:blipFill>
          <a:blip r:embed="rId4"/>
          <a:stretch/>
        </p:blipFill>
        <p:spPr>
          <a:xfrm>
            <a:off x="433440" y="5889600"/>
            <a:ext cx="1268280" cy="4399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4"/>
          <p:cNvSpPr/>
          <p:nvPr/>
        </p:nvSpPr>
        <p:spPr>
          <a:xfrm>
            <a:off x="7539120" y="5105520"/>
            <a:ext cx="1390680" cy="1409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5" descr="ITLS-blue-red-no-text"/>
          <p:cNvPicPr/>
          <p:nvPr/>
        </p:nvPicPr>
        <p:blipFill>
          <a:blip r:embed="rId5"/>
          <a:stretch/>
        </p:blipFill>
        <p:spPr>
          <a:xfrm>
            <a:off x="7537320" y="5219640"/>
            <a:ext cx="1393920" cy="12668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19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8" name="Picture 11" descr="quad copy.jpg"/>
          <p:cNvPicPr/>
          <p:nvPr/>
        </p:nvPicPr>
        <p:blipFill>
          <a:blip r:embed="rId3"/>
          <a:srcRect l="21188" t="0" r="1320" b="22060"/>
          <a:stretch/>
        </p:blipFill>
        <p:spPr>
          <a:xfrm>
            <a:off x="0" y="3071880"/>
            <a:ext cx="9144000" cy="37861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7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f9b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1071720" y="4200480"/>
            <a:ext cx="2303280" cy="23036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9"/>
          <p:cNvSpPr/>
          <p:nvPr/>
        </p:nvSpPr>
        <p:spPr>
          <a:xfrm flipH="1">
            <a:off x="262080" y="5715000"/>
            <a:ext cx="1612800" cy="78912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0" descr="USY_MB1_rgb_Reversed_Standard_Logo.png"/>
          <p:cNvPicPr/>
          <p:nvPr/>
        </p:nvPicPr>
        <p:blipFill>
          <a:blip r:embed="rId4"/>
          <a:stretch/>
        </p:blipFill>
        <p:spPr>
          <a:xfrm>
            <a:off x="433440" y="5889600"/>
            <a:ext cx="1268280" cy="43992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2"/>
          <p:cNvSpPr/>
          <p:nvPr/>
        </p:nvSpPr>
        <p:spPr>
          <a:xfrm>
            <a:off x="7539120" y="5105520"/>
            <a:ext cx="1390680" cy="1409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6" descr="ITLS-blue-red-no-text"/>
          <p:cNvPicPr/>
          <p:nvPr/>
        </p:nvPicPr>
        <p:blipFill>
          <a:blip r:embed="rId5"/>
          <a:stretch/>
        </p:blipFill>
        <p:spPr>
          <a:xfrm>
            <a:off x="7537320" y="5219640"/>
            <a:ext cx="1393920" cy="12668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24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8" name="Picture 11" descr="science_lab copy.jpg"/>
          <p:cNvPicPr/>
          <p:nvPr/>
        </p:nvPicPr>
        <p:blipFill>
          <a:blip r:embed="rId3"/>
          <a:stretch/>
        </p:blipFill>
        <p:spPr>
          <a:xfrm>
            <a:off x="0" y="3246480"/>
            <a:ext cx="9144000" cy="361152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7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8"/>
          <p:cNvSpPr/>
          <p:nvPr/>
        </p:nvSpPr>
        <p:spPr>
          <a:xfrm>
            <a:off x="1071720" y="4200480"/>
            <a:ext cx="2303280" cy="23036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9"/>
          <p:cNvSpPr/>
          <p:nvPr/>
        </p:nvSpPr>
        <p:spPr>
          <a:xfrm flipH="1">
            <a:off x="262080" y="5715000"/>
            <a:ext cx="1612800" cy="78912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0" descr="USY_MB1_rgb_Reversed_Standard_Logo.png"/>
          <p:cNvPicPr/>
          <p:nvPr/>
        </p:nvPicPr>
        <p:blipFill>
          <a:blip r:embed="rId4"/>
          <a:stretch/>
        </p:blipFill>
        <p:spPr>
          <a:xfrm>
            <a:off x="433440" y="5889600"/>
            <a:ext cx="1268280" cy="4399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12"/>
          <p:cNvSpPr/>
          <p:nvPr/>
        </p:nvSpPr>
        <p:spPr>
          <a:xfrm>
            <a:off x="7539120" y="5105520"/>
            <a:ext cx="1390680" cy="1409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6" descr="ITLS-blue-red-no-text"/>
          <p:cNvPicPr/>
          <p:nvPr/>
        </p:nvPicPr>
        <p:blipFill>
          <a:blip r:embed="rId5"/>
          <a:stretch/>
        </p:blipFill>
        <p:spPr>
          <a:xfrm>
            <a:off x="7537320" y="5219640"/>
            <a:ext cx="1393920" cy="12668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29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1"/>
          <p:cNvSpPr/>
          <p:nvPr/>
        </p:nvSpPr>
        <p:spPr>
          <a:xfrm flipH="1">
            <a:off x="0" y="571500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18"/>
          <p:cNvGrpSpPr/>
          <p:nvPr/>
        </p:nvGrpSpPr>
        <p:grpSpPr>
          <a:xfrm>
            <a:off x="223920" y="5248440"/>
            <a:ext cx="1990800" cy="1358640"/>
            <a:chOff x="223920" y="5248440"/>
            <a:chExt cx="1990800" cy="1358640"/>
          </a:xfrm>
        </p:grpSpPr>
        <p:sp>
          <p:nvSpPr>
            <p:cNvPr id="301" name="Rectangle 32"/>
            <p:cNvSpPr/>
            <p:nvPr/>
          </p:nvSpPr>
          <p:spPr>
            <a:xfrm>
              <a:off x="854280" y="5248440"/>
              <a:ext cx="1360440" cy="1358640"/>
            </a:xfrm>
            <a:prstGeom prst="rect">
              <a:avLst/>
            </a:prstGeom>
            <a:solidFill>
              <a:srgbClr val="124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14"/>
            <p:cNvGrpSpPr/>
            <p:nvPr/>
          </p:nvGrpSpPr>
          <p:grpSpPr>
            <a:xfrm>
              <a:off x="223920" y="5967360"/>
              <a:ext cx="1268640" cy="639720"/>
              <a:chOff x="223920" y="5967360"/>
              <a:chExt cx="1268640" cy="639720"/>
            </a:xfrm>
          </p:grpSpPr>
          <p:sp>
            <p:nvSpPr>
              <p:cNvPr id="303" name="Rectangle 15"/>
              <p:cNvSpPr/>
              <p:nvPr/>
            </p:nvSpPr>
            <p:spPr>
              <a:xfrm flipH="1">
                <a:off x="223920" y="5967360"/>
                <a:ext cx="1268640" cy="639720"/>
              </a:xfrm>
              <a:prstGeom prst="rect">
                <a:avLst/>
              </a:prstGeom>
              <a:solidFill>
                <a:srgbClr val="ce1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4" name="Picture 17" descr="USY_MB1_rgb_Reversed_Standard_Logo.png"/>
              <p:cNvPicPr/>
              <p:nvPr/>
            </p:nvPicPr>
            <p:blipFill>
              <a:blip r:embed="rId3"/>
              <a:stretch/>
            </p:blipFill>
            <p:spPr>
              <a:xfrm>
                <a:off x="358920" y="6108480"/>
                <a:ext cx="997920" cy="356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34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9b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1"/>
          <p:cNvSpPr/>
          <p:nvPr/>
        </p:nvSpPr>
        <p:spPr>
          <a:xfrm flipH="1">
            <a:off x="0" y="571500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14"/>
          <p:cNvGrpSpPr/>
          <p:nvPr/>
        </p:nvGrpSpPr>
        <p:grpSpPr>
          <a:xfrm>
            <a:off x="223920" y="5248440"/>
            <a:ext cx="1990800" cy="1358640"/>
            <a:chOff x="223920" y="5248440"/>
            <a:chExt cx="1990800" cy="1358640"/>
          </a:xfrm>
        </p:grpSpPr>
        <p:sp>
          <p:nvSpPr>
            <p:cNvPr id="351" name="Rectangle 17"/>
            <p:cNvSpPr/>
            <p:nvPr/>
          </p:nvSpPr>
          <p:spPr>
            <a:xfrm>
              <a:off x="854280" y="5248440"/>
              <a:ext cx="1360440" cy="1358640"/>
            </a:xfrm>
            <a:prstGeom prst="rect">
              <a:avLst/>
            </a:prstGeom>
            <a:solidFill>
              <a:srgbClr val="124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Group 14"/>
            <p:cNvGrpSpPr/>
            <p:nvPr/>
          </p:nvGrpSpPr>
          <p:grpSpPr>
            <a:xfrm>
              <a:off x="223920" y="5967360"/>
              <a:ext cx="1268640" cy="639720"/>
              <a:chOff x="223920" y="5967360"/>
              <a:chExt cx="1268640" cy="639720"/>
            </a:xfrm>
          </p:grpSpPr>
          <p:sp>
            <p:nvSpPr>
              <p:cNvPr id="353" name="Rectangle 19"/>
              <p:cNvSpPr/>
              <p:nvPr/>
            </p:nvSpPr>
            <p:spPr>
              <a:xfrm flipH="1">
                <a:off x="223920" y="5967360"/>
                <a:ext cx="1268640" cy="639720"/>
              </a:xfrm>
              <a:prstGeom prst="rect">
                <a:avLst/>
              </a:prstGeom>
              <a:solidFill>
                <a:srgbClr val="ce1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4" name="Picture 20" descr="USY_MB1_rgb_Reversed_Standard_Logo.png"/>
              <p:cNvPicPr/>
              <p:nvPr/>
            </p:nvPicPr>
            <p:blipFill>
              <a:blip r:embed="rId3"/>
              <a:stretch/>
            </p:blipFill>
            <p:spPr>
              <a:xfrm>
                <a:off x="358920" y="6108480"/>
                <a:ext cx="997920" cy="356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39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332000" y="285840"/>
            <a:ext cx="77040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3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istical In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429000" y="5286240"/>
            <a:ext cx="55720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-174600" algn="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DCA| 18-22 August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ubtitle 12"/>
          <p:cNvSpPr/>
          <p:nvPr/>
        </p:nvSpPr>
        <p:spPr>
          <a:xfrm>
            <a:off x="1332000" y="1285920"/>
            <a:ext cx="770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1019160" y="3330720"/>
            <a:ext cx="81248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ffffff"/>
                </a:solidFill>
                <a:latin typeface="Arial"/>
              </a:rPr>
              <a:t>Reference Source: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Hensher, D.A., Rose, J.M., and Greene, W.H. (200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ffffff"/>
                </a:solidFill>
                <a:latin typeface="Arial"/>
              </a:rPr>
              <a:t>Applied Choice Analysis: A Primer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, Cambridge University Press, Cambridge (Second edition to appear 20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73F0-5BC9-4BE9-BA61-4C5605662158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6" descr=""/>
          <p:cNvPicPr/>
          <p:nvPr/>
        </p:nvPicPr>
        <p:blipFill>
          <a:blip r:embed="rId1"/>
          <a:stretch/>
        </p:blipFill>
        <p:spPr>
          <a:xfrm>
            <a:off x="1419120" y="1825560"/>
            <a:ext cx="6316920" cy="4641840"/>
          </a:xfrm>
          <a:prstGeom prst="rect">
            <a:avLst/>
          </a:prstGeom>
          <a:ln w="0">
            <a:noFill/>
          </a:ln>
        </p:spPr>
      </p:pic>
      <p:sp>
        <p:nvSpPr>
          <p:cNvPr id="479" name="Title 4"/>
          <p:cNvSpPr/>
          <p:nvPr/>
        </p:nvSpPr>
        <p:spPr>
          <a:xfrm>
            <a:off x="1887480" y="428760"/>
            <a:ext cx="70563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ests of neste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Placeholder 6"/>
          <p:cNvSpPr/>
          <p:nvPr/>
        </p:nvSpPr>
        <p:spPr>
          <a:xfrm>
            <a:off x="155520" y="1278000"/>
            <a:ext cx="86630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Nested tests: Likelihood ratio (LR)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75F9-7146-4518-92DF-B53CEA29024B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6" descr=""/>
          <p:cNvPicPr/>
          <p:nvPr/>
        </p:nvPicPr>
        <p:blipFill>
          <a:blip r:embed="rId1"/>
          <a:stretch/>
        </p:blipFill>
        <p:spPr>
          <a:xfrm>
            <a:off x="595440" y="1895400"/>
            <a:ext cx="7843680" cy="3800520"/>
          </a:xfrm>
          <a:prstGeom prst="rect">
            <a:avLst/>
          </a:prstGeom>
          <a:ln w="0">
            <a:noFill/>
          </a:ln>
        </p:spPr>
      </p:pic>
      <p:sp>
        <p:nvSpPr>
          <p:cNvPr id="483" name="Right Arrow 6"/>
          <p:cNvSpPr/>
          <p:nvPr/>
        </p:nvSpPr>
        <p:spPr>
          <a:xfrm rot="10800000">
            <a:off x="4705200" y="2314440"/>
            <a:ext cx="1038240" cy="2476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ce1126"/>
          </a:solidFill>
          <a:ln w="25560">
            <a:solidFill>
              <a:srgbClr val="970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itle 4"/>
          <p:cNvSpPr/>
          <p:nvPr/>
        </p:nvSpPr>
        <p:spPr>
          <a:xfrm>
            <a:off x="1887480" y="428760"/>
            <a:ext cx="70563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ests of neste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Placeholder 6"/>
          <p:cNvSpPr/>
          <p:nvPr/>
        </p:nvSpPr>
        <p:spPr>
          <a:xfrm>
            <a:off x="155520" y="1278000"/>
            <a:ext cx="86630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Nested tests: Likelihood ratio (LR)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34B6-2019-4632-9A06-D382B4F87016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6" descr=""/>
          <p:cNvPicPr/>
          <p:nvPr/>
        </p:nvPicPr>
        <p:blipFill>
          <a:blip r:embed="rId1"/>
          <a:stretch/>
        </p:blipFill>
        <p:spPr>
          <a:xfrm>
            <a:off x="514440" y="1881360"/>
            <a:ext cx="7532640" cy="4376520"/>
          </a:xfrm>
          <a:prstGeom prst="rect">
            <a:avLst/>
          </a:prstGeom>
          <a:ln w="0">
            <a:noFill/>
          </a:ln>
        </p:spPr>
      </p:pic>
      <p:sp>
        <p:nvSpPr>
          <p:cNvPr id="488" name="Right Arrow 6"/>
          <p:cNvSpPr/>
          <p:nvPr/>
        </p:nvSpPr>
        <p:spPr>
          <a:xfrm rot="10800000">
            <a:off x="4438800" y="2266920"/>
            <a:ext cx="1038240" cy="2476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ce1126"/>
          </a:solidFill>
          <a:ln w="25560">
            <a:solidFill>
              <a:srgbClr val="970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itle 4"/>
          <p:cNvSpPr/>
          <p:nvPr/>
        </p:nvSpPr>
        <p:spPr>
          <a:xfrm>
            <a:off x="1887480" y="428760"/>
            <a:ext cx="70563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ests of neste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Placeholder 6"/>
          <p:cNvSpPr/>
          <p:nvPr/>
        </p:nvSpPr>
        <p:spPr>
          <a:xfrm>
            <a:off x="155520" y="1278000"/>
            <a:ext cx="86630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Nested tests: Likelihood ratio (LR)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"/>
          <p:cNvPicPr/>
          <p:nvPr/>
        </p:nvPicPr>
        <p:blipFill>
          <a:blip r:embed="rId1"/>
          <a:stretch/>
        </p:blipFill>
        <p:spPr>
          <a:xfrm>
            <a:off x="676440" y="1838160"/>
            <a:ext cx="4438440" cy="53352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3" descr=""/>
          <p:cNvPicPr/>
          <p:nvPr/>
        </p:nvPicPr>
        <p:blipFill>
          <a:blip r:embed="rId2"/>
          <a:stretch/>
        </p:blipFill>
        <p:spPr>
          <a:xfrm>
            <a:off x="690480" y="2433600"/>
            <a:ext cx="4500720" cy="5666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4" descr=""/>
          <p:cNvPicPr/>
          <p:nvPr/>
        </p:nvPicPr>
        <p:blipFill>
          <a:blip r:embed="rId3"/>
          <a:stretch/>
        </p:blipFill>
        <p:spPr>
          <a:xfrm>
            <a:off x="771480" y="4338720"/>
            <a:ext cx="6257880" cy="2012760"/>
          </a:xfrm>
          <a:prstGeom prst="rect">
            <a:avLst/>
          </a:prstGeom>
          <a:ln w="0">
            <a:noFill/>
          </a:ln>
        </p:spPr>
      </p:pic>
      <p:sp>
        <p:nvSpPr>
          <p:cNvPr id="494" name="Title 4"/>
          <p:cNvSpPr/>
          <p:nvPr/>
        </p:nvSpPr>
        <p:spPr>
          <a:xfrm>
            <a:off x="1887480" y="428760"/>
            <a:ext cx="70563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ests of neste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ontent Placeholder 5"/>
          <p:cNvSpPr/>
          <p:nvPr/>
        </p:nvSpPr>
        <p:spPr>
          <a:xfrm>
            <a:off x="422280" y="1790640"/>
            <a:ext cx="775008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ontent Placeholder 5"/>
          <p:cNvSpPr/>
          <p:nvPr/>
        </p:nvSpPr>
        <p:spPr>
          <a:xfrm>
            <a:off x="574560" y="1943280"/>
            <a:ext cx="775044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 squared = 2[-4136.23849 – (-4145.19725)] = 17.917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 lookup:  Tools: Scalar Calc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Placeholder 6"/>
          <p:cNvSpPr/>
          <p:nvPr/>
        </p:nvSpPr>
        <p:spPr>
          <a:xfrm>
            <a:off x="155520" y="1278000"/>
            <a:ext cx="86630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Nested tests: Likelihood ratio (LR)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1743120" y="1763640"/>
            <a:ext cx="5756400" cy="4703760"/>
          </a:xfrm>
          <a:prstGeom prst="rect">
            <a:avLst/>
          </a:prstGeom>
          <a:ln w="0">
            <a:noFill/>
          </a:ln>
        </p:spPr>
      </p:pic>
      <p:sp>
        <p:nvSpPr>
          <p:cNvPr id="499" name="Right Arrow 2"/>
          <p:cNvSpPr/>
          <p:nvPr/>
        </p:nvSpPr>
        <p:spPr>
          <a:xfrm>
            <a:off x="504720" y="3848040"/>
            <a:ext cx="1038240" cy="2476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ce1126"/>
          </a:solidFill>
          <a:ln w="25560">
            <a:solidFill>
              <a:srgbClr val="970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ight Arrow 3"/>
          <p:cNvSpPr/>
          <p:nvPr/>
        </p:nvSpPr>
        <p:spPr>
          <a:xfrm>
            <a:off x="533520" y="5686560"/>
            <a:ext cx="1038240" cy="2476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ce1126"/>
          </a:solidFill>
          <a:ln w="25560">
            <a:solidFill>
              <a:srgbClr val="970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Placeholder 6"/>
          <p:cNvSpPr/>
          <p:nvPr/>
        </p:nvSpPr>
        <p:spPr>
          <a:xfrm>
            <a:off x="155520" y="1278000"/>
            <a:ext cx="86630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Nested tests: Likelihood ratio (LR)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itle 4"/>
          <p:cNvSpPr/>
          <p:nvPr/>
        </p:nvSpPr>
        <p:spPr>
          <a:xfrm>
            <a:off x="1887480" y="428760"/>
            <a:ext cx="70563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ests of neste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885680" y="428400"/>
            <a:ext cx="705636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ests of nested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22280" y="1790280"/>
            <a:ext cx="7750080" cy="39718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ted hypo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Null model is restri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Alternative model is unrestri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triction takes the for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ld test: See 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lose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variance matrix estimated for b.  Est Var[b] =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chi squared =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b-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' 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VR'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b-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grees of freedom = number of restrictions (rows in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sted tests: Wald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571A-7A16-4459-8C62-2D944305F2C7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1714680" y="1763640"/>
            <a:ext cx="5776560" cy="4703760"/>
          </a:xfrm>
          <a:prstGeom prst="rect">
            <a:avLst/>
          </a:prstGeom>
          <a:ln w="0">
            <a:noFill/>
          </a:ln>
        </p:spPr>
      </p:pic>
      <p:sp>
        <p:nvSpPr>
          <p:cNvPr id="508" name="Title 4"/>
          <p:cNvSpPr/>
          <p:nvPr/>
        </p:nvSpPr>
        <p:spPr>
          <a:xfrm>
            <a:off x="1886040" y="428760"/>
            <a:ext cx="70563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ests of neste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Placeholder 6"/>
          <p:cNvSpPr/>
          <p:nvPr/>
        </p:nvSpPr>
        <p:spPr>
          <a:xfrm>
            <a:off x="155520" y="1278000"/>
            <a:ext cx="86630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Nested tests: Wald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"/>
          <p:cNvPicPr/>
          <p:nvPr/>
        </p:nvPicPr>
        <p:blipFill>
          <a:blip r:embed="rId1"/>
          <a:stretch/>
        </p:blipFill>
        <p:spPr>
          <a:xfrm>
            <a:off x="1241280" y="1695600"/>
            <a:ext cx="6472440" cy="4733640"/>
          </a:xfrm>
          <a:prstGeom prst="rect">
            <a:avLst/>
          </a:prstGeom>
          <a:ln w="0">
            <a:noFill/>
          </a:ln>
        </p:spPr>
      </p:pic>
      <p:sp>
        <p:nvSpPr>
          <p:cNvPr id="511" name="Right Arrow 3"/>
          <p:cNvSpPr/>
          <p:nvPr/>
        </p:nvSpPr>
        <p:spPr>
          <a:xfrm rot="10800000">
            <a:off x="4600440" y="2933640"/>
            <a:ext cx="1038240" cy="2476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ce1126"/>
          </a:solidFill>
          <a:ln w="25560">
            <a:solidFill>
              <a:srgbClr val="970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ight Arrow 4"/>
          <p:cNvSpPr/>
          <p:nvPr/>
        </p:nvSpPr>
        <p:spPr>
          <a:xfrm rot="10800000">
            <a:off x="3381480" y="6039000"/>
            <a:ext cx="1038240" cy="2476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ce1126"/>
          </a:solidFill>
          <a:ln w="25560">
            <a:solidFill>
              <a:srgbClr val="970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Placeholder 6"/>
          <p:cNvSpPr/>
          <p:nvPr/>
        </p:nvSpPr>
        <p:spPr>
          <a:xfrm>
            <a:off x="155520" y="1278000"/>
            <a:ext cx="86630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Nested tests: Wald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itle 4"/>
          <p:cNvSpPr/>
          <p:nvPr/>
        </p:nvSpPr>
        <p:spPr>
          <a:xfrm>
            <a:off x="1886040" y="428760"/>
            <a:ext cx="70563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ests of neste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885680" y="428400"/>
            <a:ext cx="705636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ests of nested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0360" y="2057040"/>
            <a:ext cx="7750440" cy="39718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 fontScale="99000"/>
          </a:bodyPr>
          <a:p>
            <a:pPr marL="172800" indent="-172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ted hypo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7840" indent="-181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  Null model is restric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57840" indent="-181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  Alternative model is unrestric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M test: Are the derivatives of the Alternative model near to zero when computed using the coefficient from the null mode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7840" indent="-181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et coefficients of null model: b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57840" indent="-181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et derivatives of alternative model computed at b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57840" indent="-181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et variance of derivatives of alternative model computed at b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57840" indent="-181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hi squared =  (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gA|0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) ' [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VA|0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7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gA|0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57840" indent="-181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grees of freedom = number of restric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57840" indent="-181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Much easier in practice than it sounds like in theo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sted tests: Lagrange multiplier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56ED-966D-4CFF-94B4-C61C2AB4301A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"/>
          <p:cNvPicPr/>
          <p:nvPr/>
        </p:nvPicPr>
        <p:blipFill>
          <a:blip r:embed="rId1"/>
          <a:stretch/>
        </p:blipFill>
        <p:spPr>
          <a:xfrm>
            <a:off x="1871640" y="1366920"/>
            <a:ext cx="6327720" cy="5157720"/>
          </a:xfrm>
          <a:prstGeom prst="rect">
            <a:avLst/>
          </a:prstGeom>
          <a:ln w="0">
            <a:noFill/>
          </a:ln>
        </p:spPr>
      </p:pic>
      <p:sp>
        <p:nvSpPr>
          <p:cNvPr id="520" name="Title 4"/>
          <p:cNvSpPr/>
          <p:nvPr/>
        </p:nvSpPr>
        <p:spPr>
          <a:xfrm>
            <a:off x="1886040" y="428760"/>
            <a:ext cx="70563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ests of neste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al in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45600" y="1828800"/>
            <a:ext cx="7464600" cy="37051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Multinomial Logit Model for Shoe Brand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Hypothe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sted Tests:  LR, Wald, Lagrange Multiplier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nested Tests:  Vuong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ing Variances and Standard Errors for Estim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ntional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ust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tstr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Errors for Functions of Estim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ta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insky and Ro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1162080" y="1428840"/>
            <a:ext cx="7250040" cy="4886280"/>
          </a:xfrm>
          <a:prstGeom prst="rect">
            <a:avLst/>
          </a:prstGeom>
          <a:ln w="0">
            <a:noFill/>
          </a:ln>
        </p:spPr>
      </p:pic>
      <p:sp>
        <p:nvSpPr>
          <p:cNvPr id="522" name="Right Arrow 2"/>
          <p:cNvSpPr/>
          <p:nvPr/>
        </p:nvSpPr>
        <p:spPr>
          <a:xfrm rot="10800000">
            <a:off x="4933800" y="2533680"/>
            <a:ext cx="1038240" cy="2476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ce1126"/>
          </a:solidFill>
          <a:ln w="25560">
            <a:solidFill>
              <a:srgbClr val="970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itle 4"/>
          <p:cNvSpPr/>
          <p:nvPr/>
        </p:nvSpPr>
        <p:spPr>
          <a:xfrm>
            <a:off x="1886040" y="428760"/>
            <a:ext cx="70563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ests of neste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885680" y="428400"/>
            <a:ext cx="705636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ests of nested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Content Placeholder 5"/>
          <p:cNvSpPr/>
          <p:nvPr/>
        </p:nvSpPr>
        <p:spPr>
          <a:xfrm>
            <a:off x="422280" y="1790640"/>
            <a:ext cx="775008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ikelihood ratio: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hi squared = 17.91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ald: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hi squared = 17.25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agrange multiplier: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hi squared = 17.3326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Placeholder 6"/>
          <p:cNvSpPr/>
          <p:nvPr/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The trinity of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ests of nonnested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22280" y="1857240"/>
            <a:ext cx="7750080" cy="397224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nested hypo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Nul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Alternativ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ther model is produced as a restriction on the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uong te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contribution of person n to logL assuming H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contribution of person n to logL assuming 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n = logL0n – logL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uong statistic = sqr(N)*vbar/sd(v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than -2 favors HA, greater than +2 favors H0.  In between, is inconclus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nested tests: Vuong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CA17-6D36-4408-966D-116C0C48CC37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1" name="Object 2"/>
          <p:cNvGraphicFramePr/>
          <p:nvPr/>
        </p:nvGraphicFramePr>
        <p:xfrm>
          <a:off x="352440" y="1859040"/>
          <a:ext cx="8458200" cy="18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1859040"/>
                    <a:ext cx="8458200" cy="18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Object 2"/>
          <p:cNvGraphicFramePr/>
          <p:nvPr/>
        </p:nvGraphicFramePr>
        <p:xfrm>
          <a:off x="349200" y="3875040"/>
          <a:ext cx="8458200" cy="18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00" y="3875040"/>
                    <a:ext cx="8458200" cy="18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Rectangle 6"/>
          <p:cNvSpPr/>
          <p:nvPr/>
        </p:nvSpPr>
        <p:spPr>
          <a:xfrm>
            <a:off x="3086280" y="2228760"/>
            <a:ext cx="1342800" cy="1152720"/>
          </a:xfrm>
          <a:prstGeom prst="rect">
            <a:avLst/>
          </a:prstGeom>
          <a:solidFill>
            <a:srgbClr val="ce1126">
              <a:alpha val="20000"/>
            </a:srgbClr>
          </a:solidFill>
          <a:ln w="25560">
            <a:solidFill>
              <a:srgbClr val="970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1762200" y="4200480"/>
            <a:ext cx="1285920" cy="1152720"/>
          </a:xfrm>
          <a:prstGeom prst="rect">
            <a:avLst/>
          </a:prstGeom>
          <a:solidFill>
            <a:srgbClr val="ce1126">
              <a:alpha val="20000"/>
            </a:srgbClr>
          </a:solidFill>
          <a:ln w="25560">
            <a:solidFill>
              <a:srgbClr val="970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ests of nonneste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Placeholder 6"/>
          <p:cNvSpPr/>
          <p:nvPr/>
        </p:nvSpPr>
        <p:spPr>
          <a:xfrm>
            <a:off x="155520" y="1278000"/>
            <a:ext cx="86630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Nonnested tests: Vuong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"/>
          <p:cNvPicPr/>
          <p:nvPr/>
        </p:nvPicPr>
        <p:blipFill>
          <a:blip r:embed="rId1"/>
          <a:stretch/>
        </p:blipFill>
        <p:spPr>
          <a:xfrm>
            <a:off x="1838160" y="1876320"/>
            <a:ext cx="5315040" cy="4619880"/>
          </a:xfrm>
          <a:prstGeom prst="rect">
            <a:avLst/>
          </a:prstGeom>
          <a:ln w="0">
            <a:noFill/>
          </a:ln>
        </p:spPr>
      </p:pic>
      <p:sp>
        <p:nvSpPr>
          <p:cNvPr id="540" name="Text Placeholder 6"/>
          <p:cNvSpPr/>
          <p:nvPr/>
        </p:nvSpPr>
        <p:spPr>
          <a:xfrm>
            <a:off x="155520" y="1278000"/>
            <a:ext cx="86630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Nonnested tests: Vuong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ests of nonneste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133200" y="1852560"/>
            <a:ext cx="4438800" cy="21290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" descr=""/>
          <p:cNvPicPr/>
          <p:nvPr/>
        </p:nvPicPr>
        <p:blipFill>
          <a:blip r:embed="rId2"/>
          <a:stretch/>
        </p:blipFill>
        <p:spPr>
          <a:xfrm>
            <a:off x="4562640" y="1828800"/>
            <a:ext cx="4467240" cy="21636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"/>
          <p:cNvPicPr/>
          <p:nvPr/>
        </p:nvPicPr>
        <p:blipFill>
          <a:blip r:embed="rId3"/>
          <a:stretch/>
        </p:blipFill>
        <p:spPr>
          <a:xfrm>
            <a:off x="1623960" y="5054760"/>
            <a:ext cx="5757840" cy="1288800"/>
          </a:xfrm>
          <a:prstGeom prst="rect">
            <a:avLst/>
          </a:prstGeom>
          <a:ln w="0">
            <a:noFill/>
          </a:ln>
        </p:spPr>
      </p:pic>
      <p:sp>
        <p:nvSpPr>
          <p:cNvPr id="545" name="Right Arrow 4"/>
          <p:cNvSpPr/>
          <p:nvPr/>
        </p:nvSpPr>
        <p:spPr>
          <a:xfrm rot="16200000">
            <a:off x="609480" y="4467240"/>
            <a:ext cx="1038240" cy="2476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ce1126"/>
          </a:solidFill>
          <a:ln w="25560">
            <a:solidFill>
              <a:srgbClr val="970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Placeholder 6"/>
          <p:cNvSpPr/>
          <p:nvPr/>
        </p:nvSpPr>
        <p:spPr>
          <a:xfrm>
            <a:off x="155520" y="1278000"/>
            <a:ext cx="86630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Nonnested tests: Vuong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ests of nonneste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ce Esti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"/>
          <p:cNvPicPr/>
          <p:nvPr/>
        </p:nvPicPr>
        <p:blipFill>
          <a:blip r:embed="rId1"/>
          <a:stretch/>
        </p:blipFill>
        <p:spPr>
          <a:xfrm>
            <a:off x="271440" y="1847880"/>
            <a:ext cx="8650440" cy="469584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5"/>
          <p:cNvSpPr/>
          <p:nvPr/>
        </p:nvSpPr>
        <p:spPr>
          <a:xfrm>
            <a:off x="3048120" y="3619440"/>
            <a:ext cx="1428480" cy="2219400"/>
          </a:xfrm>
          <a:prstGeom prst="rect">
            <a:avLst/>
          </a:prstGeom>
          <a:solidFill>
            <a:srgbClr val="ce1126">
              <a:alpha val="19000"/>
            </a:srgbClr>
          </a:solidFill>
          <a:ln w="25560">
            <a:solidFill>
              <a:srgbClr val="283f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Variance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Placeholder 6"/>
          <p:cNvSpPr/>
          <p:nvPr/>
        </p:nvSpPr>
        <p:spPr>
          <a:xfrm>
            <a:off x="117360" y="1316160"/>
            <a:ext cx="81216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onventional variance estimation for the multinomial logi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Variance est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12760" y="1306440"/>
            <a:ext cx="812160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onventional variance estimation for the multinomial logi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C721-9A06-4A88-995E-39A3DDD79100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Object 3"/>
          <p:cNvGraphicFramePr/>
          <p:nvPr/>
        </p:nvGraphicFramePr>
        <p:xfrm>
          <a:off x="868320" y="1855800"/>
          <a:ext cx="6705720" cy="428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1855800"/>
                    <a:ext cx="6705720" cy="42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Variance est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12760" y="1306440"/>
            <a:ext cx="812160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onventional variance estimation for the multinomial logi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494A-C3CA-4694-A1EE-4AF5E684F5EF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2" name="Object 3"/>
          <p:cNvGraphicFramePr/>
          <p:nvPr/>
        </p:nvGraphicFramePr>
        <p:xfrm>
          <a:off x="866880" y="1884240"/>
          <a:ext cx="7578720" cy="431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6880" y="1884240"/>
                    <a:ext cx="7578720" cy="43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82296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: Shoe Brand Cho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514080" y="1819080"/>
            <a:ext cx="6933960" cy="446724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ed dat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d choi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 responden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choice situatio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,200 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choice/attributes + 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hion = High /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= High /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 = 25/50/75,100 coded 1,2,3,4 and Pric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terogeneit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 (Male = 1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 (&lt;25, 25-39, 40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ning example:  Shoe brand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Variance est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12760" y="1306440"/>
            <a:ext cx="812160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onventional variance estimation for the multinomial logi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A2B3-BB30-4D0D-B0BB-77F0C23DC3AD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7" name="Object 3"/>
          <p:cNvGraphicFramePr/>
          <p:nvPr/>
        </p:nvGraphicFramePr>
        <p:xfrm>
          <a:off x="1224000" y="1841400"/>
          <a:ext cx="5995800" cy="12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0" y="1841400"/>
                    <a:ext cx="5995800" cy="12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9" name="Picture 2" descr=""/>
          <p:cNvPicPr/>
          <p:nvPr/>
        </p:nvPicPr>
        <p:blipFill>
          <a:blip r:embed="rId3"/>
          <a:stretch/>
        </p:blipFill>
        <p:spPr>
          <a:xfrm>
            <a:off x="1266840" y="3276720"/>
            <a:ext cx="5929200" cy="321948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6"/>
          <p:cNvSpPr/>
          <p:nvPr/>
        </p:nvSpPr>
        <p:spPr>
          <a:xfrm>
            <a:off x="3238560" y="4562640"/>
            <a:ext cx="895320" cy="1371600"/>
          </a:xfrm>
          <a:prstGeom prst="rect">
            <a:avLst/>
          </a:prstGeom>
          <a:solidFill>
            <a:srgbClr val="ce1126">
              <a:alpha val="19000"/>
            </a:srgbClr>
          </a:solidFill>
          <a:ln w="25560">
            <a:solidFill>
              <a:srgbClr val="283f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Variance est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12760" y="1306440"/>
            <a:ext cx="812160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BHHH variance estimator for the multinomial logi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E815-DABE-4AF0-9698-919CFA2DDAED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Object 3"/>
          <p:cNvGraphicFramePr/>
          <p:nvPr/>
        </p:nvGraphicFramePr>
        <p:xfrm>
          <a:off x="1220760" y="1860480"/>
          <a:ext cx="5962680" cy="14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860480"/>
                    <a:ext cx="596268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6" name="Picture 3" descr=""/>
          <p:cNvPicPr/>
          <p:nvPr/>
        </p:nvPicPr>
        <p:blipFill>
          <a:blip r:embed="rId3"/>
          <a:stretch/>
        </p:blipFill>
        <p:spPr>
          <a:xfrm>
            <a:off x="981000" y="3614760"/>
            <a:ext cx="7107480" cy="2557440"/>
          </a:xfrm>
          <a:prstGeom prst="rect">
            <a:avLst/>
          </a:prstGeom>
          <a:ln w="0">
            <a:noFill/>
          </a:ln>
        </p:spPr>
      </p:pic>
      <p:sp>
        <p:nvSpPr>
          <p:cNvPr id="577" name="Rectangle 8"/>
          <p:cNvSpPr/>
          <p:nvPr/>
        </p:nvSpPr>
        <p:spPr>
          <a:xfrm>
            <a:off x="3390840" y="4238640"/>
            <a:ext cx="895320" cy="1781280"/>
          </a:xfrm>
          <a:prstGeom prst="rect">
            <a:avLst/>
          </a:prstGeom>
          <a:solidFill>
            <a:srgbClr val="ce1126">
              <a:alpha val="19000"/>
            </a:srgbClr>
          </a:solidFill>
          <a:ln w="25560">
            <a:solidFill>
              <a:srgbClr val="283f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Variance est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31840" y="1191960"/>
            <a:ext cx="81216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Robust variance estimator for the multinomial logi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DABA-16B1-4BDD-BA82-6D700067DA26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1" name="Object 3"/>
          <p:cNvGraphicFramePr/>
          <p:nvPr/>
        </p:nvGraphicFramePr>
        <p:xfrm>
          <a:off x="1333440" y="1592280"/>
          <a:ext cx="5654880" cy="19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3440" y="1592280"/>
                    <a:ext cx="5654880" cy="19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3" name="Picture 3" descr=""/>
          <p:cNvPicPr/>
          <p:nvPr/>
        </p:nvPicPr>
        <p:blipFill>
          <a:blip r:embed="rId3"/>
          <a:stretch/>
        </p:blipFill>
        <p:spPr>
          <a:xfrm>
            <a:off x="1309680" y="3600360"/>
            <a:ext cx="6086520" cy="306720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9"/>
          <p:cNvSpPr/>
          <p:nvPr/>
        </p:nvSpPr>
        <p:spPr>
          <a:xfrm>
            <a:off x="3400560" y="5038560"/>
            <a:ext cx="895320" cy="1409760"/>
          </a:xfrm>
          <a:prstGeom prst="rect">
            <a:avLst/>
          </a:prstGeom>
          <a:solidFill>
            <a:srgbClr val="ce1126">
              <a:alpha val="19000"/>
            </a:srgbClr>
          </a:solidFill>
          <a:ln w="25560">
            <a:solidFill>
              <a:srgbClr val="283f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Variance est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31840" y="1306440"/>
            <a:ext cx="812160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Bootstrap variance estimator for the multinomial logi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9330-528E-4E24-937C-49684AECC147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8" name="Object 3"/>
          <p:cNvGraphicFramePr/>
          <p:nvPr/>
        </p:nvGraphicFramePr>
        <p:xfrm>
          <a:off x="971640" y="1865160"/>
          <a:ext cx="7072200" cy="41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65160"/>
                    <a:ext cx="7072200" cy="41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5B17-3E16-4B5E-91BB-B351D64596A0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858680" y="428400"/>
            <a:ext cx="705636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Variance est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2" name="Picture 6" descr=""/>
          <p:cNvPicPr/>
          <p:nvPr/>
        </p:nvPicPr>
        <p:blipFill>
          <a:blip r:embed="rId1"/>
          <a:stretch/>
        </p:blipFill>
        <p:spPr>
          <a:xfrm>
            <a:off x="1314360" y="3691080"/>
            <a:ext cx="6115320" cy="267624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7" descr=""/>
          <p:cNvPicPr/>
          <p:nvPr/>
        </p:nvPicPr>
        <p:blipFill>
          <a:blip r:embed="rId2"/>
          <a:stretch/>
        </p:blipFill>
        <p:spPr>
          <a:xfrm>
            <a:off x="1343160" y="1857240"/>
            <a:ext cx="6095880" cy="1733760"/>
          </a:xfrm>
          <a:prstGeom prst="rect">
            <a:avLst/>
          </a:prstGeom>
          <a:ln w="0">
            <a:noFill/>
          </a:ln>
        </p:spPr>
      </p:pic>
      <p:sp>
        <p:nvSpPr>
          <p:cNvPr id="594" name="Text Placeholder 6"/>
          <p:cNvSpPr/>
          <p:nvPr/>
        </p:nvSpPr>
        <p:spPr>
          <a:xfrm>
            <a:off x="136440" y="1316160"/>
            <a:ext cx="81216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Bootstrap variance estimator for the multinomial logi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Variance est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231840" y="1315800"/>
            <a:ext cx="81216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luster robust variance estimator for the multinomial logi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977A-2D72-4702-8E0D-2499D3780385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Object 3"/>
          <p:cNvGraphicFramePr/>
          <p:nvPr/>
        </p:nvGraphicFramePr>
        <p:xfrm>
          <a:off x="460440" y="2009880"/>
          <a:ext cx="821988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2009880"/>
                    <a:ext cx="821988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"/>
          <p:cNvPicPr/>
          <p:nvPr/>
        </p:nvPicPr>
        <p:blipFill>
          <a:blip r:embed="rId1"/>
          <a:stretch/>
        </p:blipFill>
        <p:spPr>
          <a:xfrm>
            <a:off x="1542960" y="1781280"/>
            <a:ext cx="5789880" cy="35002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3" descr=""/>
          <p:cNvPicPr/>
          <p:nvPr/>
        </p:nvPicPr>
        <p:blipFill>
          <a:blip r:embed="rId2"/>
          <a:stretch/>
        </p:blipFill>
        <p:spPr>
          <a:xfrm>
            <a:off x="1514520" y="5259240"/>
            <a:ext cx="5807160" cy="1284480"/>
          </a:xfrm>
          <a:prstGeom prst="rect">
            <a:avLst/>
          </a:prstGeom>
          <a:ln w="0">
            <a:noFill/>
          </a:ln>
        </p:spPr>
      </p:pic>
      <p:sp>
        <p:nvSpPr>
          <p:cNvPr id="602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Variance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Placeholder 6"/>
          <p:cNvSpPr/>
          <p:nvPr/>
        </p:nvSpPr>
        <p:spPr>
          <a:xfrm>
            <a:off x="136440" y="1325520"/>
            <a:ext cx="81216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luster robust variance estimator for the multinomial logi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ces for Functions of Estim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C64B-10E7-41E4-A51E-1E58731E0D40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887120" y="428400"/>
            <a:ext cx="705636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nces for functions of estim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8" name="Picture 6" descr=""/>
          <p:cNvPicPr/>
          <p:nvPr/>
        </p:nvPicPr>
        <p:blipFill>
          <a:blip r:embed="rId1"/>
          <a:stretch/>
        </p:blipFill>
        <p:spPr>
          <a:xfrm>
            <a:off x="219240" y="1852560"/>
            <a:ext cx="5768640" cy="26542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8" descr=""/>
          <p:cNvPicPr/>
          <p:nvPr/>
        </p:nvPicPr>
        <p:blipFill>
          <a:blip r:embed="rId2"/>
          <a:stretch/>
        </p:blipFill>
        <p:spPr>
          <a:xfrm>
            <a:off x="133200" y="4591080"/>
            <a:ext cx="5962680" cy="151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0" name="Object 9"/>
          <p:cNvGraphicFramePr/>
          <p:nvPr/>
        </p:nvGraphicFramePr>
        <p:xfrm>
          <a:off x="6137280" y="2243160"/>
          <a:ext cx="2708280" cy="179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7280" y="2243160"/>
                    <a:ext cx="270828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2" name="Text Placeholder 6"/>
          <p:cNvSpPr/>
          <p:nvPr/>
        </p:nvSpPr>
        <p:spPr>
          <a:xfrm>
            <a:off x="136440" y="1325520"/>
            <a:ext cx="81216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lta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1A56-A730-42EC-ACD1-1606B3A7BE91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887120" y="428400"/>
            <a:ext cx="705636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nces for functions of estim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5" name="Object 2"/>
          <p:cNvGraphicFramePr/>
          <p:nvPr/>
        </p:nvGraphicFramePr>
        <p:xfrm>
          <a:off x="620640" y="1731960"/>
          <a:ext cx="8142480" cy="42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1731960"/>
                    <a:ext cx="8142480" cy="42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7" name="Text Placeholder 6"/>
          <p:cNvSpPr/>
          <p:nvPr/>
        </p:nvSpPr>
        <p:spPr>
          <a:xfrm>
            <a:off x="136440" y="1325520"/>
            <a:ext cx="81216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lta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1"/>
          <p:cNvSpPr/>
          <p:nvPr/>
        </p:nvSpPr>
        <p:spPr>
          <a:xfrm>
            <a:off x="409680" y="1657440"/>
            <a:ext cx="231444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1190520" y="1763640"/>
            <a:ext cx="6677280" cy="4786560"/>
          </a:xfrm>
          <a:prstGeom prst="rect">
            <a:avLst/>
          </a:prstGeom>
          <a:ln w="0">
            <a:noFill/>
          </a:ln>
        </p:spPr>
      </p:pic>
      <p:sp>
        <p:nvSpPr>
          <p:cNvPr id="454" name="TextBox 2"/>
          <p:cNvSpPr/>
          <p:nvPr/>
        </p:nvSpPr>
        <p:spPr>
          <a:xfrm>
            <a:off x="714240" y="1305000"/>
            <a:ext cx="78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d Choice Experiment: Unlabeled Alternatives, First 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3"/>
          <p:cNvSpPr/>
          <p:nvPr/>
        </p:nvSpPr>
        <p:spPr>
          <a:xfrm>
            <a:off x="8229600" y="1676520"/>
            <a:ext cx="533520" cy="4782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=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=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=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=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=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=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=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ning example:  Shoe brand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85B5-B39E-4DFB-8C31-6031CED5F8D4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887120" y="428400"/>
            <a:ext cx="705636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nces for functions of estim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21" name="Object 2"/>
          <p:cNvGraphicFramePr/>
          <p:nvPr/>
        </p:nvGraphicFramePr>
        <p:xfrm>
          <a:off x="627120" y="1730520"/>
          <a:ext cx="6643800" cy="45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1730520"/>
                    <a:ext cx="664380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Text Placeholder 6"/>
          <p:cNvSpPr/>
          <p:nvPr/>
        </p:nvSpPr>
        <p:spPr>
          <a:xfrm>
            <a:off x="136440" y="1325520"/>
            <a:ext cx="81216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lta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5"/>
          <p:cNvSpPr/>
          <p:nvPr/>
        </p:nvSpPr>
        <p:spPr>
          <a:xfrm>
            <a:off x="409680" y="1657440"/>
            <a:ext cx="231444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EE24-3D68-461B-B401-E82117AF4EA2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887120" y="428400"/>
            <a:ext cx="705636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nces for functions of estim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7" name="Picture 6" descr=""/>
          <p:cNvPicPr/>
          <p:nvPr/>
        </p:nvPicPr>
        <p:blipFill>
          <a:blip r:embed="rId1"/>
          <a:stretch/>
        </p:blipFill>
        <p:spPr>
          <a:xfrm>
            <a:off x="212760" y="1976400"/>
            <a:ext cx="5226120" cy="240516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8" descr=""/>
          <p:cNvPicPr/>
          <p:nvPr/>
        </p:nvPicPr>
        <p:blipFill>
          <a:blip r:embed="rId2"/>
          <a:stretch/>
        </p:blipFill>
        <p:spPr>
          <a:xfrm>
            <a:off x="142920" y="4600440"/>
            <a:ext cx="5295960" cy="134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9" name="Object 3"/>
          <p:cNvGraphicFramePr/>
          <p:nvPr/>
        </p:nvGraphicFramePr>
        <p:xfrm>
          <a:off x="5533920" y="2849400"/>
          <a:ext cx="3492720" cy="193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33920" y="2849400"/>
                    <a:ext cx="3492720" cy="19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Text Placeholder 6"/>
          <p:cNvSpPr/>
          <p:nvPr/>
        </p:nvSpPr>
        <p:spPr>
          <a:xfrm>
            <a:off x="136440" y="1325520"/>
            <a:ext cx="81216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lta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9892-0381-4297-85DA-61518941EFDA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887120" y="428400"/>
            <a:ext cx="705636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nces for functions of estim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4" name="Picture 6" descr=""/>
          <p:cNvPicPr/>
          <p:nvPr/>
        </p:nvPicPr>
        <p:blipFill>
          <a:blip r:embed="rId1"/>
          <a:stretch/>
        </p:blipFill>
        <p:spPr>
          <a:xfrm>
            <a:off x="1143000" y="1811160"/>
            <a:ext cx="6615000" cy="4599000"/>
          </a:xfrm>
          <a:prstGeom prst="rect">
            <a:avLst/>
          </a:prstGeom>
          <a:ln w="0">
            <a:noFill/>
          </a:ln>
        </p:spPr>
      </p:pic>
      <p:sp>
        <p:nvSpPr>
          <p:cNvPr id="635" name="Text Placeholder 6"/>
          <p:cNvSpPr/>
          <p:nvPr/>
        </p:nvSpPr>
        <p:spPr>
          <a:xfrm>
            <a:off x="136440" y="1325520"/>
            <a:ext cx="81216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lta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2" descr=""/>
          <p:cNvPicPr/>
          <p:nvPr/>
        </p:nvPicPr>
        <p:blipFill>
          <a:blip r:embed="rId1"/>
          <a:stretch/>
        </p:blipFill>
        <p:spPr>
          <a:xfrm>
            <a:off x="1390680" y="1811160"/>
            <a:ext cx="6075360" cy="4637160"/>
          </a:xfrm>
          <a:prstGeom prst="rect">
            <a:avLst/>
          </a:prstGeom>
          <a:ln w="0">
            <a:noFill/>
          </a:ln>
        </p:spPr>
      </p:pic>
      <p:sp>
        <p:nvSpPr>
          <p:cNvPr id="637" name="Title 4"/>
          <p:cNvSpPr/>
          <p:nvPr/>
        </p:nvSpPr>
        <p:spPr>
          <a:xfrm>
            <a:off x="1887480" y="428760"/>
            <a:ext cx="70563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nces for functions of estim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Placeholder 6"/>
          <p:cNvSpPr/>
          <p:nvPr/>
        </p:nvSpPr>
        <p:spPr>
          <a:xfrm>
            <a:off x="136440" y="1325520"/>
            <a:ext cx="81216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lta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A299-A851-4E0A-8D47-A88FC644DD95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0" name="Object 6"/>
          <p:cNvGraphicFramePr/>
          <p:nvPr/>
        </p:nvGraphicFramePr>
        <p:xfrm>
          <a:off x="723960" y="1695600"/>
          <a:ext cx="7788240" cy="44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695600"/>
                    <a:ext cx="778824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Text Placeholder 6"/>
          <p:cNvSpPr/>
          <p:nvPr/>
        </p:nvSpPr>
        <p:spPr>
          <a:xfrm>
            <a:off x="136440" y="1325520"/>
            <a:ext cx="81216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Krinsky and Robb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itle 4"/>
          <p:cNvSpPr/>
          <p:nvPr/>
        </p:nvSpPr>
        <p:spPr>
          <a:xfrm>
            <a:off x="1887480" y="428760"/>
            <a:ext cx="70563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nces for functions of estim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654120" y="1687680"/>
            <a:ext cx="271764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5" name="Object 2"/>
          <p:cNvGraphicFramePr/>
          <p:nvPr/>
        </p:nvGraphicFramePr>
        <p:xfrm>
          <a:off x="722160" y="1887480"/>
          <a:ext cx="7461360" cy="29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2160" y="1887480"/>
                    <a:ext cx="7461360" cy="29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7" name="Text Placeholder 6"/>
          <p:cNvSpPr/>
          <p:nvPr/>
        </p:nvSpPr>
        <p:spPr>
          <a:xfrm>
            <a:off x="136440" y="1325520"/>
            <a:ext cx="81216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Krinsky and Robb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itle 4"/>
          <p:cNvSpPr/>
          <p:nvPr/>
        </p:nvSpPr>
        <p:spPr>
          <a:xfrm>
            <a:off x="1887480" y="428760"/>
            <a:ext cx="70563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nces for functions of estim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4"/>
          <p:cNvSpPr/>
          <p:nvPr/>
        </p:nvSpPr>
        <p:spPr>
          <a:xfrm>
            <a:off x="692280" y="1819440"/>
            <a:ext cx="295596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0" name="Object 2"/>
          <p:cNvGraphicFramePr/>
          <p:nvPr/>
        </p:nvGraphicFramePr>
        <p:xfrm>
          <a:off x="723960" y="1668600"/>
          <a:ext cx="670392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668600"/>
                    <a:ext cx="67039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2" name="Text Placeholder 6"/>
          <p:cNvSpPr/>
          <p:nvPr/>
        </p:nvSpPr>
        <p:spPr>
          <a:xfrm>
            <a:off x="136440" y="1325520"/>
            <a:ext cx="81216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Krinsky and Robb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itle 4"/>
          <p:cNvSpPr/>
          <p:nvPr/>
        </p:nvSpPr>
        <p:spPr>
          <a:xfrm>
            <a:off x="1887480" y="428760"/>
            <a:ext cx="70563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nces for functions of estim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4"/>
          <p:cNvSpPr/>
          <p:nvPr/>
        </p:nvSpPr>
        <p:spPr>
          <a:xfrm>
            <a:off x="692280" y="1685880"/>
            <a:ext cx="2955960" cy="29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5" name="Object 2"/>
          <p:cNvGraphicFramePr/>
          <p:nvPr/>
        </p:nvGraphicFramePr>
        <p:xfrm>
          <a:off x="727200" y="1641600"/>
          <a:ext cx="6891120" cy="46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7200" y="1641600"/>
                    <a:ext cx="689112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Text Placeholder 6"/>
          <p:cNvSpPr/>
          <p:nvPr/>
        </p:nvSpPr>
        <p:spPr>
          <a:xfrm>
            <a:off x="136440" y="1325520"/>
            <a:ext cx="81216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Krinsky and Robb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itle 4"/>
          <p:cNvSpPr/>
          <p:nvPr/>
        </p:nvSpPr>
        <p:spPr>
          <a:xfrm>
            <a:off x="1887480" y="428760"/>
            <a:ext cx="70563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nces for functions of estim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692280" y="1685880"/>
            <a:ext cx="2955960" cy="29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2" descr=""/>
          <p:cNvPicPr/>
          <p:nvPr/>
        </p:nvPicPr>
        <p:blipFill>
          <a:blip r:embed="rId1"/>
          <a:stretch/>
        </p:blipFill>
        <p:spPr>
          <a:xfrm>
            <a:off x="271440" y="2166840"/>
            <a:ext cx="8599680" cy="2671920"/>
          </a:xfrm>
          <a:prstGeom prst="rect">
            <a:avLst/>
          </a:prstGeom>
          <a:ln w="0">
            <a:noFill/>
          </a:ln>
        </p:spPr>
      </p:pic>
      <p:sp>
        <p:nvSpPr>
          <p:cNvPr id="661" name="Text Placeholder 6"/>
          <p:cNvSpPr/>
          <p:nvPr/>
        </p:nvSpPr>
        <p:spPr>
          <a:xfrm>
            <a:off x="136440" y="1325520"/>
            <a:ext cx="81216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Krinsky and Robb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itle 4"/>
          <p:cNvSpPr/>
          <p:nvPr/>
        </p:nvSpPr>
        <p:spPr>
          <a:xfrm>
            <a:off x="1887480" y="428760"/>
            <a:ext cx="70563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nces for functions of estim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"/>
          <p:cNvPicPr/>
          <p:nvPr/>
        </p:nvPicPr>
        <p:blipFill>
          <a:blip r:embed="rId1"/>
          <a:stretch/>
        </p:blipFill>
        <p:spPr>
          <a:xfrm>
            <a:off x="237960" y="2119320"/>
            <a:ext cx="8750520" cy="3595680"/>
          </a:xfrm>
          <a:prstGeom prst="rect">
            <a:avLst/>
          </a:prstGeom>
          <a:ln w="0">
            <a:noFill/>
          </a:ln>
        </p:spPr>
      </p:pic>
      <p:sp>
        <p:nvSpPr>
          <p:cNvPr id="664" name="Text Placeholder 6"/>
          <p:cNvSpPr/>
          <p:nvPr/>
        </p:nvSpPr>
        <p:spPr>
          <a:xfrm>
            <a:off x="136440" y="1325520"/>
            <a:ext cx="81216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Krinsky and Robb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itle 4"/>
          <p:cNvSpPr/>
          <p:nvPr/>
        </p:nvSpPr>
        <p:spPr>
          <a:xfrm>
            <a:off x="1887480" y="428760"/>
            <a:ext cx="70563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nces for functions of estim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82296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rror Components Logit Mode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8" name="Object 2"/>
          <p:cNvGraphicFramePr/>
          <p:nvPr/>
        </p:nvGraphicFramePr>
        <p:xfrm>
          <a:off x="352440" y="1682640"/>
          <a:ext cx="8458200" cy="14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1682640"/>
                    <a:ext cx="8458200" cy="14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ning example:  Shoe brand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3" descr=""/>
          <p:cNvPicPr/>
          <p:nvPr/>
        </p:nvPicPr>
        <p:blipFill>
          <a:blip r:embed="rId3"/>
          <a:stretch/>
        </p:blipFill>
        <p:spPr>
          <a:xfrm>
            <a:off x="671400" y="3324240"/>
            <a:ext cx="7831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"/>
          <p:cNvPicPr/>
          <p:nvPr/>
        </p:nvPicPr>
        <p:blipFill>
          <a:blip r:embed="rId1"/>
          <a:stretch/>
        </p:blipFill>
        <p:spPr>
          <a:xfrm>
            <a:off x="271440" y="1571760"/>
            <a:ext cx="8650440" cy="4695840"/>
          </a:xfrm>
          <a:prstGeom prst="rect">
            <a:avLst/>
          </a:prstGeom>
          <a:ln w="0">
            <a:noFill/>
          </a:ln>
        </p:spPr>
      </p:pic>
      <p:sp>
        <p:nvSpPr>
          <p:cNvPr id="463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ning example:  Shoe brand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eses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ests of nested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240840" y="1923840"/>
            <a:ext cx="7750440" cy="39718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ted hypo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Null model is restri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Alternative model is unrestri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triction is some restriction on values of the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R te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 squared = 2*[Log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 Log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 &gt;  0 by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grees of freedom = number of restri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 squared critical values from standard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sted tests: Likelihood ratio (LR)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A559-6FE6-447C-A429-AAB7F2DEE31A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2C31-8461-459D-A3F6-CD5B1260DACA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887120" y="428400"/>
            <a:ext cx="705636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ests of nested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2" name="Object 2"/>
          <p:cNvGraphicFramePr/>
          <p:nvPr/>
        </p:nvGraphicFramePr>
        <p:xfrm>
          <a:off x="352440" y="2006640"/>
          <a:ext cx="8458200" cy="14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2006640"/>
                    <a:ext cx="8458200" cy="14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Rectangle 6"/>
          <p:cNvSpPr/>
          <p:nvPr/>
        </p:nvSpPr>
        <p:spPr>
          <a:xfrm>
            <a:off x="6819840" y="2048040"/>
            <a:ext cx="933480" cy="1056960"/>
          </a:xfrm>
          <a:prstGeom prst="rect">
            <a:avLst/>
          </a:prstGeom>
          <a:solidFill>
            <a:srgbClr val="ce1126">
              <a:alpha val="20000"/>
            </a:srgbClr>
          </a:solidFill>
          <a:ln w="25560">
            <a:solidFill>
              <a:srgbClr val="970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7"/>
          <p:cNvSpPr/>
          <p:nvPr/>
        </p:nvSpPr>
        <p:spPr>
          <a:xfrm>
            <a:off x="390600" y="3666960"/>
            <a:ext cx="826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Coefficients on Male are all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Placeholder 6"/>
          <p:cNvSpPr/>
          <p:nvPr/>
        </p:nvSpPr>
        <p:spPr>
          <a:xfrm>
            <a:off x="155520" y="1278000"/>
            <a:ext cx="86630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Nested tests: Likelihood ratio (LR)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23:28:42Z</dcterms:created>
  <dc:creator>PresentationStudio.com</dc:creator>
  <dc:description/>
  <dc:language>en-US</dc:language>
  <cp:lastModifiedBy>Andrew Collins</cp:lastModifiedBy>
  <dcterms:modified xsi:type="dcterms:W3CDTF">2014-08-04T01:26:23Z</dcterms:modified>
  <cp:revision>772</cp:revision>
  <dc:subject/>
  <dc:title>UNIS Template</dc:title>
</cp:coreProperties>
</file>