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22B22-0251-4127-92A6-A5AA92D77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47" name="PlaceHolder 2"/>
          <p:cNvSpPr>
            <a:spLocks noGrp="1"/>
          </p:cNvSpPr>
          <p:nvPr>
            <p:ph/>
          </p:nvPr>
        </p:nvSpPr>
        <p:spPr>
          <a:xfrm>
            <a:off x="9907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8" name="PlaceHolder 3"/>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21C6-06A4-447D-9DD0-1BDB1F8C0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50"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1"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2"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3" name="PlaceHolder 5"/>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BF79B-1BDF-4CC2-9A10-7AFD66C2A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55" name="PlaceHolder 2"/>
          <p:cNvSpPr>
            <a:spLocks noGrp="1"/>
          </p:cNvSpPr>
          <p:nvPr>
            <p:ph/>
          </p:nvPr>
        </p:nvSpPr>
        <p:spPr>
          <a:xfrm>
            <a:off x="990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6" name="PlaceHolder 3"/>
          <p:cNvSpPr>
            <a:spLocks noGrp="1"/>
          </p:cNvSpPr>
          <p:nvPr>
            <p:ph/>
          </p:nvPr>
        </p:nvSpPr>
        <p:spPr>
          <a:xfrm>
            <a:off x="3618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7" name="PlaceHolder 4"/>
          <p:cNvSpPr>
            <a:spLocks noGrp="1"/>
          </p:cNvSpPr>
          <p:nvPr>
            <p:ph/>
          </p:nvPr>
        </p:nvSpPr>
        <p:spPr>
          <a:xfrm>
            <a:off x="62463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8" name="PlaceHolder 5"/>
          <p:cNvSpPr>
            <a:spLocks noGrp="1"/>
          </p:cNvSpPr>
          <p:nvPr>
            <p:ph/>
          </p:nvPr>
        </p:nvSpPr>
        <p:spPr>
          <a:xfrm>
            <a:off x="990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9" name="PlaceHolder 6"/>
          <p:cNvSpPr>
            <a:spLocks noGrp="1"/>
          </p:cNvSpPr>
          <p:nvPr>
            <p:ph/>
          </p:nvPr>
        </p:nvSpPr>
        <p:spPr>
          <a:xfrm>
            <a:off x="3618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0" name="PlaceHolder 7"/>
          <p:cNvSpPr>
            <a:spLocks noGrp="1"/>
          </p:cNvSpPr>
          <p:nvPr>
            <p:ph/>
          </p:nvPr>
        </p:nvSpPr>
        <p:spPr>
          <a:xfrm>
            <a:off x="62463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D0EE4-A3BA-4B4E-9AE6-DDB1E9967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26" name="PlaceHolder 2"/>
          <p:cNvSpPr>
            <a:spLocks noGrp="1"/>
          </p:cNvSpPr>
          <p:nvPr>
            <p:ph type="subTitle"/>
          </p:nvPr>
        </p:nvSpPr>
        <p:spPr>
          <a:xfrm>
            <a:off x="9907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F5C7-D88F-4AB1-8573-CFF50197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2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6E1F-24F1-4AA1-ABB1-D9DE338DC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0"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1"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3D33-9186-419E-BFCF-8D6AA5E67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DBFF5-8356-4C04-8CB5-5DC78D01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9907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F2F6-C3FE-46DD-83A3-3CD2AA5B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5"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6"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7"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21EF-6D4D-4AA3-B346-27F52838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9"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0"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1" name="PlaceHolder 4"/>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1DE7-6E20-4320-875D-9EBFD2DF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43"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4"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5" name="PlaceHolder 4"/>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8D8A-E04E-4020-8B07-1C5B8845D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Click to edit the title text format</a:t>
            </a:r>
            <a:endParaRPr b="0" lang="en-US" sz="4400" spc="-1" strike="noStrike">
              <a:solidFill>
                <a:srgbClr val="c31919"/>
              </a:solidFill>
              <a:latin typeface="Comic Sans MS"/>
            </a:endParaRPr>
          </a:p>
        </p:txBody>
      </p:sp>
      <p:sp>
        <p:nvSpPr>
          <p:cNvPr id="1" name="PlaceHolder 2"/>
          <p:cNvSpPr>
            <a:spLocks noGrp="1"/>
          </p:cNvSpPr>
          <p:nvPr>
            <p:ph type="body"/>
          </p:nvPr>
        </p:nvSpPr>
        <p:spPr>
          <a:xfrm>
            <a:off x="9907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Click to edit the outline text format</a:t>
            </a:r>
            <a:endParaRPr b="0" lang="en-US" sz="3200" spc="-1" strike="noStrike">
              <a:solidFill>
                <a:srgbClr val="c31919"/>
              </a:solidFill>
              <a:latin typeface="Comic Sans MS"/>
            </a:endParaRPr>
          </a:p>
          <a:p>
            <a:pPr lvl="1" marL="735480" indent="-28296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econd Outline Level</a:t>
            </a:r>
            <a:endParaRPr b="0" lang="en-US" sz="3200" spc="-1" strike="noStrike">
              <a:solidFill>
                <a:srgbClr val="c31919"/>
              </a:solidFill>
              <a:latin typeface="Comic Sans MS"/>
            </a:endParaRPr>
          </a:p>
          <a:p>
            <a:pPr lvl="2" marL="113148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Third Outline Level</a:t>
            </a:r>
            <a:endParaRPr b="0" lang="en-US" sz="3200" spc="-1" strike="noStrike">
              <a:solidFill>
                <a:srgbClr val="c31919"/>
              </a:solidFill>
              <a:latin typeface="Comic Sans MS"/>
            </a:endParaRPr>
          </a:p>
          <a:p>
            <a:pPr lvl="3" marL="158400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Fourth Outline Level</a:t>
            </a:r>
            <a:endParaRPr b="0" lang="en-US" sz="3200" spc="-1" strike="noStrike">
              <a:solidFill>
                <a:srgbClr val="c31919"/>
              </a:solidFill>
              <a:latin typeface="Comic Sans MS"/>
            </a:endParaRPr>
          </a:p>
          <a:p>
            <a:pPr lvl="4"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Fifth Outline Level</a:t>
            </a:r>
            <a:endParaRPr b="0" lang="en-US" sz="3200" spc="-1" strike="noStrike">
              <a:solidFill>
                <a:srgbClr val="c31919"/>
              </a:solidFill>
              <a:latin typeface="Comic Sans MS"/>
            </a:endParaRPr>
          </a:p>
          <a:p>
            <a:pPr lvl="5"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ixth Outline Level</a:t>
            </a:r>
            <a:endParaRPr b="0" lang="en-US" sz="3200" spc="-1" strike="noStrike">
              <a:solidFill>
                <a:srgbClr val="c31919"/>
              </a:solidFill>
              <a:latin typeface="Comic Sans MS"/>
            </a:endParaRPr>
          </a:p>
          <a:p>
            <a:pPr lvl="6"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eventh Outline Level</a:t>
            </a:r>
            <a:endParaRPr b="0" lang="en-US" sz="3200" spc="-1" strike="noStrike">
              <a:solidFill>
                <a:srgbClr val="c31919"/>
              </a:solidFill>
              <a:latin typeface="Comic Sans MS"/>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31919"/>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31919"/>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A070-A0BF-4553-9DC0-DAD8922C07BD}" type="slidenum">
              <a:rPr b="0" lang="en-US" sz="1400" spc="-1" strike="noStrike">
                <a:solidFill>
                  <a:srgbClr val="c31919"/>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114480" y="457200"/>
            <a:ext cx="838080" cy="685800"/>
            <a:chOff x="114480" y="457200"/>
            <a:chExt cx="838080" cy="685800"/>
          </a:xfrm>
        </p:grpSpPr>
        <p:sp>
          <p:nvSpPr>
            <p:cNvPr id="6" name=""/>
            <p:cNvSpPr/>
            <p:nvPr/>
          </p:nvSpPr>
          <p:spPr>
            <a:xfrm>
              <a:off x="114480" y="53352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7" name=""/>
            <p:cNvSpPr/>
            <p:nvPr/>
          </p:nvSpPr>
          <p:spPr>
            <a:xfrm flipV="1">
              <a:off x="114480" y="45720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 name=""/>
            <p:cNvSpPr/>
            <p:nvPr/>
          </p:nvSpPr>
          <p:spPr>
            <a:xfrm>
              <a:off x="342720" y="68580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9" name=""/>
          <p:cNvGrpSpPr/>
          <p:nvPr/>
        </p:nvGrpSpPr>
        <p:grpSpPr>
          <a:xfrm>
            <a:off x="114480" y="1695600"/>
            <a:ext cx="838080" cy="685800"/>
            <a:chOff x="114480" y="1695600"/>
            <a:chExt cx="838080" cy="685800"/>
          </a:xfrm>
        </p:grpSpPr>
        <p:sp>
          <p:nvSpPr>
            <p:cNvPr id="10" name=""/>
            <p:cNvSpPr/>
            <p:nvPr/>
          </p:nvSpPr>
          <p:spPr>
            <a:xfrm>
              <a:off x="114480" y="177192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1" name=""/>
            <p:cNvSpPr/>
            <p:nvPr/>
          </p:nvSpPr>
          <p:spPr>
            <a:xfrm flipV="1">
              <a:off x="114480" y="169560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12" name=""/>
            <p:cNvSpPr/>
            <p:nvPr/>
          </p:nvSpPr>
          <p:spPr>
            <a:xfrm>
              <a:off x="342720" y="192420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13" name=""/>
          <p:cNvGrpSpPr/>
          <p:nvPr/>
        </p:nvGrpSpPr>
        <p:grpSpPr>
          <a:xfrm>
            <a:off x="114480" y="2933640"/>
            <a:ext cx="838080" cy="685800"/>
            <a:chOff x="114480" y="2933640"/>
            <a:chExt cx="838080" cy="685800"/>
          </a:xfrm>
        </p:grpSpPr>
        <p:sp>
          <p:nvSpPr>
            <p:cNvPr id="14" name=""/>
            <p:cNvSpPr/>
            <p:nvPr/>
          </p:nvSpPr>
          <p:spPr>
            <a:xfrm>
              <a:off x="114480" y="300996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5" name=""/>
            <p:cNvSpPr/>
            <p:nvPr/>
          </p:nvSpPr>
          <p:spPr>
            <a:xfrm flipV="1">
              <a:off x="114480" y="293364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16" name=""/>
            <p:cNvSpPr/>
            <p:nvPr/>
          </p:nvSpPr>
          <p:spPr>
            <a:xfrm>
              <a:off x="342720" y="316224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17" name=""/>
          <p:cNvGrpSpPr/>
          <p:nvPr/>
        </p:nvGrpSpPr>
        <p:grpSpPr>
          <a:xfrm>
            <a:off x="114480" y="4172040"/>
            <a:ext cx="838080" cy="685800"/>
            <a:chOff x="114480" y="4172040"/>
            <a:chExt cx="838080" cy="685800"/>
          </a:xfrm>
        </p:grpSpPr>
        <p:sp>
          <p:nvSpPr>
            <p:cNvPr id="18" name=""/>
            <p:cNvSpPr/>
            <p:nvPr/>
          </p:nvSpPr>
          <p:spPr>
            <a:xfrm>
              <a:off x="114480" y="424836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9" name=""/>
            <p:cNvSpPr/>
            <p:nvPr/>
          </p:nvSpPr>
          <p:spPr>
            <a:xfrm flipV="1">
              <a:off x="114480" y="417204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20" name=""/>
            <p:cNvSpPr/>
            <p:nvPr/>
          </p:nvSpPr>
          <p:spPr>
            <a:xfrm>
              <a:off x="342720" y="440064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21" name=""/>
          <p:cNvGrpSpPr/>
          <p:nvPr/>
        </p:nvGrpSpPr>
        <p:grpSpPr>
          <a:xfrm>
            <a:off x="114480" y="5410080"/>
            <a:ext cx="838080" cy="685800"/>
            <a:chOff x="114480" y="5410080"/>
            <a:chExt cx="838080" cy="685800"/>
          </a:xfrm>
        </p:grpSpPr>
        <p:sp>
          <p:nvSpPr>
            <p:cNvPr id="22" name=""/>
            <p:cNvSpPr/>
            <p:nvPr/>
          </p:nvSpPr>
          <p:spPr>
            <a:xfrm>
              <a:off x="114480" y="548640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23" name=""/>
            <p:cNvSpPr/>
            <p:nvPr/>
          </p:nvSpPr>
          <p:spPr>
            <a:xfrm flipV="1">
              <a:off x="114480" y="541008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24" name=""/>
            <p:cNvSpPr/>
            <p:nvPr/>
          </p:nvSpPr>
          <p:spPr>
            <a:xfrm>
              <a:off x="342720" y="563868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DMC Matching Service</a:t>
            </a:r>
            <a:endParaRPr b="0" lang="en-US" sz="4400" spc="-1" strike="noStrike">
              <a:solidFill>
                <a:srgbClr val="c31919"/>
              </a:solidFill>
              <a:latin typeface="Comic Sans MS"/>
            </a:endParaRPr>
          </a:p>
        </p:txBody>
      </p:sp>
      <p:sp>
        <p:nvSpPr>
          <p:cNvPr id="62" name="PlaceHolder 2"/>
          <p:cNvSpPr>
            <a:spLocks noGrp="1"/>
          </p:cNvSpPr>
          <p:nvPr>
            <p:ph/>
          </p:nvPr>
        </p:nvSpPr>
        <p:spPr>
          <a:xfrm>
            <a:off x="990720" y="3276360"/>
            <a:ext cx="7772400" cy="25146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31919"/>
                </a:solidFill>
                <a:latin typeface="Comic Sans MS"/>
              </a:rPr>
              <a:t>Provided to you by:</a:t>
            </a:r>
            <a:endParaRPr b="0" lang="en-US" sz="26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Hila Ziv</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Gabrielle Soria</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Paranthaman Ramakrishnan</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Steven McSorley</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Edward Ha</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Moshe Banin</a:t>
            </a:r>
            <a:endParaRPr b="0" lang="en-US" sz="2200" spc="-1" strike="noStrike">
              <a:solidFill>
                <a:srgbClr val="c3191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Take Away Points</a:t>
            </a:r>
            <a:endParaRPr b="0" lang="en-US" sz="4400" spc="-1" strike="noStrike">
              <a:solidFill>
                <a:srgbClr val="c31919"/>
              </a:solidFill>
              <a:latin typeface="Comic Sans MS"/>
            </a:endParaRPr>
          </a:p>
        </p:txBody>
      </p:sp>
      <p:sp>
        <p:nvSpPr>
          <p:cNvPr id="133"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Need to set up model before you send  the questionnaire.</a:t>
            </a: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29040" indent="-32904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If you want to know how much time you are going to need for the project, analyze what you need to do give it your best estimate and multiply that number by five.</a:t>
            </a: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Stern Dating Service? </a:t>
            </a:r>
            <a:endParaRPr b="0" lang="en-US" sz="4400" spc="-1" strike="noStrike">
              <a:solidFill>
                <a:srgbClr val="c31919"/>
              </a:solidFill>
              <a:latin typeface="Comic Sans MS"/>
            </a:endParaRPr>
          </a:p>
        </p:txBody>
      </p:sp>
      <p:sp>
        <p:nvSpPr>
          <p:cNvPr id="64" name=""/>
          <p:cNvSpPr/>
          <p:nvPr/>
        </p:nvSpPr>
        <p:spPr>
          <a:xfrm>
            <a:off x="617400" y="2021040"/>
            <a:ext cx="40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Very Little Free Time</a:t>
            </a:r>
            <a:endParaRPr b="0" lang="en-US" sz="2800" spc="-1" strike="noStrike">
              <a:solidFill>
                <a:srgbClr val="c31919"/>
              </a:solidFill>
              <a:latin typeface="Times New Roman"/>
            </a:endParaRPr>
          </a:p>
        </p:txBody>
      </p:sp>
      <p:sp>
        <p:nvSpPr>
          <p:cNvPr id="65" name=""/>
          <p:cNvSpPr/>
          <p:nvPr/>
        </p:nvSpPr>
        <p:spPr>
          <a:xfrm>
            <a:off x="685800" y="37339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Non MBA people think</a:t>
            </a:r>
            <a:endParaRPr b="0" lang="en-US" sz="28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we are boring</a:t>
            </a:r>
            <a:endParaRPr b="0" lang="en-US" sz="2800" spc="-1" strike="noStrike">
              <a:solidFill>
                <a:srgbClr val="c31919"/>
              </a:solidFill>
              <a:latin typeface="Times New Roman"/>
            </a:endParaRPr>
          </a:p>
        </p:txBody>
      </p:sp>
      <p:grpSp>
        <p:nvGrpSpPr>
          <p:cNvPr id="66" name=""/>
          <p:cNvGrpSpPr/>
          <p:nvPr/>
        </p:nvGrpSpPr>
        <p:grpSpPr>
          <a:xfrm>
            <a:off x="4038480" y="1905120"/>
            <a:ext cx="4876920" cy="2819160"/>
            <a:chOff x="4038480" y="1905120"/>
            <a:chExt cx="4876920" cy="2819160"/>
          </a:xfrm>
        </p:grpSpPr>
        <p:sp>
          <p:nvSpPr>
            <p:cNvPr id="67" name=""/>
            <p:cNvSpPr/>
            <p:nvPr/>
          </p:nvSpPr>
          <p:spPr>
            <a:xfrm>
              <a:off x="5486400" y="2057400"/>
              <a:ext cx="3124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Prime Market for a</a:t>
              </a:r>
              <a:endParaRPr b="0" lang="en-US" sz="4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ating Service</a:t>
              </a:r>
              <a:endParaRPr b="0" lang="en-US" sz="4000" spc="-1" strike="noStrike">
                <a:solidFill>
                  <a:srgbClr val="c31919"/>
                </a:solidFill>
                <a:latin typeface="Times New Roman"/>
              </a:endParaRPr>
            </a:p>
          </p:txBody>
        </p:sp>
        <p:sp>
          <p:nvSpPr>
            <p:cNvPr id="68" name=""/>
            <p:cNvSpPr/>
            <p:nvPr/>
          </p:nvSpPr>
          <p:spPr>
            <a:xfrm>
              <a:off x="4038480" y="2438280"/>
              <a:ext cx="990720" cy="1143000"/>
            </a:xfrm>
            <a:prstGeom prst="rightArrow">
              <a:avLst>
                <a:gd name="adj1" fmla="val 50000"/>
                <a:gd name="adj2" fmla="val 25000"/>
              </a:avLst>
            </a:prstGeom>
            <a:solidFill>
              <a:srgbClr val="3366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69" name=""/>
            <p:cNvSpPr/>
            <p:nvPr/>
          </p:nvSpPr>
          <p:spPr>
            <a:xfrm>
              <a:off x="5181480" y="1905120"/>
              <a:ext cx="3733920" cy="281916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66"/>
                                        </p:tgtEl>
                                        <p:attrNameLst>
                                          <p:attrName>style.visibility</p:attrName>
                                        </p:attrNameLst>
                                      </p:cBhvr>
                                      <p:to>
                                        <p:strVal val="visible"/>
                                      </p:to>
                                    </p:set>
                                    <p:animEffect filter="wipe(left)" transition="in">
                                      <p:cBhvr additive="repl">
                                        <p:cTn id="1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Today’s Discussion</a:t>
            </a:r>
            <a:endParaRPr b="0" lang="en-US" sz="4400" spc="-1" strike="noStrike">
              <a:solidFill>
                <a:srgbClr val="c31919"/>
              </a:solidFill>
              <a:latin typeface="Comic Sans MS"/>
            </a:endParaRPr>
          </a:p>
        </p:txBody>
      </p:sp>
      <p:grpSp>
        <p:nvGrpSpPr>
          <p:cNvPr id="71" name=""/>
          <p:cNvGrpSpPr/>
          <p:nvPr/>
        </p:nvGrpSpPr>
        <p:grpSpPr>
          <a:xfrm>
            <a:off x="1440000" y="1295280"/>
            <a:ext cx="3360600" cy="2727360"/>
            <a:chOff x="1440000" y="1295280"/>
            <a:chExt cx="3360600" cy="2727360"/>
          </a:xfrm>
        </p:grpSpPr>
        <p:sp>
          <p:nvSpPr>
            <p:cNvPr id="72" name=""/>
            <p:cNvSpPr/>
            <p:nvPr/>
          </p:nvSpPr>
          <p:spPr>
            <a:xfrm>
              <a:off x="1440000" y="1295280"/>
              <a:ext cx="3360600" cy="2727360"/>
            </a:xfrm>
            <a:custGeom>
              <a:avLst/>
              <a:gdLst/>
              <a:ahLst/>
              <a:rect l="l" t="t" r="r" b="b"/>
              <a:pathLst>
                <a:path w="2117" h="1718">
                  <a:moveTo>
                    <a:pt x="2117" y="428"/>
                  </a:moveTo>
                  <a:lnTo>
                    <a:pt x="2117" y="0"/>
                  </a:lnTo>
                  <a:lnTo>
                    <a:pt x="0" y="0"/>
                  </a:lnTo>
                  <a:lnTo>
                    <a:pt x="2" y="1718"/>
                  </a:lnTo>
                  <a:lnTo>
                    <a:pt x="190" y="1718"/>
                  </a:lnTo>
                  <a:lnTo>
                    <a:pt x="199" y="1686"/>
                  </a:lnTo>
                  <a:lnTo>
                    <a:pt x="199" y="1662"/>
                  </a:lnTo>
                  <a:lnTo>
                    <a:pt x="194" y="1629"/>
                  </a:lnTo>
                  <a:lnTo>
                    <a:pt x="183" y="1594"/>
                  </a:lnTo>
                  <a:lnTo>
                    <a:pt x="172" y="1552"/>
                  </a:lnTo>
                  <a:lnTo>
                    <a:pt x="166" y="1519"/>
                  </a:lnTo>
                  <a:lnTo>
                    <a:pt x="164" y="1490"/>
                  </a:lnTo>
                  <a:lnTo>
                    <a:pt x="170" y="1457"/>
                  </a:lnTo>
                  <a:lnTo>
                    <a:pt x="179" y="1426"/>
                  </a:lnTo>
                  <a:lnTo>
                    <a:pt x="199" y="1395"/>
                  </a:lnTo>
                  <a:lnTo>
                    <a:pt x="223" y="1371"/>
                  </a:lnTo>
                  <a:lnTo>
                    <a:pt x="248" y="1347"/>
                  </a:lnTo>
                  <a:lnTo>
                    <a:pt x="278" y="1331"/>
                  </a:lnTo>
                  <a:lnTo>
                    <a:pt x="312" y="1316"/>
                  </a:lnTo>
                  <a:lnTo>
                    <a:pt x="343" y="1311"/>
                  </a:lnTo>
                  <a:lnTo>
                    <a:pt x="387" y="1309"/>
                  </a:lnTo>
                  <a:lnTo>
                    <a:pt x="439" y="1313"/>
                  </a:lnTo>
                  <a:lnTo>
                    <a:pt x="471" y="1316"/>
                  </a:lnTo>
                  <a:lnTo>
                    <a:pt x="501" y="1325"/>
                  </a:lnTo>
                  <a:lnTo>
                    <a:pt x="528" y="1342"/>
                  </a:lnTo>
                  <a:lnTo>
                    <a:pt x="563" y="1369"/>
                  </a:lnTo>
                  <a:lnTo>
                    <a:pt x="585" y="1395"/>
                  </a:lnTo>
                  <a:lnTo>
                    <a:pt x="605" y="1422"/>
                  </a:lnTo>
                  <a:lnTo>
                    <a:pt x="616" y="1452"/>
                  </a:lnTo>
                  <a:lnTo>
                    <a:pt x="623" y="1479"/>
                  </a:lnTo>
                  <a:lnTo>
                    <a:pt x="623" y="1510"/>
                  </a:lnTo>
                  <a:lnTo>
                    <a:pt x="619" y="1541"/>
                  </a:lnTo>
                  <a:lnTo>
                    <a:pt x="612" y="1570"/>
                  </a:lnTo>
                  <a:lnTo>
                    <a:pt x="605" y="1598"/>
                  </a:lnTo>
                  <a:lnTo>
                    <a:pt x="596" y="1627"/>
                  </a:lnTo>
                  <a:lnTo>
                    <a:pt x="590" y="1656"/>
                  </a:lnTo>
                  <a:lnTo>
                    <a:pt x="590" y="1682"/>
                  </a:lnTo>
                  <a:lnTo>
                    <a:pt x="598" y="1711"/>
                  </a:lnTo>
                  <a:lnTo>
                    <a:pt x="952" y="1711"/>
                  </a:lnTo>
                  <a:lnTo>
                    <a:pt x="949" y="1651"/>
                  </a:lnTo>
                  <a:lnTo>
                    <a:pt x="952" y="1607"/>
                  </a:lnTo>
                  <a:lnTo>
                    <a:pt x="952" y="1574"/>
                  </a:lnTo>
                  <a:lnTo>
                    <a:pt x="954" y="1543"/>
                  </a:lnTo>
                  <a:lnTo>
                    <a:pt x="958" y="1510"/>
                  </a:lnTo>
                  <a:lnTo>
                    <a:pt x="965" y="1477"/>
                  </a:lnTo>
                  <a:lnTo>
                    <a:pt x="974" y="1455"/>
                  </a:lnTo>
                  <a:lnTo>
                    <a:pt x="987" y="1435"/>
                  </a:lnTo>
                  <a:lnTo>
                    <a:pt x="1005" y="1419"/>
                  </a:lnTo>
                  <a:lnTo>
                    <a:pt x="1025" y="1406"/>
                  </a:lnTo>
                  <a:lnTo>
                    <a:pt x="1049" y="1399"/>
                  </a:lnTo>
                  <a:lnTo>
                    <a:pt x="1075" y="1395"/>
                  </a:lnTo>
                  <a:lnTo>
                    <a:pt x="1098" y="1393"/>
                  </a:lnTo>
                  <a:lnTo>
                    <a:pt x="1129" y="1393"/>
                  </a:lnTo>
                  <a:lnTo>
                    <a:pt x="1159" y="1395"/>
                  </a:lnTo>
                  <a:lnTo>
                    <a:pt x="1183" y="1399"/>
                  </a:lnTo>
                  <a:lnTo>
                    <a:pt x="1214" y="1400"/>
                  </a:lnTo>
                  <a:lnTo>
                    <a:pt x="1246" y="1404"/>
                  </a:lnTo>
                  <a:lnTo>
                    <a:pt x="1283" y="1404"/>
                  </a:lnTo>
                  <a:lnTo>
                    <a:pt x="1314" y="1400"/>
                  </a:lnTo>
                  <a:lnTo>
                    <a:pt x="1345" y="1395"/>
                  </a:lnTo>
                  <a:lnTo>
                    <a:pt x="1378" y="1388"/>
                  </a:lnTo>
                  <a:lnTo>
                    <a:pt x="1402" y="1375"/>
                  </a:lnTo>
                  <a:lnTo>
                    <a:pt x="1427" y="1358"/>
                  </a:lnTo>
                  <a:lnTo>
                    <a:pt x="1444" y="1336"/>
                  </a:lnTo>
                  <a:lnTo>
                    <a:pt x="1460" y="1313"/>
                  </a:lnTo>
                  <a:lnTo>
                    <a:pt x="1468" y="1289"/>
                  </a:lnTo>
                  <a:lnTo>
                    <a:pt x="1471" y="1261"/>
                  </a:lnTo>
                  <a:lnTo>
                    <a:pt x="1468" y="1234"/>
                  </a:lnTo>
                  <a:lnTo>
                    <a:pt x="1466" y="1205"/>
                  </a:lnTo>
                  <a:lnTo>
                    <a:pt x="1468" y="1174"/>
                  </a:lnTo>
                  <a:lnTo>
                    <a:pt x="1473" y="1150"/>
                  </a:lnTo>
                  <a:lnTo>
                    <a:pt x="1480" y="1124"/>
                  </a:lnTo>
                  <a:lnTo>
                    <a:pt x="1491" y="1101"/>
                  </a:lnTo>
                  <a:lnTo>
                    <a:pt x="1506" y="1084"/>
                  </a:lnTo>
                  <a:lnTo>
                    <a:pt x="1530" y="1068"/>
                  </a:lnTo>
                  <a:lnTo>
                    <a:pt x="1559" y="1057"/>
                  </a:lnTo>
                  <a:lnTo>
                    <a:pt x="1588" y="1048"/>
                  </a:lnTo>
                  <a:lnTo>
                    <a:pt x="1616" y="1040"/>
                  </a:lnTo>
                  <a:lnTo>
                    <a:pt x="1645" y="1033"/>
                  </a:lnTo>
                  <a:lnTo>
                    <a:pt x="1683" y="1026"/>
                  </a:lnTo>
                  <a:lnTo>
                    <a:pt x="1713" y="1020"/>
                  </a:lnTo>
                  <a:lnTo>
                    <a:pt x="1744" y="1011"/>
                  </a:lnTo>
                  <a:lnTo>
                    <a:pt x="1769" y="1002"/>
                  </a:lnTo>
                  <a:lnTo>
                    <a:pt x="1795" y="991"/>
                  </a:lnTo>
                  <a:lnTo>
                    <a:pt x="1815" y="976"/>
                  </a:lnTo>
                  <a:lnTo>
                    <a:pt x="1833" y="962"/>
                  </a:lnTo>
                  <a:lnTo>
                    <a:pt x="1853" y="938"/>
                  </a:lnTo>
                  <a:lnTo>
                    <a:pt x="1866" y="916"/>
                  </a:lnTo>
                  <a:lnTo>
                    <a:pt x="1877" y="890"/>
                  </a:lnTo>
                  <a:lnTo>
                    <a:pt x="1883" y="857"/>
                  </a:lnTo>
                  <a:lnTo>
                    <a:pt x="1879" y="830"/>
                  </a:lnTo>
                  <a:lnTo>
                    <a:pt x="1875" y="801"/>
                  </a:lnTo>
                  <a:lnTo>
                    <a:pt x="1866" y="766"/>
                  </a:lnTo>
                  <a:lnTo>
                    <a:pt x="1857" y="728"/>
                  </a:lnTo>
                  <a:lnTo>
                    <a:pt x="1848" y="693"/>
                  </a:lnTo>
                  <a:lnTo>
                    <a:pt x="1846" y="666"/>
                  </a:lnTo>
                  <a:lnTo>
                    <a:pt x="1846" y="640"/>
                  </a:lnTo>
                  <a:lnTo>
                    <a:pt x="1850" y="605"/>
                  </a:lnTo>
                  <a:lnTo>
                    <a:pt x="1859" y="576"/>
                  </a:lnTo>
                  <a:lnTo>
                    <a:pt x="1868" y="554"/>
                  </a:lnTo>
                  <a:lnTo>
                    <a:pt x="1881" y="532"/>
                  </a:lnTo>
                  <a:lnTo>
                    <a:pt x="1899" y="508"/>
                  </a:lnTo>
                  <a:lnTo>
                    <a:pt x="1919" y="485"/>
                  </a:lnTo>
                  <a:lnTo>
                    <a:pt x="1945" y="464"/>
                  </a:lnTo>
                  <a:lnTo>
                    <a:pt x="1972" y="448"/>
                  </a:lnTo>
                  <a:lnTo>
                    <a:pt x="1998" y="439"/>
                  </a:lnTo>
                  <a:lnTo>
                    <a:pt x="2023" y="432"/>
                  </a:lnTo>
                  <a:lnTo>
                    <a:pt x="2051" y="428"/>
                  </a:lnTo>
                  <a:lnTo>
                    <a:pt x="2084" y="428"/>
                  </a:lnTo>
                  <a:lnTo>
                    <a:pt x="2117" y="428"/>
                  </a:lnTo>
                  <a:close/>
                </a:path>
              </a:pathLst>
            </a:custGeom>
            <a:solidFill>
              <a:srgbClr val="00808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3" name=""/>
            <p:cNvSpPr/>
            <p:nvPr/>
          </p:nvSpPr>
          <p:spPr>
            <a:xfrm>
              <a:off x="1449360" y="1600200"/>
              <a:ext cx="243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Reason For our</a:t>
              </a:r>
              <a:endParaRPr b="0" lang="en-US" sz="24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Business</a:t>
              </a:r>
              <a:endParaRPr b="0" lang="en-US" sz="2400" spc="-1" strike="noStrike">
                <a:solidFill>
                  <a:srgbClr val="c31919"/>
                </a:solidFill>
                <a:latin typeface="Times New Roman"/>
              </a:endParaRPr>
            </a:p>
          </p:txBody>
        </p:sp>
      </p:grpSp>
      <p:grpSp>
        <p:nvGrpSpPr>
          <p:cNvPr id="74" name=""/>
          <p:cNvGrpSpPr/>
          <p:nvPr/>
        </p:nvGrpSpPr>
        <p:grpSpPr>
          <a:xfrm>
            <a:off x="4800600" y="1295280"/>
            <a:ext cx="3344760" cy="3256200"/>
            <a:chOff x="4800600" y="1295280"/>
            <a:chExt cx="3344760" cy="3256200"/>
          </a:xfrm>
        </p:grpSpPr>
        <p:sp>
          <p:nvSpPr>
            <p:cNvPr id="75" name=""/>
            <p:cNvSpPr/>
            <p:nvPr/>
          </p:nvSpPr>
          <p:spPr>
            <a:xfrm>
              <a:off x="4800600" y="1295280"/>
              <a:ext cx="3344760" cy="3256200"/>
            </a:xfrm>
            <a:custGeom>
              <a:avLst/>
              <a:gdLst/>
              <a:ahLst/>
              <a:rect l="l" t="t" r="r" b="b"/>
              <a:pathLst>
                <a:path w="2107" h="2051">
                  <a:moveTo>
                    <a:pt x="0" y="428"/>
                  </a:moveTo>
                  <a:lnTo>
                    <a:pt x="0" y="0"/>
                  </a:lnTo>
                  <a:lnTo>
                    <a:pt x="2105" y="0"/>
                  </a:lnTo>
                  <a:lnTo>
                    <a:pt x="2107" y="1638"/>
                  </a:lnTo>
                  <a:lnTo>
                    <a:pt x="1924" y="1638"/>
                  </a:lnTo>
                  <a:lnTo>
                    <a:pt x="1917" y="1653"/>
                  </a:lnTo>
                  <a:lnTo>
                    <a:pt x="1912" y="1673"/>
                  </a:lnTo>
                  <a:lnTo>
                    <a:pt x="1912" y="1689"/>
                  </a:lnTo>
                  <a:lnTo>
                    <a:pt x="1914" y="1709"/>
                  </a:lnTo>
                  <a:lnTo>
                    <a:pt x="1921" y="1735"/>
                  </a:lnTo>
                  <a:lnTo>
                    <a:pt x="1928" y="1768"/>
                  </a:lnTo>
                  <a:lnTo>
                    <a:pt x="1935" y="1790"/>
                  </a:lnTo>
                  <a:lnTo>
                    <a:pt x="1941" y="1817"/>
                  </a:lnTo>
                  <a:lnTo>
                    <a:pt x="1945" y="1843"/>
                  </a:lnTo>
                  <a:lnTo>
                    <a:pt x="1945" y="1868"/>
                  </a:lnTo>
                  <a:lnTo>
                    <a:pt x="1941" y="1892"/>
                  </a:lnTo>
                  <a:lnTo>
                    <a:pt x="1935" y="1918"/>
                  </a:lnTo>
                  <a:lnTo>
                    <a:pt x="1926" y="1942"/>
                  </a:lnTo>
                  <a:lnTo>
                    <a:pt x="1912" y="1960"/>
                  </a:lnTo>
                  <a:lnTo>
                    <a:pt x="1892" y="1982"/>
                  </a:lnTo>
                  <a:lnTo>
                    <a:pt x="1871" y="1998"/>
                  </a:lnTo>
                  <a:lnTo>
                    <a:pt x="1853" y="2015"/>
                  </a:lnTo>
                  <a:lnTo>
                    <a:pt x="1831" y="2027"/>
                  </a:lnTo>
                  <a:lnTo>
                    <a:pt x="1806" y="2037"/>
                  </a:lnTo>
                  <a:lnTo>
                    <a:pt x="1775" y="2046"/>
                  </a:lnTo>
                  <a:lnTo>
                    <a:pt x="1745" y="2049"/>
                  </a:lnTo>
                  <a:lnTo>
                    <a:pt x="1720" y="2051"/>
                  </a:lnTo>
                  <a:lnTo>
                    <a:pt x="1692" y="2051"/>
                  </a:lnTo>
                  <a:lnTo>
                    <a:pt x="1667" y="2049"/>
                  </a:lnTo>
                  <a:lnTo>
                    <a:pt x="1647" y="2046"/>
                  </a:lnTo>
                  <a:lnTo>
                    <a:pt x="1623" y="2038"/>
                  </a:lnTo>
                  <a:lnTo>
                    <a:pt x="1599" y="2031"/>
                  </a:lnTo>
                  <a:lnTo>
                    <a:pt x="1581" y="2020"/>
                  </a:lnTo>
                  <a:lnTo>
                    <a:pt x="1561" y="2005"/>
                  </a:lnTo>
                  <a:lnTo>
                    <a:pt x="1542" y="1987"/>
                  </a:lnTo>
                  <a:lnTo>
                    <a:pt x="1524" y="1967"/>
                  </a:lnTo>
                  <a:lnTo>
                    <a:pt x="1508" y="1947"/>
                  </a:lnTo>
                  <a:lnTo>
                    <a:pt x="1495" y="1925"/>
                  </a:lnTo>
                  <a:lnTo>
                    <a:pt x="1486" y="1898"/>
                  </a:lnTo>
                  <a:lnTo>
                    <a:pt x="1478" y="1867"/>
                  </a:lnTo>
                  <a:lnTo>
                    <a:pt x="1478" y="1837"/>
                  </a:lnTo>
                  <a:lnTo>
                    <a:pt x="1486" y="1808"/>
                  </a:lnTo>
                  <a:lnTo>
                    <a:pt x="1493" y="1779"/>
                  </a:lnTo>
                  <a:lnTo>
                    <a:pt x="1500" y="1750"/>
                  </a:lnTo>
                  <a:lnTo>
                    <a:pt x="1510" y="1717"/>
                  </a:lnTo>
                  <a:lnTo>
                    <a:pt x="1513" y="1691"/>
                  </a:lnTo>
                  <a:lnTo>
                    <a:pt x="1513" y="1676"/>
                  </a:lnTo>
                  <a:lnTo>
                    <a:pt x="1511" y="1664"/>
                  </a:lnTo>
                  <a:lnTo>
                    <a:pt x="1506" y="1649"/>
                  </a:lnTo>
                  <a:lnTo>
                    <a:pt x="1155" y="1649"/>
                  </a:lnTo>
                  <a:lnTo>
                    <a:pt x="1160" y="1587"/>
                  </a:lnTo>
                  <a:lnTo>
                    <a:pt x="1159" y="1552"/>
                  </a:lnTo>
                  <a:lnTo>
                    <a:pt x="1155" y="1519"/>
                  </a:lnTo>
                  <a:lnTo>
                    <a:pt x="1151" y="1488"/>
                  </a:lnTo>
                  <a:lnTo>
                    <a:pt x="1146" y="1468"/>
                  </a:lnTo>
                  <a:lnTo>
                    <a:pt x="1137" y="1450"/>
                  </a:lnTo>
                  <a:lnTo>
                    <a:pt x="1126" y="1433"/>
                  </a:lnTo>
                  <a:lnTo>
                    <a:pt x="1107" y="1419"/>
                  </a:lnTo>
                  <a:lnTo>
                    <a:pt x="1087" y="1406"/>
                  </a:lnTo>
                  <a:lnTo>
                    <a:pt x="1067" y="1399"/>
                  </a:lnTo>
                  <a:lnTo>
                    <a:pt x="1049" y="1395"/>
                  </a:lnTo>
                  <a:lnTo>
                    <a:pt x="1018" y="1393"/>
                  </a:lnTo>
                  <a:lnTo>
                    <a:pt x="981" y="1393"/>
                  </a:lnTo>
                  <a:lnTo>
                    <a:pt x="946" y="1397"/>
                  </a:lnTo>
                  <a:lnTo>
                    <a:pt x="908" y="1399"/>
                  </a:lnTo>
                  <a:lnTo>
                    <a:pt x="879" y="1402"/>
                  </a:lnTo>
                  <a:lnTo>
                    <a:pt x="840" y="1404"/>
                  </a:lnTo>
                  <a:lnTo>
                    <a:pt x="809" y="1402"/>
                  </a:lnTo>
                  <a:lnTo>
                    <a:pt x="782" y="1399"/>
                  </a:lnTo>
                  <a:lnTo>
                    <a:pt x="740" y="1389"/>
                  </a:lnTo>
                  <a:lnTo>
                    <a:pt x="713" y="1377"/>
                  </a:lnTo>
                  <a:lnTo>
                    <a:pt x="687" y="1358"/>
                  </a:lnTo>
                  <a:lnTo>
                    <a:pt x="670" y="1338"/>
                  </a:lnTo>
                  <a:lnTo>
                    <a:pt x="656" y="1316"/>
                  </a:lnTo>
                  <a:lnTo>
                    <a:pt x="645" y="1289"/>
                  </a:lnTo>
                  <a:lnTo>
                    <a:pt x="643" y="1260"/>
                  </a:lnTo>
                  <a:lnTo>
                    <a:pt x="643" y="1223"/>
                  </a:lnTo>
                  <a:lnTo>
                    <a:pt x="645" y="1196"/>
                  </a:lnTo>
                  <a:lnTo>
                    <a:pt x="643" y="1168"/>
                  </a:lnTo>
                  <a:lnTo>
                    <a:pt x="636" y="1137"/>
                  </a:lnTo>
                  <a:lnTo>
                    <a:pt x="630" y="1119"/>
                  </a:lnTo>
                  <a:lnTo>
                    <a:pt x="621" y="1101"/>
                  </a:lnTo>
                  <a:lnTo>
                    <a:pt x="610" y="1088"/>
                  </a:lnTo>
                  <a:lnTo>
                    <a:pt x="599" y="1077"/>
                  </a:lnTo>
                  <a:lnTo>
                    <a:pt x="575" y="1066"/>
                  </a:lnTo>
                  <a:lnTo>
                    <a:pt x="548" y="1053"/>
                  </a:lnTo>
                  <a:lnTo>
                    <a:pt x="517" y="1044"/>
                  </a:lnTo>
                  <a:lnTo>
                    <a:pt x="480" y="1035"/>
                  </a:lnTo>
                  <a:lnTo>
                    <a:pt x="444" y="1027"/>
                  </a:lnTo>
                  <a:lnTo>
                    <a:pt x="405" y="1022"/>
                  </a:lnTo>
                  <a:lnTo>
                    <a:pt x="378" y="1013"/>
                  </a:lnTo>
                  <a:lnTo>
                    <a:pt x="349" y="1004"/>
                  </a:lnTo>
                  <a:lnTo>
                    <a:pt x="319" y="993"/>
                  </a:lnTo>
                  <a:lnTo>
                    <a:pt x="299" y="976"/>
                  </a:lnTo>
                  <a:lnTo>
                    <a:pt x="276" y="956"/>
                  </a:lnTo>
                  <a:lnTo>
                    <a:pt x="259" y="938"/>
                  </a:lnTo>
                  <a:lnTo>
                    <a:pt x="245" y="916"/>
                  </a:lnTo>
                  <a:lnTo>
                    <a:pt x="234" y="890"/>
                  </a:lnTo>
                  <a:lnTo>
                    <a:pt x="230" y="863"/>
                  </a:lnTo>
                  <a:lnTo>
                    <a:pt x="230" y="837"/>
                  </a:lnTo>
                  <a:lnTo>
                    <a:pt x="235" y="814"/>
                  </a:lnTo>
                  <a:lnTo>
                    <a:pt x="245" y="779"/>
                  </a:lnTo>
                  <a:lnTo>
                    <a:pt x="254" y="744"/>
                  </a:lnTo>
                  <a:lnTo>
                    <a:pt x="257" y="713"/>
                  </a:lnTo>
                  <a:lnTo>
                    <a:pt x="265" y="682"/>
                  </a:lnTo>
                  <a:lnTo>
                    <a:pt x="268" y="651"/>
                  </a:lnTo>
                  <a:lnTo>
                    <a:pt x="265" y="618"/>
                  </a:lnTo>
                  <a:lnTo>
                    <a:pt x="257" y="589"/>
                  </a:lnTo>
                  <a:lnTo>
                    <a:pt x="246" y="559"/>
                  </a:lnTo>
                  <a:lnTo>
                    <a:pt x="232" y="532"/>
                  </a:lnTo>
                  <a:lnTo>
                    <a:pt x="215" y="510"/>
                  </a:lnTo>
                  <a:lnTo>
                    <a:pt x="206" y="497"/>
                  </a:lnTo>
                  <a:lnTo>
                    <a:pt x="190" y="481"/>
                  </a:lnTo>
                  <a:lnTo>
                    <a:pt x="173" y="466"/>
                  </a:lnTo>
                  <a:lnTo>
                    <a:pt x="157" y="455"/>
                  </a:lnTo>
                  <a:lnTo>
                    <a:pt x="135" y="444"/>
                  </a:lnTo>
                  <a:lnTo>
                    <a:pt x="113" y="437"/>
                  </a:lnTo>
                  <a:lnTo>
                    <a:pt x="86" y="430"/>
                  </a:lnTo>
                  <a:lnTo>
                    <a:pt x="54" y="428"/>
                  </a:lnTo>
                  <a:lnTo>
                    <a:pt x="27" y="428"/>
                  </a:lnTo>
                  <a:lnTo>
                    <a:pt x="0" y="428"/>
                  </a:lnTo>
                  <a:close/>
                </a:path>
              </a:pathLst>
            </a:custGeom>
            <a:solidFill>
              <a:srgbClr val="ff00ff"/>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6" name=""/>
            <p:cNvSpPr/>
            <p:nvPr/>
          </p:nvSpPr>
          <p:spPr>
            <a:xfrm>
              <a:off x="5438880" y="1600200"/>
              <a:ext cx="185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Our Models</a:t>
              </a:r>
              <a:endParaRPr b="0" lang="en-US" sz="2400" spc="-1" strike="noStrike">
                <a:solidFill>
                  <a:srgbClr val="c31919"/>
                </a:solidFill>
                <a:latin typeface="Times New Roman"/>
              </a:endParaRPr>
            </a:p>
          </p:txBody>
        </p:sp>
      </p:grpSp>
      <p:grpSp>
        <p:nvGrpSpPr>
          <p:cNvPr id="77" name=""/>
          <p:cNvGrpSpPr/>
          <p:nvPr/>
        </p:nvGrpSpPr>
        <p:grpSpPr>
          <a:xfrm>
            <a:off x="4784760" y="3892680"/>
            <a:ext cx="3360600" cy="2728800"/>
            <a:chOff x="4784760" y="3892680"/>
            <a:chExt cx="3360600" cy="2728800"/>
          </a:xfrm>
        </p:grpSpPr>
        <p:sp>
          <p:nvSpPr>
            <p:cNvPr id="78" name=""/>
            <p:cNvSpPr/>
            <p:nvPr/>
          </p:nvSpPr>
          <p:spPr>
            <a:xfrm>
              <a:off x="4784760" y="3892680"/>
              <a:ext cx="3360600" cy="2728800"/>
            </a:xfrm>
            <a:custGeom>
              <a:avLst/>
              <a:gdLst/>
              <a:ahLst/>
              <a:rect l="l" t="t" r="r" b="b"/>
              <a:pathLst>
                <a:path w="2117" h="1719">
                  <a:moveTo>
                    <a:pt x="0" y="1358"/>
                  </a:moveTo>
                  <a:lnTo>
                    <a:pt x="0" y="1719"/>
                  </a:lnTo>
                  <a:lnTo>
                    <a:pt x="2117" y="1719"/>
                  </a:lnTo>
                  <a:lnTo>
                    <a:pt x="2115" y="0"/>
                  </a:lnTo>
                  <a:lnTo>
                    <a:pt x="1927" y="0"/>
                  </a:lnTo>
                  <a:lnTo>
                    <a:pt x="1918" y="33"/>
                  </a:lnTo>
                  <a:lnTo>
                    <a:pt x="1918" y="57"/>
                  </a:lnTo>
                  <a:lnTo>
                    <a:pt x="1924" y="90"/>
                  </a:lnTo>
                  <a:lnTo>
                    <a:pt x="1934" y="125"/>
                  </a:lnTo>
                  <a:lnTo>
                    <a:pt x="1945" y="167"/>
                  </a:lnTo>
                  <a:lnTo>
                    <a:pt x="1951" y="199"/>
                  </a:lnTo>
                  <a:lnTo>
                    <a:pt x="1951" y="229"/>
                  </a:lnTo>
                  <a:lnTo>
                    <a:pt x="1947" y="262"/>
                  </a:lnTo>
                  <a:lnTo>
                    <a:pt x="1938" y="293"/>
                  </a:lnTo>
                  <a:lnTo>
                    <a:pt x="1918" y="322"/>
                  </a:lnTo>
                  <a:lnTo>
                    <a:pt x="1894" y="348"/>
                  </a:lnTo>
                  <a:lnTo>
                    <a:pt x="1869" y="371"/>
                  </a:lnTo>
                  <a:lnTo>
                    <a:pt x="1839" y="388"/>
                  </a:lnTo>
                  <a:lnTo>
                    <a:pt x="1805" y="401"/>
                  </a:lnTo>
                  <a:lnTo>
                    <a:pt x="1774" y="408"/>
                  </a:lnTo>
                  <a:lnTo>
                    <a:pt x="1730" y="410"/>
                  </a:lnTo>
                  <a:lnTo>
                    <a:pt x="1679" y="406"/>
                  </a:lnTo>
                  <a:lnTo>
                    <a:pt x="1646" y="401"/>
                  </a:lnTo>
                  <a:lnTo>
                    <a:pt x="1616" y="393"/>
                  </a:lnTo>
                  <a:lnTo>
                    <a:pt x="1589" y="377"/>
                  </a:lnTo>
                  <a:lnTo>
                    <a:pt x="1554" y="349"/>
                  </a:lnTo>
                  <a:lnTo>
                    <a:pt x="1532" y="324"/>
                  </a:lnTo>
                  <a:lnTo>
                    <a:pt x="1512" y="296"/>
                  </a:lnTo>
                  <a:lnTo>
                    <a:pt x="1501" y="267"/>
                  </a:lnTo>
                  <a:lnTo>
                    <a:pt x="1494" y="240"/>
                  </a:lnTo>
                  <a:lnTo>
                    <a:pt x="1494" y="209"/>
                  </a:lnTo>
                  <a:lnTo>
                    <a:pt x="1498" y="178"/>
                  </a:lnTo>
                  <a:lnTo>
                    <a:pt x="1505" y="148"/>
                  </a:lnTo>
                  <a:lnTo>
                    <a:pt x="1512" y="121"/>
                  </a:lnTo>
                  <a:lnTo>
                    <a:pt x="1521" y="92"/>
                  </a:lnTo>
                  <a:lnTo>
                    <a:pt x="1527" y="62"/>
                  </a:lnTo>
                  <a:lnTo>
                    <a:pt x="1527" y="37"/>
                  </a:lnTo>
                  <a:lnTo>
                    <a:pt x="1520" y="8"/>
                  </a:lnTo>
                  <a:lnTo>
                    <a:pt x="1165" y="8"/>
                  </a:lnTo>
                  <a:lnTo>
                    <a:pt x="1169" y="68"/>
                  </a:lnTo>
                  <a:lnTo>
                    <a:pt x="1165" y="110"/>
                  </a:lnTo>
                  <a:lnTo>
                    <a:pt x="1163" y="145"/>
                  </a:lnTo>
                  <a:lnTo>
                    <a:pt x="1163" y="176"/>
                  </a:lnTo>
                  <a:lnTo>
                    <a:pt x="1159" y="209"/>
                  </a:lnTo>
                  <a:lnTo>
                    <a:pt x="1152" y="242"/>
                  </a:lnTo>
                  <a:lnTo>
                    <a:pt x="1143" y="263"/>
                  </a:lnTo>
                  <a:lnTo>
                    <a:pt x="1130" y="284"/>
                  </a:lnTo>
                  <a:lnTo>
                    <a:pt x="1112" y="300"/>
                  </a:lnTo>
                  <a:lnTo>
                    <a:pt x="1092" y="313"/>
                  </a:lnTo>
                  <a:lnTo>
                    <a:pt x="1068" y="320"/>
                  </a:lnTo>
                  <a:lnTo>
                    <a:pt x="1042" y="324"/>
                  </a:lnTo>
                  <a:lnTo>
                    <a:pt x="1019" y="326"/>
                  </a:lnTo>
                  <a:lnTo>
                    <a:pt x="988" y="326"/>
                  </a:lnTo>
                  <a:lnTo>
                    <a:pt x="958" y="322"/>
                  </a:lnTo>
                  <a:lnTo>
                    <a:pt x="935" y="320"/>
                  </a:lnTo>
                  <a:lnTo>
                    <a:pt x="903" y="318"/>
                  </a:lnTo>
                  <a:lnTo>
                    <a:pt x="871" y="315"/>
                  </a:lnTo>
                  <a:lnTo>
                    <a:pt x="834" y="315"/>
                  </a:lnTo>
                  <a:lnTo>
                    <a:pt x="803" y="318"/>
                  </a:lnTo>
                  <a:lnTo>
                    <a:pt x="772" y="322"/>
                  </a:lnTo>
                  <a:lnTo>
                    <a:pt x="739" y="331"/>
                  </a:lnTo>
                  <a:lnTo>
                    <a:pt x="715" y="344"/>
                  </a:lnTo>
                  <a:lnTo>
                    <a:pt x="690" y="360"/>
                  </a:lnTo>
                  <a:lnTo>
                    <a:pt x="673" y="382"/>
                  </a:lnTo>
                  <a:lnTo>
                    <a:pt x="657" y="406"/>
                  </a:lnTo>
                  <a:lnTo>
                    <a:pt x="649" y="430"/>
                  </a:lnTo>
                  <a:lnTo>
                    <a:pt x="646" y="457"/>
                  </a:lnTo>
                  <a:lnTo>
                    <a:pt x="649" y="485"/>
                  </a:lnTo>
                  <a:lnTo>
                    <a:pt x="651" y="514"/>
                  </a:lnTo>
                  <a:lnTo>
                    <a:pt x="649" y="545"/>
                  </a:lnTo>
                  <a:lnTo>
                    <a:pt x="644" y="569"/>
                  </a:lnTo>
                  <a:lnTo>
                    <a:pt x="637" y="594"/>
                  </a:lnTo>
                  <a:lnTo>
                    <a:pt x="626" y="618"/>
                  </a:lnTo>
                  <a:lnTo>
                    <a:pt x="611" y="635"/>
                  </a:lnTo>
                  <a:lnTo>
                    <a:pt x="587" y="651"/>
                  </a:lnTo>
                  <a:lnTo>
                    <a:pt x="558" y="662"/>
                  </a:lnTo>
                  <a:lnTo>
                    <a:pt x="529" y="671"/>
                  </a:lnTo>
                  <a:lnTo>
                    <a:pt x="501" y="678"/>
                  </a:lnTo>
                  <a:lnTo>
                    <a:pt x="472" y="686"/>
                  </a:lnTo>
                  <a:lnTo>
                    <a:pt x="434" y="693"/>
                  </a:lnTo>
                  <a:lnTo>
                    <a:pt x="404" y="699"/>
                  </a:lnTo>
                  <a:lnTo>
                    <a:pt x="373" y="708"/>
                  </a:lnTo>
                  <a:lnTo>
                    <a:pt x="348" y="717"/>
                  </a:lnTo>
                  <a:lnTo>
                    <a:pt x="322" y="728"/>
                  </a:lnTo>
                  <a:lnTo>
                    <a:pt x="302" y="742"/>
                  </a:lnTo>
                  <a:lnTo>
                    <a:pt x="284" y="757"/>
                  </a:lnTo>
                  <a:lnTo>
                    <a:pt x="264" y="781"/>
                  </a:lnTo>
                  <a:lnTo>
                    <a:pt x="251" y="803"/>
                  </a:lnTo>
                  <a:lnTo>
                    <a:pt x="240" y="828"/>
                  </a:lnTo>
                  <a:lnTo>
                    <a:pt x="234" y="859"/>
                  </a:lnTo>
                  <a:lnTo>
                    <a:pt x="238" y="889"/>
                  </a:lnTo>
                  <a:lnTo>
                    <a:pt x="242" y="918"/>
                  </a:lnTo>
                  <a:lnTo>
                    <a:pt x="251" y="953"/>
                  </a:lnTo>
                  <a:lnTo>
                    <a:pt x="260" y="991"/>
                  </a:lnTo>
                  <a:lnTo>
                    <a:pt x="267" y="1026"/>
                  </a:lnTo>
                  <a:lnTo>
                    <a:pt x="271" y="1053"/>
                  </a:lnTo>
                  <a:lnTo>
                    <a:pt x="271" y="1079"/>
                  </a:lnTo>
                  <a:lnTo>
                    <a:pt x="267" y="1114"/>
                  </a:lnTo>
                  <a:lnTo>
                    <a:pt x="258" y="1143"/>
                  </a:lnTo>
                  <a:lnTo>
                    <a:pt x="251" y="1168"/>
                  </a:lnTo>
                  <a:lnTo>
                    <a:pt x="240" y="1192"/>
                  </a:lnTo>
                  <a:lnTo>
                    <a:pt x="225" y="1223"/>
                  </a:lnTo>
                  <a:lnTo>
                    <a:pt x="205" y="1258"/>
                  </a:lnTo>
                  <a:lnTo>
                    <a:pt x="183" y="1284"/>
                  </a:lnTo>
                  <a:lnTo>
                    <a:pt x="161" y="1304"/>
                  </a:lnTo>
                  <a:lnTo>
                    <a:pt x="141" y="1322"/>
                  </a:lnTo>
                  <a:lnTo>
                    <a:pt x="119" y="1337"/>
                  </a:lnTo>
                  <a:lnTo>
                    <a:pt x="97" y="1346"/>
                  </a:lnTo>
                  <a:lnTo>
                    <a:pt x="66" y="1353"/>
                  </a:lnTo>
                  <a:lnTo>
                    <a:pt x="32" y="1358"/>
                  </a:lnTo>
                  <a:lnTo>
                    <a:pt x="0" y="1358"/>
                  </a:lnTo>
                  <a:close/>
                </a:path>
              </a:pathLst>
            </a:custGeom>
            <a:solidFill>
              <a:srgbClr val="0000ff"/>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9" name=""/>
            <p:cNvSpPr/>
            <p:nvPr/>
          </p:nvSpPr>
          <p:spPr>
            <a:xfrm>
              <a:off x="5888520" y="4800600"/>
              <a:ext cx="2109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Our </a:t>
              </a:r>
              <a:endParaRPr b="0" lang="en-US" sz="24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Assumptions</a:t>
              </a:r>
              <a:endParaRPr b="0" lang="en-US" sz="2400" spc="-1" strike="noStrike">
                <a:solidFill>
                  <a:srgbClr val="c31919"/>
                </a:solidFill>
                <a:latin typeface="Times New Roman"/>
              </a:endParaRPr>
            </a:p>
          </p:txBody>
        </p:sp>
      </p:grpSp>
      <p:grpSp>
        <p:nvGrpSpPr>
          <p:cNvPr id="80" name=""/>
          <p:cNvGrpSpPr/>
          <p:nvPr/>
        </p:nvGrpSpPr>
        <p:grpSpPr>
          <a:xfrm>
            <a:off x="2903400" y="1968480"/>
            <a:ext cx="3726000" cy="4083120"/>
            <a:chOff x="2903400" y="1968480"/>
            <a:chExt cx="3726000" cy="4083120"/>
          </a:xfrm>
        </p:grpSpPr>
        <p:sp>
          <p:nvSpPr>
            <p:cNvPr id="81" name=""/>
            <p:cNvSpPr/>
            <p:nvPr/>
          </p:nvSpPr>
          <p:spPr>
            <a:xfrm>
              <a:off x="2903400" y="1968480"/>
              <a:ext cx="3726000" cy="4083120"/>
            </a:xfrm>
            <a:custGeom>
              <a:avLst/>
              <a:gdLst/>
              <a:ahLst/>
              <a:rect l="l" t="t" r="r" b="b"/>
              <a:pathLst>
                <a:path w="2347" h="2572">
                  <a:moveTo>
                    <a:pt x="894" y="538"/>
                  </a:moveTo>
                  <a:lnTo>
                    <a:pt x="918" y="508"/>
                  </a:lnTo>
                  <a:lnTo>
                    <a:pt x="934" y="481"/>
                  </a:lnTo>
                  <a:lnTo>
                    <a:pt x="943" y="450"/>
                  </a:lnTo>
                  <a:lnTo>
                    <a:pt x="943" y="410"/>
                  </a:lnTo>
                  <a:lnTo>
                    <a:pt x="932" y="364"/>
                  </a:lnTo>
                  <a:lnTo>
                    <a:pt x="923" y="326"/>
                  </a:lnTo>
                  <a:lnTo>
                    <a:pt x="910" y="278"/>
                  </a:lnTo>
                  <a:lnTo>
                    <a:pt x="905" y="227"/>
                  </a:lnTo>
                  <a:lnTo>
                    <a:pt x="910" y="196"/>
                  </a:lnTo>
                  <a:lnTo>
                    <a:pt x="919" y="157"/>
                  </a:lnTo>
                  <a:lnTo>
                    <a:pt x="938" y="117"/>
                  </a:lnTo>
                  <a:lnTo>
                    <a:pt x="963" y="79"/>
                  </a:lnTo>
                  <a:lnTo>
                    <a:pt x="996" y="48"/>
                  </a:lnTo>
                  <a:lnTo>
                    <a:pt x="1025" y="24"/>
                  </a:lnTo>
                  <a:lnTo>
                    <a:pt x="1066" y="9"/>
                  </a:lnTo>
                  <a:lnTo>
                    <a:pt x="1113" y="2"/>
                  </a:lnTo>
                  <a:lnTo>
                    <a:pt x="1164" y="0"/>
                  </a:lnTo>
                  <a:lnTo>
                    <a:pt x="1234" y="0"/>
                  </a:lnTo>
                  <a:lnTo>
                    <a:pt x="1289" y="6"/>
                  </a:lnTo>
                  <a:lnTo>
                    <a:pt x="1320" y="17"/>
                  </a:lnTo>
                  <a:lnTo>
                    <a:pt x="1343" y="31"/>
                  </a:lnTo>
                  <a:lnTo>
                    <a:pt x="1369" y="48"/>
                  </a:lnTo>
                  <a:lnTo>
                    <a:pt x="1395" y="73"/>
                  </a:lnTo>
                  <a:lnTo>
                    <a:pt x="1418" y="106"/>
                  </a:lnTo>
                  <a:lnTo>
                    <a:pt x="1437" y="135"/>
                  </a:lnTo>
                  <a:lnTo>
                    <a:pt x="1446" y="161"/>
                  </a:lnTo>
                  <a:lnTo>
                    <a:pt x="1453" y="205"/>
                  </a:lnTo>
                  <a:lnTo>
                    <a:pt x="1453" y="243"/>
                  </a:lnTo>
                  <a:lnTo>
                    <a:pt x="1448" y="282"/>
                  </a:lnTo>
                  <a:lnTo>
                    <a:pt x="1440" y="311"/>
                  </a:lnTo>
                  <a:lnTo>
                    <a:pt x="1431" y="359"/>
                  </a:lnTo>
                  <a:lnTo>
                    <a:pt x="1418" y="408"/>
                  </a:lnTo>
                  <a:lnTo>
                    <a:pt x="1413" y="439"/>
                  </a:lnTo>
                  <a:lnTo>
                    <a:pt x="1422" y="470"/>
                  </a:lnTo>
                  <a:lnTo>
                    <a:pt x="1433" y="492"/>
                  </a:lnTo>
                  <a:lnTo>
                    <a:pt x="1453" y="521"/>
                  </a:lnTo>
                  <a:lnTo>
                    <a:pt x="1482" y="545"/>
                  </a:lnTo>
                  <a:lnTo>
                    <a:pt x="1510" y="565"/>
                  </a:lnTo>
                  <a:lnTo>
                    <a:pt x="1550" y="582"/>
                  </a:lnTo>
                  <a:lnTo>
                    <a:pt x="1590" y="593"/>
                  </a:lnTo>
                  <a:lnTo>
                    <a:pt x="1629" y="602"/>
                  </a:lnTo>
                  <a:lnTo>
                    <a:pt x="1669" y="607"/>
                  </a:lnTo>
                  <a:lnTo>
                    <a:pt x="1711" y="618"/>
                  </a:lnTo>
                  <a:lnTo>
                    <a:pt x="1744" y="629"/>
                  </a:lnTo>
                  <a:lnTo>
                    <a:pt x="1769" y="642"/>
                  </a:lnTo>
                  <a:lnTo>
                    <a:pt x="1789" y="656"/>
                  </a:lnTo>
                  <a:lnTo>
                    <a:pt x="1804" y="673"/>
                  </a:lnTo>
                  <a:lnTo>
                    <a:pt x="1815" y="693"/>
                  </a:lnTo>
                  <a:lnTo>
                    <a:pt x="1824" y="717"/>
                  </a:lnTo>
                  <a:lnTo>
                    <a:pt x="1828" y="739"/>
                  </a:lnTo>
                  <a:lnTo>
                    <a:pt x="1832" y="759"/>
                  </a:lnTo>
                  <a:lnTo>
                    <a:pt x="1832" y="786"/>
                  </a:lnTo>
                  <a:lnTo>
                    <a:pt x="1828" y="817"/>
                  </a:lnTo>
                  <a:lnTo>
                    <a:pt x="1828" y="841"/>
                  </a:lnTo>
                  <a:lnTo>
                    <a:pt x="1833" y="870"/>
                  </a:lnTo>
                  <a:lnTo>
                    <a:pt x="1846" y="896"/>
                  </a:lnTo>
                  <a:lnTo>
                    <a:pt x="1861" y="918"/>
                  </a:lnTo>
                  <a:lnTo>
                    <a:pt x="1879" y="934"/>
                  </a:lnTo>
                  <a:lnTo>
                    <a:pt x="1903" y="953"/>
                  </a:lnTo>
                  <a:lnTo>
                    <a:pt x="1927" y="964"/>
                  </a:lnTo>
                  <a:lnTo>
                    <a:pt x="1963" y="971"/>
                  </a:lnTo>
                  <a:lnTo>
                    <a:pt x="1994" y="975"/>
                  </a:lnTo>
                  <a:lnTo>
                    <a:pt x="2023" y="976"/>
                  </a:lnTo>
                  <a:lnTo>
                    <a:pt x="2056" y="975"/>
                  </a:lnTo>
                  <a:lnTo>
                    <a:pt x="2097" y="971"/>
                  </a:lnTo>
                  <a:lnTo>
                    <a:pt x="2128" y="969"/>
                  </a:lnTo>
                  <a:lnTo>
                    <a:pt x="2159" y="965"/>
                  </a:lnTo>
                  <a:lnTo>
                    <a:pt x="2188" y="964"/>
                  </a:lnTo>
                  <a:lnTo>
                    <a:pt x="2223" y="965"/>
                  </a:lnTo>
                  <a:lnTo>
                    <a:pt x="2241" y="969"/>
                  </a:lnTo>
                  <a:lnTo>
                    <a:pt x="2263" y="975"/>
                  </a:lnTo>
                  <a:lnTo>
                    <a:pt x="2283" y="986"/>
                  </a:lnTo>
                  <a:lnTo>
                    <a:pt x="2305" y="1002"/>
                  </a:lnTo>
                  <a:lnTo>
                    <a:pt x="2321" y="1020"/>
                  </a:lnTo>
                  <a:lnTo>
                    <a:pt x="2334" y="1048"/>
                  </a:lnTo>
                  <a:lnTo>
                    <a:pt x="2340" y="1071"/>
                  </a:lnTo>
                  <a:lnTo>
                    <a:pt x="2343" y="1101"/>
                  </a:lnTo>
                  <a:lnTo>
                    <a:pt x="2347" y="1154"/>
                  </a:lnTo>
                  <a:lnTo>
                    <a:pt x="2345" y="1216"/>
                  </a:lnTo>
                  <a:lnTo>
                    <a:pt x="2347" y="1282"/>
                  </a:lnTo>
                  <a:lnTo>
                    <a:pt x="2342" y="1358"/>
                  </a:lnTo>
                  <a:lnTo>
                    <a:pt x="2336" y="1411"/>
                  </a:lnTo>
                  <a:lnTo>
                    <a:pt x="2331" y="1454"/>
                  </a:lnTo>
                  <a:lnTo>
                    <a:pt x="2321" y="1477"/>
                  </a:lnTo>
                  <a:lnTo>
                    <a:pt x="2307" y="1499"/>
                  </a:lnTo>
                  <a:lnTo>
                    <a:pt x="2290" y="1514"/>
                  </a:lnTo>
                  <a:lnTo>
                    <a:pt x="2268" y="1527"/>
                  </a:lnTo>
                  <a:lnTo>
                    <a:pt x="2243" y="1534"/>
                  </a:lnTo>
                  <a:lnTo>
                    <a:pt x="2221" y="1539"/>
                  </a:lnTo>
                  <a:lnTo>
                    <a:pt x="2175" y="1541"/>
                  </a:lnTo>
                  <a:lnTo>
                    <a:pt x="2135" y="1539"/>
                  </a:lnTo>
                  <a:lnTo>
                    <a:pt x="2102" y="1534"/>
                  </a:lnTo>
                  <a:lnTo>
                    <a:pt x="2073" y="1532"/>
                  </a:lnTo>
                  <a:lnTo>
                    <a:pt x="2040" y="1530"/>
                  </a:lnTo>
                  <a:lnTo>
                    <a:pt x="2011" y="1530"/>
                  </a:lnTo>
                  <a:lnTo>
                    <a:pt x="1985" y="1532"/>
                  </a:lnTo>
                  <a:lnTo>
                    <a:pt x="1958" y="1534"/>
                  </a:lnTo>
                  <a:lnTo>
                    <a:pt x="1925" y="1543"/>
                  </a:lnTo>
                  <a:lnTo>
                    <a:pt x="1906" y="1550"/>
                  </a:lnTo>
                  <a:lnTo>
                    <a:pt x="1890" y="1558"/>
                  </a:lnTo>
                  <a:lnTo>
                    <a:pt x="1868" y="1572"/>
                  </a:lnTo>
                  <a:lnTo>
                    <a:pt x="1853" y="1591"/>
                  </a:lnTo>
                  <a:lnTo>
                    <a:pt x="1843" y="1607"/>
                  </a:lnTo>
                  <a:lnTo>
                    <a:pt x="1832" y="1627"/>
                  </a:lnTo>
                  <a:lnTo>
                    <a:pt x="1826" y="1647"/>
                  </a:lnTo>
                  <a:lnTo>
                    <a:pt x="1824" y="1669"/>
                  </a:lnTo>
                  <a:lnTo>
                    <a:pt x="1826" y="1693"/>
                  </a:lnTo>
                  <a:lnTo>
                    <a:pt x="1826" y="1733"/>
                  </a:lnTo>
                  <a:lnTo>
                    <a:pt x="1824" y="1775"/>
                  </a:lnTo>
                  <a:lnTo>
                    <a:pt x="1813" y="1806"/>
                  </a:lnTo>
                  <a:lnTo>
                    <a:pt x="1802" y="1832"/>
                  </a:lnTo>
                  <a:lnTo>
                    <a:pt x="1786" y="1850"/>
                  </a:lnTo>
                  <a:lnTo>
                    <a:pt x="1762" y="1865"/>
                  </a:lnTo>
                  <a:lnTo>
                    <a:pt x="1738" y="1878"/>
                  </a:lnTo>
                  <a:lnTo>
                    <a:pt x="1711" y="1885"/>
                  </a:lnTo>
                  <a:lnTo>
                    <a:pt x="1676" y="1892"/>
                  </a:lnTo>
                  <a:lnTo>
                    <a:pt x="1647" y="1901"/>
                  </a:lnTo>
                  <a:lnTo>
                    <a:pt x="1612" y="1907"/>
                  </a:lnTo>
                  <a:lnTo>
                    <a:pt x="1583" y="1912"/>
                  </a:lnTo>
                  <a:lnTo>
                    <a:pt x="1550" y="1920"/>
                  </a:lnTo>
                  <a:lnTo>
                    <a:pt x="1524" y="1932"/>
                  </a:lnTo>
                  <a:lnTo>
                    <a:pt x="1495" y="1945"/>
                  </a:lnTo>
                  <a:lnTo>
                    <a:pt x="1468" y="1962"/>
                  </a:lnTo>
                  <a:lnTo>
                    <a:pt x="1448" y="1984"/>
                  </a:lnTo>
                  <a:lnTo>
                    <a:pt x="1429" y="2009"/>
                  </a:lnTo>
                  <a:lnTo>
                    <a:pt x="1415" y="2040"/>
                  </a:lnTo>
                  <a:lnTo>
                    <a:pt x="1411" y="2068"/>
                  </a:lnTo>
                  <a:lnTo>
                    <a:pt x="1413" y="2099"/>
                  </a:lnTo>
                  <a:lnTo>
                    <a:pt x="1418" y="2128"/>
                  </a:lnTo>
                  <a:lnTo>
                    <a:pt x="1428" y="2159"/>
                  </a:lnTo>
                  <a:lnTo>
                    <a:pt x="1435" y="2194"/>
                  </a:lnTo>
                  <a:lnTo>
                    <a:pt x="1440" y="2225"/>
                  </a:lnTo>
                  <a:lnTo>
                    <a:pt x="1448" y="2265"/>
                  </a:lnTo>
                  <a:lnTo>
                    <a:pt x="1448" y="2305"/>
                  </a:lnTo>
                  <a:lnTo>
                    <a:pt x="1439" y="2346"/>
                  </a:lnTo>
                  <a:lnTo>
                    <a:pt x="1429" y="2377"/>
                  </a:lnTo>
                  <a:lnTo>
                    <a:pt x="1418" y="2408"/>
                  </a:lnTo>
                  <a:lnTo>
                    <a:pt x="1404" y="2437"/>
                  </a:lnTo>
                  <a:lnTo>
                    <a:pt x="1384" y="2474"/>
                  </a:lnTo>
                  <a:lnTo>
                    <a:pt x="1362" y="2497"/>
                  </a:lnTo>
                  <a:lnTo>
                    <a:pt x="1343" y="2514"/>
                  </a:lnTo>
                  <a:lnTo>
                    <a:pt x="1320" y="2534"/>
                  </a:lnTo>
                  <a:lnTo>
                    <a:pt x="1294" y="2552"/>
                  </a:lnTo>
                  <a:lnTo>
                    <a:pt x="1270" y="2561"/>
                  </a:lnTo>
                  <a:lnTo>
                    <a:pt x="1248" y="2567"/>
                  </a:lnTo>
                  <a:lnTo>
                    <a:pt x="1212" y="2570"/>
                  </a:lnTo>
                  <a:lnTo>
                    <a:pt x="1170" y="2572"/>
                  </a:lnTo>
                  <a:lnTo>
                    <a:pt x="1119" y="2570"/>
                  </a:lnTo>
                  <a:lnTo>
                    <a:pt x="1095" y="2570"/>
                  </a:lnTo>
                  <a:lnTo>
                    <a:pt x="1064" y="2565"/>
                  </a:lnTo>
                  <a:lnTo>
                    <a:pt x="1031" y="2556"/>
                  </a:lnTo>
                  <a:lnTo>
                    <a:pt x="1002" y="2539"/>
                  </a:lnTo>
                  <a:lnTo>
                    <a:pt x="983" y="2525"/>
                  </a:lnTo>
                  <a:lnTo>
                    <a:pt x="963" y="2505"/>
                  </a:lnTo>
                  <a:lnTo>
                    <a:pt x="947" y="2486"/>
                  </a:lnTo>
                  <a:lnTo>
                    <a:pt x="930" y="2463"/>
                  </a:lnTo>
                  <a:lnTo>
                    <a:pt x="918" y="2439"/>
                  </a:lnTo>
                  <a:lnTo>
                    <a:pt x="907" y="2410"/>
                  </a:lnTo>
                  <a:lnTo>
                    <a:pt x="901" y="2379"/>
                  </a:lnTo>
                  <a:lnTo>
                    <a:pt x="899" y="2355"/>
                  </a:lnTo>
                  <a:lnTo>
                    <a:pt x="899" y="2322"/>
                  </a:lnTo>
                  <a:lnTo>
                    <a:pt x="901" y="2294"/>
                  </a:lnTo>
                  <a:lnTo>
                    <a:pt x="910" y="2265"/>
                  </a:lnTo>
                  <a:lnTo>
                    <a:pt x="918" y="2230"/>
                  </a:lnTo>
                  <a:lnTo>
                    <a:pt x="927" y="2198"/>
                  </a:lnTo>
                  <a:lnTo>
                    <a:pt x="932" y="2168"/>
                  </a:lnTo>
                  <a:lnTo>
                    <a:pt x="934" y="2141"/>
                  </a:lnTo>
                  <a:lnTo>
                    <a:pt x="932" y="2119"/>
                  </a:lnTo>
                  <a:lnTo>
                    <a:pt x="927" y="2097"/>
                  </a:lnTo>
                  <a:lnTo>
                    <a:pt x="912" y="2070"/>
                  </a:lnTo>
                  <a:lnTo>
                    <a:pt x="897" y="2051"/>
                  </a:lnTo>
                  <a:lnTo>
                    <a:pt x="879" y="2031"/>
                  </a:lnTo>
                  <a:lnTo>
                    <a:pt x="859" y="2017"/>
                  </a:lnTo>
                  <a:lnTo>
                    <a:pt x="839" y="2002"/>
                  </a:lnTo>
                  <a:lnTo>
                    <a:pt x="810" y="1991"/>
                  </a:lnTo>
                  <a:lnTo>
                    <a:pt x="784" y="1984"/>
                  </a:lnTo>
                  <a:lnTo>
                    <a:pt x="751" y="1976"/>
                  </a:lnTo>
                  <a:lnTo>
                    <a:pt x="722" y="1973"/>
                  </a:lnTo>
                  <a:lnTo>
                    <a:pt x="695" y="1965"/>
                  </a:lnTo>
                  <a:lnTo>
                    <a:pt x="662" y="1958"/>
                  </a:lnTo>
                  <a:lnTo>
                    <a:pt x="634" y="1947"/>
                  </a:lnTo>
                  <a:lnTo>
                    <a:pt x="601" y="1938"/>
                  </a:lnTo>
                  <a:lnTo>
                    <a:pt x="576" y="1927"/>
                  </a:lnTo>
                  <a:lnTo>
                    <a:pt x="556" y="1911"/>
                  </a:lnTo>
                  <a:lnTo>
                    <a:pt x="539" y="1889"/>
                  </a:lnTo>
                  <a:lnTo>
                    <a:pt x="528" y="1861"/>
                  </a:lnTo>
                  <a:lnTo>
                    <a:pt x="519" y="1825"/>
                  </a:lnTo>
                  <a:lnTo>
                    <a:pt x="517" y="1795"/>
                  </a:lnTo>
                  <a:lnTo>
                    <a:pt x="519" y="1762"/>
                  </a:lnTo>
                  <a:lnTo>
                    <a:pt x="523" y="1737"/>
                  </a:lnTo>
                  <a:lnTo>
                    <a:pt x="519" y="1706"/>
                  </a:lnTo>
                  <a:lnTo>
                    <a:pt x="510" y="1682"/>
                  </a:lnTo>
                  <a:lnTo>
                    <a:pt x="493" y="1656"/>
                  </a:lnTo>
                  <a:lnTo>
                    <a:pt x="477" y="1640"/>
                  </a:lnTo>
                  <a:lnTo>
                    <a:pt x="457" y="1624"/>
                  </a:lnTo>
                  <a:lnTo>
                    <a:pt x="429" y="1613"/>
                  </a:lnTo>
                  <a:lnTo>
                    <a:pt x="398" y="1602"/>
                  </a:lnTo>
                  <a:lnTo>
                    <a:pt x="365" y="1598"/>
                  </a:lnTo>
                  <a:lnTo>
                    <a:pt x="338" y="1594"/>
                  </a:lnTo>
                  <a:lnTo>
                    <a:pt x="307" y="1594"/>
                  </a:lnTo>
                  <a:lnTo>
                    <a:pt x="280" y="1598"/>
                  </a:lnTo>
                  <a:lnTo>
                    <a:pt x="252" y="1600"/>
                  </a:lnTo>
                  <a:lnTo>
                    <a:pt x="225" y="1603"/>
                  </a:lnTo>
                  <a:lnTo>
                    <a:pt x="197" y="1607"/>
                  </a:lnTo>
                  <a:lnTo>
                    <a:pt x="152" y="1607"/>
                  </a:lnTo>
                  <a:lnTo>
                    <a:pt x="122" y="1605"/>
                  </a:lnTo>
                  <a:lnTo>
                    <a:pt x="91" y="1598"/>
                  </a:lnTo>
                  <a:lnTo>
                    <a:pt x="69" y="1587"/>
                  </a:lnTo>
                  <a:lnTo>
                    <a:pt x="46" y="1569"/>
                  </a:lnTo>
                  <a:lnTo>
                    <a:pt x="29" y="1549"/>
                  </a:lnTo>
                  <a:lnTo>
                    <a:pt x="18" y="1527"/>
                  </a:lnTo>
                  <a:lnTo>
                    <a:pt x="5" y="1485"/>
                  </a:lnTo>
                  <a:lnTo>
                    <a:pt x="4" y="1441"/>
                  </a:lnTo>
                  <a:lnTo>
                    <a:pt x="2" y="1397"/>
                  </a:lnTo>
                  <a:lnTo>
                    <a:pt x="0" y="1342"/>
                  </a:lnTo>
                  <a:lnTo>
                    <a:pt x="4" y="1294"/>
                  </a:lnTo>
                  <a:lnTo>
                    <a:pt x="5" y="1243"/>
                  </a:lnTo>
                  <a:lnTo>
                    <a:pt x="7" y="1198"/>
                  </a:lnTo>
                  <a:lnTo>
                    <a:pt x="11" y="1150"/>
                  </a:lnTo>
                  <a:lnTo>
                    <a:pt x="16" y="1114"/>
                  </a:lnTo>
                  <a:lnTo>
                    <a:pt x="22" y="1073"/>
                  </a:lnTo>
                  <a:lnTo>
                    <a:pt x="29" y="1042"/>
                  </a:lnTo>
                  <a:lnTo>
                    <a:pt x="40" y="1022"/>
                  </a:lnTo>
                  <a:lnTo>
                    <a:pt x="57" y="1002"/>
                  </a:lnTo>
                  <a:lnTo>
                    <a:pt x="73" y="989"/>
                  </a:lnTo>
                  <a:lnTo>
                    <a:pt x="95" y="975"/>
                  </a:lnTo>
                  <a:lnTo>
                    <a:pt x="115" y="971"/>
                  </a:lnTo>
                  <a:lnTo>
                    <a:pt x="141" y="965"/>
                  </a:lnTo>
                  <a:lnTo>
                    <a:pt x="174" y="964"/>
                  </a:lnTo>
                  <a:lnTo>
                    <a:pt x="203" y="965"/>
                  </a:lnTo>
                  <a:lnTo>
                    <a:pt x="243" y="971"/>
                  </a:lnTo>
                  <a:lnTo>
                    <a:pt x="278" y="973"/>
                  </a:lnTo>
                  <a:lnTo>
                    <a:pt x="307" y="975"/>
                  </a:lnTo>
                  <a:lnTo>
                    <a:pt x="347" y="976"/>
                  </a:lnTo>
                  <a:lnTo>
                    <a:pt x="389" y="971"/>
                  </a:lnTo>
                  <a:lnTo>
                    <a:pt x="424" y="964"/>
                  </a:lnTo>
                  <a:lnTo>
                    <a:pt x="457" y="951"/>
                  </a:lnTo>
                  <a:lnTo>
                    <a:pt x="479" y="938"/>
                  </a:lnTo>
                  <a:lnTo>
                    <a:pt x="501" y="918"/>
                  </a:lnTo>
                  <a:lnTo>
                    <a:pt x="517" y="892"/>
                  </a:lnTo>
                  <a:lnTo>
                    <a:pt x="528" y="867"/>
                  </a:lnTo>
                  <a:lnTo>
                    <a:pt x="532" y="839"/>
                  </a:lnTo>
                  <a:lnTo>
                    <a:pt x="530" y="819"/>
                  </a:lnTo>
                  <a:lnTo>
                    <a:pt x="528" y="781"/>
                  </a:lnTo>
                  <a:lnTo>
                    <a:pt x="530" y="742"/>
                  </a:lnTo>
                  <a:lnTo>
                    <a:pt x="537" y="713"/>
                  </a:lnTo>
                  <a:lnTo>
                    <a:pt x="546" y="686"/>
                  </a:lnTo>
                  <a:lnTo>
                    <a:pt x="559" y="666"/>
                  </a:lnTo>
                  <a:lnTo>
                    <a:pt x="585" y="646"/>
                  </a:lnTo>
                  <a:lnTo>
                    <a:pt x="612" y="631"/>
                  </a:lnTo>
                  <a:lnTo>
                    <a:pt x="647" y="620"/>
                  </a:lnTo>
                  <a:lnTo>
                    <a:pt x="682" y="611"/>
                  </a:lnTo>
                  <a:lnTo>
                    <a:pt x="711" y="603"/>
                  </a:lnTo>
                  <a:lnTo>
                    <a:pt x="748" y="598"/>
                  </a:lnTo>
                  <a:lnTo>
                    <a:pt x="782" y="591"/>
                  </a:lnTo>
                  <a:lnTo>
                    <a:pt x="822" y="580"/>
                  </a:lnTo>
                  <a:lnTo>
                    <a:pt x="861" y="563"/>
                  </a:lnTo>
                  <a:lnTo>
                    <a:pt x="894" y="538"/>
                  </a:lnTo>
                  <a:close/>
                </a:path>
              </a:pathLst>
            </a:custGeom>
            <a:solidFill>
              <a:srgbClr val="ffff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2" name=""/>
            <p:cNvSpPr/>
            <p:nvPr/>
          </p:nvSpPr>
          <p:spPr>
            <a:xfrm>
              <a:off x="3582360" y="3029040"/>
              <a:ext cx="232056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Run</a:t>
              </a:r>
              <a:endParaRPr b="0" lang="en-US" sz="3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of Model</a:t>
              </a:r>
              <a:endParaRPr b="0" lang="en-US" sz="3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amp; Handouts</a:t>
              </a:r>
              <a:endParaRPr b="0" lang="en-US" sz="3000" spc="-1" strike="noStrike">
                <a:solidFill>
                  <a:srgbClr val="c31919"/>
                </a:solidFill>
                <a:latin typeface="Times New Roman"/>
              </a:endParaRPr>
            </a:p>
          </p:txBody>
        </p:sp>
      </p:grpSp>
      <p:grpSp>
        <p:nvGrpSpPr>
          <p:cNvPr id="83" name=""/>
          <p:cNvGrpSpPr/>
          <p:nvPr/>
        </p:nvGrpSpPr>
        <p:grpSpPr>
          <a:xfrm>
            <a:off x="1440000" y="3365640"/>
            <a:ext cx="3344760" cy="3255840"/>
            <a:chOff x="1440000" y="3365640"/>
            <a:chExt cx="3344760" cy="3255840"/>
          </a:xfrm>
        </p:grpSpPr>
        <p:grpSp>
          <p:nvGrpSpPr>
            <p:cNvPr id="84" name=""/>
            <p:cNvGrpSpPr/>
            <p:nvPr/>
          </p:nvGrpSpPr>
          <p:grpSpPr>
            <a:xfrm>
              <a:off x="1440000" y="3365640"/>
              <a:ext cx="3344760" cy="3255840"/>
              <a:chOff x="1440000" y="3365640"/>
              <a:chExt cx="3344760" cy="3255840"/>
            </a:xfrm>
          </p:grpSpPr>
          <p:sp>
            <p:nvSpPr>
              <p:cNvPr id="85" name=""/>
              <p:cNvSpPr/>
              <p:nvPr/>
            </p:nvSpPr>
            <p:spPr>
              <a:xfrm>
                <a:off x="1440000" y="3365640"/>
                <a:ext cx="3344760" cy="3255840"/>
              </a:xfrm>
              <a:custGeom>
                <a:avLst/>
                <a:gdLst/>
                <a:ahLst/>
                <a:rect l="l" t="t" r="r" b="b"/>
                <a:pathLst>
                  <a:path w="2107" h="2051">
                    <a:moveTo>
                      <a:pt x="2107" y="1689"/>
                    </a:moveTo>
                    <a:lnTo>
                      <a:pt x="2107" y="2051"/>
                    </a:lnTo>
                    <a:lnTo>
                      <a:pt x="2" y="2051"/>
                    </a:lnTo>
                    <a:lnTo>
                      <a:pt x="0" y="413"/>
                    </a:lnTo>
                    <a:lnTo>
                      <a:pt x="183" y="413"/>
                    </a:lnTo>
                    <a:lnTo>
                      <a:pt x="190" y="398"/>
                    </a:lnTo>
                    <a:lnTo>
                      <a:pt x="195" y="378"/>
                    </a:lnTo>
                    <a:lnTo>
                      <a:pt x="195" y="361"/>
                    </a:lnTo>
                    <a:lnTo>
                      <a:pt x="194" y="341"/>
                    </a:lnTo>
                    <a:lnTo>
                      <a:pt x="186" y="316"/>
                    </a:lnTo>
                    <a:lnTo>
                      <a:pt x="179" y="283"/>
                    </a:lnTo>
                    <a:lnTo>
                      <a:pt x="172" y="261"/>
                    </a:lnTo>
                    <a:lnTo>
                      <a:pt x="164" y="234"/>
                    </a:lnTo>
                    <a:lnTo>
                      <a:pt x="162" y="208"/>
                    </a:lnTo>
                    <a:lnTo>
                      <a:pt x="162" y="182"/>
                    </a:lnTo>
                    <a:lnTo>
                      <a:pt x="164" y="159"/>
                    </a:lnTo>
                    <a:lnTo>
                      <a:pt x="172" y="133"/>
                    </a:lnTo>
                    <a:lnTo>
                      <a:pt x="181" y="109"/>
                    </a:lnTo>
                    <a:lnTo>
                      <a:pt x="195" y="91"/>
                    </a:lnTo>
                    <a:lnTo>
                      <a:pt x="215" y="69"/>
                    </a:lnTo>
                    <a:lnTo>
                      <a:pt x="234" y="53"/>
                    </a:lnTo>
                    <a:lnTo>
                      <a:pt x="254" y="36"/>
                    </a:lnTo>
                    <a:lnTo>
                      <a:pt x="276" y="23"/>
                    </a:lnTo>
                    <a:lnTo>
                      <a:pt x="301" y="12"/>
                    </a:lnTo>
                    <a:lnTo>
                      <a:pt x="331" y="5"/>
                    </a:lnTo>
                    <a:lnTo>
                      <a:pt x="362" y="1"/>
                    </a:lnTo>
                    <a:lnTo>
                      <a:pt x="387" y="0"/>
                    </a:lnTo>
                    <a:lnTo>
                      <a:pt x="415" y="0"/>
                    </a:lnTo>
                    <a:lnTo>
                      <a:pt x="440" y="1"/>
                    </a:lnTo>
                    <a:lnTo>
                      <a:pt x="460" y="5"/>
                    </a:lnTo>
                    <a:lnTo>
                      <a:pt x="484" y="12"/>
                    </a:lnTo>
                    <a:lnTo>
                      <a:pt x="508" y="20"/>
                    </a:lnTo>
                    <a:lnTo>
                      <a:pt x="526" y="31"/>
                    </a:lnTo>
                    <a:lnTo>
                      <a:pt x="546" y="45"/>
                    </a:lnTo>
                    <a:lnTo>
                      <a:pt x="565" y="64"/>
                    </a:lnTo>
                    <a:lnTo>
                      <a:pt x="583" y="84"/>
                    </a:lnTo>
                    <a:lnTo>
                      <a:pt x="599" y="104"/>
                    </a:lnTo>
                    <a:lnTo>
                      <a:pt x="612" y="126"/>
                    </a:lnTo>
                    <a:lnTo>
                      <a:pt x="621" y="153"/>
                    </a:lnTo>
                    <a:lnTo>
                      <a:pt x="629" y="184"/>
                    </a:lnTo>
                    <a:lnTo>
                      <a:pt x="629" y="213"/>
                    </a:lnTo>
                    <a:lnTo>
                      <a:pt x="621" y="243"/>
                    </a:lnTo>
                    <a:lnTo>
                      <a:pt x="614" y="272"/>
                    </a:lnTo>
                    <a:lnTo>
                      <a:pt x="607" y="301"/>
                    </a:lnTo>
                    <a:lnTo>
                      <a:pt x="598" y="334"/>
                    </a:lnTo>
                    <a:lnTo>
                      <a:pt x="592" y="360"/>
                    </a:lnTo>
                    <a:lnTo>
                      <a:pt x="592" y="374"/>
                    </a:lnTo>
                    <a:lnTo>
                      <a:pt x="596" y="387"/>
                    </a:lnTo>
                    <a:lnTo>
                      <a:pt x="601" y="402"/>
                    </a:lnTo>
                    <a:lnTo>
                      <a:pt x="950" y="402"/>
                    </a:lnTo>
                    <a:lnTo>
                      <a:pt x="943" y="469"/>
                    </a:lnTo>
                    <a:lnTo>
                      <a:pt x="941" y="510"/>
                    </a:lnTo>
                    <a:lnTo>
                      <a:pt x="943" y="542"/>
                    </a:lnTo>
                    <a:lnTo>
                      <a:pt x="945" y="574"/>
                    </a:lnTo>
                    <a:lnTo>
                      <a:pt x="949" y="606"/>
                    </a:lnTo>
                    <a:lnTo>
                      <a:pt x="954" y="639"/>
                    </a:lnTo>
                    <a:lnTo>
                      <a:pt x="965" y="661"/>
                    </a:lnTo>
                    <a:lnTo>
                      <a:pt x="978" y="680"/>
                    </a:lnTo>
                    <a:lnTo>
                      <a:pt x="994" y="696"/>
                    </a:lnTo>
                    <a:lnTo>
                      <a:pt x="1016" y="709"/>
                    </a:lnTo>
                    <a:lnTo>
                      <a:pt x="1040" y="718"/>
                    </a:lnTo>
                    <a:lnTo>
                      <a:pt x="1064" y="722"/>
                    </a:lnTo>
                    <a:lnTo>
                      <a:pt x="1089" y="723"/>
                    </a:lnTo>
                    <a:lnTo>
                      <a:pt x="1119" y="723"/>
                    </a:lnTo>
                    <a:lnTo>
                      <a:pt x="1150" y="720"/>
                    </a:lnTo>
                    <a:lnTo>
                      <a:pt x="1172" y="718"/>
                    </a:lnTo>
                    <a:lnTo>
                      <a:pt x="1204" y="714"/>
                    </a:lnTo>
                    <a:lnTo>
                      <a:pt x="1237" y="711"/>
                    </a:lnTo>
                    <a:lnTo>
                      <a:pt x="1274" y="711"/>
                    </a:lnTo>
                    <a:lnTo>
                      <a:pt x="1305" y="714"/>
                    </a:lnTo>
                    <a:lnTo>
                      <a:pt x="1336" y="720"/>
                    </a:lnTo>
                    <a:lnTo>
                      <a:pt x="1367" y="731"/>
                    </a:lnTo>
                    <a:lnTo>
                      <a:pt x="1393" y="742"/>
                    </a:lnTo>
                    <a:lnTo>
                      <a:pt x="1418" y="760"/>
                    </a:lnTo>
                    <a:lnTo>
                      <a:pt x="1435" y="780"/>
                    </a:lnTo>
                    <a:lnTo>
                      <a:pt x="1449" y="804"/>
                    </a:lnTo>
                    <a:lnTo>
                      <a:pt x="1459" y="829"/>
                    </a:lnTo>
                    <a:lnTo>
                      <a:pt x="1462" y="855"/>
                    </a:lnTo>
                    <a:lnTo>
                      <a:pt x="1459" y="884"/>
                    </a:lnTo>
                    <a:lnTo>
                      <a:pt x="1457" y="914"/>
                    </a:lnTo>
                    <a:lnTo>
                      <a:pt x="1459" y="943"/>
                    </a:lnTo>
                    <a:lnTo>
                      <a:pt x="1462" y="968"/>
                    </a:lnTo>
                    <a:lnTo>
                      <a:pt x="1471" y="992"/>
                    </a:lnTo>
                    <a:lnTo>
                      <a:pt x="1482" y="1016"/>
                    </a:lnTo>
                    <a:lnTo>
                      <a:pt x="1497" y="1032"/>
                    </a:lnTo>
                    <a:lnTo>
                      <a:pt x="1519" y="1049"/>
                    </a:lnTo>
                    <a:lnTo>
                      <a:pt x="1548" y="1060"/>
                    </a:lnTo>
                    <a:lnTo>
                      <a:pt x="1579" y="1069"/>
                    </a:lnTo>
                    <a:lnTo>
                      <a:pt x="1605" y="1076"/>
                    </a:lnTo>
                    <a:lnTo>
                      <a:pt x="1636" y="1084"/>
                    </a:lnTo>
                    <a:lnTo>
                      <a:pt x="1672" y="1091"/>
                    </a:lnTo>
                    <a:lnTo>
                      <a:pt x="1703" y="1096"/>
                    </a:lnTo>
                    <a:lnTo>
                      <a:pt x="1735" y="1106"/>
                    </a:lnTo>
                    <a:lnTo>
                      <a:pt x="1760" y="1115"/>
                    </a:lnTo>
                    <a:lnTo>
                      <a:pt x="1786" y="1126"/>
                    </a:lnTo>
                    <a:lnTo>
                      <a:pt x="1806" y="1140"/>
                    </a:lnTo>
                    <a:lnTo>
                      <a:pt x="1822" y="1155"/>
                    </a:lnTo>
                    <a:lnTo>
                      <a:pt x="1844" y="1179"/>
                    </a:lnTo>
                    <a:lnTo>
                      <a:pt x="1857" y="1201"/>
                    </a:lnTo>
                    <a:lnTo>
                      <a:pt x="1868" y="1224"/>
                    </a:lnTo>
                    <a:lnTo>
                      <a:pt x="1873" y="1257"/>
                    </a:lnTo>
                    <a:lnTo>
                      <a:pt x="1870" y="1288"/>
                    </a:lnTo>
                    <a:lnTo>
                      <a:pt x="1864" y="1316"/>
                    </a:lnTo>
                    <a:lnTo>
                      <a:pt x="1857" y="1350"/>
                    </a:lnTo>
                    <a:lnTo>
                      <a:pt x="1848" y="1389"/>
                    </a:lnTo>
                    <a:lnTo>
                      <a:pt x="1839" y="1424"/>
                    </a:lnTo>
                    <a:lnTo>
                      <a:pt x="1835" y="1453"/>
                    </a:lnTo>
                    <a:lnTo>
                      <a:pt x="1835" y="1477"/>
                    </a:lnTo>
                    <a:lnTo>
                      <a:pt x="1841" y="1511"/>
                    </a:lnTo>
                    <a:lnTo>
                      <a:pt x="1848" y="1541"/>
                    </a:lnTo>
                    <a:lnTo>
                      <a:pt x="1859" y="1563"/>
                    </a:lnTo>
                    <a:lnTo>
                      <a:pt x="1872" y="1584"/>
                    </a:lnTo>
                    <a:lnTo>
                      <a:pt x="1890" y="1608"/>
                    </a:lnTo>
                    <a:lnTo>
                      <a:pt x="1910" y="1632"/>
                    </a:lnTo>
                    <a:lnTo>
                      <a:pt x="1934" y="1652"/>
                    </a:lnTo>
                    <a:lnTo>
                      <a:pt x="1961" y="1669"/>
                    </a:lnTo>
                    <a:lnTo>
                      <a:pt x="1987" y="1678"/>
                    </a:lnTo>
                    <a:lnTo>
                      <a:pt x="2014" y="1685"/>
                    </a:lnTo>
                    <a:lnTo>
                      <a:pt x="2042" y="1689"/>
                    </a:lnTo>
                    <a:lnTo>
                      <a:pt x="2075" y="1690"/>
                    </a:lnTo>
                    <a:lnTo>
                      <a:pt x="2107" y="1689"/>
                    </a:lnTo>
                    <a:close/>
                  </a:path>
                </a:pathLst>
              </a:custGeom>
              <a:solidFill>
                <a:srgbClr val="00ff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6" name=""/>
              <p:cNvSpPr/>
              <p:nvPr/>
            </p:nvSpPr>
            <p:spPr>
              <a:xfrm>
                <a:off x="1495440" y="476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31919"/>
                  </a:solidFill>
                  <a:latin typeface="Times New Roman"/>
                </a:endParaRPr>
              </a:p>
            </p:txBody>
          </p:sp>
        </p:grpSp>
        <p:sp>
          <p:nvSpPr>
            <p:cNvPr id="87" name=""/>
            <p:cNvSpPr/>
            <p:nvPr/>
          </p:nvSpPr>
          <p:spPr>
            <a:xfrm>
              <a:off x="1831320" y="480060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Issues</a:t>
              </a:r>
              <a:endParaRPr b="0" lang="en-US" sz="2400" spc="-1" strike="noStrike">
                <a:solidFill>
                  <a:srgbClr val="c31919"/>
                </a:solidFill>
                <a:latin typeface="Times New Roman"/>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7" presetSubtype="8">
                                  <p:stCondLst>
                                    <p:cond delay="0"/>
                                  </p:stCondLst>
                                  <p:childTnLst>
                                    <p:set>
                                      <p:cBhvr>
                                        <p:cTn id="17" dur="1" fill="hold">
                                          <p:stCondLst>
                                            <p:cond delay="0"/>
                                          </p:stCondLst>
                                        </p:cTn>
                                        <p:tgtEl>
                                          <p:spTgt spid="71"/>
                                        </p:tgtEl>
                                        <p:attrNameLst>
                                          <p:attrName>style.visibility</p:attrName>
                                        </p:attrNameLst>
                                      </p:cBhvr>
                                      <p:to>
                                        <p:strVal val="visible"/>
                                      </p:to>
                                    </p:set>
                                    <p:anim calcmode="lin" valueType="num">
                                      <p:cBhvr additive="repl">
                                        <p:cTn id="18" dur="500" fill="hold"/>
                                        <p:tgtEl>
                                          <p:spTgt spid="71"/>
                                        </p:tgtEl>
                                        <p:attrNameLst>
                                          <p:attrName>ppt_x</p:attrName>
                                        </p:attrNameLst>
                                      </p:cBhvr>
                                      <p:tavLst>
                                        <p:tav tm="0">
                                          <p:val>
                                            <p:strVal val="#ppt_x-#ppt_w/2"/>
                                          </p:val>
                                        </p:tav>
                                        <p:tav tm="100000">
                                          <p:val>
                                            <p:strVal val="#ppt_x"/>
                                          </p:val>
                                        </p:tav>
                                      </p:tavLst>
                                    </p:anim>
                                    <p:anim calcmode="lin" valueType="num">
                                      <p:cBhvr additive="repl">
                                        <p:cTn id="19" dur="500" fill="hold"/>
                                        <p:tgtEl>
                                          <p:spTgt spid="71"/>
                                        </p:tgtEl>
                                        <p:attrNameLst>
                                          <p:attrName>ppt_y</p:attrName>
                                        </p:attrNameLst>
                                      </p:cBhvr>
                                      <p:tavLst>
                                        <p:tav tm="0">
                                          <p:val>
                                            <p:strVal val="#ppt_y"/>
                                          </p:val>
                                        </p:tav>
                                        <p:tav tm="100000">
                                          <p:val>
                                            <p:strVal val="#ppt_y"/>
                                          </p:val>
                                        </p:tav>
                                      </p:tavLst>
                                    </p:anim>
                                    <p:anim calcmode="lin" valueType="num">
                                      <p:cBhvr additive="repl">
                                        <p:cTn id="20" dur="500" fill="hold"/>
                                        <p:tgtEl>
                                          <p:spTgt spid="71"/>
                                        </p:tgtEl>
                                        <p:attrNameLst>
                                          <p:attrName>ppt_w</p:attrName>
                                        </p:attrNameLst>
                                      </p:cBhvr>
                                      <p:tavLst>
                                        <p:tav tm="0">
                                          <p:val>
                                            <p:fltVal val="0"/>
                                          </p:val>
                                        </p:tav>
                                        <p:tav tm="100000">
                                          <p:val>
                                            <p:strVal val="#ppt_w"/>
                                          </p:val>
                                        </p:tav>
                                      </p:tavLst>
                                    </p:anim>
                                    <p:anim calcmode="lin" valueType="num">
                                      <p:cBhvr additive="repl">
                                        <p:cTn id="21"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2">
                                  <p:stCondLst>
                                    <p:cond delay="0"/>
                                  </p:stCondLst>
                                  <p:childTnLst>
                                    <p:set>
                                      <p:cBhvr>
                                        <p:cTn id="25" dur="1" fill="hold">
                                          <p:stCondLst>
                                            <p:cond delay="0"/>
                                          </p:stCondLst>
                                        </p:cTn>
                                        <p:tgtEl>
                                          <p:spTgt spid="74"/>
                                        </p:tgtEl>
                                        <p:attrNameLst>
                                          <p:attrName>style.visibility</p:attrName>
                                        </p:attrNameLst>
                                      </p:cBhvr>
                                      <p:to>
                                        <p:strVal val="visible"/>
                                      </p:to>
                                    </p:set>
                                    <p:anim calcmode="lin" valueType="num">
                                      <p:cBhvr additive="repl">
                                        <p:cTn id="26" dur="500" fill="hold"/>
                                        <p:tgtEl>
                                          <p:spTgt spid="74"/>
                                        </p:tgtEl>
                                        <p:attrNameLst>
                                          <p:attrName>ppt_x</p:attrName>
                                        </p:attrNameLst>
                                      </p:cBhvr>
                                      <p:tavLst>
                                        <p:tav tm="0">
                                          <p:val>
                                            <p:strVal val="#ppt_x+#ppt_w/2"/>
                                          </p:val>
                                        </p:tav>
                                        <p:tav tm="100000">
                                          <p:val>
                                            <p:strVal val="#ppt_x"/>
                                          </p:val>
                                        </p:tav>
                                      </p:tavLst>
                                    </p:anim>
                                    <p:anim calcmode="lin" valueType="num">
                                      <p:cBhvr additive="repl">
                                        <p:cTn id="27" dur="500" fill="hold"/>
                                        <p:tgtEl>
                                          <p:spTgt spid="74"/>
                                        </p:tgtEl>
                                        <p:attrNameLst>
                                          <p:attrName>ppt_y</p:attrName>
                                        </p:attrNameLst>
                                      </p:cBhvr>
                                      <p:tavLst>
                                        <p:tav tm="0">
                                          <p:val>
                                            <p:strVal val="#ppt_y"/>
                                          </p:val>
                                        </p:tav>
                                        <p:tav tm="100000">
                                          <p:val>
                                            <p:strVal val="#ppt_y"/>
                                          </p:val>
                                        </p:tav>
                                      </p:tavLst>
                                    </p:anim>
                                    <p:anim calcmode="lin" valueType="num">
                                      <p:cBhvr additive="repl">
                                        <p:cTn id="28" dur="500" fill="hold"/>
                                        <p:tgtEl>
                                          <p:spTgt spid="74"/>
                                        </p:tgtEl>
                                        <p:attrNameLst>
                                          <p:attrName>ppt_w</p:attrName>
                                        </p:attrNameLst>
                                      </p:cBhvr>
                                      <p:tavLst>
                                        <p:tav tm="0">
                                          <p:val>
                                            <p:fltVal val="0"/>
                                          </p:val>
                                        </p:tav>
                                        <p:tav tm="100000">
                                          <p:val>
                                            <p:strVal val="#ppt_w"/>
                                          </p:val>
                                        </p:tav>
                                      </p:tavLst>
                                    </p:anim>
                                    <p:anim calcmode="lin" valueType="num">
                                      <p:cBhvr additive="repl">
                                        <p:cTn id="2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4">
                                  <p:stCondLst>
                                    <p:cond delay="0"/>
                                  </p:stCondLst>
                                  <p:childTnLst>
                                    <p:set>
                                      <p:cBhvr>
                                        <p:cTn id="33" dur="1" fill="hold">
                                          <p:stCondLst>
                                            <p:cond delay="0"/>
                                          </p:stCondLst>
                                        </p:cTn>
                                        <p:tgtEl>
                                          <p:spTgt spid="77"/>
                                        </p:tgtEl>
                                        <p:attrNameLst>
                                          <p:attrName>style.visibility</p:attrName>
                                        </p:attrNameLst>
                                      </p:cBhvr>
                                      <p:to>
                                        <p:strVal val="visible"/>
                                      </p:to>
                                    </p:set>
                                    <p:anim calcmode="lin" valueType="num">
                                      <p:cBhvr additive="repl">
                                        <p:cTn id="34" dur="500" fill="hold"/>
                                        <p:tgtEl>
                                          <p:spTgt spid="77"/>
                                        </p:tgtEl>
                                        <p:attrNameLst>
                                          <p:attrName>ppt_x</p:attrName>
                                        </p:attrNameLst>
                                      </p:cBhvr>
                                      <p:tavLst>
                                        <p:tav tm="0">
                                          <p:val>
                                            <p:strVal val="#ppt_x"/>
                                          </p:val>
                                        </p:tav>
                                        <p:tav tm="100000">
                                          <p:val>
                                            <p:strVal val="#ppt_x"/>
                                          </p:val>
                                        </p:tav>
                                      </p:tavLst>
                                    </p:anim>
                                    <p:anim calcmode="lin" valueType="num">
                                      <p:cBhvr additive="repl">
                                        <p:cTn id="35" dur="500" fill="hold"/>
                                        <p:tgtEl>
                                          <p:spTgt spid="77"/>
                                        </p:tgtEl>
                                        <p:attrNameLst>
                                          <p:attrName>ppt_y</p:attrName>
                                        </p:attrNameLst>
                                      </p:cBhvr>
                                      <p:tavLst>
                                        <p:tav tm="0">
                                          <p:val>
                                            <p:strVal val="#ppt_y+#ppt_h/2"/>
                                          </p:val>
                                        </p:tav>
                                        <p:tav tm="100000">
                                          <p:val>
                                            <p:strVal val="#ppt_y"/>
                                          </p:val>
                                        </p:tav>
                                      </p:tavLst>
                                    </p:anim>
                                    <p:anim calcmode="lin" valueType="num">
                                      <p:cBhvr additive="repl">
                                        <p:cTn id="36" dur="500" fill="hold"/>
                                        <p:tgtEl>
                                          <p:spTgt spid="77"/>
                                        </p:tgtEl>
                                        <p:attrNameLst>
                                          <p:attrName>ppt_w</p:attrName>
                                        </p:attrNameLst>
                                      </p:cBhvr>
                                      <p:tavLst>
                                        <p:tav tm="0">
                                          <p:val>
                                            <p:strVal val="#ppt_w"/>
                                          </p:val>
                                        </p:tav>
                                        <p:tav tm="100000">
                                          <p:val>
                                            <p:strVal val="#ppt_w"/>
                                          </p:val>
                                        </p:tav>
                                      </p:tavLst>
                                    </p:anim>
                                    <p:anim calcmode="lin" valueType="num">
                                      <p:cBhvr additive="repl">
                                        <p:cTn id="3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83"/>
                                        </p:tgtEl>
                                        <p:attrNameLst>
                                          <p:attrName>style.visibility</p:attrName>
                                        </p:attrNameLst>
                                      </p:cBhvr>
                                      <p:to>
                                        <p:strVal val="visible"/>
                                      </p:to>
                                    </p:set>
                                    <p:animEffect filter="wipe(right)" transition="in">
                                      <p:cBhvr additive="repl">
                                        <p:cTn id="42" dur="500"/>
                                        <p:tgtEl>
                                          <p:spTgt spid="8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80"/>
                                        </p:tgtEl>
                                        <p:attrNameLst>
                                          <p:attrName>style.visibility</p:attrName>
                                        </p:attrNameLst>
                                      </p:cBhvr>
                                      <p:to>
                                        <p:strVal val="visible"/>
                                      </p:to>
                                    </p:set>
                                    <p:anim calcmode="lin" valueType="num">
                                      <p:cBhvr additive="repl">
                                        <p:cTn id="47" dur="500" fill="hold"/>
                                        <p:tgtEl>
                                          <p:spTgt spid="80"/>
                                        </p:tgtEl>
                                        <p:attrNameLst>
                                          <p:attrName>ppt_w</p:attrName>
                                        </p:attrNameLst>
                                      </p:cBhvr>
                                      <p:tavLst>
                                        <p:tav tm="0">
                                          <p:val>
                                            <p:fltVal val="0"/>
                                          </p:val>
                                        </p:tav>
                                        <p:tav tm="100000">
                                          <p:val>
                                            <p:strVal val="#ppt_w"/>
                                          </p:val>
                                        </p:tav>
                                      </p:tavLst>
                                    </p:anim>
                                    <p:anim calcmode="lin" valueType="num">
                                      <p:cBhvr additive="repl">
                                        <p:cTn id="48"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Reason for Our Business</a:t>
            </a:r>
            <a:endParaRPr b="0" lang="en-US" sz="4400" spc="-1" strike="noStrike">
              <a:solidFill>
                <a:srgbClr val="c31919"/>
              </a:solidFill>
              <a:latin typeface="Comic Sans MS"/>
            </a:endParaRPr>
          </a:p>
        </p:txBody>
      </p:sp>
      <p:sp>
        <p:nvSpPr>
          <p:cNvPr id="89" name=""/>
          <p:cNvSpPr/>
          <p:nvPr/>
        </p:nvSpPr>
        <p:spPr>
          <a:xfrm>
            <a:off x="2971800" y="18288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rn is already a Meat Market</a:t>
            </a:r>
            <a:endParaRPr b="0" lang="en-US" sz="2400" spc="-1" strike="noStrike">
              <a:solidFill>
                <a:srgbClr val="c31919"/>
              </a:solidFill>
              <a:latin typeface="Times New Roman"/>
            </a:endParaRPr>
          </a:p>
        </p:txBody>
      </p:sp>
      <p:grpSp>
        <p:nvGrpSpPr>
          <p:cNvPr id="90" name=""/>
          <p:cNvGrpSpPr/>
          <p:nvPr/>
        </p:nvGrpSpPr>
        <p:grpSpPr>
          <a:xfrm>
            <a:off x="1066680" y="2742840"/>
            <a:ext cx="7467840" cy="3524760"/>
            <a:chOff x="1066680" y="2742840"/>
            <a:chExt cx="7467840" cy="3524760"/>
          </a:xfrm>
        </p:grpSpPr>
        <p:grpSp>
          <p:nvGrpSpPr>
            <p:cNvPr id="91" name=""/>
            <p:cNvGrpSpPr/>
            <p:nvPr/>
          </p:nvGrpSpPr>
          <p:grpSpPr>
            <a:xfrm>
              <a:off x="1066680" y="2895480"/>
              <a:ext cx="7467840" cy="3372120"/>
              <a:chOff x="1066680" y="2895480"/>
              <a:chExt cx="7467840" cy="3372120"/>
            </a:xfrm>
          </p:grpSpPr>
          <p:sp>
            <p:nvSpPr>
              <p:cNvPr id="92" name=""/>
              <p:cNvSpPr/>
              <p:nvPr/>
            </p:nvSpPr>
            <p:spPr>
              <a:xfrm>
                <a:off x="3962520" y="4819680"/>
                <a:ext cx="1847880" cy="144792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3" name=""/>
              <p:cNvSpPr/>
              <p:nvPr/>
            </p:nvSpPr>
            <p:spPr>
              <a:xfrm>
                <a:off x="3962520" y="506088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ictures on the Directory with Personal Information</a:t>
                </a:r>
                <a:endParaRPr b="0" lang="en-US" sz="1600" spc="-1" strike="noStrike">
                  <a:solidFill>
                    <a:srgbClr val="c31919"/>
                  </a:solidFill>
                  <a:latin typeface="Times New Roman"/>
                </a:endParaRPr>
              </a:p>
            </p:txBody>
          </p:sp>
          <p:sp>
            <p:nvSpPr>
              <p:cNvPr id="94" name=""/>
              <p:cNvSpPr/>
              <p:nvPr/>
            </p:nvSpPr>
            <p:spPr>
              <a:xfrm>
                <a:off x="1123920" y="4802040"/>
                <a:ext cx="1714680" cy="12240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5" name=""/>
              <p:cNvSpPr/>
              <p:nvPr/>
            </p:nvSpPr>
            <p:spPr>
              <a:xfrm>
                <a:off x="1066680" y="50626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er Blasts</a:t>
                </a:r>
                <a:endParaRPr b="0" lang="en-US" sz="1600" spc="-1" strike="noStrike">
                  <a:solidFill>
                    <a:srgbClr val="c31919"/>
                  </a:solidFill>
                  <a:latin typeface="Times New Roman"/>
                </a:endParaRPr>
              </a:p>
            </p:txBody>
          </p:sp>
          <p:sp>
            <p:nvSpPr>
              <p:cNvPr id="96" name=""/>
              <p:cNvSpPr/>
              <p:nvPr/>
            </p:nvSpPr>
            <p:spPr>
              <a:xfrm>
                <a:off x="1122480" y="2895480"/>
                <a:ext cx="1716120" cy="12240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7" name=""/>
              <p:cNvSpPr/>
              <p:nvPr/>
            </p:nvSpPr>
            <p:spPr>
              <a:xfrm>
                <a:off x="1066680" y="31561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eams</a:t>
                </a:r>
                <a:endParaRPr b="0" lang="en-US" sz="1600" spc="-1" strike="noStrike">
                  <a:solidFill>
                    <a:srgbClr val="c31919"/>
                  </a:solidFill>
                  <a:latin typeface="Times New Roman"/>
                </a:endParaRPr>
              </a:p>
            </p:txBody>
          </p:sp>
          <p:sp>
            <p:nvSpPr>
              <p:cNvPr id="98" name=""/>
              <p:cNvSpPr/>
              <p:nvPr/>
            </p:nvSpPr>
            <p:spPr>
              <a:xfrm>
                <a:off x="6762600" y="4803840"/>
                <a:ext cx="1714680" cy="12222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9" name=""/>
              <p:cNvSpPr/>
              <p:nvPr/>
            </p:nvSpPr>
            <p:spPr>
              <a:xfrm>
                <a:off x="6705720" y="5062680"/>
                <a:ext cx="18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lumni list not for Jobs</a:t>
                </a:r>
                <a:endParaRPr b="0" lang="en-US" sz="1600" spc="-1" strike="noStrike">
                  <a:solidFill>
                    <a:srgbClr val="c31919"/>
                  </a:solidFill>
                  <a:latin typeface="Times New Roman"/>
                </a:endParaRPr>
              </a:p>
            </p:txBody>
          </p:sp>
          <p:sp>
            <p:nvSpPr>
              <p:cNvPr id="100" name=""/>
              <p:cNvSpPr/>
              <p:nvPr/>
            </p:nvSpPr>
            <p:spPr>
              <a:xfrm>
                <a:off x="6762600" y="2895480"/>
                <a:ext cx="1714680" cy="122256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01" name=""/>
              <p:cNvSpPr/>
              <p:nvPr/>
            </p:nvSpPr>
            <p:spPr>
              <a:xfrm>
                <a:off x="6705720" y="3154320"/>
                <a:ext cx="18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rties (with weekly e-mails)</a:t>
                </a:r>
                <a:endParaRPr b="0" lang="en-US" sz="1600" spc="-1" strike="noStrike">
                  <a:solidFill>
                    <a:srgbClr val="c31919"/>
                  </a:solidFill>
                  <a:latin typeface="Times New Roman"/>
                </a:endParaRPr>
              </a:p>
            </p:txBody>
          </p:sp>
        </p:grpSp>
        <p:sp>
          <p:nvSpPr>
            <p:cNvPr id="102" name=""/>
            <p:cNvSpPr/>
            <p:nvPr/>
          </p:nvSpPr>
          <p:spPr>
            <a:xfrm rot="10800000">
              <a:off x="3259080" y="2742480"/>
              <a:ext cx="3294000" cy="1676520"/>
            </a:xfrm>
            <a:custGeom>
              <a:avLst/>
              <a:gdLst/>
              <a:ahLst/>
              <a:rect l="l" t="t" r="r" b="b"/>
              <a:pathLst>
                <a:path w="2075" h="2127">
                  <a:moveTo>
                    <a:pt x="8" y="713"/>
                  </a:moveTo>
                  <a:lnTo>
                    <a:pt x="0" y="254"/>
                  </a:lnTo>
                  <a:lnTo>
                    <a:pt x="447" y="406"/>
                  </a:lnTo>
                  <a:lnTo>
                    <a:pt x="351" y="487"/>
                  </a:lnTo>
                  <a:lnTo>
                    <a:pt x="450" y="597"/>
                  </a:lnTo>
                  <a:lnTo>
                    <a:pt x="551" y="731"/>
                  </a:lnTo>
                  <a:lnTo>
                    <a:pt x="631" y="832"/>
                  </a:lnTo>
                  <a:lnTo>
                    <a:pt x="718" y="960"/>
                  </a:lnTo>
                  <a:lnTo>
                    <a:pt x="812" y="1121"/>
                  </a:lnTo>
                  <a:lnTo>
                    <a:pt x="885" y="1294"/>
                  </a:lnTo>
                  <a:lnTo>
                    <a:pt x="886" y="370"/>
                  </a:lnTo>
                  <a:lnTo>
                    <a:pt x="766" y="371"/>
                  </a:lnTo>
                  <a:lnTo>
                    <a:pt x="1033" y="0"/>
                  </a:lnTo>
                  <a:lnTo>
                    <a:pt x="1301" y="371"/>
                  </a:lnTo>
                  <a:lnTo>
                    <a:pt x="1183" y="369"/>
                  </a:lnTo>
                  <a:lnTo>
                    <a:pt x="1183" y="1305"/>
                  </a:lnTo>
                  <a:lnTo>
                    <a:pt x="1261" y="1127"/>
                  </a:lnTo>
                  <a:lnTo>
                    <a:pt x="1335" y="987"/>
                  </a:lnTo>
                  <a:lnTo>
                    <a:pt x="1423" y="858"/>
                  </a:lnTo>
                  <a:lnTo>
                    <a:pt x="1526" y="725"/>
                  </a:lnTo>
                  <a:lnTo>
                    <a:pt x="1602" y="620"/>
                  </a:lnTo>
                  <a:lnTo>
                    <a:pt x="1717" y="487"/>
                  </a:lnTo>
                  <a:lnTo>
                    <a:pt x="1629" y="406"/>
                  </a:lnTo>
                  <a:lnTo>
                    <a:pt x="2075" y="251"/>
                  </a:lnTo>
                  <a:lnTo>
                    <a:pt x="2064" y="713"/>
                  </a:lnTo>
                  <a:lnTo>
                    <a:pt x="1953" y="645"/>
                  </a:lnTo>
                  <a:lnTo>
                    <a:pt x="1867" y="775"/>
                  </a:lnTo>
                  <a:lnTo>
                    <a:pt x="1765" y="914"/>
                  </a:lnTo>
                  <a:lnTo>
                    <a:pt x="1681" y="1042"/>
                  </a:lnTo>
                  <a:lnTo>
                    <a:pt x="1607" y="1160"/>
                  </a:lnTo>
                  <a:lnTo>
                    <a:pt x="1545" y="1271"/>
                  </a:lnTo>
                  <a:lnTo>
                    <a:pt x="1484" y="1388"/>
                  </a:lnTo>
                  <a:lnTo>
                    <a:pt x="1418" y="1533"/>
                  </a:lnTo>
                  <a:lnTo>
                    <a:pt x="1388" y="1680"/>
                  </a:lnTo>
                  <a:lnTo>
                    <a:pt x="1387" y="2127"/>
                  </a:lnTo>
                  <a:lnTo>
                    <a:pt x="693" y="2127"/>
                  </a:lnTo>
                  <a:lnTo>
                    <a:pt x="693" y="1681"/>
                  </a:lnTo>
                  <a:lnTo>
                    <a:pt x="662" y="1533"/>
                  </a:lnTo>
                  <a:lnTo>
                    <a:pt x="579" y="1353"/>
                  </a:lnTo>
                  <a:lnTo>
                    <a:pt x="511" y="1235"/>
                  </a:lnTo>
                  <a:lnTo>
                    <a:pt x="452" y="1135"/>
                  </a:lnTo>
                  <a:lnTo>
                    <a:pt x="380" y="1018"/>
                  </a:lnTo>
                  <a:lnTo>
                    <a:pt x="306" y="907"/>
                  </a:lnTo>
                  <a:lnTo>
                    <a:pt x="219" y="785"/>
                  </a:lnTo>
                  <a:lnTo>
                    <a:pt x="118" y="641"/>
                  </a:lnTo>
                  <a:lnTo>
                    <a:pt x="8" y="713"/>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grpSp>
      <p:pic>
        <p:nvPicPr>
          <p:cNvPr id="103" name="" descr=""/>
          <p:cNvPicPr/>
          <p:nvPr/>
        </p:nvPicPr>
        <p:blipFill>
          <a:blip r:embed="rId1"/>
          <a:srcRect l="0" t="22463" r="75003" b="33593"/>
          <a:stretch/>
        </p:blipFill>
        <p:spPr>
          <a:xfrm>
            <a:off x="4038480" y="4419720"/>
            <a:ext cx="1571760" cy="22096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90"/>
                                        </p:tgtEl>
                                        <p:attrNameLst>
                                          <p:attrName>style.visibility</p:attrName>
                                        </p:attrNameLst>
                                      </p:cBhvr>
                                      <p:to>
                                        <p:strVal val="visible"/>
                                      </p:to>
                                    </p:set>
                                    <p:animEffect filter="wipe(up)" transition="in">
                                      <p:cBhvr additive="repl">
                                        <p:cTn id="55" dur="500"/>
                                        <p:tgtEl>
                                          <p:spTgt spid="9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Our Models</a:t>
            </a:r>
            <a:endParaRPr b="0" lang="en-US" sz="4400" spc="-1" strike="noStrike">
              <a:solidFill>
                <a:srgbClr val="c31919"/>
              </a:solidFill>
              <a:latin typeface="Comic Sans MS"/>
            </a:endParaRPr>
          </a:p>
        </p:txBody>
      </p:sp>
      <p:sp>
        <p:nvSpPr>
          <p:cNvPr id="105"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1. Check out your best match</a:t>
            </a:r>
            <a:endParaRPr b="0" lang="en-US" sz="3200" spc="-1" strike="noStrike">
              <a:solidFill>
                <a:srgbClr val="c3191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2. Best fit for the class</a:t>
            </a:r>
            <a:endParaRPr b="0" lang="en-US" sz="3200" spc="-1" strike="noStrike">
              <a:solidFill>
                <a:srgbClr val="c3191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06" name=""/>
          <p:cNvSpPr/>
          <p:nvPr/>
        </p:nvSpPr>
        <p:spPr>
          <a:xfrm>
            <a:off x="380880" y="1905120"/>
            <a:ext cx="3810240" cy="3962160"/>
          </a:xfrm>
          <a:prstGeom prst="rect">
            <a:avLst/>
          </a:prstGeom>
          <a:solidFill>
            <a:srgbClr val="ffff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07"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Our Assumptions</a:t>
            </a:r>
            <a:endParaRPr b="0" lang="en-US" sz="4400" spc="-1" strike="noStrike">
              <a:solidFill>
                <a:srgbClr val="c31919"/>
              </a:solidFill>
              <a:latin typeface="Comic Sans MS"/>
            </a:endParaRPr>
          </a:p>
        </p:txBody>
      </p:sp>
      <p:sp>
        <p:nvSpPr>
          <p:cNvPr id="108" name="PlaceHolder 2"/>
          <p:cNvSpPr>
            <a:spLocks noGrp="1"/>
          </p:cNvSpPr>
          <p:nvPr>
            <p:ph/>
          </p:nvPr>
        </p:nvSpPr>
        <p:spPr>
          <a:xfrm>
            <a:off x="457200" y="2057400"/>
            <a:ext cx="3124080" cy="4114800"/>
          </a:xfrm>
          <a:prstGeom prst="rect">
            <a:avLst/>
          </a:prstGeom>
          <a:noFill/>
          <a:ln w="0">
            <a:noFill/>
          </a:ln>
        </p:spPr>
        <p:txBody>
          <a:bodyPr lIns="90000" rIns="90000" tIns="46800" bIns="46800" anchor="t">
            <a:normAutofit/>
          </a:bodyPr>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Will cheat on your spouse.</a:t>
            </a:r>
            <a:endParaRPr b="0" lang="en-US" sz="2000" spc="-1" strike="noStrike">
              <a:solidFill>
                <a:srgbClr val="c31919"/>
              </a:solidFill>
              <a:latin typeface="Comic Sans MS"/>
            </a:endParaRPr>
          </a:p>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Okay with Bi-Sexuality.</a:t>
            </a:r>
            <a:endParaRPr b="0" lang="en-US" sz="2000" spc="-1" strike="noStrike">
              <a:solidFill>
                <a:srgbClr val="c31919"/>
              </a:solidFill>
              <a:latin typeface="Comic Sans MS"/>
            </a:endParaRPr>
          </a:p>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Religion or ethnicity will not stop you from being with you computer generated loved one.</a:t>
            </a:r>
            <a:endParaRPr b="0" lang="en-US" sz="2000" spc="-1" strike="noStrike">
              <a:solidFill>
                <a:srgbClr val="c31919"/>
              </a:solidFill>
              <a:latin typeface="Comic Sans MS"/>
            </a:endParaRPr>
          </a:p>
        </p:txBody>
      </p:sp>
      <p:sp>
        <p:nvSpPr>
          <p:cNvPr id="109" name=""/>
          <p:cNvSpPr/>
          <p:nvPr/>
        </p:nvSpPr>
        <p:spPr>
          <a:xfrm>
            <a:off x="685800" y="1143000"/>
            <a:ext cx="3139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31919"/>
                </a:solidFill>
                <a:latin typeface="Comic Sans MS"/>
              </a:rPr>
              <a:t>For Model 1 – </a:t>
            </a:r>
            <a:r>
              <a:rPr b="0" i="1" lang="en-US" sz="2200" spc="-1" strike="noStrike" u="sng">
                <a:solidFill>
                  <a:srgbClr val="c31919"/>
                </a:solidFill>
                <a:uFillTx/>
                <a:latin typeface="Comic Sans MS"/>
              </a:rPr>
              <a:t>Individual Match</a:t>
            </a:r>
            <a:endParaRPr b="0" lang="en-US" sz="2200" spc="-1" strike="noStrike">
              <a:solidFill>
                <a:srgbClr val="c31919"/>
              </a:solidFill>
              <a:latin typeface="Times New Roman"/>
            </a:endParaRPr>
          </a:p>
        </p:txBody>
      </p:sp>
      <p:grpSp>
        <p:nvGrpSpPr>
          <p:cNvPr id="110" name=""/>
          <p:cNvGrpSpPr/>
          <p:nvPr/>
        </p:nvGrpSpPr>
        <p:grpSpPr>
          <a:xfrm>
            <a:off x="4648320" y="1508040"/>
            <a:ext cx="3809880" cy="4587840"/>
            <a:chOff x="4648320" y="1508040"/>
            <a:chExt cx="3809880" cy="4587840"/>
          </a:xfrm>
        </p:grpSpPr>
        <p:sp>
          <p:nvSpPr>
            <p:cNvPr id="111" name=""/>
            <p:cNvSpPr/>
            <p:nvPr/>
          </p:nvSpPr>
          <p:spPr>
            <a:xfrm>
              <a:off x="4648320" y="1905120"/>
              <a:ext cx="3809880" cy="3962160"/>
            </a:xfrm>
            <a:prstGeom prst="rect">
              <a:avLst/>
            </a:prstGeom>
            <a:solidFill>
              <a:srgbClr val="ffff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12" name=""/>
            <p:cNvSpPr/>
            <p:nvPr/>
          </p:nvSpPr>
          <p:spPr>
            <a:xfrm>
              <a:off x="4648320" y="1981080"/>
              <a:ext cx="33526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Each woman gets three men from three different groups of male.</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Men were randomly separated into three groups.</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We maximize the best matches for each group</a:t>
              </a:r>
              <a:endParaRPr b="0" lang="en-US" sz="2000" spc="-1" strike="noStrike">
                <a:solidFill>
                  <a:srgbClr val="c3191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2 men get no one</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31919"/>
                </a:solidFill>
                <a:latin typeface="Times New Roman"/>
              </a:endParaRPr>
            </a:p>
          </p:txBody>
        </p:sp>
        <p:sp>
          <p:nvSpPr>
            <p:cNvPr id="113" name=""/>
            <p:cNvSpPr/>
            <p:nvPr/>
          </p:nvSpPr>
          <p:spPr>
            <a:xfrm>
              <a:off x="4759560" y="1508040"/>
              <a:ext cx="354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31919"/>
                  </a:solidFill>
                  <a:uFillTx/>
                  <a:latin typeface="Comic Sans MS"/>
                </a:rPr>
                <a:t>For Model 2 – Class Matches</a:t>
              </a:r>
              <a:endParaRPr b="0" lang="en-US" sz="2000" spc="-1" strike="noStrike">
                <a:solidFill>
                  <a:srgbClr val="c31919"/>
                </a:solidFill>
                <a:latin typeface="Times New Roman"/>
              </a:endParaRPr>
            </a:p>
          </p:txBody>
        </p:sp>
      </p:grpSp>
      <p:sp>
        <p:nvSpPr>
          <p:cNvPr id="114" name=""/>
          <p:cNvSpPr/>
          <p:nvPr/>
        </p:nvSpPr>
        <p:spPr>
          <a:xfrm>
            <a:off x="152280" y="6095880"/>
            <a:ext cx="8763120" cy="457200"/>
          </a:xfrm>
          <a:prstGeom prst="rect">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Comic Sans MS"/>
              </a:rPr>
              <a:t>Both Models used all the data from our web questionnaire</a:t>
            </a:r>
            <a:endParaRPr b="0" lang="en-US" sz="24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0"/>
                                        </p:tgtEl>
                                        <p:attrNameLst>
                                          <p:attrName>style.visibility</p:attrName>
                                        </p:attrNameLst>
                                      </p:cBhvr>
                                      <p:to>
                                        <p:strVal val="visible"/>
                                      </p:to>
                                    </p:set>
                                    <p:animEffect filter="wipe(left)"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repl">
                                        <p:cTn id="83" dur="500" fill="hold"/>
                                        <p:tgtEl>
                                          <p:spTgt spid="114"/>
                                        </p:tgtEl>
                                        <p:attrNameLst>
                                          <p:attrName>ppt_w</p:attrName>
                                        </p:attrNameLst>
                                      </p:cBhvr>
                                      <p:tavLst>
                                        <p:tav tm="0">
                                          <p:val>
                                            <p:fltVal val="0"/>
                                          </p:val>
                                        </p:tav>
                                        <p:tav tm="100000">
                                          <p:val>
                                            <p:strVal val="#ppt_w"/>
                                          </p:val>
                                        </p:tav>
                                      </p:tavLst>
                                    </p:anim>
                                    <p:anim calcmode="lin" valueType="num">
                                      <p:cBhvr additive="repl">
                                        <p:cTn id="84"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Model 1 - Individual Match</a:t>
            </a:r>
            <a:endParaRPr b="0" lang="en-US" sz="4400" spc="-1" strike="noStrike">
              <a:solidFill>
                <a:srgbClr val="c31919"/>
              </a:solidFill>
              <a:latin typeface="Comic Sans MS"/>
            </a:endParaRPr>
          </a:p>
        </p:txBody>
      </p:sp>
      <p:pic>
        <p:nvPicPr>
          <p:cNvPr id="116" name="" descr=""/>
          <p:cNvPicPr/>
          <p:nvPr/>
        </p:nvPicPr>
        <p:blipFill>
          <a:blip r:embed="rId1"/>
          <a:srcRect l="0" t="26666" r="0" b="17332"/>
          <a:stretch/>
        </p:blipFill>
        <p:spPr>
          <a:xfrm>
            <a:off x="380880" y="4419720"/>
            <a:ext cx="5943600" cy="2305080"/>
          </a:xfrm>
          <a:prstGeom prst="rect">
            <a:avLst/>
          </a:prstGeom>
          <a:ln w="0">
            <a:noFill/>
          </a:ln>
        </p:spPr>
      </p:pic>
      <p:pic>
        <p:nvPicPr>
          <p:cNvPr id="117" name="" descr=""/>
          <p:cNvPicPr/>
          <p:nvPr/>
        </p:nvPicPr>
        <p:blipFill>
          <a:blip r:embed="rId2"/>
          <a:srcRect l="0" t="16787" r="0" b="12902"/>
          <a:stretch/>
        </p:blipFill>
        <p:spPr>
          <a:xfrm>
            <a:off x="380880" y="1066680"/>
            <a:ext cx="5943600" cy="3343320"/>
          </a:xfrm>
          <a:prstGeom prst="rect">
            <a:avLst/>
          </a:prstGeom>
          <a:ln w="0">
            <a:noFill/>
          </a:ln>
        </p:spPr>
      </p:pic>
      <p:grpSp>
        <p:nvGrpSpPr>
          <p:cNvPr id="118" name=""/>
          <p:cNvGrpSpPr/>
          <p:nvPr/>
        </p:nvGrpSpPr>
        <p:grpSpPr>
          <a:xfrm>
            <a:off x="6477120" y="1905120"/>
            <a:ext cx="2666880" cy="3886200"/>
            <a:chOff x="6477120" y="1905120"/>
            <a:chExt cx="2666880" cy="3886200"/>
          </a:xfrm>
        </p:grpSpPr>
        <p:sp>
          <p:nvSpPr>
            <p:cNvPr id="119" name=""/>
            <p:cNvSpPr/>
            <p:nvPr/>
          </p:nvSpPr>
          <p:spPr>
            <a:xfrm>
              <a:off x="6477120" y="1905120"/>
              <a:ext cx="304560" cy="3886200"/>
            </a:xfrm>
            <a:custGeom>
              <a:avLst/>
              <a:gdLst>
                <a:gd name="textAreaLeft" fmla="*/ 0 w 304560"/>
                <a:gd name="textAreaRight" fmla="*/ 109800 w 304560"/>
                <a:gd name="textAreaTop" fmla="*/ 101160 h 3886200"/>
                <a:gd name="textAreaBottom" fmla="*/ 3785040 h 388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20" name=""/>
            <p:cNvSpPr/>
            <p:nvPr/>
          </p:nvSpPr>
          <p:spPr>
            <a:xfrm>
              <a:off x="6858000" y="2133720"/>
              <a:ext cx="228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his model matches the questions,using </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vlookup</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o see who is</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your best match </a:t>
              </a:r>
              <a:endParaRPr b="0" lang="en-US" sz="2400" spc="-1" strike="noStrike">
                <a:solidFill>
                  <a:srgbClr val="c31919"/>
                </a:solidFill>
                <a:latin typeface="Times New Roman"/>
              </a:endParaRPr>
            </a:p>
          </p:txBody>
        </p:sp>
      </p:grpSp>
      <p:sp>
        <p:nvSpPr>
          <p:cNvPr id="121" name=""/>
          <p:cNvSpPr/>
          <p:nvPr/>
        </p:nvSpPr>
        <p:spPr>
          <a:xfrm>
            <a:off x="457200" y="1905120"/>
            <a:ext cx="5791320" cy="3582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31919"/>
                </a:solidFill>
                <a:uFillTx/>
                <a:latin typeface="Comic Sans MS"/>
              </a:rPr>
              <a:t>Issue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Not all best matches are reciprocal</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Will pull up the same person twice</a:t>
            </a:r>
            <a:br>
              <a:rPr sz="2200"/>
            </a:br>
            <a:r>
              <a:rPr b="0" lang="en-US" sz="2200" spc="-1" strike="noStrike">
                <a:solidFill>
                  <a:srgbClr val="c31919"/>
                </a:solidFill>
                <a:latin typeface="Comic Sans MS"/>
              </a:rPr>
              <a:t> </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Multiple people can have the same score</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Importance of questions are not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weighted</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18"/>
                                        </p:tgtEl>
                                        <p:attrNameLst>
                                          <p:attrName>style.visibility</p:attrName>
                                        </p:attrNameLst>
                                      </p:cBhvr>
                                      <p:to>
                                        <p:strVal val="visible"/>
                                      </p:to>
                                    </p:set>
                                    <p:animEffect filter="wipe(left)" transition="in">
                                      <p:cBhvr additive="repl">
                                        <p:cTn id="91" dur="500"/>
                                        <p:tgtEl>
                                          <p:spTgt spid="11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21"/>
                                        </p:tgtEl>
                                        <p:attrNameLst>
                                          <p:attrName>style.visibility</p:attrName>
                                        </p:attrNameLst>
                                      </p:cBhvr>
                                      <p:to>
                                        <p:strVal val="visible"/>
                                      </p:to>
                                    </p:set>
                                    <p:animEffect filter="slide(fromTop)" transition="in">
                                      <p:cBhvr additive="repl">
                                        <p:cTn id="9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Reporting</a:t>
            </a:r>
            <a:endParaRPr b="0" lang="en-US" sz="4400" spc="-1" strike="noStrike">
              <a:solidFill>
                <a:srgbClr val="c31919"/>
              </a:solidFill>
              <a:latin typeface="Comic Sans MS"/>
            </a:endParaRPr>
          </a:p>
        </p:txBody>
      </p:sp>
      <p:pic>
        <p:nvPicPr>
          <p:cNvPr id="123" name="" descr=""/>
          <p:cNvPicPr/>
          <p:nvPr/>
        </p:nvPicPr>
        <p:blipFill>
          <a:blip r:embed="rId1"/>
          <a:srcRect l="0" t="18739" r="8596" b="24618"/>
          <a:stretch/>
        </p:blipFill>
        <p:spPr>
          <a:xfrm>
            <a:off x="76320" y="1523880"/>
            <a:ext cx="8915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Model 2- Best Fit For Class</a:t>
            </a:r>
            <a:endParaRPr b="0" lang="en-US" sz="4400" spc="-1" strike="noStrike">
              <a:solidFill>
                <a:srgbClr val="c31919"/>
              </a:solidFill>
              <a:latin typeface="Comic Sans MS"/>
            </a:endParaRPr>
          </a:p>
        </p:txBody>
      </p:sp>
      <p:pic>
        <p:nvPicPr>
          <p:cNvPr id="125" name="" descr=""/>
          <p:cNvPicPr/>
          <p:nvPr/>
        </p:nvPicPr>
        <p:blipFill>
          <a:blip r:embed="rId1"/>
          <a:srcRect l="0" t="24076" r="2778" b="14816"/>
          <a:stretch/>
        </p:blipFill>
        <p:spPr>
          <a:xfrm>
            <a:off x="457200" y="1143000"/>
            <a:ext cx="3809880" cy="2857680"/>
          </a:xfrm>
          <a:prstGeom prst="rect">
            <a:avLst/>
          </a:prstGeom>
          <a:ln w="0">
            <a:noFill/>
          </a:ln>
        </p:spPr>
      </p:pic>
      <p:pic>
        <p:nvPicPr>
          <p:cNvPr id="126" name="" descr=""/>
          <p:cNvPicPr/>
          <p:nvPr/>
        </p:nvPicPr>
        <p:blipFill>
          <a:blip r:embed="rId2"/>
          <a:srcRect l="0" t="22999" r="0" b="18815"/>
          <a:stretch/>
        </p:blipFill>
        <p:spPr>
          <a:xfrm>
            <a:off x="380880" y="4267080"/>
            <a:ext cx="8229600" cy="2210040"/>
          </a:xfrm>
          <a:prstGeom prst="rect">
            <a:avLst/>
          </a:prstGeom>
          <a:ln w="0">
            <a:noFill/>
          </a:ln>
        </p:spPr>
      </p:pic>
      <p:sp>
        <p:nvSpPr>
          <p:cNvPr id="127" name=""/>
          <p:cNvSpPr/>
          <p:nvPr/>
        </p:nvSpPr>
        <p:spPr>
          <a:xfrm>
            <a:off x="609480" y="1600200"/>
            <a:ext cx="3657600" cy="5547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I</a:t>
            </a:r>
            <a:r>
              <a:rPr b="0" lang="en-US" sz="2200" spc="-1" strike="noStrike" u="sng">
                <a:solidFill>
                  <a:srgbClr val="c31919"/>
                </a:solidFill>
                <a:uFillTx/>
                <a:latin typeface="Comic Sans MS"/>
              </a:rPr>
              <a:t>ssue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Too many adjustable cell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58x 58 matrix)</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Too many adjustable cell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for guys and girls: 14 g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girls, 44 guy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3 groups: each group ha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2 guys.  Sacrificed 2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guys.</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No easy way of setting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up table</a:t>
            </a:r>
            <a:endParaRPr b="0" lang="en-US" sz="2200" spc="-1" strike="noStrike">
              <a:solidFill>
                <a:srgbClr val="c31919"/>
              </a:solidFill>
              <a:latin typeface="Times New Roman"/>
            </a:endParaRPr>
          </a:p>
        </p:txBody>
      </p:sp>
      <p:grpSp>
        <p:nvGrpSpPr>
          <p:cNvPr id="128" name=""/>
          <p:cNvGrpSpPr/>
          <p:nvPr/>
        </p:nvGrpSpPr>
        <p:grpSpPr>
          <a:xfrm>
            <a:off x="4102560" y="1044360"/>
            <a:ext cx="4736520" cy="3191400"/>
            <a:chOff x="4102560" y="1044360"/>
            <a:chExt cx="4736520" cy="3191400"/>
          </a:xfrm>
        </p:grpSpPr>
        <p:sp>
          <p:nvSpPr>
            <p:cNvPr id="129" name=""/>
            <p:cNvSpPr/>
            <p:nvPr/>
          </p:nvSpPr>
          <p:spPr>
            <a:xfrm rot="19642200">
              <a:off x="4683240" y="1306080"/>
              <a:ext cx="1752480" cy="2667240"/>
            </a:xfrm>
            <a:custGeom>
              <a:avLst/>
              <a:gdLst>
                <a:gd name="textAreaLeft" fmla="*/ 0 w 1752480"/>
                <a:gd name="textAreaRight" fmla="*/ 632880 w 175248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30" name=""/>
            <p:cNvSpPr/>
            <p:nvPr/>
          </p:nvSpPr>
          <p:spPr>
            <a:xfrm>
              <a:off x="6324480" y="1295280"/>
              <a:ext cx="2514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his model maximizes the  satisfaction of all the woman in the class. Used 0 and 1 as the decision variables.</a:t>
              </a:r>
              <a:endParaRPr b="0" lang="en-US" sz="2400" spc="-1" strike="noStrike">
                <a:solidFill>
                  <a:srgbClr val="c31919"/>
                </a:solidFill>
                <a:latin typeface="Times New Roman"/>
              </a:endParaRPr>
            </a:p>
          </p:txBody>
        </p:sp>
      </p:grpSp>
      <p:sp>
        <p:nvSpPr>
          <p:cNvPr id="131" name=""/>
          <p:cNvSpPr/>
          <p:nvPr/>
        </p:nvSpPr>
        <p:spPr>
          <a:xfrm>
            <a:off x="228600" y="1143000"/>
            <a:ext cx="8763120" cy="5410080"/>
          </a:xfrm>
          <a:prstGeom prst="rect">
            <a:avLst/>
          </a:prstGeom>
          <a:solidFill>
            <a:srgbClr val="00cc99"/>
          </a:solidFill>
          <a:ln w="9360">
            <a:solidFill>
              <a:srgbClr val="c3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Both Models had issues </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because some </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people did not answer</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 </a:t>
            </a:r>
            <a:r>
              <a:rPr b="0" lang="en-US" sz="4400" spc="-1" strike="noStrike">
                <a:solidFill>
                  <a:srgbClr val="c31919"/>
                </a:solidFill>
                <a:latin typeface="Comic Sans MS"/>
              </a:rPr>
              <a:t>all the questions</a:t>
            </a:r>
            <a:endParaRPr b="0" lang="en-US" sz="44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28"/>
                                        </p:tgtEl>
                                        <p:attrNameLst>
                                          <p:attrName>style.visibility</p:attrName>
                                        </p:attrNameLst>
                                      </p:cBhvr>
                                      <p:to>
                                        <p:strVal val="visible"/>
                                      </p:to>
                                    </p:set>
                                    <p:animEffect filter="wipe(down)" transition="in">
                                      <p:cBhvr additive="repl">
                                        <p:cTn id="103" dur="500"/>
                                        <p:tgtEl>
                                          <p:spTgt spid="12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127"/>
                                        </p:tgtEl>
                                        <p:attrNameLst>
                                          <p:attrName>style.visibility</p:attrName>
                                        </p:attrNameLst>
                                      </p:cBhvr>
                                      <p:to>
                                        <p:strVal val="visible"/>
                                      </p:to>
                                    </p:set>
                                    <p:animEffect filter="slide(fromTop)" transition="in">
                                      <p:cBhvr additive="repl">
                                        <p:cTn id="108" dur="500"/>
                                        <p:tgtEl>
                                          <p:spTgt spid="12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52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repl">
                                        <p:cTn id="113" dur="500" fill="hold"/>
                                        <p:tgtEl>
                                          <p:spTgt spid="131"/>
                                        </p:tgtEl>
                                        <p:attrNameLst>
                                          <p:attrName>ppt_w</p:attrName>
                                        </p:attrNameLst>
                                      </p:cBhvr>
                                      <p:tavLst>
                                        <p:tav tm="0">
                                          <p:val>
                                            <p:fltVal val="0"/>
                                          </p:val>
                                        </p:tav>
                                        <p:tav tm="100000">
                                          <p:val>
                                            <p:strVal val="#ppt_w"/>
                                          </p:val>
                                        </p:tav>
                                      </p:tavLst>
                                    </p:anim>
                                    <p:anim calcmode="lin" valueType="num">
                                      <p:cBhvr additive="repl">
                                        <p:cTn id="114" dur="500" fill="hold"/>
                                        <p:tgtEl>
                                          <p:spTgt spid="131"/>
                                        </p:tgtEl>
                                        <p:attrNameLst>
                                          <p:attrName>ppt_h</p:attrName>
                                        </p:attrNameLst>
                                      </p:cBhvr>
                                      <p:tavLst>
                                        <p:tav tm="0">
                                          <p:val>
                                            <p:fltVal val="0"/>
                                          </p:val>
                                        </p:tav>
                                        <p:tav tm="100000">
                                          <p:val>
                                            <p:strVal val="#ppt_h"/>
                                          </p:val>
                                        </p:tav>
                                      </p:tavLst>
                                    </p:anim>
                                    <p:anim calcmode="lin" valueType="num">
                                      <p:cBhvr additive="repl">
                                        <p:cTn id="115" dur="500" fill="hold"/>
                                        <p:tgtEl>
                                          <p:spTgt spid="131"/>
                                        </p:tgtEl>
                                        <p:attrNameLst>
                                          <p:attrName>ppt_x</p:attrName>
                                        </p:attrNameLst>
                                      </p:cBhvr>
                                      <p:tavLst>
                                        <p:tav tm="0">
                                          <p:val>
                                            <p:fltVal val="0.5"/>
                                          </p:val>
                                        </p:tav>
                                        <p:tav tm="100000">
                                          <p:val>
                                            <p:strVal val="#ppt_x"/>
                                          </p:val>
                                        </p:tav>
                                      </p:tavLst>
                                    </p:anim>
                                    <p:anim calcmode="lin" valueType="num">
                                      <p:cBhvr additive="repl">
                                        <p:cTn id="116" dur="500" fill="hold"/>
                                        <p:tgtEl>
                                          <p:spTgt spid="1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6:15:40Z</dcterms:created>
  <dc:creator>hziv</dc:creator>
  <dc:description/>
  <dc:language>en-US</dc:language>
  <cp:lastModifiedBy>soriag</cp:lastModifiedBy>
  <dcterms:modified xsi:type="dcterms:W3CDTF">2002-12-04T16:36:49Z</dcterms:modified>
  <cp:revision>13</cp:revision>
  <dc:subject/>
  <dc:title>DMC Matching Service</dc:title>
</cp:coreProperties>
</file>