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08E6-5F57-4EBB-996D-A98F21658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5335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5D36-4391-4C30-B35E-4588F538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5335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5335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0B69-380C-4AB5-954C-25B20AB0F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4419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4419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5335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5335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5335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F326-DB20-49D5-BFB9-9A53C6653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4E85-B50E-4AD5-AA38-F70555BDD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DA29-A591-4A0E-9D41-AE6048E0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4876-5954-4AF8-B5FF-8239B309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00F0-1830-4FC0-B4C8-C4ED2943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E486-4E80-4D76-8719-AD084D6E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2895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FE2C-1A1C-485B-9B0F-7B48D642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71600" y="5335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9E1E-46C8-4C6E-8816-36CAEDE5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976F-AA24-43F2-BD4D-82B1CAE5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51560" y="5335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EF77-804C-49CC-ADAE-A5A251F0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5335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6A15-95F3-435B-883E-7B65D592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371600" y="5335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CC11-F59E-4E69-959B-5A2EB386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5335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51560" y="5335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1A72-278A-4945-AB42-3F73AB0DE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35560" y="4419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99880" y="4419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371600" y="5335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35560" y="5335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99880" y="5335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05B3-DACB-46B3-931F-8F7AD3917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4331-92FA-4427-91CF-8B9139FE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0EC2-2082-4EAC-8679-6680C712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AA3D-EDDD-4F94-B590-35F373F3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895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C0B7-887B-46CA-ABC4-4E80192E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5335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9B46-B79C-4E27-AA4B-52541F32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5335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A345-13A5-4D67-B4D4-EE2E0F00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5335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0A97-1A4B-4C88-92D3-5DD5D6C1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66B8-2E1F-46F3-88E1-BC435AF2A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3240" y="2895480"/>
            <a:ext cx="9147240" cy="113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7F53-CEB4-4D52-865D-300339B83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etirement Plann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am 4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by Cai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mes Charti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ck Jam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hael Leka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n Picciotto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son Stib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odel Outpu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5760" y="1442880"/>
            <a:ext cx="8381880" cy="52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odel Outpu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5760" y="1447920"/>
            <a:ext cx="838188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odel Outpu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5760" y="1447920"/>
            <a:ext cx="838188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odel Outpu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442880"/>
            <a:ext cx="8381880" cy="52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odel Outpu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38188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odel Demonstr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rehensive retirement planning model is extremely useful to see the implications of various lifestyle cho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ystal Ball “grabbers” are helpful in analyzing outpu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items for future consider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stment goal is comprised of liquid ass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nses during retirement are not calcul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600200"/>
            <a:ext cx="7772400" cy="46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erial Problem Defi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 Method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 Outp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 Demonstr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 &amp;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groun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a need for a comprehensive retirement planning tool that incorporates all major expenses determined by lifestyle cho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you complete your MBA, you are probably wonder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I be able to retire comfortably when I want t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impact of having another chil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I afford a second ho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anagerial Problem Definition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bjective is to create a personalized model that computes th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stment nest egg at ret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kelihood of reaching a specified retirement go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retirement 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lution Methodolog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49568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 inpu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to retir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savings / deb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k tole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 / mortgage expe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ture ho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544760"/>
            <a:ext cx="4724640" cy="24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irement go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en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1K and IRA con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enting expen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4495680"/>
            <a:ext cx="86104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 inputs are used to calculate the cash flows for each monthly period based on Total Revenues - Total Expe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ystal Ball simulates the investment returns for each monthly period based on the individual’s risk tole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odel Highligh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me growth is applied annually up to a maximum am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e of savings is computed.  If individual is not saving money, cost of debt is appli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vel of risk is gradually adjusted as time to retirement decreases.  A pre-determined mix of stocks and bonds is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variance was calculated after analyzing historical returns since 19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odel Highligh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ditional Formatting was used to prompt the user for additional information, if applic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2280" y="4572000"/>
            <a:ext cx="83822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odel Highlights (cont’d)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8686800" cy="685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066680" y="4343400"/>
            <a:ext cx="701064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odel Highlights (cont’d)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1600200"/>
            <a:ext cx="7772400" cy="7621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160020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MIN((CurrComp*(1+CompGrowth)^(ROUNDUP(A3/12,0)-1)/(12)), IncomeC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981080"/>
            <a:ext cx="609840" cy="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6320" y="3219480"/>
            <a:ext cx="8915400" cy="1352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09480" y="1981080"/>
            <a:ext cx="1828800" cy="213372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1T20:53:58Z</dcterms:created>
  <dc:creator>Stern School</dc:creator>
  <dc:description/>
  <dc:language>en-US</dc:language>
  <cp:lastModifiedBy>Stern School</cp:lastModifiedBy>
  <dcterms:modified xsi:type="dcterms:W3CDTF">2002-12-04T22:19:17Z</dcterms:modified>
  <cp:revision>18</cp:revision>
  <dc:subject/>
  <dc:title>Financial Performa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