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0.jpeg" ContentType="image/jpeg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gif" ContentType="image/gif"/>
  <Override PartName="/ppt/media/image27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2E2-5D9E-417D-AA44-B1AE0460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4DC-3794-45B1-A879-240CFA2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B3E-5647-4980-9AFD-056C26D9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2960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428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492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2960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6428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37C-E9C6-4483-BB2E-B01F43C0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84D-4440-4BF9-8B6D-F3DF7965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4AA-89C7-478D-AD2D-C4A1632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B1F4-63F3-4D90-92E6-5C9EE55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396-E15D-4732-955C-81D9F30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8C39-75F3-4931-903F-60D45352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63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5B9-3DA9-4CFA-AF5B-4270A1D3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E24A-EDEB-404B-B049-21B08F6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487-18A9-42A0-A3C2-811A55A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DDA6-9D86-45EA-B69D-4A26167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6F5E-79B9-4A9E-B824-FB96C459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3717-48C9-43BC-BC0F-D87B469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B64-82F4-4146-9239-8E48DE61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82960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428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492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82960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26428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E21F-1D7E-4E6E-B850-C50B2558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71C-7FAC-470E-9708-E30D3FD6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592-0E60-4126-A940-6FE6FA8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032-3F49-4E39-B1B7-54F5B2A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63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91A-11BA-4A46-89D5-52DADA8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145-4380-49CA-84A0-694E38C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255-901F-4E67-9EE9-66A9F4CA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913-F6D9-4537-B663-6A899BB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925-2EDB-4EB2-87BF-967FEB9D8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269120" y="1533600"/>
            <a:ext cx="1335240" cy="88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" name=""/>
          <p:cNvGraphicFramePr/>
          <p:nvPr/>
        </p:nvGraphicFramePr>
        <p:xfrm>
          <a:off x="6981840" y="260280"/>
          <a:ext cx="205416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1840" y="260280"/>
                    <a:ext cx="20541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6EC-A301-4FB0-8CCD-2C44FC605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png"/><Relationship Id="rId13" Type="http://schemas.openxmlformats.org/officeDocument/2006/relationships/image" Target="../media/image10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.png"/><Relationship Id="rId16" Type="http://schemas.openxmlformats.org/officeDocument/2006/relationships/image" Target="../media/image9.jpe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.png"/><Relationship Id="rId19" Type="http://schemas.openxmlformats.org/officeDocument/2006/relationships/image" Target="../media/image12.jpe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.png"/><Relationship Id="rId22" Type="http://schemas.openxmlformats.org/officeDocument/2006/relationships/image" Target="../media/image14.jpe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3822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A New Major League Team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1100" t="0" r="11100" b="0"/>
          <a:stretch/>
        </p:blipFill>
        <p:spPr>
          <a:xfrm>
            <a:off x="3492360" y="4508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2447640" cy="1657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303640" cy="175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692360" y="808200"/>
            <a:ext cx="5838840" cy="19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Lucida Sans Unicode"/>
              </a:rPr>
              <a:t>The New Orleans Crawfish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Lucida Sans Unicode"/>
              <a:ea typeface="Lucida Sans Unicode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360600" y="1125360"/>
          <a:ext cx="257976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0600" y="1125360"/>
                    <a:ext cx="25797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924360" y="2781360"/>
            <a:ext cx="1334880" cy="88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2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4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666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Runs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96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The Twins Collide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524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James wants the best team possible, regardless of cost, but Jack wants to limit the starting team budg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62520" y="2657520"/>
            <a:ext cx="5181480" cy="42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urveball Constraint and Assumption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dded Assumption: A player’s current annual salary is the best approximation of what the Crawfish would need to pay that player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dded Constraint: The total salary of all 9 players must not exceed $30 million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3868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1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5960" y="2491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Batting Averag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848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2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565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Slugging Perce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3915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3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2498400"/>
            <a:ext cx="72007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OP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8153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4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6" name=""/>
          <p:cNvSpPr/>
          <p:nvPr/>
        </p:nvSpPr>
        <p:spPr>
          <a:xfrm>
            <a:off x="590400" y="26114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Runs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Analysi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137800" cy="95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8360" y="28526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Comparison of To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15000" y="414324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2060640"/>
            <a:ext cx="52563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Barry Bonds earns his paycheck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New talent, like Alfonso Soriano, is ke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After $30 million, diminishing marginal returns kick in significantl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olver is limited in its capacity as an optimiz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595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Managerial Problem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201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win brothers, James and Jack Crawfish, want to start a major league baseball team in New Orleans. They have hired us to identify the best possible team, based on the universe of current major league ballplayer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5219640"/>
            <a:ext cx="118296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38680" y="5202360"/>
            <a:ext cx="119700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09680" y="5226120"/>
            <a:ext cx="117972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52680" y="5211720"/>
            <a:ext cx="1189080" cy="164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8168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6668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95492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0" y="5213520"/>
            <a:ext cx="118908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Decision Variable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3680" y="2358720"/>
            <a:ext cx="66038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he 9 players to acquire for the starting lineup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954920" y="5213520"/>
            <a:ext cx="1189080" cy="1646640"/>
            <a:chOff x="7954920" y="5213520"/>
            <a:chExt cx="1189080" cy="164664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95492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2312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8244000" y="5229360"/>
            <a:ext cx="768240" cy="5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00" y="5229360"/>
                      <a:ext cx="768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"/>
          <p:cNvGrpSpPr/>
          <p:nvPr/>
        </p:nvGrpSpPr>
        <p:grpSpPr>
          <a:xfrm>
            <a:off x="6781680" y="5213520"/>
            <a:ext cx="1189080" cy="1646640"/>
            <a:chOff x="6781680" y="5213520"/>
            <a:chExt cx="1189080" cy="1646640"/>
          </a:xfrm>
        </p:grpSpPr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168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7020000" y="5229360"/>
            <a:ext cx="718920" cy="4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20000" y="5229360"/>
                      <a:ext cx="71892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5638680" y="5202360"/>
            <a:ext cx="1197000" cy="1657800"/>
            <a:chOff x="5638680" y="5202360"/>
            <a:chExt cx="1197000" cy="1657800"/>
          </a:xfrm>
        </p:grpSpPr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5638680" y="5202360"/>
              <a:ext cx="1197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6728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5940360" y="5229360"/>
            <a:ext cx="719280" cy="485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94036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" name=""/>
          <p:cNvGrpSpPr/>
          <p:nvPr/>
        </p:nvGrpSpPr>
        <p:grpSpPr>
          <a:xfrm>
            <a:off x="4495680" y="5219640"/>
            <a:ext cx="1182960" cy="1640520"/>
            <a:chOff x="4495680" y="5219640"/>
            <a:chExt cx="1182960" cy="1640520"/>
          </a:xfrm>
        </p:grpSpPr>
        <p:pic>
          <p:nvPicPr>
            <p:cNvPr id="128" name="" descr=""/>
            <p:cNvPicPr/>
            <p:nvPr/>
          </p:nvPicPr>
          <p:blipFill>
            <a:blip r:embed="rId10"/>
            <a:stretch/>
          </p:blipFill>
          <p:spPr>
            <a:xfrm>
              <a:off x="4495680" y="5219640"/>
              <a:ext cx="11829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716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4716360" y="5300640"/>
            <a:ext cx="719280" cy="48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530064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" name=""/>
          <p:cNvGrpSpPr/>
          <p:nvPr/>
        </p:nvGrpSpPr>
        <p:grpSpPr>
          <a:xfrm>
            <a:off x="3352680" y="5211720"/>
            <a:ext cx="1189080" cy="1648440"/>
            <a:chOff x="3352680" y="5211720"/>
            <a:chExt cx="1189080" cy="164844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3352680" y="5211720"/>
              <a:ext cx="11890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92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3635280" y="5229360"/>
            <a:ext cx="719280" cy="485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63528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209680" y="5226120"/>
            <a:ext cx="1179720" cy="1634040"/>
            <a:chOff x="2209680" y="5226120"/>
            <a:chExt cx="1179720" cy="1634040"/>
          </a:xfrm>
        </p:grpSpPr>
        <p:pic>
          <p:nvPicPr>
            <p:cNvPr id="138" name="" descr=""/>
            <p:cNvPicPr/>
            <p:nvPr/>
          </p:nvPicPr>
          <p:blipFill>
            <a:blip r:embed="rId16"/>
            <a:stretch/>
          </p:blipFill>
          <p:spPr>
            <a:xfrm>
              <a:off x="2209680" y="5226120"/>
              <a:ext cx="117972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484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2411280" y="5229360"/>
            <a:ext cx="719280" cy="485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1128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"/>
          <p:cNvGrpSpPr/>
          <p:nvPr/>
        </p:nvGrpSpPr>
        <p:grpSpPr>
          <a:xfrm>
            <a:off x="1042920" y="5213520"/>
            <a:ext cx="1189080" cy="1646640"/>
            <a:chOff x="1042920" y="5213520"/>
            <a:chExt cx="1189080" cy="1646640"/>
          </a:xfrm>
        </p:grpSpPr>
        <p:pic>
          <p:nvPicPr>
            <p:cNvPr id="143" name="" descr=""/>
            <p:cNvPicPr/>
            <p:nvPr/>
          </p:nvPicPr>
          <p:blipFill>
            <a:blip r:embed="rId19"/>
            <a:stretch/>
          </p:blipFill>
          <p:spPr>
            <a:xfrm>
              <a:off x="104292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6352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1308240" y="5229360"/>
            <a:ext cx="718920" cy="485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308240" y="5229360"/>
                      <a:ext cx="71892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-36360" y="5213520"/>
            <a:ext cx="1188720" cy="1644480"/>
            <a:chOff x="-36360" y="5213520"/>
            <a:chExt cx="1188720" cy="1644480"/>
          </a:xfrm>
        </p:grpSpPr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-36360" y="5213520"/>
              <a:ext cx="118872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2560" y="5624640"/>
              <a:ext cx="74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214200" y="5300640"/>
            <a:ext cx="718560" cy="485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14200" y="5300640"/>
                      <a:ext cx="7185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78487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Owners only need starting roster of 9 player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itchers should be judged only on ERA. All other positions are judged only by offensive statistic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2002 statistics are representative of future player performanc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All players are available (free agency galore and bottomless pockets)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re are no synergies in a batting order. We aim to select the best possible player for each position, discounting how they might affect one another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onstraint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2212560"/>
            <a:ext cx="705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more or less than 9 players in the lineup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more or less than 1 player per position. For the outfield, we assume any outfielder could play center, right or leftfield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oster must have fielding percentage greater than 97%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designated hitter permitted in lineup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tcher must have ERA of less than 3.00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n-pitchers must have had at least 100 at bats in 2002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4 Scenario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60520"/>
            <a:ext cx="7632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fensive Player Performance Measuremen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Batting Average: BA = Hits / At Bats. A conventional measure, familiar to the client and public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lugging Percentage: Total Bases / At Bats. Treats extra-base hits as more valuable than singles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OPS: OPS equals On-base Percentage + Slugging Percentage. Takes into account walks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uns Created: RC = (Hits + Walks) * (Total Bases) / (Plate Appearances). Attempts to quantify the entire contribution of a player's statistics to a team's total runs scored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1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2468520"/>
            <a:ext cx="7200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Batting Averag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315200" cy="27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2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492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Slugging Perce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9608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3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2498400"/>
            <a:ext cx="72007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OP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8077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39:38Z</dcterms:created>
  <dc:creator> </dc:creator>
  <dc:description/>
  <dc:language>en-US</dc:language>
  <cp:lastModifiedBy>Stern School</cp:lastModifiedBy>
  <dcterms:modified xsi:type="dcterms:W3CDTF">2002-12-11T02:39:04Z</dcterms:modified>
  <cp:revision>30</cp:revision>
  <dc:subject/>
  <dc:title>Making A Team</dc:title>
</cp:coreProperties>
</file>