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wmf" ContentType="image/x-wmf"/>
  <Override PartName="/ppt/media/image14.png" ContentType="image/png"/>
  <Override PartName="/ppt/media/image8.wmf" ContentType="image/x-wmf"/>
  <Override PartName="/ppt/media/image9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7.wmf" ContentType="image/x-wmf"/>
  <Override PartName="/ppt/media/image12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FCE96-C9C1-4AB2-BCBD-AF90556C4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-53388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99840" y="1142640"/>
            <a:ext cx="716292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>
              <a:spcBef>
                <a:spcPts val="524"/>
              </a:spcBef>
              <a:buNone/>
              <a:tabLst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99840" y="4127760"/>
            <a:ext cx="716292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>
              <a:spcBef>
                <a:spcPts val="524"/>
              </a:spcBef>
              <a:buNone/>
              <a:tabLst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BB9EA-4551-4AF6-AFCB-AF6AE7321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3520" y="-53388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99840" y="1142640"/>
            <a:ext cx="349524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0000"/>
          </a:bodyPr>
          <a:p>
            <a:pPr indent="0">
              <a:spcBef>
                <a:spcPts val="524"/>
              </a:spcBef>
              <a:buNone/>
              <a:tabLst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70400" y="1142640"/>
            <a:ext cx="349524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0000"/>
          </a:bodyPr>
          <a:p>
            <a:pPr indent="0">
              <a:spcBef>
                <a:spcPts val="524"/>
              </a:spcBef>
              <a:buNone/>
              <a:tabLst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99840" y="4127760"/>
            <a:ext cx="349524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0000"/>
          </a:bodyPr>
          <a:p>
            <a:pPr indent="0">
              <a:spcBef>
                <a:spcPts val="524"/>
              </a:spcBef>
              <a:buNone/>
              <a:tabLst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70400" y="4127760"/>
            <a:ext cx="349524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0000"/>
          </a:bodyPr>
          <a:p>
            <a:pPr indent="0">
              <a:spcBef>
                <a:spcPts val="524"/>
              </a:spcBef>
              <a:buNone/>
              <a:tabLst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E6EAD-0F82-4880-90A9-1A608CA9C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3520" y="-53388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99840" y="1142640"/>
            <a:ext cx="230616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0000"/>
          </a:bodyPr>
          <a:p>
            <a:pPr indent="0">
              <a:spcBef>
                <a:spcPts val="524"/>
              </a:spcBef>
              <a:buNone/>
              <a:tabLst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021560" y="1142640"/>
            <a:ext cx="230616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0000"/>
          </a:bodyPr>
          <a:p>
            <a:pPr indent="0">
              <a:spcBef>
                <a:spcPts val="524"/>
              </a:spcBef>
              <a:buNone/>
              <a:tabLst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43640" y="1142640"/>
            <a:ext cx="230616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0000"/>
          </a:bodyPr>
          <a:p>
            <a:pPr indent="0">
              <a:spcBef>
                <a:spcPts val="524"/>
              </a:spcBef>
              <a:buNone/>
              <a:tabLst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99840" y="4127760"/>
            <a:ext cx="230616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0000"/>
          </a:bodyPr>
          <a:p>
            <a:pPr indent="0">
              <a:spcBef>
                <a:spcPts val="524"/>
              </a:spcBef>
              <a:buNone/>
              <a:tabLst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4021560" y="4127760"/>
            <a:ext cx="230616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0000"/>
          </a:bodyPr>
          <a:p>
            <a:pPr indent="0">
              <a:spcBef>
                <a:spcPts val="524"/>
              </a:spcBef>
              <a:buNone/>
              <a:tabLst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43640" y="4127760"/>
            <a:ext cx="230616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0000"/>
          </a:bodyPr>
          <a:p>
            <a:pPr indent="0">
              <a:spcBef>
                <a:spcPts val="524"/>
              </a:spcBef>
              <a:buNone/>
              <a:tabLst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D7CB2-8F89-40D4-9784-13FF5EB4D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14FEB-954A-44FD-970F-17B8F420E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-53388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599840" y="1142640"/>
            <a:ext cx="71629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9BC05-31CC-4C42-918D-37A5E51B7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3520" y="-53388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99840" y="1142640"/>
            <a:ext cx="716292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57C91-450B-4637-A635-313C13EF7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3520" y="-53388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99840" y="1142640"/>
            <a:ext cx="34952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70400" y="1142640"/>
            <a:ext cx="34952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AF216-44EA-410B-80CA-35248A3E1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3520" y="-53388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598E9-5B37-438D-9C4B-32FDCF48A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3520" y="-533880"/>
            <a:ext cx="7239240" cy="669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A8C50-73D4-4AC6-8784-9D03EF2CA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520" y="-53388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99840" y="1142640"/>
            <a:ext cx="349524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0000"/>
          </a:bodyPr>
          <a:p>
            <a:pPr indent="0">
              <a:spcBef>
                <a:spcPts val="524"/>
              </a:spcBef>
              <a:buNone/>
              <a:tabLst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70400" y="1142640"/>
            <a:ext cx="34952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99840" y="4127760"/>
            <a:ext cx="349524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0000"/>
          </a:bodyPr>
          <a:p>
            <a:pPr indent="0">
              <a:spcBef>
                <a:spcPts val="524"/>
              </a:spcBef>
              <a:buNone/>
              <a:tabLst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71BE0-43E5-42FA-B462-CDCDCD9C6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520" y="-53388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99840" y="1142640"/>
            <a:ext cx="71629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249A9-CFAC-49DC-854E-812BA5B76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-53388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99840" y="1142640"/>
            <a:ext cx="34952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70400" y="1142640"/>
            <a:ext cx="349524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0000"/>
          </a:bodyPr>
          <a:p>
            <a:pPr indent="0">
              <a:spcBef>
                <a:spcPts val="524"/>
              </a:spcBef>
              <a:buNone/>
              <a:tabLst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70400" y="4127760"/>
            <a:ext cx="349524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0000"/>
          </a:bodyPr>
          <a:p>
            <a:pPr indent="0">
              <a:spcBef>
                <a:spcPts val="524"/>
              </a:spcBef>
              <a:buNone/>
              <a:tabLst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CD04E-C31E-46D1-89E6-370D65AD6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3520" y="-53388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99840" y="1142640"/>
            <a:ext cx="349524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0000"/>
          </a:bodyPr>
          <a:p>
            <a:pPr indent="0">
              <a:spcBef>
                <a:spcPts val="524"/>
              </a:spcBef>
              <a:buNone/>
              <a:tabLst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70400" y="1142640"/>
            <a:ext cx="349524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0000"/>
          </a:bodyPr>
          <a:p>
            <a:pPr indent="0">
              <a:spcBef>
                <a:spcPts val="524"/>
              </a:spcBef>
              <a:buNone/>
              <a:tabLst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599840" y="4127760"/>
            <a:ext cx="716292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>
              <a:spcBef>
                <a:spcPts val="524"/>
              </a:spcBef>
              <a:buNone/>
              <a:tabLst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8A5B2-ABC9-401D-96AC-59A2A89D7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-53388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99840" y="1142640"/>
            <a:ext cx="716292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>
              <a:spcBef>
                <a:spcPts val="524"/>
              </a:spcBef>
              <a:buNone/>
              <a:tabLst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599840" y="4127760"/>
            <a:ext cx="716292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>
              <a:spcBef>
                <a:spcPts val="524"/>
              </a:spcBef>
              <a:buNone/>
              <a:tabLst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A819E-DAD0-4E3E-A8EA-CC8B1264F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3520" y="-53388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99840" y="1142640"/>
            <a:ext cx="349524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0000"/>
          </a:bodyPr>
          <a:p>
            <a:pPr indent="0">
              <a:spcBef>
                <a:spcPts val="524"/>
              </a:spcBef>
              <a:buNone/>
              <a:tabLst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70400" y="1142640"/>
            <a:ext cx="349524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0000"/>
          </a:bodyPr>
          <a:p>
            <a:pPr indent="0">
              <a:spcBef>
                <a:spcPts val="524"/>
              </a:spcBef>
              <a:buNone/>
              <a:tabLst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599840" y="4127760"/>
            <a:ext cx="349524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0000"/>
          </a:bodyPr>
          <a:p>
            <a:pPr indent="0">
              <a:spcBef>
                <a:spcPts val="524"/>
              </a:spcBef>
              <a:buNone/>
              <a:tabLst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70400" y="4127760"/>
            <a:ext cx="349524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0000"/>
          </a:bodyPr>
          <a:p>
            <a:pPr indent="0">
              <a:spcBef>
                <a:spcPts val="524"/>
              </a:spcBef>
              <a:buNone/>
              <a:tabLst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5012A-0EC5-417D-94BF-455050815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-53388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99840" y="1142640"/>
            <a:ext cx="230616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0000"/>
          </a:bodyPr>
          <a:p>
            <a:pPr indent="0">
              <a:spcBef>
                <a:spcPts val="524"/>
              </a:spcBef>
              <a:buNone/>
              <a:tabLst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021560" y="1142640"/>
            <a:ext cx="230616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0000"/>
          </a:bodyPr>
          <a:p>
            <a:pPr indent="0">
              <a:spcBef>
                <a:spcPts val="524"/>
              </a:spcBef>
              <a:buNone/>
              <a:tabLst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43640" y="1142640"/>
            <a:ext cx="230616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0000"/>
          </a:bodyPr>
          <a:p>
            <a:pPr indent="0">
              <a:spcBef>
                <a:spcPts val="524"/>
              </a:spcBef>
              <a:buNone/>
              <a:tabLst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599840" y="4127760"/>
            <a:ext cx="230616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0000"/>
          </a:bodyPr>
          <a:p>
            <a:pPr indent="0">
              <a:spcBef>
                <a:spcPts val="524"/>
              </a:spcBef>
              <a:buNone/>
              <a:tabLst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4021560" y="4127760"/>
            <a:ext cx="230616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0000"/>
          </a:bodyPr>
          <a:p>
            <a:pPr indent="0">
              <a:spcBef>
                <a:spcPts val="524"/>
              </a:spcBef>
              <a:buNone/>
              <a:tabLst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43640" y="4127760"/>
            <a:ext cx="230616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0000"/>
          </a:bodyPr>
          <a:p>
            <a:pPr indent="0">
              <a:spcBef>
                <a:spcPts val="524"/>
              </a:spcBef>
              <a:buNone/>
              <a:tabLst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87CCF-9F49-401B-8FC0-00810CCC6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520" y="-53388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99840" y="1142640"/>
            <a:ext cx="716292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46D1E-7A65-4523-8426-4AA1814B0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520" y="-53388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99840" y="1142640"/>
            <a:ext cx="34952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70400" y="1142640"/>
            <a:ext cx="34952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8E082-7717-4816-B94A-320C60FE4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520" y="-53388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22CAD-D972-4986-8B86-00B988595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3520" y="-533880"/>
            <a:ext cx="7239240" cy="669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B5910-0536-414C-B471-7A067F99C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520" y="-53388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99840" y="1142640"/>
            <a:ext cx="349524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0000"/>
          </a:bodyPr>
          <a:p>
            <a:pPr indent="0">
              <a:spcBef>
                <a:spcPts val="524"/>
              </a:spcBef>
              <a:buNone/>
              <a:tabLst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70400" y="1142640"/>
            <a:ext cx="34952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99840" y="4127760"/>
            <a:ext cx="349524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0000"/>
          </a:bodyPr>
          <a:p>
            <a:pPr indent="0">
              <a:spcBef>
                <a:spcPts val="524"/>
              </a:spcBef>
              <a:buNone/>
              <a:tabLst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0EF0C-F6C0-40E2-82A2-A8F4DACF8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520" y="-53388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99840" y="1142640"/>
            <a:ext cx="34952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70400" y="1142640"/>
            <a:ext cx="349524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0000"/>
          </a:bodyPr>
          <a:p>
            <a:pPr indent="0">
              <a:spcBef>
                <a:spcPts val="524"/>
              </a:spcBef>
              <a:buNone/>
              <a:tabLst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70400" y="4127760"/>
            <a:ext cx="349524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0000"/>
          </a:bodyPr>
          <a:p>
            <a:pPr indent="0">
              <a:spcBef>
                <a:spcPts val="524"/>
              </a:spcBef>
              <a:buNone/>
              <a:tabLst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83194-92E5-44EE-A0BF-A95184242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520" y="-53388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99840" y="1142640"/>
            <a:ext cx="349524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0000"/>
          </a:bodyPr>
          <a:p>
            <a:pPr indent="0">
              <a:spcBef>
                <a:spcPts val="524"/>
              </a:spcBef>
              <a:buNone/>
              <a:tabLst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70400" y="1142640"/>
            <a:ext cx="349524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0000"/>
          </a:bodyPr>
          <a:p>
            <a:pPr indent="0">
              <a:spcBef>
                <a:spcPts val="524"/>
              </a:spcBef>
              <a:buNone/>
              <a:tabLst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99840" y="4127760"/>
            <a:ext cx="716292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>
              <a:spcBef>
                <a:spcPts val="524"/>
              </a:spcBef>
              <a:buNone/>
              <a:tabLst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4A5D2-84CC-487D-BAB3-5DD54861E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85905-EB7C-4877-AC81-2B734B35ED7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1295280" y="0"/>
            <a:ext cx="7848720" cy="68533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-2514600" y="1371600"/>
            <a:ext cx="3657600" cy="3657600"/>
          </a:xfrm>
          <a:custGeom>
            <a:avLst/>
            <a:gdLst/>
            <a:ahLst/>
            <a:rect l="l" t="t" r="r" b="b"/>
            <a:pathLst>
              <a:path w="64000" h="64000">
                <a:moveTo>
                  <a:pt x="12083" y="-29631"/>
                </a:moveTo>
                <a:arcTo wR="32000" hR="32000" stAng="-4068917" swAng="8137834"/>
                <a:moveTo>
                  <a:pt x="12083" y="29631"/>
                </a:moveTo>
                <a:arcTo wR="32000" hR="32000" stAng="4068917" swAng="41"/>
                <a:lnTo>
                  <a:pt x="12083" y="29632"/>
                </a:lnTo>
                <a:lnTo>
                  <a:pt x="12083" y="-29632"/>
                </a:lnTo>
                <a:lnTo>
                  <a:pt x="12083" y="-29631"/>
                </a:lnTo>
                <a:arcTo wR="32000" hR="32000" stAng="-4068958" swAng="41"/>
                <a:close/>
              </a:path>
            </a:pathLst>
          </a:custGeom>
          <a:noFill/>
          <a:ln w="6480">
            <a:solidFill>
              <a:srgbClr val="e4b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-3222720" y="304920"/>
            <a:ext cx="4038840" cy="4038480"/>
          </a:xfrm>
          <a:custGeom>
            <a:avLst/>
            <a:gdLst/>
            <a:ahLst/>
            <a:rect l="l" t="t" r="r" b="b"/>
            <a:pathLst>
              <a:path w="64000" h="64000">
                <a:moveTo>
                  <a:pt x="18994" y="-25753"/>
                </a:moveTo>
                <a:arcTo wR="32000" hR="32000" stAng="-3215387" swAng="6430773"/>
                <a:moveTo>
                  <a:pt x="18994" y="25753"/>
                </a:moveTo>
                <a:arcTo wR="32000" hR="32000" stAng="3215387" swAng="64"/>
                <a:lnTo>
                  <a:pt x="18994" y="25754"/>
                </a:lnTo>
                <a:lnTo>
                  <a:pt x="18994" y="-25754"/>
                </a:lnTo>
                <a:lnTo>
                  <a:pt x="18994" y="-25754"/>
                </a:lnTo>
                <a:arcTo wR="32000" hR="32000" stAng="-3215450" swAng="64"/>
                <a:close/>
              </a:path>
            </a:pathLst>
          </a:custGeom>
          <a:noFill/>
          <a:ln w="64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3520" y="-53388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A052E-D4AE-45B7-9F56-6197BFD66E0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295280" y="0"/>
            <a:ext cx="0" cy="6858000"/>
          </a:xfrm>
          <a:prstGeom prst="line">
            <a:avLst/>
          </a:prstGeom>
          <a:ln w="9360">
            <a:solidFill>
              <a:srgbClr val="e4b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marL="3934440" indent="-3934440">
              <a:spcBef>
                <a:spcPts val="524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260280" indent="3674160">
              <a:spcBef>
                <a:spcPts val="476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602640" indent="33318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3934440" indent="-31662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3934440" indent="-291024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3934440" indent="-291024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3934440" indent="-291024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4.wmf"/><Relationship Id="rId5" Type="http://schemas.openxmlformats.org/officeDocument/2006/relationships/image" Target="../media/image8.wmf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oleObject" Target="../embeddings/oleObject2.bin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7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3.wmf"/><Relationship Id="rId8" Type="http://schemas.openxmlformats.org/officeDocument/2006/relationships/image" Target="../media/image8.wmf"/><Relationship Id="rId9" Type="http://schemas.openxmlformats.org/officeDocument/2006/relationships/image" Target="../media/image10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5.wmf"/><Relationship Id="rId7" Type="http://schemas.openxmlformats.org/officeDocument/2006/relationships/image" Target="../media/image2.wmf"/><Relationship Id="rId8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image" Target="../media/image2.wmf"/><Relationship Id="rId8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71240" y="2212560"/>
            <a:ext cx="746748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700" spc="-1" strike="noStrike">
                <a:solidFill>
                  <a:srgbClr val="000000"/>
                </a:solidFill>
                <a:latin typeface="Verdana"/>
              </a:rPr>
              <a:t>Empire Hotels</a:t>
            </a:r>
            <a:br>
              <a:rPr sz="6100"/>
            </a:br>
            <a:br>
              <a:rPr sz="3100"/>
            </a:br>
            <a:br>
              <a:rPr sz="3100"/>
            </a:br>
            <a:r>
              <a:rPr b="0" lang="en-US" sz="3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3100" spc="-1" strike="noStrike">
                <a:solidFill>
                  <a:srgbClr val="000000"/>
                </a:solidFill>
                <a:latin typeface="Verdana"/>
              </a:rPr>
              <a:t>PROJECT</a:t>
            </a:r>
            <a:r>
              <a:rPr b="0" lang="en-US" sz="3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3100" spc="-1" strike="noStrike">
                <a:solidFill>
                  <a:srgbClr val="000000"/>
                </a:solidFill>
                <a:latin typeface="Verdana"/>
              </a:rPr>
              <a:t>S.M.A.R.T.</a:t>
            </a:r>
            <a:r>
              <a:rPr b="1" lang="en-US" sz="3100" spc="-1" strike="noStrike" baseline="30000">
                <a:solidFill>
                  <a:srgbClr val="000000"/>
                </a:solidFill>
                <a:latin typeface="Verdana"/>
              </a:rPr>
              <a:t>*</a:t>
            </a:r>
            <a:r>
              <a:rPr b="1" lang="en-US" sz="31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31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100" spc="-1" strike="noStrike" baseline="30000">
                <a:solidFill>
                  <a:srgbClr val="000000"/>
                </a:solidFill>
                <a:latin typeface="Verdana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mall Meetings Automated Reservation Too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23520" y="-53388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Assumptions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1599840" y="1142640"/>
            <a:ext cx="75438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524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% of 2001 bookings by segmen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524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Projected growth rates with &amp; without projec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524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Rate Structure by brand &amp; loc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524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argins by brand &amp; loc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524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Project Cost ($10MM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524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Discount Rate (12.5%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23520" y="-53388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Model Formulation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1600200" y="1143000"/>
            <a:ext cx="6858000" cy="55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9996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o evaluate the project, utilize a 2-part model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9996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99960" indent="-399960">
              <a:spcBef>
                <a:spcPts val="524"/>
              </a:spcBef>
              <a:buClr>
                <a:srgbClr val="000000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Simulation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: What is the expected PV of additional customer revenues generated from accepting the project?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9996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99960" indent="-399960">
              <a:spcBef>
                <a:spcPts val="524"/>
              </a:spcBef>
              <a:buClr>
                <a:srgbClr val="000000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Optimization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: What is the optimal licensing fee that Empire should charge its hotels in order to recoup the project costs?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523520" y="-53388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Simulation Model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1599840" y="27432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9996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Variables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99960" indent="-399960"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 – number of bookings in 200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99960" indent="-399960"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– allocation of bookings by segmen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99960" indent="-399960"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Verdana"/>
              </a:rPr>
              <a:t>np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– growth rate per segment without projec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99960" indent="-399960"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Verdana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– growth rate per segment with projec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99960" indent="-399960"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 – fee per nigh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99960" indent="-399960"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 – number of nights per bookin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99960" indent="-399960"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 – margin percentag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999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999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99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1371600"/>
            <a:ext cx="6477120" cy="1285200"/>
          </a:xfrm>
          <a:prstGeom prst="rect">
            <a:avLst/>
          </a:prstGeom>
          <a:solidFill>
            <a:srgbClr val="ffffe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114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Use a Crystal Ball simulation to determine the present value of additional revenues that we expect the project to genera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1141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523520" y="-53388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Simulation Model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1536840" y="116856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99960" indent="-399960">
              <a:spcBef>
                <a:spcPts val="524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1000 trial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99960" indent="-399960">
              <a:spcBef>
                <a:spcPts val="524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Random Variables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826920" indent="619920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Expected growth rates by segment with project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826920" indent="619920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Average # nights per stay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826920" indent="619920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Probability of project acceptance by property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9996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99960" indent="-399960">
              <a:spcBef>
                <a:spcPts val="524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Result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826920" indent="619920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Incremental revenue per property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826920" indent="619920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Expected acceptance rate by ownership typ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999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99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23520" y="-53388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mulation – Model Snapsho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1599840" y="1142640"/>
            <a:ext cx="71629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mulate acceptance of project at each hot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etermine aggregate PV of revenue based on acceptanc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76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verage percentage increase in operating margin generated from project by 2007: 3.18%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1596960" y="3278160"/>
          <a:ext cx="7255080" cy="2551320"/>
        </p:xfrm>
        <a:graphic>
          <a:graphicData uri="http://schemas.openxmlformats.org/drawingml/2006/table">
            <a:tbl>
              <a:tblPr/>
              <a:tblGrid>
                <a:gridCol w="1417680"/>
                <a:gridCol w="1417680"/>
                <a:gridCol w="1533600"/>
                <a:gridCol w="1314360"/>
                <a:gridCol w="1571760"/>
              </a:tblGrid>
              <a:tr h="7225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otel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nc (Dec) from Avg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50.00%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+ Inc (Dec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"Actual“ Decis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Hotel accepts project? (1=Ye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otel 1 (Franchised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5.0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55.0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.9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otel 2 (Managed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0.0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60.0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.4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otel 3 (Managed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33.0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83.0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.8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18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otel 4 (Owned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5.5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00.0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.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523520" y="-53388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Simulation - Projected Results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599840" y="1104480"/>
            <a:ext cx="71629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7026120" indent="0">
              <a:spcBef>
                <a:spcPts val="524"/>
              </a:spcBef>
              <a:buNone/>
              <a:tabLst>
                <a:tab algn="l" pos="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Expected Present Value of Reven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1606680" y="1679400"/>
          <a:ext cx="7149960" cy="4902480"/>
        </p:xfrm>
        <a:graphic>
          <a:graphicData uri="http://schemas.openxmlformats.org/drawingml/2006/table">
            <a:tbl>
              <a:tblPr/>
              <a:tblGrid>
                <a:gridCol w="1415880"/>
                <a:gridCol w="1508040"/>
                <a:gridCol w="1408320"/>
                <a:gridCol w="1409760"/>
                <a:gridCol w="1407960"/>
              </a:tblGrid>
              <a:tr h="5065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Statistic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PV of Revenu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Owne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Manage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Franchise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8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Trial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Mea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$15,085,977.08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02.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36.8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6.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6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Media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$13,669,670.37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02.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36.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6.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8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Mod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--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02.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35.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6.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6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Standard Devia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$6,992,417.88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0.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5.2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.9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8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Varianc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4.89E+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0.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7.6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8.7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Skewnes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.3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0.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0.4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0.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6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Kurtosi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6.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+Infinit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3.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.9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Coeff. of Variabilit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0.4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0.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0.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0.1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6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Range Minimu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$1,949,563.97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02.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4.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8.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8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Range Maximu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$55,826,152.62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02.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56.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6.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6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Range Widt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$53,876,588.65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0.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32.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8.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8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Mean Std. Erro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$221,119.67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0.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0.1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0.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5" name=""/>
          <p:cNvSpPr/>
          <p:nvPr/>
        </p:nvSpPr>
        <p:spPr>
          <a:xfrm>
            <a:off x="3060720" y="2514600"/>
            <a:ext cx="1447920" cy="34308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23520" y="-53388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Optimization Model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1599840" y="2629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9996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Assumptions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99960" indent="-399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e differential is 20%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99960" indent="-399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venue Sharing is 50%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9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9996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onstraints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99960" indent="-399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e per property type must be at least 50% of average incremental revenue generate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99960" indent="-399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e per property type can not be greater than average incremental revenue generate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99960" indent="-399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Using the Managed property fee as the baseline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26920" indent="61992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Owned Fee is 120% of Managed Fe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826920" indent="61992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ranchise Fee is 80% of Managed Fe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99960" indent="-399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otal fee recovery = Total project cos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9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9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1371600"/>
            <a:ext cx="6477120" cy="1285200"/>
          </a:xfrm>
          <a:prstGeom prst="rect">
            <a:avLst/>
          </a:prstGeom>
          <a:solidFill>
            <a:srgbClr val="ffffe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114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Use Solver to determine the optimal licensing fee given the average incremental revenue for each type of property obtained from the simul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1141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523520" y="-53388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Optimization Model Results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1600200" y="1142640"/>
            <a:ext cx="72388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114480" indent="34272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The total sum of the three licensing fees (O,M,F) i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11448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$32,380 per year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114480" indent="34272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The following fee structure will recoup the project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11448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cost of $10 million in 5 years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11448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1739880" y="2705040"/>
          <a:ext cx="6870600" cy="2832120"/>
        </p:xfrm>
        <a:graphic>
          <a:graphicData uri="http://schemas.openxmlformats.org/drawingml/2006/table">
            <a:tbl>
              <a:tblPr/>
              <a:tblGrid>
                <a:gridCol w="1076400"/>
                <a:gridCol w="1012680"/>
                <a:gridCol w="1995480"/>
                <a:gridCol w="1249200"/>
                <a:gridCol w="1536840"/>
              </a:tblGrid>
              <a:tr h="885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# of Expected Properti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Average Excess Reven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Licensing Fee per Proper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Total Fe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38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Own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$15,3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224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$      15,05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$       7,676,71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5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Manag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$18,78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224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$        9,37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$       1,686,68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5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Franchis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$15,93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224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$        7,95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>
                      <a:noFill/>
                    </a:lnT>
                    <a:lnB w="1224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$         636,61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2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2240">
                      <a:solidFill>
                        <a:srgbClr val="ff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$      32,38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00"/>
                      </a:solidFill>
                    </a:lnL>
                    <a:lnR w="12240">
                      <a:solidFill>
                        <a:srgbClr val="ff0000"/>
                      </a:solidFill>
                    </a:lnR>
                    <a:lnT w="12240">
                      <a:solidFill>
                        <a:srgbClr val="ff0000"/>
                      </a:solidFill>
                    </a:lnT>
                    <a:lnB w="1224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$     10,000,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2" name=""/>
          <p:cNvSpPr/>
          <p:nvPr/>
        </p:nvSpPr>
        <p:spPr>
          <a:xfrm>
            <a:off x="3022560" y="5054760"/>
            <a:ext cx="16257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772160" y="3232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3073320" y="5295960"/>
            <a:ext cx="1613160" cy="673200"/>
          </a:xfrm>
          <a:prstGeom prst="wedgeRectCallout">
            <a:avLst>
              <a:gd name="adj1" fmla="val 118995"/>
              <a:gd name="adj2" fmla="val 7523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Minimize Total Fee 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523520" y="-4957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Recommendation &amp; Conclusion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1599840" y="2184480"/>
            <a:ext cx="71629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7026120" indent="-702612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Will generate $5 million net present valu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7026120" indent="-702612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Improved operational efficiency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7026120" indent="-702612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Increased customer satisfaction and loyalty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702612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46512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702612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702612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7026120" indent="-702612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wned Hotels: $15,05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7026120" indent="-702612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anaged Hotels: $9,370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7026120" indent="-702612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ranchised Hotels: $7,958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702612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OTAL: $32,380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"/>
          <p:cNvSpPr/>
          <p:nvPr/>
        </p:nvSpPr>
        <p:spPr>
          <a:xfrm>
            <a:off x="1600200" y="1371600"/>
            <a:ext cx="7010280" cy="901800"/>
          </a:xfrm>
          <a:prstGeom prst="rect">
            <a:avLst/>
          </a:prstGeom>
          <a:solidFill>
            <a:srgbClr val="ffffe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114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cept Project SM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114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689120" y="3860640"/>
            <a:ext cx="7010280" cy="901800"/>
          </a:xfrm>
          <a:prstGeom prst="rect">
            <a:avLst/>
          </a:prstGeom>
          <a:solidFill>
            <a:srgbClr val="ffffe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114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ptimal Fee Structure by Property Ty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114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409760" y="15109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Appendices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23520" y="-53388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905120" y="1371240"/>
            <a:ext cx="723888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7026120" indent="-7026120">
              <a:spcBef>
                <a:spcPts val="624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nagerial Challeng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7026120" indent="-7026120">
              <a:spcBef>
                <a:spcPts val="624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ustomer Needs Assessment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7026120" indent="-7026120">
              <a:spcBef>
                <a:spcPts val="624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Proposed Solution Evaluation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7026120" indent="-7026120">
              <a:spcBef>
                <a:spcPts val="624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Key Consideration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7026120" indent="-7026120">
              <a:spcBef>
                <a:spcPts val="624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Assumption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7026120" indent="-7026120">
              <a:spcBef>
                <a:spcPts val="624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odel Formulation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7026120" indent="-7026120">
              <a:spcBef>
                <a:spcPts val="624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Projected Result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7026120" indent="-7026120">
              <a:spcBef>
                <a:spcPts val="624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onclusion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523520" y="-6829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ppendix - Current Sales Proce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 flipH="1" flipV="1" rot="10800000">
            <a:off x="5348880" y="2575440"/>
            <a:ext cx="144360" cy="826920"/>
          </a:xfrm>
          <a:custGeom>
            <a:avLst/>
            <a:gdLst>
              <a:gd name="textAreaLeft" fmla="*/ 92160 w 144360"/>
              <a:gd name="textAreaRight" fmla="*/ 144360 w 144360"/>
              <a:gd name="textAreaTop" fmla="*/ 21240 h 826920"/>
              <a:gd name="textAreaBottom" fmla="*/ 805680 h 826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850"/>
                </a:lnTo>
                <a:cubicBezTo>
                  <a:pt x="10800" y="9750"/>
                  <a:pt x="5400" y="10650"/>
                  <a:pt x="0" y="10650"/>
                </a:cubicBezTo>
                <a:cubicBezTo>
                  <a:pt x="5400" y="10650"/>
                  <a:pt x="10800" y="11550"/>
                  <a:pt x="10800" y="1245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578480" y="2717640"/>
            <a:ext cx="793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Manual Metho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7620120" y="1714680"/>
            <a:ext cx="1258560" cy="1091880"/>
            <a:chOff x="7620120" y="1714680"/>
            <a:chExt cx="1258560" cy="1091880"/>
          </a:xfrm>
        </p:grpSpPr>
        <p:pic>
          <p:nvPicPr>
            <p:cNvPr id="214" name="" descr=""/>
            <p:cNvPicPr/>
            <p:nvPr/>
          </p:nvPicPr>
          <p:blipFill>
            <a:blip r:embed="rId1"/>
            <a:stretch/>
          </p:blipFill>
          <p:spPr>
            <a:xfrm>
              <a:off x="7717680" y="1864440"/>
              <a:ext cx="1161000" cy="94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5" name=""/>
            <p:cNvSpPr/>
            <p:nvPr/>
          </p:nvSpPr>
          <p:spPr>
            <a:xfrm>
              <a:off x="7620120" y="1714680"/>
              <a:ext cx="1132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Verdana"/>
                </a:rPr>
                <a:t>Hote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1410120" y="1639800"/>
            <a:ext cx="1372320" cy="744120"/>
            <a:chOff x="1410120" y="1639800"/>
            <a:chExt cx="1372320" cy="744120"/>
          </a:xfrm>
        </p:grpSpPr>
        <p:pic>
          <p:nvPicPr>
            <p:cNvPr id="217" name="" descr=""/>
            <p:cNvPicPr/>
            <p:nvPr/>
          </p:nvPicPr>
          <p:blipFill>
            <a:blip r:embed="rId2"/>
            <a:stretch/>
          </p:blipFill>
          <p:spPr>
            <a:xfrm>
              <a:off x="1625760" y="1842120"/>
              <a:ext cx="932040" cy="54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" name=""/>
            <p:cNvSpPr/>
            <p:nvPr/>
          </p:nvSpPr>
          <p:spPr>
            <a:xfrm>
              <a:off x="1410120" y="1639800"/>
              <a:ext cx="1372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Verdana"/>
                </a:rPr>
                <a:t>Meeting Organiz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9" name=""/>
          <p:cNvSpPr/>
          <p:nvPr/>
        </p:nvSpPr>
        <p:spPr>
          <a:xfrm flipH="1" flipV="1" rot="10800000">
            <a:off x="5337720" y="1210320"/>
            <a:ext cx="144360" cy="507960"/>
          </a:xfrm>
          <a:custGeom>
            <a:avLst/>
            <a:gdLst>
              <a:gd name="textAreaLeft" fmla="*/ 92160 w 144360"/>
              <a:gd name="textAreaRight" fmla="*/ 144360 w 144360"/>
              <a:gd name="textAreaTop" fmla="*/ 12960 h 507960"/>
              <a:gd name="textAreaBottom" fmla="*/ 495000 h 507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850"/>
                </a:lnTo>
                <a:cubicBezTo>
                  <a:pt x="10800" y="9750"/>
                  <a:pt x="5400" y="10650"/>
                  <a:pt x="0" y="10650"/>
                </a:cubicBezTo>
                <a:cubicBezTo>
                  <a:pt x="5400" y="10650"/>
                  <a:pt x="10800" y="11550"/>
                  <a:pt x="10800" y="1245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400640" y="1257480"/>
            <a:ext cx="10476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Electronic Metho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1" name=""/>
          <p:cNvCxnSpPr/>
          <p:nvPr/>
        </p:nvCxnSpPr>
        <p:spPr>
          <a:xfrm>
            <a:off x="6232680" y="1274760"/>
            <a:ext cx="1915200" cy="472320"/>
          </a:xfrm>
          <a:prstGeom prst="curvedConnector2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</p:cxnSp>
      <p:graphicFrame>
        <p:nvGraphicFramePr>
          <p:cNvPr id="222" name=""/>
          <p:cNvGraphicFramePr/>
          <p:nvPr/>
        </p:nvGraphicFramePr>
        <p:xfrm>
          <a:off x="3406680" y="2136600"/>
          <a:ext cx="912960" cy="263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06680" y="2136600"/>
                    <a:ext cx="912960" cy="26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4" name=""/>
          <p:cNvSpPr/>
          <p:nvPr/>
        </p:nvSpPr>
        <p:spPr>
          <a:xfrm>
            <a:off x="3420360" y="1865160"/>
            <a:ext cx="86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Sales te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5" name=""/>
          <p:cNvCxnSpPr/>
          <p:nvPr/>
        </p:nvCxnSpPr>
        <p:spPr>
          <a:xfrm>
            <a:off x="2557080" y="2073240"/>
            <a:ext cx="848520" cy="99360"/>
          </a:xfrm>
          <a:prstGeom prst="curvedConnector5">
            <a:avLst>
              <a:gd name="adj1" fmla="val 50000"/>
              <a:gd name="adj2" fmla="val 49818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6" name=""/>
          <p:cNvCxnSpPr/>
          <p:nvPr/>
        </p:nvCxnSpPr>
        <p:spPr>
          <a:xfrm flipV="1">
            <a:off x="4319280" y="1595160"/>
            <a:ext cx="246600" cy="6732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endCxn id="212" idx="1"/>
          </p:cNvCxnSpPr>
          <p:nvPr/>
        </p:nvCxnSpPr>
        <p:spPr>
          <a:xfrm flipH="1" rot="16200000">
            <a:off x="4144680" y="2483280"/>
            <a:ext cx="607320" cy="259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"/>
          <p:cNvCxnSpPr/>
          <p:nvPr/>
        </p:nvCxnSpPr>
        <p:spPr>
          <a:xfrm flipV="1">
            <a:off x="4319280" y="2149200"/>
            <a:ext cx="1152720" cy="122400"/>
          </a:xfrm>
          <a:prstGeom prst="curvedConnector5">
            <a:avLst>
              <a:gd name="adj1" fmla="val 49953"/>
              <a:gd name="adj2" fmla="val 49852"/>
              <a:gd name="adj3" fmla="val 4995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"/>
          <p:cNvCxnSpPr>
            <a:endCxn id="220" idx="1"/>
          </p:cNvCxnSpPr>
          <p:nvPr/>
        </p:nvCxnSpPr>
        <p:spPr>
          <a:xfrm flipV="1">
            <a:off x="2070000" y="1455480"/>
            <a:ext cx="2331360" cy="148320"/>
          </a:xfrm>
          <a:prstGeom prst="curvedConnector5">
            <a:avLst>
              <a:gd name="adj1" fmla="val 49992"/>
              <a:gd name="adj2" fmla="val 49878"/>
              <a:gd name="adj3" fmla="val 499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"/>
          <p:cNvCxnSpPr/>
          <p:nvPr/>
        </p:nvCxnSpPr>
        <p:spPr>
          <a:xfrm>
            <a:off x="5938560" y="2634840"/>
            <a:ext cx="2321640" cy="207000"/>
          </a:xfrm>
          <a:prstGeom prst="curvedConnector5">
            <a:avLst>
              <a:gd name="adj1" fmla="val 37484"/>
              <a:gd name="adj2" fmla="val 81358"/>
              <a:gd name="adj3" fmla="val 374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"/>
          <p:cNvCxnSpPr/>
          <p:nvPr/>
        </p:nvCxnSpPr>
        <p:spPr>
          <a:xfrm>
            <a:off x="2090520" y="2390400"/>
            <a:ext cx="2502360" cy="585000"/>
          </a:xfrm>
          <a:prstGeom prst="curvedConnector5">
            <a:avLst>
              <a:gd name="adj1" fmla="val 37812"/>
              <a:gd name="adj2" fmla="val 50000"/>
              <a:gd name="adj3" fmla="val 378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232" name="" descr=""/>
          <p:cNvPicPr/>
          <p:nvPr/>
        </p:nvPicPr>
        <p:blipFill>
          <a:blip r:embed="rId5"/>
          <a:stretch/>
        </p:blipFill>
        <p:spPr>
          <a:xfrm>
            <a:off x="5510160" y="2878200"/>
            <a:ext cx="695520" cy="311040"/>
          </a:xfrm>
          <a:prstGeom prst="rect">
            <a:avLst/>
          </a:prstGeom>
          <a:ln w="0">
            <a:noFill/>
          </a:ln>
        </p:spPr>
      </p:pic>
      <p:cxnSp>
        <p:nvCxnSpPr>
          <p:cNvPr id="233" name=""/>
          <p:cNvCxnSpPr/>
          <p:nvPr/>
        </p:nvCxnSpPr>
        <p:spPr>
          <a:xfrm flipV="1">
            <a:off x="6141600" y="2854080"/>
            <a:ext cx="2118600" cy="1864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234" name="" descr=""/>
          <p:cNvPicPr/>
          <p:nvPr/>
        </p:nvPicPr>
        <p:blipFill>
          <a:blip r:embed="rId6"/>
          <a:stretch/>
        </p:blipFill>
        <p:spPr>
          <a:xfrm>
            <a:off x="5530680" y="3252960"/>
            <a:ext cx="704880" cy="315720"/>
          </a:xfrm>
          <a:prstGeom prst="rect">
            <a:avLst/>
          </a:prstGeom>
          <a:ln w="0">
            <a:noFill/>
          </a:ln>
        </p:spPr>
      </p:pic>
      <p:cxnSp>
        <p:nvCxnSpPr>
          <p:cNvPr id="235" name=""/>
          <p:cNvCxnSpPr/>
          <p:nvPr/>
        </p:nvCxnSpPr>
        <p:spPr>
          <a:xfrm flipV="1">
            <a:off x="6160680" y="2845800"/>
            <a:ext cx="2088360" cy="565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236" name="" descr=""/>
          <p:cNvPicPr/>
          <p:nvPr/>
        </p:nvPicPr>
        <p:blipFill>
          <a:blip r:embed="rId7"/>
          <a:stretch/>
        </p:blipFill>
        <p:spPr>
          <a:xfrm>
            <a:off x="5506920" y="2471760"/>
            <a:ext cx="773280" cy="392040"/>
          </a:xfrm>
          <a:prstGeom prst="rect">
            <a:avLst/>
          </a:prstGeom>
          <a:ln w="0">
            <a:noFill/>
          </a:ln>
        </p:spPr>
      </p:pic>
      <p:cxnSp>
        <p:nvCxnSpPr>
          <p:cNvPr id="237" name=""/>
          <p:cNvCxnSpPr/>
          <p:nvPr/>
        </p:nvCxnSpPr>
        <p:spPr>
          <a:xfrm flipV="1" rot="16200000">
            <a:off x="4954680" y="-469800"/>
            <a:ext cx="462960" cy="6170040"/>
          </a:xfrm>
          <a:prstGeom prst="curvedConnector5">
            <a:avLst>
              <a:gd name="adj1" fmla="val -180466"/>
              <a:gd name="adj2" fmla="val 50000"/>
              <a:gd name="adj3" fmla="val -180466"/>
            </a:avLst>
          </a:prstGeom>
          <a:ln w="9360">
            <a:solidFill>
              <a:srgbClr val="ff6600"/>
            </a:solidFill>
            <a:miter/>
            <a:tailEnd len="med" type="triangle" w="med"/>
          </a:ln>
        </p:spPr>
      </p:cxnSp>
      <p:cxnSp>
        <p:nvCxnSpPr>
          <p:cNvPr id="238" name=""/>
          <p:cNvCxnSpPr/>
          <p:nvPr/>
        </p:nvCxnSpPr>
        <p:spPr>
          <a:xfrm rot="10800000">
            <a:off x="3861720" y="2402640"/>
            <a:ext cx="3756600" cy="8640"/>
          </a:xfrm>
          <a:prstGeom prst="curvedConnector5">
            <a:avLst>
              <a:gd name="adj1" fmla="val 49980"/>
              <a:gd name="adj2" fmla="val 47826"/>
              <a:gd name="adj3" fmla="val 49980"/>
            </a:avLst>
          </a:prstGeom>
          <a:ln w="9360">
            <a:solidFill>
              <a:srgbClr val="ff6600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endCxn id="217" idx="3"/>
          </p:cNvCxnSpPr>
          <p:nvPr/>
        </p:nvCxnSpPr>
        <p:spPr>
          <a:xfrm flipV="1" rot="16200000">
            <a:off x="3066840" y="1603440"/>
            <a:ext cx="288360" cy="1305720"/>
          </a:xfrm>
          <a:prstGeom prst="curvedConnector5">
            <a:avLst>
              <a:gd name="adj1" fmla="val -79500"/>
              <a:gd name="adj2" fmla="val 33756"/>
              <a:gd name="adj3" fmla="val -79500"/>
            </a:avLst>
          </a:prstGeom>
          <a:ln w="9360">
            <a:solidFill>
              <a:srgbClr val="ff6600"/>
            </a:solidFill>
            <a:miter/>
            <a:tailEnd len="med" type="triangle" w="med"/>
          </a:ln>
        </p:spPr>
      </p:cxnSp>
      <p:graphicFrame>
        <p:nvGraphicFramePr>
          <p:cNvPr id="240" name=""/>
          <p:cNvGraphicFramePr/>
          <p:nvPr/>
        </p:nvGraphicFramePr>
        <p:xfrm>
          <a:off x="5607000" y="1066680"/>
          <a:ext cx="623880" cy="4748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4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5607000" y="1066680"/>
                    <a:ext cx="623880" cy="47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2" name=""/>
          <p:cNvSpPr/>
          <p:nvPr/>
        </p:nvSpPr>
        <p:spPr>
          <a:xfrm>
            <a:off x="5515560" y="2003400"/>
            <a:ext cx="807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Propriet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410080" y="1562040"/>
            <a:ext cx="1524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Propriety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"/>
          <p:cNvCxnSpPr>
            <a:endCxn id="215" idx="1"/>
          </p:cNvCxnSpPr>
          <p:nvPr/>
        </p:nvCxnSpPr>
        <p:spPr>
          <a:xfrm>
            <a:off x="6781320" y="1668240"/>
            <a:ext cx="839160" cy="16884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/>
          <p:nvPr/>
        </p:nvCxnSpPr>
        <p:spPr>
          <a:xfrm>
            <a:off x="6248160" y="2133720"/>
            <a:ext cx="1485000" cy="234000"/>
          </a:xfrm>
          <a:prstGeom prst="curvedConnector5">
            <a:avLst>
              <a:gd name="adj1" fmla="val 54219"/>
              <a:gd name="adj2" fmla="val 49922"/>
              <a:gd name="adj3" fmla="val 5421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3124080" y="44197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248520" y="4610160"/>
            <a:ext cx="927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>
            <a:off x="6248520" y="5600880"/>
            <a:ext cx="952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H="1">
            <a:off x="3098520" y="5575320"/>
            <a:ext cx="927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6299280"/>
            <a:ext cx="4114800" cy="0"/>
          </a:xfrm>
          <a:prstGeom prst="line">
            <a:avLst/>
          </a:prstGeom>
          <a:ln w="9360">
            <a:solidFill>
              <a:srgbClr val="ff66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048120" y="5994360"/>
            <a:ext cx="4114800" cy="0"/>
          </a:xfrm>
          <a:prstGeom prst="line">
            <a:avLst/>
          </a:prstGeom>
          <a:ln w="9360">
            <a:solidFill>
              <a:srgbClr val="ff66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048120" y="6146640"/>
            <a:ext cx="4114800" cy="0"/>
          </a:xfrm>
          <a:prstGeom prst="line">
            <a:avLst/>
          </a:prstGeom>
          <a:ln w="9360">
            <a:solidFill>
              <a:srgbClr val="ff66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3" name=""/>
          <p:cNvCxnSpPr/>
          <p:nvPr/>
        </p:nvCxnSpPr>
        <p:spPr>
          <a:xfrm flipH="1">
            <a:off x="7116480" y="4838760"/>
            <a:ext cx="2160" cy="660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54" name=""/>
          <p:cNvSpPr/>
          <p:nvPr/>
        </p:nvSpPr>
        <p:spPr>
          <a:xfrm>
            <a:off x="3162240" y="56642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200400" y="3984480"/>
            <a:ext cx="91440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Phone/fax/emai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1384200" y="3695760"/>
            <a:ext cx="1663920" cy="2886120"/>
            <a:chOff x="1384200" y="3695760"/>
            <a:chExt cx="1663920" cy="2886120"/>
          </a:xfrm>
        </p:grpSpPr>
        <p:sp>
          <p:nvSpPr>
            <p:cNvPr id="257" name=""/>
            <p:cNvSpPr/>
            <p:nvPr/>
          </p:nvSpPr>
          <p:spPr>
            <a:xfrm>
              <a:off x="1384200" y="3695760"/>
              <a:ext cx="1663920" cy="2886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1. Types up meeting RFP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2. Research propertie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24"/>
                </a:spcBef>
                <a:buClr>
                  <a:srgbClr val="0000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24"/>
                </a:spcBef>
                <a:buClr>
                  <a:srgbClr val="0000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24"/>
                </a:spcBef>
                <a:buClr>
                  <a:srgbClr val="0000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10. Evaluate RFP result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5000"/>
                </a:lnSpc>
                <a:spcBef>
                  <a:spcPts val="624"/>
                </a:spcBef>
                <a:buClr>
                  <a:srgbClr val="0000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5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11, 13 Negotiation/decis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407960" y="3705120"/>
              <a:ext cx="1639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 u="sng">
                  <a:solidFill>
                    <a:srgbClr val="000000"/>
                  </a:solidFill>
                  <a:uFillTx/>
                  <a:latin typeface="Verdana"/>
                </a:rPr>
                <a:t>Meeting Organiz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9" name=""/>
          <p:cNvGrpSpPr/>
          <p:nvPr/>
        </p:nvGrpSpPr>
        <p:grpSpPr>
          <a:xfrm>
            <a:off x="7226280" y="4000680"/>
            <a:ext cx="1765440" cy="2795400"/>
            <a:chOff x="7226280" y="4000680"/>
            <a:chExt cx="1765440" cy="2795400"/>
          </a:xfrm>
        </p:grpSpPr>
        <p:sp>
          <p:nvSpPr>
            <p:cNvPr id="260" name=""/>
            <p:cNvSpPr/>
            <p:nvPr/>
          </p:nvSpPr>
          <p:spPr>
            <a:xfrm>
              <a:off x="7226280" y="4000680"/>
              <a:ext cx="1765440" cy="2795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14480" indent="-114480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114480" indent="-114480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114480" indent="-114480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5. Re-key RFP information into Sales &amp; Catering syste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114480" indent="-114480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6. Determine availabilit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114480" indent="-114480">
                <a:lnSpc>
                  <a:spcPct val="135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7. Initial RFP pric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114480" indent="-114480">
                <a:lnSpc>
                  <a:spcPct val="135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8. Prepare/type RFP respons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114480" indent="-114480">
                <a:lnSpc>
                  <a:spcPct val="135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114480" indent="-114480">
                <a:lnSpc>
                  <a:spcPct val="135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12, 14, 15. Re-price/confirma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407720" y="4002120"/>
              <a:ext cx="1361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 u="sng">
                  <a:solidFill>
                    <a:srgbClr val="000000"/>
                  </a:solidFill>
                  <a:uFillTx/>
                  <a:latin typeface="Verdana"/>
                </a:rPr>
                <a:t>Hotel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4076640" y="4038480"/>
            <a:ext cx="2133720" cy="1747440"/>
            <a:chOff x="4076640" y="4038480"/>
            <a:chExt cx="2133720" cy="1747440"/>
          </a:xfrm>
        </p:grpSpPr>
        <p:sp>
          <p:nvSpPr>
            <p:cNvPr id="263" name=""/>
            <p:cNvSpPr/>
            <p:nvPr/>
          </p:nvSpPr>
          <p:spPr>
            <a:xfrm>
              <a:off x="4076640" y="4040280"/>
              <a:ext cx="2133720" cy="174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marL="114480" indent="-114480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114480" indent="-114480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3. Identify proper properties and contact them al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114480" indent="-114480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4. Key in contact dat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114480" indent="-114480">
                <a:lnSpc>
                  <a:spcPct val="100000"/>
                </a:lnSpc>
                <a:spcBef>
                  <a:spcPts val="624"/>
                </a:spcBef>
                <a:buClr>
                  <a:srgbClr val="0000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114480" indent="-114480">
                <a:lnSpc>
                  <a:spcPct val="100000"/>
                </a:lnSpc>
                <a:spcBef>
                  <a:spcPts val="624"/>
                </a:spcBef>
                <a:buClr>
                  <a:srgbClr val="0000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114480" indent="-114480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9. Compile multiple property level inf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241880" y="4038480"/>
              <a:ext cx="1714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 u="sng">
                  <a:solidFill>
                    <a:srgbClr val="000000"/>
                  </a:solidFill>
                  <a:uFillTx/>
                  <a:latin typeface="Verdana"/>
                </a:rPr>
                <a:t>Sales Tea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5" name=""/>
          <p:cNvGrpSpPr/>
          <p:nvPr/>
        </p:nvGrpSpPr>
        <p:grpSpPr>
          <a:xfrm>
            <a:off x="7238880" y="1139760"/>
            <a:ext cx="1727280" cy="461880"/>
            <a:chOff x="7238880" y="1139760"/>
            <a:chExt cx="1727280" cy="461880"/>
          </a:xfrm>
        </p:grpSpPr>
        <p:sp>
          <p:nvSpPr>
            <p:cNvPr id="266" name=""/>
            <p:cNvSpPr/>
            <p:nvPr/>
          </p:nvSpPr>
          <p:spPr>
            <a:xfrm>
              <a:off x="7251480" y="1253880"/>
              <a:ext cx="368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7238880" y="1482480"/>
              <a:ext cx="36828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7581600" y="1139760"/>
              <a:ext cx="1384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Reserva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7569000" y="1355400"/>
              <a:ext cx="1384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Hotel Confirma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70" name=""/>
          <p:cNvCxnSpPr/>
          <p:nvPr/>
        </p:nvCxnSpPr>
        <p:spPr>
          <a:xfrm>
            <a:off x="5562720" y="1904760"/>
            <a:ext cx="2273760" cy="538920"/>
          </a:xfrm>
          <a:prstGeom prst="curvedConnector5">
            <a:avLst>
              <a:gd name="adj1" fmla="val 49992"/>
              <a:gd name="adj2" fmla="val 50000"/>
              <a:gd name="adj3" fmla="val 49992"/>
            </a:avLst>
          </a:prstGeom>
          <a:ln cap="sq" w="1260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271" name=""/>
          <p:cNvCxnSpPr/>
          <p:nvPr/>
        </p:nvCxnSpPr>
        <p:spPr>
          <a:xfrm flipV="1">
            <a:off x="5157360" y="2768400"/>
            <a:ext cx="2686680" cy="148320"/>
          </a:xfrm>
          <a:prstGeom prst="curvedConnector5">
            <a:avLst>
              <a:gd name="adj1" fmla="val 50000"/>
              <a:gd name="adj2" fmla="val 49878"/>
              <a:gd name="adj3" fmla="val 50000"/>
            </a:avLst>
          </a:prstGeom>
          <a:ln cap="sq" w="1260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272" name=""/>
          <p:cNvSpPr/>
          <p:nvPr/>
        </p:nvSpPr>
        <p:spPr>
          <a:xfrm flipH="1" flipV="1" rot="10800000">
            <a:off x="4357800" y="2068560"/>
            <a:ext cx="115920" cy="465120"/>
          </a:xfrm>
          <a:custGeom>
            <a:avLst/>
            <a:gdLst>
              <a:gd name="textAreaLeft" fmla="*/ 74520 w 115920"/>
              <a:gd name="textAreaRight" fmla="*/ 116640 w 115920"/>
              <a:gd name="textAreaTop" fmla="*/ 11880 h 465120"/>
              <a:gd name="textAreaBottom" fmla="*/ 453240 h 465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850"/>
                </a:lnTo>
                <a:cubicBezTo>
                  <a:pt x="10800" y="9750"/>
                  <a:pt x="5400" y="10650"/>
                  <a:pt x="0" y="10650"/>
                </a:cubicBezTo>
                <a:cubicBezTo>
                  <a:pt x="5400" y="10650"/>
                  <a:pt x="10800" y="11550"/>
                  <a:pt x="10800" y="1245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966480" y="1905120"/>
            <a:ext cx="484920" cy="83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Manual Metho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4" name=""/>
          <p:cNvGrpSpPr/>
          <p:nvPr/>
        </p:nvGrpSpPr>
        <p:grpSpPr>
          <a:xfrm>
            <a:off x="7831080" y="1981080"/>
            <a:ext cx="1312560" cy="1384200"/>
            <a:chOff x="7831080" y="1981080"/>
            <a:chExt cx="1312560" cy="1384200"/>
          </a:xfrm>
        </p:grpSpPr>
        <p:pic>
          <p:nvPicPr>
            <p:cNvPr id="275" name="" descr=""/>
            <p:cNvPicPr/>
            <p:nvPr/>
          </p:nvPicPr>
          <p:blipFill>
            <a:blip r:embed="rId1"/>
            <a:stretch/>
          </p:blipFill>
          <p:spPr>
            <a:xfrm>
              <a:off x="7932960" y="2171880"/>
              <a:ext cx="1210680" cy="119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6" name=""/>
            <p:cNvSpPr/>
            <p:nvPr/>
          </p:nvSpPr>
          <p:spPr>
            <a:xfrm>
              <a:off x="7831080" y="1981080"/>
              <a:ext cx="1180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Verdana"/>
                </a:rPr>
                <a:t>Hote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7" name=""/>
          <p:cNvGrpSpPr/>
          <p:nvPr/>
        </p:nvGrpSpPr>
        <p:grpSpPr>
          <a:xfrm>
            <a:off x="1397160" y="1905120"/>
            <a:ext cx="995040" cy="1320480"/>
            <a:chOff x="1397160" y="1905120"/>
            <a:chExt cx="995040" cy="1320480"/>
          </a:xfrm>
        </p:grpSpPr>
        <p:graphicFrame>
          <p:nvGraphicFramePr>
            <p:cNvPr id="278" name=""/>
            <p:cNvGraphicFramePr/>
            <p:nvPr/>
          </p:nvGraphicFramePr>
          <p:xfrm>
            <a:off x="1514880" y="2387880"/>
            <a:ext cx="720720" cy="8377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279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514880" y="2387880"/>
                      <a:ext cx="720720" cy="837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80" name=""/>
            <p:cNvSpPr/>
            <p:nvPr/>
          </p:nvSpPr>
          <p:spPr>
            <a:xfrm>
              <a:off x="1397160" y="1905120"/>
              <a:ext cx="99504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Verdana"/>
                </a:rPr>
                <a:t>Meeting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Verdana"/>
                </a:rPr>
                <a:t>Attende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1" name=""/>
          <p:cNvGrpSpPr/>
          <p:nvPr/>
        </p:nvGrpSpPr>
        <p:grpSpPr>
          <a:xfrm>
            <a:off x="2438280" y="3124080"/>
            <a:ext cx="1549440" cy="1142640"/>
            <a:chOff x="2438280" y="3124080"/>
            <a:chExt cx="1549440" cy="1142640"/>
          </a:xfrm>
        </p:grpSpPr>
        <p:graphicFrame>
          <p:nvGraphicFramePr>
            <p:cNvPr id="282" name=""/>
            <p:cNvGraphicFramePr/>
            <p:nvPr/>
          </p:nvGraphicFramePr>
          <p:xfrm>
            <a:off x="2838240" y="3695760"/>
            <a:ext cx="711360" cy="57096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283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2838240" y="3695760"/>
                      <a:ext cx="711360" cy="570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84" name=""/>
            <p:cNvSpPr/>
            <p:nvPr/>
          </p:nvSpPr>
          <p:spPr>
            <a:xfrm>
              <a:off x="2438280" y="3124080"/>
              <a:ext cx="154944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Verdana"/>
                </a:rPr>
                <a:t>3rd Part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Verdana"/>
                </a:rPr>
                <a:t>Housing Companie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85" name=""/>
          <p:cNvCxnSpPr/>
          <p:nvPr/>
        </p:nvCxnSpPr>
        <p:spPr>
          <a:xfrm>
            <a:off x="5409720" y="2285640"/>
            <a:ext cx="2451960" cy="33084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cap="sq" w="1260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286" name=""/>
          <p:cNvCxnSpPr/>
          <p:nvPr/>
        </p:nvCxnSpPr>
        <p:spPr>
          <a:xfrm flipV="1">
            <a:off x="2236680" y="1636200"/>
            <a:ext cx="712080" cy="1170720"/>
          </a:xfrm>
          <a:prstGeom prst="curvedConnector5">
            <a:avLst>
              <a:gd name="adj1" fmla="val 49974"/>
              <a:gd name="adj2" fmla="val 49984"/>
              <a:gd name="adj3" fmla="val 499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7" name=""/>
          <p:cNvCxnSpPr/>
          <p:nvPr/>
        </p:nvCxnSpPr>
        <p:spPr>
          <a:xfrm>
            <a:off x="2236680" y="2806560"/>
            <a:ext cx="602640" cy="1175760"/>
          </a:xfrm>
          <a:prstGeom prst="curvedConnector5">
            <a:avLst>
              <a:gd name="adj1" fmla="val 49850"/>
              <a:gd name="adj2" fmla="val 49984"/>
              <a:gd name="adj3" fmla="val 4985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8" name=""/>
          <p:cNvCxnSpPr/>
          <p:nvPr/>
        </p:nvCxnSpPr>
        <p:spPr>
          <a:xfrm>
            <a:off x="3549600" y="3981240"/>
            <a:ext cx="1099440" cy="10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89" name=""/>
          <p:cNvGrpSpPr/>
          <p:nvPr/>
        </p:nvGrpSpPr>
        <p:grpSpPr>
          <a:xfrm>
            <a:off x="6058080" y="3479760"/>
            <a:ext cx="1079280" cy="1218960"/>
            <a:chOff x="6058080" y="3479760"/>
            <a:chExt cx="1079280" cy="1218960"/>
          </a:xfrm>
        </p:grpSpPr>
        <p:sp>
          <p:nvSpPr>
            <p:cNvPr id="290" name=""/>
            <p:cNvSpPr/>
            <p:nvPr/>
          </p:nvSpPr>
          <p:spPr>
            <a:xfrm>
              <a:off x="6210360" y="4010760"/>
              <a:ext cx="851040" cy="687960"/>
            </a:xfrm>
            <a:prstGeom prst="sun">
              <a:avLst>
                <a:gd name="adj" fmla="val 25000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058080" y="3479760"/>
              <a:ext cx="10792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Verdana"/>
                </a:rPr>
                <a:t>Central Reservation System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92" name=""/>
          <p:cNvCxnSpPr/>
          <p:nvPr/>
        </p:nvCxnSpPr>
        <p:spPr>
          <a:xfrm>
            <a:off x="5562720" y="4063680"/>
            <a:ext cx="699120" cy="165960"/>
          </a:xfrm>
          <a:prstGeom prst="curvedConnector5">
            <a:avLst>
              <a:gd name="adj1" fmla="val 49974"/>
              <a:gd name="adj2" fmla="val 50000"/>
              <a:gd name="adj3" fmla="val 499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3" name=""/>
          <p:cNvCxnSpPr>
            <a:endCxn id="275" idx="2"/>
          </p:cNvCxnSpPr>
          <p:nvPr/>
        </p:nvCxnSpPr>
        <p:spPr>
          <a:xfrm flipV="1">
            <a:off x="7014960" y="3364920"/>
            <a:ext cx="1524600" cy="8593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94" name=""/>
          <p:cNvGrpSpPr/>
          <p:nvPr/>
        </p:nvGrpSpPr>
        <p:grpSpPr>
          <a:xfrm>
            <a:off x="2587680" y="1066680"/>
            <a:ext cx="1476360" cy="914040"/>
            <a:chOff x="2587680" y="1066680"/>
            <a:chExt cx="1476360" cy="914040"/>
          </a:xfrm>
        </p:grpSpPr>
        <p:graphicFrame>
          <p:nvGraphicFramePr>
            <p:cNvPr id="295" name=""/>
            <p:cNvGraphicFramePr/>
            <p:nvPr/>
          </p:nvGraphicFramePr>
          <p:xfrm>
            <a:off x="2948040" y="1292040"/>
            <a:ext cx="746640" cy="68868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296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2948040" y="1292040"/>
                      <a:ext cx="746640" cy="688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97" name=""/>
            <p:cNvSpPr/>
            <p:nvPr/>
          </p:nvSpPr>
          <p:spPr>
            <a:xfrm>
              <a:off x="2587680" y="1066680"/>
              <a:ext cx="1476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Verdana"/>
                </a:rPr>
                <a:t>Meeting Organizer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8" name=""/>
          <p:cNvSpPr/>
          <p:nvPr/>
        </p:nvSpPr>
        <p:spPr>
          <a:xfrm>
            <a:off x="4242960" y="3147840"/>
            <a:ext cx="907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Limited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Proprieta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Interfa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737240" y="3708360"/>
            <a:ext cx="736560" cy="609480"/>
          </a:xfrm>
          <a:prstGeom prst="octagon">
            <a:avLst>
              <a:gd name="adj" fmla="val 29287"/>
            </a:avLst>
          </a:prstGeom>
          <a:solidFill>
            <a:srgbClr val="00ffff"/>
          </a:solidFill>
          <a:ln cap="sq" w="1260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5f5f5f"/>
                </a:solidFill>
                <a:latin typeface="Verdana"/>
              </a:rPr>
              <a:t>Interfa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8"/>
          <a:stretch/>
        </p:blipFill>
        <p:spPr>
          <a:xfrm>
            <a:off x="4746600" y="2073240"/>
            <a:ext cx="587520" cy="304920"/>
          </a:xfrm>
          <a:prstGeom prst="rect">
            <a:avLst/>
          </a:prstGeom>
          <a:ln w="0">
            <a:noFill/>
          </a:ln>
        </p:spPr>
      </p:pic>
      <p:pic>
        <p:nvPicPr>
          <p:cNvPr id="301" name="" descr=""/>
          <p:cNvPicPr/>
          <p:nvPr/>
        </p:nvPicPr>
        <p:blipFill>
          <a:blip r:embed="rId9"/>
          <a:stretch/>
        </p:blipFill>
        <p:spPr>
          <a:xfrm>
            <a:off x="4772160" y="1600200"/>
            <a:ext cx="620640" cy="365040"/>
          </a:xfrm>
          <a:prstGeom prst="rect">
            <a:avLst/>
          </a:prstGeom>
          <a:ln w="0">
            <a:noFill/>
          </a:ln>
        </p:spPr>
      </p:pic>
      <p:pic>
        <p:nvPicPr>
          <p:cNvPr id="302" name="" descr=""/>
          <p:cNvPicPr/>
          <p:nvPr/>
        </p:nvPicPr>
        <p:blipFill>
          <a:blip r:embed="rId10"/>
          <a:stretch/>
        </p:blipFill>
        <p:spPr>
          <a:xfrm>
            <a:off x="4749840" y="2527200"/>
            <a:ext cx="563400" cy="292320"/>
          </a:xfrm>
          <a:prstGeom prst="rect">
            <a:avLst/>
          </a:prstGeom>
          <a:ln w="0">
            <a:noFill/>
          </a:ln>
        </p:spPr>
      </p:pic>
      <p:cxnSp>
        <p:nvCxnSpPr>
          <p:cNvPr id="303" name=""/>
          <p:cNvCxnSpPr/>
          <p:nvPr/>
        </p:nvCxnSpPr>
        <p:spPr>
          <a:xfrm rot="10800000">
            <a:off x="5460120" y="4342680"/>
            <a:ext cx="699480" cy="115200"/>
          </a:xfrm>
          <a:prstGeom prst="curvedConnector5">
            <a:avLst>
              <a:gd name="adj1" fmla="val 50000"/>
              <a:gd name="adj2" fmla="val 49843"/>
              <a:gd name="adj3" fmla="val 50000"/>
            </a:avLst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304" name=""/>
          <p:cNvCxnSpPr/>
          <p:nvPr/>
        </p:nvCxnSpPr>
        <p:spPr>
          <a:xfrm rot="10800000">
            <a:off x="3796560" y="4137840"/>
            <a:ext cx="1308960" cy="205560"/>
          </a:xfrm>
          <a:prstGeom prst="curvedConnector5">
            <a:avLst>
              <a:gd name="adj1" fmla="val 49986"/>
              <a:gd name="adj2" fmla="val 50000"/>
              <a:gd name="adj3" fmla="val 49986"/>
            </a:avLst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305" name=""/>
          <p:cNvCxnSpPr/>
          <p:nvPr/>
        </p:nvCxnSpPr>
        <p:spPr>
          <a:xfrm flipV="1">
            <a:off x="2236680" y="2448000"/>
            <a:ext cx="1843920" cy="358920"/>
          </a:xfrm>
          <a:prstGeom prst="curvedConnector5">
            <a:avLst>
              <a:gd name="adj1" fmla="val 49951"/>
              <a:gd name="adj2" fmla="val 50000"/>
              <a:gd name="adj3" fmla="val 499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06" name=""/>
          <p:cNvSpPr/>
          <p:nvPr/>
        </p:nvSpPr>
        <p:spPr>
          <a:xfrm>
            <a:off x="6858000" y="5008680"/>
            <a:ext cx="2070000" cy="1318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480" indent="-11448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Hot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Data entry of Rooming List from Planner or 3</a:t>
            </a:r>
            <a:r>
              <a:rPr b="1" lang="en-US" sz="1000" spc="-1" strike="noStrike" baseline="30000">
                <a:solidFill>
                  <a:srgbClr val="000000"/>
                </a:solidFill>
                <a:latin typeface="Verdana"/>
              </a:rPr>
              <a:t>rd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Party which is labor intensiv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Receives list 30 days prior to meeting thus a lack of view into meeting pick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1447920" y="4648320"/>
            <a:ext cx="2209680" cy="185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480" indent="-11448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Meeting Attende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ntact hotel directly, meeting organizer or 3</a:t>
            </a:r>
            <a:r>
              <a:rPr b="1" lang="en-US" sz="1000" spc="-1" strike="noStrike" baseline="30000">
                <a:solidFill>
                  <a:srgbClr val="000000"/>
                </a:solidFill>
                <a:latin typeface="Verdana"/>
              </a:rPr>
              <a:t>rd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par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Receives  a confirmation from either the organizer or 3</a:t>
            </a:r>
            <a:r>
              <a:rPr b="1" lang="en-US" sz="1000" spc="-1" strike="noStrike" baseline="30000">
                <a:solidFill>
                  <a:srgbClr val="000000"/>
                </a:solidFill>
                <a:latin typeface="Verdana"/>
              </a:rPr>
              <a:t>rd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party which does not match the hot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Potential for 2 sets of data entry errors on attendee reserv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4089240" y="5084640"/>
            <a:ext cx="2311560" cy="12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480" indent="-11448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Meeting Organ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Labor intensive for their staff if they create rooming li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No view into meeting pickup if reservations go direct to hot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9" name=""/>
          <p:cNvCxnSpPr>
            <a:endCxn id="273" idx="2"/>
          </p:cNvCxnSpPr>
          <p:nvPr/>
        </p:nvCxnSpPr>
        <p:spPr>
          <a:xfrm flipV="1">
            <a:off x="3549600" y="2736360"/>
            <a:ext cx="658080" cy="12456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0" name=""/>
          <p:cNvSpPr/>
          <p:nvPr/>
        </p:nvSpPr>
        <p:spPr>
          <a:xfrm>
            <a:off x="2987640" y="1562040"/>
            <a:ext cx="1304640" cy="888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523880" y="-682920"/>
            <a:ext cx="7454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ppendix - Current Reservation Proce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312" name=""/>
          <p:cNvCxnSpPr/>
          <p:nvPr/>
        </p:nvCxnSpPr>
        <p:spPr>
          <a:xfrm flipV="1" rot="10800000">
            <a:off x="7178040" y="3351240"/>
            <a:ext cx="1614960" cy="1003680"/>
          </a:xfrm>
          <a:prstGeom prst="curvedConnector5">
            <a:avLst>
              <a:gd name="adj1" fmla="val 8940"/>
              <a:gd name="adj2" fmla="val 49982"/>
              <a:gd name="adj3" fmla="val 8940"/>
            </a:avLst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523520" y="-53388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Appendix – Growth Rates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1515960" y="1494000"/>
            <a:ext cx="7145280" cy="342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523520" y="-53388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Appendix – Rate &amp; Margins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6" name="" descr=""/>
          <p:cNvPicPr/>
          <p:nvPr/>
        </p:nvPicPr>
        <p:blipFill>
          <a:blip r:embed="rId1"/>
          <a:stretch/>
        </p:blipFill>
        <p:spPr>
          <a:xfrm>
            <a:off x="1469880" y="1509840"/>
            <a:ext cx="6759720" cy="4746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523520" y="-53388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ppendix – Simulation Key Formula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1599840" y="1104480"/>
            <a:ext cx="7162920" cy="55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99960" indent="-399960">
              <a:spcBef>
                <a:spcPts val="451"/>
              </a:spcBef>
              <a:buClr>
                <a:srgbClr val="000000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etermine 5-year projection of booking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19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Verdana"/>
              </a:rPr>
              <a:t>Σ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(B * A * G)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1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over all 3 segments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81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99960" indent="-399960">
              <a:spcBef>
                <a:spcPts val="451"/>
              </a:spcBef>
              <a:buClr>
                <a:srgbClr val="000000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alculate 5-year projection of revenu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19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Verdana"/>
              </a:rPr>
              <a:t>Σ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(projected #bookings) * (F * N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19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99960" indent="-399960">
              <a:spcBef>
                <a:spcPts val="451"/>
              </a:spcBef>
              <a:buClr>
                <a:srgbClr val="000000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alculate incremental revenue generated by projec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19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Verdana"/>
              </a:rPr>
              <a:t>Σ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(Revenue w/project – Revenue w/out project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19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99960" indent="-399960">
              <a:spcBef>
                <a:spcPts val="451"/>
              </a:spcBef>
              <a:buClr>
                <a:srgbClr val="000000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etermine the percentage increase of operating margin generated by projec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19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Verdana"/>
              </a:rPr>
              <a:t>Σ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(M * Incremental R) / (M * R w/out project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19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99960" indent="-399960">
              <a:spcBef>
                <a:spcPts val="451"/>
              </a:spcBef>
              <a:buClr>
                <a:srgbClr val="000000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anagement rule of thumb, 50% probability of acceptance if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99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5-year % increase &gt; average % increase overall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19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523520" y="-53388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Appendix – Solver Table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1"/>
          <a:stretch/>
        </p:blipFill>
        <p:spPr>
          <a:xfrm>
            <a:off x="1755720" y="1887480"/>
            <a:ext cx="5981760" cy="327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23520" y="-53388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Managerial Challenge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599840" y="1142640"/>
            <a:ext cx="71629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7026120" indent="0">
              <a:spcBef>
                <a:spcPts val="524"/>
              </a:spcBef>
              <a:buNone/>
              <a:tabLst>
                <a:tab algn="l" pos="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 u="sng">
                <a:solidFill>
                  <a:srgbClr val="000000"/>
                </a:solidFill>
                <a:uFillTx/>
                <a:latin typeface="Verdana"/>
              </a:rPr>
              <a:t>Objective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7026120" indent="0">
              <a:spcBef>
                <a:spcPts val="524"/>
              </a:spcBef>
              <a:buNone/>
              <a:tabLst>
                <a:tab algn="l" pos="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Launch a product to service the small meetings market that will enhance customer satisfaction and increase profitability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7026120" indent="0">
              <a:spcBef>
                <a:spcPts val="524"/>
              </a:spcBef>
              <a:buNone/>
              <a:tabLst>
                <a:tab algn="l" pos="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7026120" indent="0">
              <a:spcBef>
                <a:spcPts val="524"/>
              </a:spcBef>
              <a:buNone/>
              <a:tabLst>
                <a:tab algn="l" pos="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 u="sng">
                <a:solidFill>
                  <a:srgbClr val="000000"/>
                </a:solidFill>
                <a:uFillTx/>
                <a:latin typeface="Verdana"/>
              </a:rPr>
              <a:t>Proposed Solution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7026120" indent="-7026120">
              <a:spcBef>
                <a:spcPts val="524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Build a centralized system to manage all meeting inventory and sal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7026120" indent="-7026120">
              <a:spcBef>
                <a:spcPts val="524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Enhance online meeting reservation experience through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465120" indent="656100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Meeting specific Web site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465120" indent="656100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Attend a meeting” functionality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465120" indent="656100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Online reporting of meeting reservations that allow meeting planners to view meeting pick-up and attendee lists 24/7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46512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46512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7026120" indent="0">
              <a:spcBef>
                <a:spcPts val="524"/>
              </a:spcBef>
              <a:buNone/>
              <a:tabLst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-53064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Customers’ Sales Needs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"/>
          <p:cNvSpPr/>
          <p:nvPr/>
        </p:nvSpPr>
        <p:spPr>
          <a:xfrm>
            <a:off x="1511280" y="1204920"/>
            <a:ext cx="4432320" cy="1496520"/>
          </a:xfrm>
          <a:prstGeom prst="rect">
            <a:avLst/>
          </a:prstGeom>
          <a:solidFill>
            <a:srgbClr val="ffffe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11412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Verdana"/>
              </a:rPr>
              <a:t>Sales Office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1141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aster responses to leads sent to hot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1141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bility to quantify value of an accou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1141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ead-to-conversion trac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1141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etitive advantages over compet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1141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523880" y="3137040"/>
            <a:ext cx="5943600" cy="1237680"/>
          </a:xfrm>
          <a:prstGeom prst="rect">
            <a:avLst/>
          </a:prstGeom>
          <a:solidFill>
            <a:srgbClr val="ffffe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11412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Verdana"/>
              </a:rPr>
              <a:t>Meeting Planners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1141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aster responses to request for meeting availability and pric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1141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ingle image of inventory and pricing so call to hotel results in same price as on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1141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638360" y="4876920"/>
            <a:ext cx="7353360" cy="1496520"/>
          </a:xfrm>
          <a:prstGeom prst="rect">
            <a:avLst/>
          </a:prstGeom>
          <a:solidFill>
            <a:srgbClr val="ffffe9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480" indent="-1144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Verdana"/>
              </a:rPr>
              <a:t>Hotels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bility to cross-sell meeting requests to sister proper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duce number of non-convertible lea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 distribution channels for distressed inventory and last minute cancell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etitive advantages over compet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600200" y="2895480"/>
            <a:ext cx="5410080" cy="1496520"/>
          </a:xfrm>
          <a:prstGeom prst="rect">
            <a:avLst/>
          </a:prstGeom>
          <a:solidFill>
            <a:srgbClr val="ffffe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11412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Verdana"/>
              </a:rPr>
              <a:t>Meeting Attendees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1141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nline “Attend a Meeting” to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1141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formation on hotel and meeting during reservation proces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1141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ccurate data entry of reserv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1141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eeting confirmation number that hotel can cross-refer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1141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600200" y="1371600"/>
            <a:ext cx="6477120" cy="1275840"/>
          </a:xfrm>
          <a:prstGeom prst="rect">
            <a:avLst/>
          </a:prstGeom>
          <a:solidFill>
            <a:srgbClr val="ffffe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11412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Verdana"/>
              </a:rPr>
              <a:t>Meeting Planners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1141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nline reservation processing (“Attend a Meeting” functionality)  for attende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1141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ttrition management too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1141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apability to sub-block meeting inven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1141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765440" y="4649760"/>
            <a:ext cx="7226280" cy="1717200"/>
          </a:xfrm>
          <a:prstGeom prst="rect">
            <a:avLst/>
          </a:prstGeom>
          <a:solidFill>
            <a:srgbClr val="ffffe9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480" indent="-1144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Verdana"/>
              </a:rPr>
              <a:t>Hotels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etter yield management against meeting reserv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duce labor of data entry on rooming li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duce labor in producing pickup reports and rooming lists for meeting plan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 cross-sell, up-sell opportun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 distribution channels during slow transient or corporate market ti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523880" y="-530280"/>
            <a:ext cx="7239240" cy="14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Customers’ Reservation Need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23520" y="-736560"/>
            <a:ext cx="762012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roposed Solution: Sales Proces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5637240" y="961920"/>
            <a:ext cx="3506400" cy="554400"/>
            <a:chOff x="5637240" y="961920"/>
            <a:chExt cx="3506400" cy="554400"/>
          </a:xfrm>
        </p:grpSpPr>
        <p:sp>
          <p:nvSpPr>
            <p:cNvPr id="105" name=""/>
            <p:cNvSpPr/>
            <p:nvPr/>
          </p:nvSpPr>
          <p:spPr>
            <a:xfrm>
              <a:off x="5637240" y="1087200"/>
              <a:ext cx="331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955480" y="961920"/>
              <a:ext cx="318816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2-Way Communication of Reques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nd Availability/Prici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7704000" y="2101680"/>
            <a:ext cx="1322280" cy="1271880"/>
            <a:chOff x="7704000" y="2101680"/>
            <a:chExt cx="1322280" cy="1271880"/>
          </a:xfrm>
        </p:grpSpPr>
        <p:pic>
          <p:nvPicPr>
            <p:cNvPr id="108" name="" descr=""/>
            <p:cNvPicPr/>
            <p:nvPr/>
          </p:nvPicPr>
          <p:blipFill>
            <a:blip r:embed="rId1"/>
            <a:stretch/>
          </p:blipFill>
          <p:spPr>
            <a:xfrm>
              <a:off x="7806600" y="2277000"/>
              <a:ext cx="1219680" cy="109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"/>
            <p:cNvSpPr/>
            <p:nvPr/>
          </p:nvSpPr>
          <p:spPr>
            <a:xfrm>
              <a:off x="7704000" y="2101680"/>
              <a:ext cx="1188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Hote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1331640" y="2251080"/>
            <a:ext cx="1527840" cy="923400"/>
            <a:chOff x="1331640" y="2251080"/>
            <a:chExt cx="1527840" cy="923400"/>
          </a:xfrm>
        </p:grpSpPr>
        <p:graphicFrame>
          <p:nvGraphicFramePr>
            <p:cNvPr id="111" name=""/>
            <p:cNvGraphicFramePr/>
            <p:nvPr/>
          </p:nvGraphicFramePr>
          <p:xfrm>
            <a:off x="1571400" y="2479680"/>
            <a:ext cx="1034280" cy="6948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12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571400" y="2479680"/>
                      <a:ext cx="1034280" cy="694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3" name=""/>
            <p:cNvSpPr/>
            <p:nvPr/>
          </p:nvSpPr>
          <p:spPr>
            <a:xfrm>
              <a:off x="1331640" y="2251080"/>
              <a:ext cx="1527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Meeting Organiz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3168720" y="1370160"/>
            <a:ext cx="1096560" cy="640800"/>
            <a:chOff x="3168720" y="1370160"/>
            <a:chExt cx="1096560" cy="640800"/>
          </a:xfrm>
        </p:grpSpPr>
        <p:pic>
          <p:nvPicPr>
            <p:cNvPr id="115" name="" descr=""/>
            <p:cNvPicPr/>
            <p:nvPr/>
          </p:nvPicPr>
          <p:blipFill>
            <a:blip r:embed="rId4"/>
            <a:stretch/>
          </p:blipFill>
          <p:spPr>
            <a:xfrm>
              <a:off x="3168720" y="1616760"/>
              <a:ext cx="1096560" cy="394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"/>
            <p:cNvSpPr/>
            <p:nvPr/>
          </p:nvSpPr>
          <p:spPr>
            <a:xfrm>
              <a:off x="3203280" y="1370160"/>
              <a:ext cx="1009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ales Offic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"/>
          <p:cNvSpPr/>
          <p:nvPr/>
        </p:nvSpPr>
        <p:spPr>
          <a:xfrm>
            <a:off x="4105440" y="2235240"/>
            <a:ext cx="1268280" cy="896760"/>
          </a:xfrm>
          <a:prstGeom prst="cloudCallout">
            <a:avLst>
              <a:gd name="adj1" fmla="val -39300"/>
              <a:gd name="adj2" fmla="val -1041"/>
            </a:avLst>
          </a:prstGeom>
          <a:solidFill>
            <a:srgbClr val="ffffe9"/>
          </a:solidFill>
          <a:ln cap="sq"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Verdana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INTERNET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945040" y="2193840"/>
            <a:ext cx="1279800" cy="1071720"/>
          </a:xfrm>
          <a:prstGeom prst="bevel">
            <a:avLst>
              <a:gd name="adj" fmla="val 125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M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/>
          <p:nvPr/>
        </p:nvCxnSpPr>
        <p:spPr>
          <a:xfrm>
            <a:off x="5417640" y="2650680"/>
            <a:ext cx="492840" cy="1080"/>
          </a:xfrm>
          <a:prstGeom prst="curvedConnector5">
            <a:avLst>
              <a:gd name="adj1" fmla="val 49853"/>
              <a:gd name="adj2" fmla="val 50000"/>
              <a:gd name="adj3" fmla="val 49853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120" name=""/>
          <p:cNvGrpSpPr/>
          <p:nvPr/>
        </p:nvGrpSpPr>
        <p:grpSpPr>
          <a:xfrm>
            <a:off x="3020760" y="2879640"/>
            <a:ext cx="1032480" cy="796680"/>
            <a:chOff x="3020760" y="2879640"/>
            <a:chExt cx="1032480" cy="796680"/>
          </a:xfrm>
        </p:grpSpPr>
        <p:graphicFrame>
          <p:nvGraphicFramePr>
            <p:cNvPr id="121" name=""/>
            <p:cNvGraphicFramePr/>
            <p:nvPr/>
          </p:nvGraphicFramePr>
          <p:xfrm>
            <a:off x="3182760" y="3290400"/>
            <a:ext cx="750600" cy="3859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22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182760" y="3290400"/>
                      <a:ext cx="750600" cy="38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3" name=""/>
            <p:cNvSpPr/>
            <p:nvPr/>
          </p:nvSpPr>
          <p:spPr>
            <a:xfrm>
              <a:off x="3020760" y="2879640"/>
              <a:ext cx="10324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Empi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all Center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3146400" y="3821040"/>
            <a:ext cx="990720" cy="839520"/>
            <a:chOff x="3146400" y="3821040"/>
            <a:chExt cx="990720" cy="839520"/>
          </a:xfrm>
        </p:grpSpPr>
        <p:pic>
          <p:nvPicPr>
            <p:cNvPr id="125" name="" descr=""/>
            <p:cNvPicPr/>
            <p:nvPr/>
          </p:nvPicPr>
          <p:blipFill>
            <a:blip r:embed="rId7"/>
            <a:stretch/>
          </p:blipFill>
          <p:spPr>
            <a:xfrm>
              <a:off x="3197880" y="4023360"/>
              <a:ext cx="939240" cy="63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"/>
            <p:cNvSpPr/>
            <p:nvPr/>
          </p:nvSpPr>
          <p:spPr>
            <a:xfrm>
              <a:off x="3146400" y="3821040"/>
              <a:ext cx="913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Hote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27" name=""/>
          <p:cNvCxnSpPr/>
          <p:nvPr/>
        </p:nvCxnSpPr>
        <p:spPr>
          <a:xfrm flipH="1" flipV="1" rot="5400000">
            <a:off x="7395120" y="1283040"/>
            <a:ext cx="92880" cy="1713600"/>
          </a:xfrm>
          <a:prstGeom prst="curvedConnector5">
            <a:avLst>
              <a:gd name="adj1" fmla="val 263424"/>
              <a:gd name="adj2" fmla="val 49989"/>
              <a:gd name="adj3" fmla="val 26342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8" name=""/>
          <p:cNvCxnSpPr/>
          <p:nvPr/>
        </p:nvCxnSpPr>
        <p:spPr>
          <a:xfrm flipV="1" rot="16200000">
            <a:off x="7446600" y="2410920"/>
            <a:ext cx="108720" cy="1832400"/>
          </a:xfrm>
          <a:prstGeom prst="curvedConnector5">
            <a:avLst>
              <a:gd name="adj1" fmla="val -138205"/>
              <a:gd name="adj2" fmla="val 49990"/>
              <a:gd name="adj3" fmla="val -13820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6553080" y="1523880"/>
            <a:ext cx="2068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Interface to Sales &amp; Cater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740280" y="3551400"/>
            <a:ext cx="1688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Hotel Manages Mee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Inventory in SM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"/>
          <p:cNvCxnSpPr/>
          <p:nvPr/>
        </p:nvCxnSpPr>
        <p:spPr>
          <a:xfrm flipH="1" flipV="1" rot="5400000">
            <a:off x="2283120" y="1522800"/>
            <a:ext cx="602640" cy="116928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32" name=""/>
          <p:cNvCxnSpPr>
            <a:endCxn id="117" idx="0"/>
          </p:cNvCxnSpPr>
          <p:nvPr/>
        </p:nvCxnSpPr>
        <p:spPr>
          <a:xfrm flipV="1">
            <a:off x="2604960" y="2683800"/>
            <a:ext cx="1504080" cy="143640"/>
          </a:xfrm>
          <a:prstGeom prst="curvedConnector5">
            <a:avLst>
              <a:gd name="adj1" fmla="val 49820"/>
              <a:gd name="adj2" fmla="val 50000"/>
              <a:gd name="adj3" fmla="val 4982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33" name=""/>
          <p:cNvCxnSpPr/>
          <p:nvPr/>
        </p:nvCxnSpPr>
        <p:spPr>
          <a:xfrm flipH="1" rot="16200000">
            <a:off x="2593080" y="2670480"/>
            <a:ext cx="170640" cy="117864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34" name=""/>
          <p:cNvCxnSpPr/>
          <p:nvPr/>
        </p:nvCxnSpPr>
        <p:spPr>
          <a:xfrm flipH="1" rot="16200000">
            <a:off x="2176920" y="3086640"/>
            <a:ext cx="1017000" cy="119268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35" name=""/>
          <p:cNvCxnSpPr/>
          <p:nvPr/>
        </p:nvCxnSpPr>
        <p:spPr>
          <a:xfrm flipV="1">
            <a:off x="4136760" y="3139560"/>
            <a:ext cx="603720" cy="116136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36" name=""/>
          <p:cNvCxnSpPr/>
          <p:nvPr/>
        </p:nvCxnSpPr>
        <p:spPr>
          <a:xfrm flipV="1">
            <a:off x="3922560" y="3130200"/>
            <a:ext cx="805680" cy="31680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37" name=""/>
          <p:cNvCxnSpPr/>
          <p:nvPr/>
        </p:nvCxnSpPr>
        <p:spPr>
          <a:xfrm>
            <a:off x="4265640" y="1806480"/>
            <a:ext cx="475200" cy="47088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38" name=""/>
          <p:cNvSpPr/>
          <p:nvPr/>
        </p:nvSpPr>
        <p:spPr>
          <a:xfrm>
            <a:off x="1434960" y="5278320"/>
            <a:ext cx="2070360" cy="1520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480" indent="-1144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Meeting Organiz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an book a meeting through the sales office, hotel directly, online at our branded websites and eventually at our call cen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809880" y="4897440"/>
            <a:ext cx="2362320" cy="175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480" indent="-1144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ales Off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Will have same availability and pricing information that the property h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an close more leads because they can respond faster to the meeting planner on availability and pric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553080" y="4648320"/>
            <a:ext cx="2438640" cy="1983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480" indent="-1144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Hot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Will sell meetings into the same system as Sales reps and planners onlin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an cross-sell a sister property if they cannot accommodate the meeting fir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Offers additional sales channels for meeting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3520" y="-723960"/>
            <a:ext cx="762012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roposed Solution: Reservation Proces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"/>
          <p:cNvSpPr/>
          <p:nvPr/>
        </p:nvSpPr>
        <p:spPr>
          <a:xfrm>
            <a:off x="6197760" y="1979640"/>
            <a:ext cx="1041120" cy="1106640"/>
          </a:xfrm>
          <a:prstGeom prst="bevel">
            <a:avLst>
              <a:gd name="adj" fmla="val 125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M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/>
          <p:nvPr/>
        </p:nvCxnSpPr>
        <p:spPr>
          <a:xfrm flipV="1">
            <a:off x="7238880" y="2208240"/>
            <a:ext cx="610560" cy="76680"/>
          </a:xfrm>
          <a:prstGeom prst="curvedConnector5">
            <a:avLst>
              <a:gd name="adj1" fmla="val 49970"/>
              <a:gd name="adj2" fmla="val 50000"/>
              <a:gd name="adj3" fmla="val 4997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144" name=""/>
          <p:cNvGrpSpPr/>
          <p:nvPr/>
        </p:nvGrpSpPr>
        <p:grpSpPr>
          <a:xfrm>
            <a:off x="3581280" y="3298680"/>
            <a:ext cx="1019160" cy="1349280"/>
            <a:chOff x="3581280" y="3298680"/>
            <a:chExt cx="1019160" cy="1349280"/>
          </a:xfrm>
        </p:grpSpPr>
        <p:graphicFrame>
          <p:nvGraphicFramePr>
            <p:cNvPr id="145" name=""/>
            <p:cNvGraphicFramePr/>
            <p:nvPr/>
          </p:nvGraphicFramePr>
          <p:xfrm>
            <a:off x="3732120" y="3924360"/>
            <a:ext cx="760320" cy="7236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4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732120" y="3924360"/>
                      <a:ext cx="760320" cy="723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47" name=""/>
            <p:cNvSpPr/>
            <p:nvPr/>
          </p:nvSpPr>
          <p:spPr>
            <a:xfrm>
              <a:off x="3581280" y="3298680"/>
              <a:ext cx="10191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EMPI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all Center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1353960" y="1838160"/>
            <a:ext cx="889560" cy="1427040"/>
            <a:chOff x="1353960" y="1838160"/>
            <a:chExt cx="889560" cy="1427040"/>
          </a:xfrm>
        </p:grpSpPr>
        <p:graphicFrame>
          <p:nvGraphicFramePr>
            <p:cNvPr id="149" name=""/>
            <p:cNvGraphicFramePr/>
            <p:nvPr/>
          </p:nvGraphicFramePr>
          <p:xfrm>
            <a:off x="1359000" y="2417040"/>
            <a:ext cx="836280" cy="848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359000" y="2417040"/>
                      <a:ext cx="836280" cy="848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51" name=""/>
            <p:cNvSpPr/>
            <p:nvPr/>
          </p:nvSpPr>
          <p:spPr>
            <a:xfrm>
              <a:off x="1353960" y="1838160"/>
              <a:ext cx="8895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Meeti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ttendee/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lann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3386880" y="2155680"/>
            <a:ext cx="1626840" cy="1055160"/>
            <a:chOff x="3386880" y="2155680"/>
            <a:chExt cx="1626840" cy="1055160"/>
          </a:xfrm>
        </p:grpSpPr>
        <p:graphicFrame>
          <p:nvGraphicFramePr>
            <p:cNvPr id="153" name=""/>
            <p:cNvGraphicFramePr/>
            <p:nvPr/>
          </p:nvGraphicFramePr>
          <p:xfrm>
            <a:off x="3654360" y="2616840"/>
            <a:ext cx="1036800" cy="5940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54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654360" y="2616840"/>
                      <a:ext cx="1036800" cy="594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55" name=""/>
            <p:cNvSpPr/>
            <p:nvPr/>
          </p:nvSpPr>
          <p:spPr>
            <a:xfrm>
              <a:off x="3386880" y="2155680"/>
              <a:ext cx="1626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3rd Par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Housing Compani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56" name=""/>
          <p:cNvCxnSpPr/>
          <p:nvPr/>
        </p:nvCxnSpPr>
        <p:spPr>
          <a:xfrm flipH="1" rot="16200000">
            <a:off x="2244600" y="2798280"/>
            <a:ext cx="1021320" cy="1954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7" name=""/>
          <p:cNvCxnSpPr/>
          <p:nvPr/>
        </p:nvCxnSpPr>
        <p:spPr>
          <a:xfrm flipV="1">
            <a:off x="2195640" y="1640880"/>
            <a:ext cx="1124640" cy="294120"/>
          </a:xfrm>
          <a:prstGeom prst="curvedConnector5">
            <a:avLst>
              <a:gd name="adj1" fmla="val 49695"/>
              <a:gd name="adj2" fmla="val 50000"/>
              <a:gd name="adj3" fmla="val 496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58" name=""/>
          <p:cNvGrpSpPr/>
          <p:nvPr/>
        </p:nvGrpSpPr>
        <p:grpSpPr>
          <a:xfrm>
            <a:off x="7759800" y="1827360"/>
            <a:ext cx="1383840" cy="1291680"/>
            <a:chOff x="7759800" y="1827360"/>
            <a:chExt cx="1383840" cy="1291680"/>
          </a:xfrm>
        </p:grpSpPr>
        <p:pic>
          <p:nvPicPr>
            <p:cNvPr id="159" name="" descr=""/>
            <p:cNvPicPr/>
            <p:nvPr/>
          </p:nvPicPr>
          <p:blipFill>
            <a:blip r:embed="rId7"/>
            <a:stretch/>
          </p:blipFill>
          <p:spPr>
            <a:xfrm>
              <a:off x="7867080" y="2004480"/>
              <a:ext cx="1276560" cy="111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"/>
            <p:cNvSpPr/>
            <p:nvPr/>
          </p:nvSpPr>
          <p:spPr>
            <a:xfrm>
              <a:off x="7759800" y="1827360"/>
              <a:ext cx="124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Hote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61" name=""/>
          <p:cNvCxnSpPr/>
          <p:nvPr/>
        </p:nvCxnSpPr>
        <p:spPr>
          <a:xfrm flipV="1">
            <a:off x="8458200" y="3198240"/>
            <a:ext cx="356400" cy="43236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62" name=""/>
          <p:cNvCxnSpPr/>
          <p:nvPr/>
        </p:nvCxnSpPr>
        <p:spPr>
          <a:xfrm flipV="1">
            <a:off x="4492440" y="3933000"/>
            <a:ext cx="3246840" cy="353160"/>
          </a:xfrm>
          <a:prstGeom prst="curvedConnector5">
            <a:avLst>
              <a:gd name="adj1" fmla="val 49966"/>
              <a:gd name="adj2" fmla="val 50000"/>
              <a:gd name="adj3" fmla="val 4996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3" name=""/>
          <p:cNvCxnSpPr>
            <a:stCxn id="164" idx="0"/>
          </p:cNvCxnSpPr>
          <p:nvPr/>
        </p:nvCxnSpPr>
        <p:spPr>
          <a:xfrm>
            <a:off x="4913280" y="1641240"/>
            <a:ext cx="1208880" cy="794520"/>
          </a:xfrm>
          <a:prstGeom prst="curvedConnector5">
            <a:avLst>
              <a:gd name="adj1" fmla="val 50044"/>
              <a:gd name="adj2" fmla="val 50000"/>
              <a:gd name="adj3" fmla="val 5004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165" name=""/>
          <p:cNvGrpSpPr/>
          <p:nvPr/>
        </p:nvGrpSpPr>
        <p:grpSpPr>
          <a:xfrm>
            <a:off x="7607160" y="3340080"/>
            <a:ext cx="1079640" cy="960120"/>
            <a:chOff x="7607160" y="3340080"/>
            <a:chExt cx="1079640" cy="960120"/>
          </a:xfrm>
        </p:grpSpPr>
        <p:sp>
          <p:nvSpPr>
            <p:cNvPr id="166" name=""/>
            <p:cNvSpPr/>
            <p:nvPr/>
          </p:nvSpPr>
          <p:spPr>
            <a:xfrm>
              <a:off x="7734240" y="3511800"/>
              <a:ext cx="851040" cy="788400"/>
            </a:xfrm>
            <a:prstGeom prst="sun">
              <a:avLst>
                <a:gd name="adj" fmla="val 25000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607160" y="3340080"/>
              <a:ext cx="1079640" cy="27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5499000" y="1201680"/>
            <a:ext cx="36828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867280" y="776160"/>
            <a:ext cx="34290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2-Way Communication of Reserv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d Hotel Confi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327480" y="1095480"/>
            <a:ext cx="1587600" cy="1092240"/>
          </a:xfrm>
          <a:prstGeom prst="cloudCallout">
            <a:avLst>
              <a:gd name="adj1" fmla="val 17898"/>
              <a:gd name="adj2" fmla="val 25870"/>
            </a:avLst>
          </a:prstGeom>
          <a:solidFill>
            <a:srgbClr val="ffffe9"/>
          </a:solidFill>
          <a:ln cap="sq"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Verdana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INTER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Verdana"/>
              </a:rPr>
              <a:t>(Meeting Web sites f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Verdana"/>
              </a:rPr>
              <a:t>Attend A Meeting)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0" name=""/>
          <p:cNvCxnSpPr/>
          <p:nvPr/>
        </p:nvCxnSpPr>
        <p:spPr>
          <a:xfrm flipH="1" flipV="1" rot="5400000">
            <a:off x="2540520" y="2151360"/>
            <a:ext cx="351360" cy="1877040"/>
          </a:xfrm>
          <a:prstGeom prst="curvedConnector5">
            <a:avLst>
              <a:gd name="adj1" fmla="val -65128"/>
              <a:gd name="adj2" fmla="val 30577"/>
              <a:gd name="adj3" fmla="val -651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1" name=""/>
          <p:cNvCxnSpPr>
            <a:endCxn id="142" idx="0"/>
          </p:cNvCxnSpPr>
          <p:nvPr/>
        </p:nvCxnSpPr>
        <p:spPr>
          <a:xfrm>
            <a:off x="4690800" y="2914200"/>
            <a:ext cx="2027520" cy="172440"/>
          </a:xfrm>
          <a:prstGeom prst="curvedConnector5">
            <a:avLst>
              <a:gd name="adj1" fmla="val 37115"/>
              <a:gd name="adj2" fmla="val 116527"/>
              <a:gd name="adj3" fmla="val 37115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72" name=""/>
          <p:cNvSpPr/>
          <p:nvPr/>
        </p:nvSpPr>
        <p:spPr>
          <a:xfrm>
            <a:off x="6934320" y="4927680"/>
            <a:ext cx="2070000" cy="147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480" indent="-11448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Verdana"/>
              </a:rPr>
              <a:t>Hot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No more re-keying rooming lists from meeting planners or 3</a:t>
            </a:r>
            <a:r>
              <a:rPr b="1" lang="en-US" sz="1000" spc="-1" strike="noStrike" baseline="30000">
                <a:solidFill>
                  <a:srgbClr val="000000"/>
                </a:solidFill>
                <a:latin typeface="Verdana"/>
              </a:rPr>
              <a:t>rd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party housing companie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Real-time reservation processing into PMS for better yield manag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523880" y="4546440"/>
            <a:ext cx="1828800" cy="185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480" indent="-11448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Verdana"/>
              </a:rPr>
              <a:t>Meeting Attende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Goes online to meeting websites to book meeting reserv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Receives  a confirmation from that is the hotel numb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ypes in information so it reduces chance of data entry err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203720" y="4851360"/>
            <a:ext cx="2120760" cy="1549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480" indent="-11448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Verdana"/>
              </a:rPr>
              <a:t>Meeting Organ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Builds rooming list directly into SMART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Receives hotel confirmation number for reserv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an view meeting pickup if reservations go direct to hot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696080" y="3122640"/>
            <a:ext cx="1143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-end ap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523520" y="-4831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Business Justification</a:t>
            </a:r>
            <a:r>
              <a:rPr b="0" lang="en-US" sz="3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1828800" y="1143000"/>
            <a:ext cx="678168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MART provides Empire with a strong value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proposition to meeting planners with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New products that make planning a meeting easier and faste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Meeting management tools that are unmatched by the competitio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MART will leverage existing Empire marketing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channels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Empire Preferred Planne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Direct marketing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Credit card marketing partnership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Resorts and convention network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23520" y="-54324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Key Considerations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599840" y="1142640"/>
            <a:ext cx="71629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7026120" indent="-7026120">
              <a:spcBef>
                <a:spcPts val="524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Project returns positive NPV?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7026120" indent="0">
              <a:spcBef>
                <a:spcPts val="524"/>
              </a:spcBef>
              <a:buNone/>
              <a:tabLst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7026120" indent="-7026120">
              <a:spcBef>
                <a:spcPts val="524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Hotels agree to implement solution?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465120" indent="656100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Managed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465120" indent="656100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Owned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465120" indent="656100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ranchised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7026120" indent="0">
              <a:spcBef>
                <a:spcPts val="524"/>
              </a:spcBef>
              <a:buNone/>
              <a:tabLst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7026120" indent="-7026120">
              <a:spcBef>
                <a:spcPts val="524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arket sub-segment growth rates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465120" indent="656100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Association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465120" indent="656100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Corporat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465120" indent="656100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Other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46512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7026120" indent="-7026120">
              <a:spcBef>
                <a:spcPts val="524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mulation vs. Optimization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7T21:10:43Z</dcterms:created>
  <dc:creator>Stern School</dc:creator>
  <dc:description/>
  <dc:language>en-US</dc:language>
  <cp:lastModifiedBy>David Juran</cp:lastModifiedBy>
  <dcterms:modified xsi:type="dcterms:W3CDTF">2002-12-16T22:06:33Z</dcterms:modified>
  <cp:revision>61</cp:revision>
  <dc:subject/>
  <dc:title>Slide 1</dc:title>
</cp:coreProperties>
</file>