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97688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9520" y="4072680"/>
            <a:ext cx="7846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036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9520" y="407268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60360" y="407268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2720" y="204264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5920" y="204264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9520" y="407268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2720" y="407268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5920" y="407268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3828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60360" y="2042640"/>
            <a:ext cx="3828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85760" y="768240"/>
            <a:ext cx="85010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60360" y="2042640"/>
            <a:ext cx="3828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9520" y="407268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3828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6036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60360" y="407268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6036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9520" y="4072680"/>
            <a:ext cx="7846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9520" y="4072680"/>
            <a:ext cx="7846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6036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9520" y="407268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60360" y="407268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92720" y="204264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5920" y="204264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9520" y="407268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92720" y="407268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5920" y="4072680"/>
            <a:ext cx="2526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3828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60360" y="2042640"/>
            <a:ext cx="3828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5760" y="768240"/>
            <a:ext cx="85010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60360" y="2042640"/>
            <a:ext cx="3828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9520" y="407268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3828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036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60360" y="407268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0360" y="2042640"/>
            <a:ext cx="38289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9520" y="4072680"/>
            <a:ext cx="7846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0760" cy="1371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68960"/>
            <a:ext cx="9144000" cy="0"/>
          </a:xfrm>
          <a:prstGeom prst="line">
            <a:avLst/>
          </a:prstGeom>
          <a:ln w="6480">
            <a:solidFill>
              <a:srgbClr val="99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23560" y="3427560"/>
            <a:ext cx="7039080" cy="52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168960"/>
            <a:ext cx="9144000" cy="0"/>
          </a:xfrm>
          <a:prstGeom prst="line">
            <a:avLst/>
          </a:prstGeom>
          <a:ln w="6480">
            <a:solidFill>
              <a:srgbClr val="99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85800" algn="ctr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SzPct val="80000"/>
              <a:buFont typeface="Symbol" charset="2"/>
              <a:buChar char="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ffffff"/>
              </a:buClr>
              <a:buSzPct val="80000"/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ffffff"/>
              </a:buClr>
              <a:buSzPct val="80000"/>
              <a:buFont typeface="Symbol" charset="2"/>
              <a:buChar char="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23920" y="3427200"/>
            <a:ext cx="6997680" cy="96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cy Trading Timing</a:t>
            </a: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 Models – Fall 200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71280" y="4608360"/>
            <a:ext cx="7699320" cy="162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ex Peñ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cember 4, 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3960" y="3222720"/>
            <a:ext cx="610092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ion (continu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90520" y="1409760"/>
            <a:ext cx="83232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 Portfol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del portfolio invests in 13 countries characteristic of an Emerging Markets portfoli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cluded markets in which local capital controls do not permit foreign exchange specul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cluded markets in which the local currency is pegged to the US dollar or the US dollar is the settlement currenc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cluded insignificant marke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sultant portfolio represents over 80% of MSCI Emerging Markets Inde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lect and Compute Daily Change of 13 Currenci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year’s worth of current data cho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cent change in terms of the local currency vs. US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 T+1 vs. Trade date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 T+1 vs. T+1 ave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 T+1 vs. Trade date clo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tted data to a distribution pattern per curr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ump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ximum turnover of the model portfolio at 160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ch country position change no more than 10% of posi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ach rebalancing executed in one d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h held in US doll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sh adjusts to source invest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gative cash allow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ference price - close on T+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rrencies are liqu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85760" y="1969920"/>
            <a:ext cx="87724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preting the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 average, waiting to have the custodian execute does not add benefi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On average, waiting to have the custodian execute does not add additional transaction co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above holds true by having the fund manager execute closer to the trade d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iven the example before, the opportunity exists to reduce potential transaction co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s &amp; Ans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For Cash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quity settlement cycles internationally are generally 2-5 days from the date of the equity tr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years, most international markets were on a rolling cycle, many once a mon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settlement process was simpler given the lack of technology to handle volu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Need for greater access to funds forces shortening of settlement cyc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US market moved to T+3 with talks of eventually going to T+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3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wering transaction costs for a fund/account at an investment management firm enhances 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ith negative returns, fund managers seek to lower costs by reducing commissions and improving efficienc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ing internationally involves more administration, costs as well as greater ris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ere do these risks/costs lie and how can they be reduced to improve performanc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vesting in international equities can be done through ADRs or directly in the local marke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ing direct involves local custodial agreements, administration and currency tra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st global custodians offer these services for a fee negotiated directly with the end inves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fund manager is responsible for investing and transacting while the custodian handles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tional Equity Trade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fund manager makes a decision and communicates the order to the tra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trader transacts in the local mark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y the end of the day, the trader processes the trade internal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rade processing team coordinates details of the trade and informs the fund/account’s custodian for settl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pon receipt of the trade details, the custodian prepares for the trade settlement and requests a currency transaction with the internal currency des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52120" y="189036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termine the best timing for transacting in the currency market for equity related tra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duce risk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wer inherent transaction co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nhance perform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ustodian banks will take up to a day and half to execute a currency trade after the execution of the equity tra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oal of the model:  Is there a benefit to having the custodian execute the currenc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There Value In Tim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91360" y="2395440"/>
            <a:ext cx="6899760" cy="2936880"/>
            <a:chOff x="891360" y="2395440"/>
            <a:chExt cx="6899760" cy="2936880"/>
          </a:xfrm>
        </p:grpSpPr>
        <p:sp>
          <p:nvSpPr>
            <p:cNvPr id="92" name=""/>
            <p:cNvSpPr/>
            <p:nvPr/>
          </p:nvSpPr>
          <p:spPr>
            <a:xfrm>
              <a:off x="893160" y="2395440"/>
              <a:ext cx="211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Daily Currency Move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94720" y="2604960"/>
              <a:ext cx="1136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Equity Mar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94600" y="2835360"/>
              <a:ext cx="10476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Mexican Pe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86680" y="2835360"/>
              <a:ext cx="486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0640" y="2835360"/>
              <a:ext cx="398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53040" y="2835360"/>
              <a:ext cx="442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 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31000" y="2835360"/>
              <a:ext cx="442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 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4360" y="2835360"/>
              <a:ext cx="895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orre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5600" y="2835360"/>
              <a:ext cx="875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Covarian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95320" y="3065400"/>
              <a:ext cx="706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ver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78040" y="306540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78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6840" y="3065400"/>
              <a:ext cx="552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0.04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04800" y="3065400"/>
              <a:ext cx="552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0.08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82760" y="3065400"/>
              <a:ext cx="552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0.13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50520" y="3065400"/>
              <a:ext cx="802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26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71400" y="3065400"/>
              <a:ext cx="802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1360" y="3295800"/>
              <a:ext cx="1495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tandard Devi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78040" y="329580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42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55640" y="329580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3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33600" y="329580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60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11560" y="329580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77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4240" y="3757680"/>
              <a:ext cx="99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Turkish Li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86680" y="3757680"/>
              <a:ext cx="486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00640" y="3757680"/>
              <a:ext cx="398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53040" y="3757680"/>
              <a:ext cx="442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 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31000" y="3757680"/>
              <a:ext cx="442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 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95320" y="3987720"/>
              <a:ext cx="706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ver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8040" y="398772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.73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26840" y="3987720"/>
              <a:ext cx="552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0.03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4800" y="3987720"/>
              <a:ext cx="552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0.06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82760" y="3987720"/>
              <a:ext cx="552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-0.09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50520" y="3987720"/>
              <a:ext cx="802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3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71400" y="3987720"/>
              <a:ext cx="802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         </a:t>
              </a: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91360" y="4218120"/>
              <a:ext cx="1495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tandard Devi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78040" y="421812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.0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55640" y="421812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90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33600" y="421812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.36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11560" y="421812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.6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94240" y="4680000"/>
              <a:ext cx="1145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African Ran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86680" y="4680000"/>
              <a:ext cx="486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R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0640" y="4680000"/>
              <a:ext cx="398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3040" y="4680000"/>
              <a:ext cx="442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 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31000" y="4680000"/>
              <a:ext cx="442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3 Da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5320" y="4910040"/>
              <a:ext cx="706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Averag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78040" y="491004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.06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55640" y="491004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00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3600" y="491004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00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1560" y="491004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01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55880" y="4910040"/>
              <a:ext cx="404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20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78200" y="4910040"/>
              <a:ext cx="4046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0.00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91360" y="5140440"/>
              <a:ext cx="1495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Standard Devi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78040" y="514044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.42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55640" y="514044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.05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33600" y="514044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1.71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11560" y="5140440"/>
              <a:ext cx="4928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2.18%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(con’t…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30480" y="1409760"/>
          <a:ext cx="653868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0480" y="1409760"/>
                    <a:ext cx="653868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(…con’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70000" y="1409760"/>
          <a:ext cx="654516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0000" y="1409760"/>
                    <a:ext cx="654516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85760" y="768240"/>
            <a:ext cx="8501040" cy="57960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9520" y="204264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veloped a model portfolio investing in several countr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andom investment decisions buying in some markets while sourcing from anot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mpared foreign exchange transaction cost vs having custodian execu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ted 1000 results representing a portfolio rebalanc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sing these results, created another simulation model to forecast the annual impact of the different trading strate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enerated 1000 results of these combin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9:16:39Z</dcterms:created>
  <dc:creator>Landor Associates</dc:creator>
  <dc:description/>
  <dc:language>en-US</dc:language>
  <cp:lastModifiedBy>pena</cp:lastModifiedBy>
  <cp:lastPrinted>2002-12-04T12:26:15Z</cp:lastPrinted>
  <dcterms:modified xsi:type="dcterms:W3CDTF">2002-12-04T16:31:11Z</dcterms:modified>
  <cp:revision>983</cp:revision>
  <dc:subject/>
  <dc:title>No Slide Title</dc:title>
</cp:coreProperties>
</file>