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j0074738.wav" ContentType="audio/x-wav"/>
  <Override PartName="/ppt/media/image16.jpeg" ContentType="image/jpeg"/>
  <Override PartName="/ppt/media/image14.wmf" ContentType="image/x-wmf"/>
  <Override PartName="/ppt/media/image13.wmf" ContentType="image/x-wmf"/>
  <Override PartName="/ppt/media/image1.wmf" ContentType="image/x-wmf"/>
  <Override PartName="/ppt/media/image2.wmf" ContentType="image/x-wmf"/>
  <Override PartName="/ppt/media/image3.png" ContentType="image/png"/>
  <Override PartName="/ppt/media/image15.wmf" ContentType="image/x-wmf"/>
  <Override PartName="/ppt/media/image4.gif" ContentType="image/gif"/>
  <Override PartName="/ppt/media/image8.png" ContentType="image/png"/>
  <Override PartName="/ppt/media/image7.jpeg" ContentType="image/jpeg"/>
  <Override PartName="/ppt/media/image11.png" ContentType="image/png"/>
  <Override PartName="/ppt/media/image6.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AB1CD-6CA8-4C6E-80F1-E4E445C0C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840C2-6266-4E18-B79C-7B873CA4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07829-EBBF-442A-84EC-081D64521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E8C44-C86E-4236-AC1D-006C20C66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213A3-41C0-4975-8976-7659A407F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A80EB-7881-4ADA-A65D-7F9185066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ACE30-5B8F-429A-9B0F-74C81A27E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2009F-CB67-4D26-A7CD-A4A82BEC9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1327A-2C0E-4EEB-8EDB-1364FF556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EC98-83D7-43D6-9472-7AB2B6A4B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CB0F-6006-4276-AA8C-3AACA2F80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47C0-EC7E-4689-B809-7D4F1602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511E-CA1E-4814-8AA1-466CC0B5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D6E8A-8757-4B4C-B066-64B8AF61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C1D5-DEA5-4D6E-9A20-BF54AE515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17071-4003-4737-AE35-7BD08D3CB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37C99-1A2A-4303-A20D-303E7D3BD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2B2AD-09ED-4712-AB5C-D04F93AF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140F7-A006-45E5-89C4-C4154CF39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2EE6-D0DF-4902-8404-7D4BE796F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84B0-7E24-4E33-8220-3FC9C3236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A54E-3E0B-4C46-B327-E6245B9B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8DB6-4B48-4B06-8E8C-5762568AF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B7F6-A421-4678-A05C-1C6AD858F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1828800" y="762120"/>
            <a:ext cx="6705720" cy="6019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9C91-5E17-4E0A-9D1D-28286FC56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0392-E9BB-479F-9E4C-A12BCDA56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audio" Target="../media/j0074738.wav"/><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87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rofessor Juran Takes Seattle</a:t>
            </a:r>
            <a:endParaRPr b="0" lang="en-US" sz="66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 </a:t>
            </a:r>
            <a:endParaRPr b="0" lang="en-US" sz="6600" spc="-1" strike="noStrike">
              <a:solidFill>
                <a:srgbClr val="000000"/>
              </a:solidFill>
              <a:latin typeface="Arial"/>
            </a:endParaRPr>
          </a:p>
        </p:txBody>
      </p:sp>
      <p:sp>
        <p:nvSpPr>
          <p:cNvPr id="85" name=""/>
          <p:cNvSpPr/>
          <p:nvPr/>
        </p:nvSpPr>
        <p:spPr>
          <a:xfrm>
            <a:off x="152280" y="4267080"/>
            <a:ext cx="3048120" cy="231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1</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ole Bock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 Gree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mmi Harris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an Roth</a:t>
            </a:r>
            <a:endParaRPr b="0" lang="en-US" sz="2000" spc="-1" strike="noStrike">
              <a:solidFill>
                <a:srgbClr val="000000"/>
              </a:solidFill>
              <a:latin typeface="Arial"/>
            </a:endParaRPr>
          </a:p>
        </p:txBody>
      </p:sp>
      <p:sp>
        <p:nvSpPr>
          <p:cNvPr id="86" name=""/>
          <p:cNvSpPr/>
          <p:nvPr/>
        </p:nvSpPr>
        <p:spPr>
          <a:xfrm>
            <a:off x="6629400" y="5486400"/>
            <a:ext cx="243828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Final Projec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8, 2003</a:t>
            </a:r>
            <a:endParaRPr b="0" lang="en-US" sz="1800" spc="-1" strike="noStrike">
              <a:solidFill>
                <a:srgbClr val="000000"/>
              </a:solidFill>
              <a:latin typeface="Arial"/>
            </a:endParaRPr>
          </a:p>
        </p:txBody>
      </p:sp>
      <p:pic>
        <p:nvPicPr>
          <p:cNvPr id="87" name="luzij2ae[1]" descr=""/>
          <p:cNvPicPr/>
          <p:nvPr/>
        </p:nvPicPr>
        <p:blipFill>
          <a:blip r:embed="rId1"/>
          <a:stretch/>
        </p:blipFill>
        <p:spPr>
          <a:xfrm>
            <a:off x="152280" y="108000"/>
            <a:ext cx="175284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0" name="" descr=""/>
          <p:cNvPicPr/>
          <p:nvPr/>
        </p:nvPicPr>
        <p:blipFill>
          <a:blip r:embed="rId1"/>
          <a:srcRect l="0" t="8899" r="24991" b="30442"/>
          <a:stretch/>
        </p:blipFill>
        <p:spPr>
          <a:xfrm>
            <a:off x="609480" y="1752480"/>
            <a:ext cx="7772400" cy="471348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Across all Categor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coring</a:t>
            </a:r>
            <a:endParaRPr b="0" lang="en-US" sz="4000" spc="-1" strike="noStrike">
              <a:solidFill>
                <a:srgbClr val="000000"/>
              </a:solidFill>
              <a:latin typeface="Arial"/>
            </a:endParaRPr>
          </a:p>
        </p:txBody>
      </p:sp>
      <p:sp>
        <p:nvSpPr>
          <p:cNvPr id="11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ategories, 26 individual subcateg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ubcategory sco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score by category calculated – weighted by user input prefer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neighborhood score is the sum of the 8 category sc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4" name="" descr=""/>
          <p:cNvPicPr/>
          <p:nvPr/>
        </p:nvPicPr>
        <p:blipFill>
          <a:blip r:embed="rId1"/>
          <a:srcRect l="391" t="16341" r="764" b="22557"/>
          <a:stretch/>
        </p:blipFill>
        <p:spPr>
          <a:xfrm>
            <a:off x="304920" y="2098800"/>
            <a:ext cx="8458200" cy="39211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co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r </a:t>
            </a:r>
            <a:br>
              <a:rPr sz="4000"/>
            </a:br>
            <a:r>
              <a:rPr b="1" lang="en-US" sz="4000" spc="-1" strike="noStrike">
                <a:solidFill>
                  <a:srgbClr val="000000"/>
                </a:solidFill>
                <a:latin typeface="Arial"/>
              </a:rPr>
              <a:t>Interface: </a:t>
            </a:r>
            <a:br>
              <a:rPr sz="4000"/>
            </a:br>
            <a:r>
              <a:rPr b="1" lang="en-US" sz="4000" spc="-1" strike="noStrike">
                <a:solidFill>
                  <a:srgbClr val="000000"/>
                </a:solidFill>
                <a:latin typeface="Arial"/>
              </a:rPr>
              <a:t>Input </a:t>
            </a:r>
            <a:br>
              <a:rPr sz="4000"/>
            </a:br>
            <a:r>
              <a:rPr b="1" lang="en-US" sz="4000" spc="-1" strike="noStrike">
                <a:solidFill>
                  <a:srgbClr val="000000"/>
                </a:solidFill>
                <a:latin typeface="Arial"/>
              </a:rPr>
              <a:t>Screen</a:t>
            </a:r>
            <a:endParaRPr b="0" lang="en-US" sz="4000" spc="-1" strike="noStrike">
              <a:solidFill>
                <a:srgbClr val="000000"/>
              </a:solidFill>
              <a:latin typeface="Arial"/>
            </a:endParaRPr>
          </a:p>
        </p:txBody>
      </p:sp>
      <p:pic>
        <p:nvPicPr>
          <p:cNvPr id="117" name="" descr=""/>
          <p:cNvPicPr/>
          <p:nvPr/>
        </p:nvPicPr>
        <p:blipFill>
          <a:blip r:embed="rId1"/>
          <a:stretch/>
        </p:blipFill>
        <p:spPr>
          <a:xfrm>
            <a:off x="2895480" y="533520"/>
            <a:ext cx="5867640" cy="567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Interface: Summary of Output</a:t>
            </a:r>
            <a:endParaRPr b="0" lang="en-US" sz="4000" spc="-1" strike="noStrike">
              <a:solidFill>
                <a:srgbClr val="000000"/>
              </a:solidFill>
              <a:latin typeface="Arial"/>
            </a:endParaRPr>
          </a:p>
        </p:txBody>
      </p:sp>
      <p:pic>
        <p:nvPicPr>
          <p:cNvPr id="119" name="" descr=""/>
          <p:cNvPicPr/>
          <p:nvPr/>
        </p:nvPicPr>
        <p:blipFill>
          <a:blip r:embed="rId1"/>
          <a:stretch/>
        </p:blipFill>
        <p:spPr>
          <a:xfrm>
            <a:off x="457200" y="1752480"/>
            <a:ext cx="838188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er Interface: Detail of Output</a:t>
            </a:r>
            <a:endParaRPr b="0" lang="en-US" sz="4200" spc="-1" strike="noStrike">
              <a:solidFill>
                <a:srgbClr val="000000"/>
              </a:solidFill>
              <a:latin typeface="Arial"/>
            </a:endParaRPr>
          </a:p>
        </p:txBody>
      </p:sp>
      <p:pic>
        <p:nvPicPr>
          <p:cNvPr id="121" name="" descr=""/>
          <p:cNvPicPr/>
          <p:nvPr/>
        </p:nvPicPr>
        <p:blipFill>
          <a:blip r:embed="rId1"/>
          <a:stretch/>
        </p:blipFill>
        <p:spPr>
          <a:xfrm>
            <a:off x="623880" y="1600200"/>
            <a:ext cx="791064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22" name=""/>
          <p:cNvGrpSpPr/>
          <p:nvPr/>
        </p:nvGrpSpPr>
        <p:grpSpPr>
          <a:xfrm>
            <a:off x="76320" y="1066680"/>
            <a:ext cx="8915400" cy="4343400"/>
            <a:chOff x="76320" y="1066680"/>
            <a:chExt cx="8915400" cy="4343400"/>
          </a:xfrm>
        </p:grpSpPr>
        <p:pic>
          <p:nvPicPr>
            <p:cNvPr id="123" name="" descr=""/>
            <p:cNvPicPr/>
            <p:nvPr/>
          </p:nvPicPr>
          <p:blipFill>
            <a:blip r:embed="rId1"/>
            <a:stretch/>
          </p:blipFill>
          <p:spPr>
            <a:xfrm>
              <a:off x="76320" y="1066680"/>
              <a:ext cx="8915400" cy="4343400"/>
            </a:xfrm>
            <a:prstGeom prst="rect">
              <a:avLst/>
            </a:prstGeom>
            <a:ln w="0">
              <a:noFill/>
            </a:ln>
          </p:spPr>
        </p:pic>
        <p:pic>
          <p:nvPicPr>
            <p:cNvPr id="124" name="" descr=""/>
            <p:cNvPicPr/>
            <p:nvPr/>
          </p:nvPicPr>
          <p:blipFill>
            <a:blip r:embed="rId2"/>
            <a:srcRect l="15247" t="12731" r="14560" b="23511"/>
            <a:stretch/>
          </p:blipFill>
          <p:spPr>
            <a:xfrm>
              <a:off x="1919160" y="2590920"/>
              <a:ext cx="671760" cy="931680"/>
            </a:xfrm>
            <a:prstGeom prst="rect">
              <a:avLst/>
            </a:prstGeom>
            <a:ln w="0">
              <a:noFill/>
            </a:ln>
          </p:spPr>
        </p:pic>
        <p:sp>
          <p:nvSpPr>
            <p:cNvPr id="125" name=""/>
            <p:cNvSpPr/>
            <p:nvPr/>
          </p:nvSpPr>
          <p:spPr>
            <a:xfrm>
              <a:off x="5808600" y="2576520"/>
              <a:ext cx="3022560" cy="2022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ETINGS FRO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TTLE FISH MARKE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ackground</a:t>
            </a:r>
            <a:endParaRPr b="0" lang="en-US" sz="4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fessor Juran decides that he can no longer take teaching at Columbia University, so he decides to pick up and move to Seattle (where he has better access to the finest brewing ingredien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7620120" y="1981080"/>
            <a:ext cx="1047600" cy="619200"/>
          </a:xfrm>
          <a:prstGeom prst="rect">
            <a:avLst/>
          </a:prstGeom>
          <a:ln w="0">
            <a:noFill/>
          </a:ln>
        </p:spPr>
      </p:pic>
      <p:pic>
        <p:nvPicPr>
          <p:cNvPr id="92" name="" descr=""/>
          <p:cNvPicPr/>
          <p:nvPr/>
        </p:nvPicPr>
        <p:blipFill>
          <a:blip r:embed="rId3"/>
          <a:stretch/>
        </p:blipFill>
        <p:spPr>
          <a:xfrm>
            <a:off x="6324480" y="5943600"/>
            <a:ext cx="609840" cy="609480"/>
          </a:xfrm>
          <a:prstGeom prst="rect">
            <a:avLst/>
          </a:prstGeom>
          <a:ln w="0">
            <a:noFill/>
          </a:ln>
        </p:spPr>
      </p:pic>
      <p:grpSp>
        <p:nvGrpSpPr>
          <p:cNvPr id="93" name=""/>
          <p:cNvGrpSpPr/>
          <p:nvPr/>
        </p:nvGrpSpPr>
        <p:grpSpPr>
          <a:xfrm>
            <a:off x="990720" y="-152280"/>
            <a:ext cx="1207800" cy="1981080"/>
            <a:chOff x="990720" y="-152280"/>
            <a:chExt cx="1207800" cy="1981080"/>
          </a:xfrm>
        </p:grpSpPr>
        <p:pic>
          <p:nvPicPr>
            <p:cNvPr id="94" name="" descr=""/>
            <p:cNvPicPr/>
            <p:nvPr/>
          </p:nvPicPr>
          <p:blipFill>
            <a:blip r:embed="rId4"/>
            <a:stretch/>
          </p:blipFill>
          <p:spPr>
            <a:xfrm>
              <a:off x="990720" y="-152280"/>
              <a:ext cx="1207800" cy="1981080"/>
            </a:xfrm>
            <a:prstGeom prst="rect">
              <a:avLst/>
            </a:prstGeom>
            <a:ln w="0">
              <a:noFill/>
            </a:ln>
          </p:spPr>
        </p:pic>
        <p:pic>
          <p:nvPicPr>
            <p:cNvPr id="95" name="" descr=""/>
            <p:cNvPicPr/>
            <p:nvPr/>
          </p:nvPicPr>
          <p:blipFill>
            <a:blip r:embed="rId5"/>
            <a:srcRect l="10440" t="12731" r="14560" b="23511"/>
            <a:stretch/>
          </p:blipFill>
          <p:spPr>
            <a:xfrm>
              <a:off x="1143000" y="103320"/>
              <a:ext cx="390600" cy="506160"/>
            </a:xfrm>
            <a:prstGeom prst="rect">
              <a:avLst/>
            </a:prstGeom>
            <a:ln w="0">
              <a:noFill/>
            </a:ln>
          </p:spPr>
        </p:pic>
      </p:grpSp>
      <p:pic>
        <p:nvPicPr>
          <p:cNvPr id="96" name="" descr=""/>
          <p:cNvPicPr/>
          <p:nvPr/>
        </p:nvPicPr>
        <p:blipFill>
          <a:blip r:embed="rId6"/>
          <a:stretch/>
        </p:blipFill>
        <p:spPr>
          <a:xfrm>
            <a:off x="6324480" y="59436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udio isNarration="0">
                                      <p:cMediaNode showWhenStopped="1">
                                        <p:cTn/>
                                        <p:tgtEl>
                                          <p:sndTgt r:embed="rId7" name="j0074738.wav"/>
                                        </p:tgtEl>
                                      </p:cMediaNode>
                                    </p:audio>
                                    <p:animMotion origin="layout" path="M 7.5E-006 -1.6763E-006 C -0.00155 -0.00138 -0.00294 -0.003 -0.00468 -0.00416 C -0.00607 -0.00508 -0.00833 -0.00462 -0.00937 -0.00624 C -0.01076 -0.00855 -0.00971 -0.01248 -0.0111 -0.01479 C -0.01353 -0.01849 -0.01735 -0.02034 -0.02048 -0.02312 C -0.02447 -0.02659 -0.03003 -0.02451 -0.03489 -0.0252 C -0.04636 -0.02936 -0.05798 -0.03329 -0.06978 -0.03583 C -0.07395 -0.03514 -0.07864 -0.0363 -0.08246 -0.03375 C -0.08454 -0.03237 -0.08385 -0.02751 -0.08558 -0.0252 C -0.0868 -0.02358 -0.08888 -0.02381 -0.09044 -0.02312 C -0.0941 -0.01965 -0.10051 -0.01849 -0.10156 -0.01271 C -0.10208 -0.00994 -0.10173 -0.00647 -0.10313 -0.00416 C -0.10451 -0.00185 -0.12031 0.00162 -0.12222 0.00208 C -0.13681 0.01203 -0.13038 0.00902 -0.14115 0.01272 C -0.17552 0.01133 -0.20851 0.00717 -0.24288 0.0044 C -0.25972 -0.00346 -0.24827 0.00555 -0.25382 -0.00624 C -0.25469 -0.00786 -0.25608 -0.00901 -0.25712 -0.0104 C -0.26163 -0.02913 -0.26441 -0.03815 -0.27795 -0.04855 C -0.28403 -0.05965 -0.29097 -0.07653 -0.3 -0.08439 C -0.31198 -0.10936 -0.32847 -0.1119 -0.34913 -0.11399 C -0.36806 -0.13225 -0.37778 -0.13688 -0.40156 -0.13942 C -0.41233 -0.14427 -0.42379 -0.14497 -0.4349 -0.14797 C -0.4441 -0.15607 -0.45591 -0.15491 -0.46667 -0.1563 C -0.46875 -0.1556 -0.47118 -0.15607 -0.47292 -0.15422 C -0.47466 -0.15214 -0.47483 -0.14844 -0.47604 -0.14589 C -0.47969 -0.13849 -0.48038 -0.14358 -0.48559 -0.13526 C -0.49097 -0.1267 -0.49514 -0.11699 -0.5 -0.10774 C -0.50139 -0.1052 -0.50434 -0.1052 -0.50625 -0.10358 C -0.50851 -0.10173 -0.51077 -0.09965 -0.51268 -0.09711 C -0.51406 -0.09526 -0.51441 -0.09248 -0.5158 -0.09086 C -0.51788 -0.08855 -0.53004 -0.0867 -0.53004 -0.0867 C -0.53959 -0.08231 -0.54913 -0.08624 -0.55886 -0.08878 C -0.5691 -0.10242 -0.55695 -0.08855 -0.57153 -0.09711 C -0.57275 -0.0978 -0.57327 -0.10034 -0.57448 -0.1015 C -0.57587 -0.10266 -0.57778 -0.10266 -0.57934 -0.10358 C -0.58143 -0.10474 -0.58368 -0.10612 -0.58559 -0.10774 C -0.58906 -0.11075 -0.59167 -0.1156 -0.59514 -0.11838 C -0.60209 -0.12416 -0.61146 -0.12439 -0.61893 -0.12878 C -0.62552 -0.13271 -0.63108 -0.13849 -0.63802 -0.1415 C -0.6441 -0.15399 -0.6592 -0.16046 -0.66979 -0.16277 C -0.69236 -0.1852 -0.75156 -0.17873 -0.77448 -0.17965 C -0.78455 -0.17896 -0.79462 -0.17826 -0.80469 -0.17757 C -0.83351 -0.17526 -0.83577 -0.17549 -0.82379 -0.17549 E">
                                      <p:cBhvr>
                                        <p:cTn id="6" dur="5000" fill="hold"/>
                                        <p:tgtEl>
                                          <p:spTgt spid="9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par>
                          <p:cTn id="11" fill="hold">
                            <p:stCondLst>
                              <p:cond delay="0"/>
                            </p:stCondLst>
                            <p:childTnLst>
                              <p:par>
                                <p:cTn id="12" nodeType="afterEffect" fill="hold" presetClass="mediacall" presetID="1">
                                  <p:stCondLst>
                                    <p:cond delay="0"/>
                                  </p:stCondLst>
                                  <p:childTnLst>
                                    <p:cmd type="call" cmd="playFrom(0.0)">
                                      <p:cBhvr>
                                        <p:cTn id="13" dur="300745"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roject Overview</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an needs to buy a ho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nts to find the perfect neighborhood that fits his wild lifestyle and limited bud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Stern comes to the rescue with the Guide to Seattle Neighborho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erial Problem Defini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the utility of someone looking to purchase a home in one of Seattle’s many neighborh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llected data on the following criter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hood s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age (old, new,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public schoo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appreci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downtow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fflu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home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 descr=""/>
          <p:cNvPicPr/>
          <p:nvPr/>
        </p:nvPicPr>
        <p:blipFill>
          <a:blip r:embed="rId1"/>
          <a:srcRect l="0" t="8687" r="34692" b="42337"/>
          <a:stretch/>
        </p:blipFill>
        <p:spPr>
          <a:xfrm>
            <a:off x="152280" y="1320840"/>
            <a:ext cx="8763120" cy="4927680"/>
          </a:xfrm>
          <a:prstGeom prst="rect">
            <a:avLst/>
          </a:prstGeom>
          <a:ln w="0">
            <a:noFill/>
          </a:ln>
        </p:spPr>
      </p:pic>
      <p:sp>
        <p:nvSpPr>
          <p:cNvPr id="103" name=""/>
          <p:cNvSpPr/>
          <p:nvPr/>
        </p:nvSpPr>
        <p:spPr>
          <a:xfrm>
            <a:off x="457200" y="3049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Collec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Within Categories</a:t>
            </a:r>
            <a:endParaRPr b="0" lang="en-US" sz="38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verage – Neighborhood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hoods sorted by size, then averages calculated for size of bottom third, middle third, largest thi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ing Table: Distance from local mean divided by standard deviation of raw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ositive score methodology – but distance from mean results in low score for good match.  Inversion methodolog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distance from mean|), where X is a standardization 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tandardizing Within Categories</a:t>
            </a:r>
            <a:endParaRPr b="0" lang="en-US" sz="4000" spc="-1" strike="noStrike">
              <a:solidFill>
                <a:srgbClr val="000000"/>
              </a:solidFill>
              <a:latin typeface="Arial"/>
            </a:endParaRPr>
          </a:p>
        </p:txBody>
      </p:sp>
      <p:pic>
        <p:nvPicPr>
          <p:cNvPr id="107" name="" descr=""/>
          <p:cNvPicPr/>
          <p:nvPr/>
        </p:nvPicPr>
        <p:blipFill>
          <a:blip r:embed="rId1"/>
          <a:srcRect l="0" t="9418" r="28076" b="42175"/>
          <a:stretch/>
        </p:blipFill>
        <p:spPr>
          <a:xfrm>
            <a:off x="304920" y="1905120"/>
            <a:ext cx="8610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Across all Categories</a:t>
            </a:r>
            <a:endParaRPr b="0" lang="en-US" sz="3800" spc="-1" strike="noStrike">
              <a:solidFill>
                <a:srgbClr val="000000"/>
              </a:solidFill>
              <a:latin typeface="Arial"/>
            </a:endParaRPr>
          </a:p>
        </p:txBody>
      </p:sp>
      <p:sp>
        <p:nvSpPr>
          <p:cNvPr id="10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for equal weigh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tandardize results output in order to have equal participation from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ubcategory is standardized to have an average and range equal to the average and range of all scor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factor values for each category were found using Goal Seek in order to provide uniform statis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21:38:03Z</dcterms:created>
  <dc:creator>Nichole Bockner</dc:creator>
  <dc:description/>
  <dc:language>en-US</dc:language>
  <cp:lastModifiedBy>Brian Roth</cp:lastModifiedBy>
  <dcterms:modified xsi:type="dcterms:W3CDTF">2003-12-08T14:23:19Z</dcterms:modified>
  <cp:revision>13</cp:revision>
  <dc:subject/>
  <dc:title>Slide 1</dc:title>
</cp:coreProperties>
</file>