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.jpeg" ContentType="image/jpeg"/>
  <Override PartName="/ppt/media/image27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jpeg" ContentType="image/jpeg"/>
  <Override PartName="/ppt/media/image26.wmf" ContentType="image/x-wmf"/>
  <Override PartName="/ppt/media/image14.jpeg" ContentType="image/jpeg"/>
  <Override PartName="/ppt/media/image16.wmf" ContentType="image/x-wmf"/>
  <Override PartName="/ppt/embeddings/oleObject1.bin" ContentType="application/vnd.openxmlformats-officedocument.oleObject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B5AC-01AA-4A08-AFE9-95D838EE2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5DD7-2155-4E22-8D2A-DBB56FB2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46FA-4770-46D8-9106-8926DC6D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D3DB-2068-4EFC-8F0E-4F338B96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87B2-65F0-4CD5-A49E-797B52FE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482C-B7DD-463E-BF3B-CEFB2681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574D-6FA4-456C-9D07-9335CE65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BA1B-3FE4-4995-BB49-86995311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1FF5-CBEA-4BCF-A674-8D4400DE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EACA-C671-47F4-81B6-8DD58B58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EF83-F6DC-4FCA-85D6-E61C7018C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984E-62B8-4669-8E9A-C7125BED6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9D0B-A176-4717-891A-C380EE5F5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9C4CC-2012-467B-945D-6789196B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0549-45AB-4E90-836A-1F9381D1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01A0-F077-4117-A329-298196A7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9D73-8060-4DFD-9646-22019F45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B04A-E659-47A5-9118-13A2AE59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7943-C125-4479-B305-9D9C82C2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1A86-0852-4337-BBC1-13BD2CCA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0B9F-EA35-4C05-AD6D-B2EE0959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7AAD-867F-47FB-80D0-09B5C08D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8396-439E-496E-8D4A-E7C552090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22F4-8872-4DED-98CB-F44C8C9F7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600200" cy="12398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4" name=""/>
          <p:cNvSpPr/>
          <p:nvPr/>
        </p:nvSpPr>
        <p:spPr>
          <a:xfrm>
            <a:off x="1828800" y="1495440"/>
            <a:ext cx="691344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039400" y="6311880"/>
            <a:ext cx="5319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verview | Problem Definition | Constraints | Formulation |  Conclusions &amp; Recommendation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8318520" y="5985000"/>
          <a:ext cx="66672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8520" y="5985000"/>
                    <a:ext cx="6667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1BEB-D601-4733-94C9-4C1EAD6CD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600200" cy="123984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1874880" y="1482840"/>
            <a:ext cx="6729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7F54-25B9-4177-8661-6F1204059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qksrv.net/click-1344639-10281960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1150920" y="1467000"/>
            <a:ext cx="6346800" cy="1861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POKER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840040" y="2116080"/>
            <a:ext cx="294336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3300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exas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3300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3300">
                        <a:alpha val="50196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old'em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3300">
                      <a:alpha val="50196"/>
                    </a:srgbClr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16000" y="4897440"/>
            <a:ext cx="254304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ric Fehling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iguel Puerta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rk Smosky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Kervin Uy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978520" y="4838760"/>
            <a:ext cx="2706840" cy="13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all 2003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ecision Models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fessor Jura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225360" y="4572000"/>
            <a:ext cx="865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Formulation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of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king (ensures no duplication of cards) – Texas Hold’em is a one deck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uffling” – random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ling of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97560" y="6531120"/>
            <a:ext cx="63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Formulation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4" name=""/>
          <p:cNvSpPr/>
          <p:nvPr/>
        </p:nvSpPr>
        <p:spPr>
          <a:xfrm>
            <a:off x="4611600" y="653112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96920" y="4803840"/>
            <a:ext cx="8775720" cy="1873080"/>
            <a:chOff x="196920" y="4803840"/>
            <a:chExt cx="8775720" cy="187308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196920" y="5006880"/>
              <a:ext cx="877572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549440" y="4803840"/>
              <a:ext cx="1217520" cy="104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585720" y="4462560"/>
            <a:ext cx="1695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ling C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39680" y="1801800"/>
            <a:ext cx="4379760" cy="2382840"/>
            <a:chOff x="139680" y="1801800"/>
            <a:chExt cx="4379760" cy="2382840"/>
          </a:xfrm>
        </p:grpSpPr>
        <p:pic>
          <p:nvPicPr>
            <p:cNvPr id="200" name="" descr=""/>
            <p:cNvPicPr/>
            <p:nvPr/>
          </p:nvPicPr>
          <p:blipFill>
            <a:blip r:embed="rId2"/>
            <a:stretch/>
          </p:blipFill>
          <p:spPr>
            <a:xfrm>
              <a:off x="139680" y="2506680"/>
              <a:ext cx="2511360" cy="15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3"/>
            <a:stretch/>
          </p:blipFill>
          <p:spPr>
            <a:xfrm>
              <a:off x="2803680" y="1801800"/>
              <a:ext cx="1715760" cy="23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1201680" y="2138400"/>
              <a:ext cx="85680" cy="390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171440" y="2155680"/>
              <a:ext cx="1641600" cy="23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22200" y="1776240"/>
            <a:ext cx="17528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of C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672080" y="1808280"/>
            <a:ext cx="4319640" cy="3097080"/>
            <a:chOff x="4672080" y="1808280"/>
            <a:chExt cx="4319640" cy="3097080"/>
          </a:xfrm>
        </p:grpSpPr>
        <p:pic>
          <p:nvPicPr>
            <p:cNvPr id="206" name="" descr=""/>
            <p:cNvPicPr/>
            <p:nvPr/>
          </p:nvPicPr>
          <p:blipFill>
            <a:blip r:embed="rId4"/>
            <a:stretch/>
          </p:blipFill>
          <p:spPr>
            <a:xfrm>
              <a:off x="4672080" y="1962000"/>
              <a:ext cx="4319640" cy="29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 flipH="1">
              <a:off x="6734160" y="1808280"/>
              <a:ext cx="14400" cy="47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5510160" y="1476360"/>
            <a:ext cx="2898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ing &amp; Shuffling C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Formulation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660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possible combinations of cards for each player per hand (2 down + 3 best commun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11600" y="653256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173240" y="2516040"/>
            <a:ext cx="65372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Formulation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2280" y="1574280"/>
            <a:ext cx="3392640" cy="49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os are then split into suit worksheet and number work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ier to come up with function for ranking all hands to determine winning 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397320" y="1854360"/>
            <a:ext cx="5640480" cy="19335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611600" y="653112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46640" y="3753000"/>
            <a:ext cx="144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42200" y="141300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247920" y="4202280"/>
            <a:ext cx="5819760" cy="18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Formulation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3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: Forming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 C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ƒ{V(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rd),V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rd),…V(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rd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: large(rng,1)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large(rng,2)*10</a:t>
            </a:r>
            <a:r>
              <a:rPr b="0" lang="en-US" sz="24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6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+…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large(rng,5)*10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put: XX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X XX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08360" y="653256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Formulation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3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: Forming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Pai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ƒ{V(pair),V(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ngle),…V(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ngle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gical test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{countif(rng,V(n))=2}=2;n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(rng)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max(V(n)|n≠mode(rng))*10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4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um(V(rng))-V(1</a:t>
            </a:r>
            <a:r>
              <a:rPr b="0" lang="en-US" sz="24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st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)- V(3</a:t>
            </a:r>
            <a:r>
              <a:rPr b="0" lang="en-US" sz="24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rd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)*10</a:t>
            </a:r>
            <a:r>
              <a:rPr b="0" lang="en-US" sz="24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min(V(n)|n≠mode(rng))*10</a:t>
            </a:r>
            <a:r>
              <a:rPr b="0" lang="en-US" sz="2400" spc="-1" strike="noStrike" baseline="30000">
                <a:solidFill>
                  <a:srgbClr val="009999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put: XX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Arial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94320" y="654696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Formulation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3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: Forming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Pai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ƒ{V(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air),V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air),(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ngle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gical test: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{countif(rng,V(n))=2}=4;n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x[(countif(rng,V(n))=2)*V(n)]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[</a:t>
            </a:r>
            <a:r>
              <a:rPr b="0" lang="el-GR" sz="2400" spc="-1" strike="noStrike">
                <a:solidFill>
                  <a:srgbClr val="333399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{(countif(rng,V(n))=2)*V(n)}-2*V(1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s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pair)]*10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+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um(V(rng))-2*V(1</a:t>
            </a:r>
            <a:r>
              <a:rPr b="0" lang="en-US" sz="24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s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air)-2*V(2</a:t>
            </a:r>
            <a:r>
              <a:rPr b="0" lang="en-US" sz="24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nd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pair)]*10</a:t>
            </a:r>
            <a:r>
              <a:rPr b="0" lang="en-US" sz="24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put: XX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08360" y="654696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Formulation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3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: Forming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of a Ki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ƒ{V(3 of a kind),V(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ngle),V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ngle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gical test: countif(rng,mode(rng)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e(rng)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max(V(n)|n≠mode(rng))*10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in(V(n)|n≠mode(rng))*10</a:t>
            </a:r>
            <a:r>
              <a:rPr b="0" lang="en-US" sz="2400" spc="-1" strike="noStrike" baseline="30000">
                <a:solidFill>
                  <a:srgbClr val="ff33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put: XX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X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608360" y="653256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Formulation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3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1: Forming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aig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ƒ{V(high card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st Logical test: Var(rng)=2.5,Ave(rng)=V(3rd ca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: max(r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nd Logical test: V(1st card)=14,Var(rng)=23.3, Ave(rng)=5.6, Median(rng)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put: 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94320" y="654696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Formulation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3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1: Forming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lus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ƒ{V(1st card),V(2nd card),…V(5th card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gical test: Var(suit)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: See High 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put: XX XX XX XX 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08360" y="654696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Agenda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Texas Hold’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&amp;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49280" y="6197760"/>
            <a:ext cx="6618240" cy="434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Formulation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3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1: Forming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 Ho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ƒ{V(3 of a kind),V(pair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gical test: countif(rng,mode(rng))=3, Σ{countif(rng,V(n))=2} ≠0; n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mode(rng)*10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333399"/>
                </a:solidFill>
                <a:latin typeface="Arial"/>
                <a:ea typeface="Arial"/>
              </a:rPr>
              <a:t>[sum(rng)-3*mode(rng)]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XX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94320" y="654696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Formulation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3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1: Forming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 of a Ki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ƒ{V(4 of a kind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gical test: countif(rng,mode(rng))=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mode(r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08360" y="654696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Formulation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3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 1: Forming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ight Flus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ƒ{V(highest card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gical test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 Flush and Stra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 Stra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9920" y="654696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Formulation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8" name=""/>
          <p:cNvSpPr/>
          <p:nvPr/>
        </p:nvSpPr>
        <p:spPr>
          <a:xfrm>
            <a:off x="4608360" y="653256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52280" y="1693800"/>
            <a:ext cx="882828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Formulation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3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2: Ranking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ll combin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(Straight Flush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10,000,000,0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(4 of a Kin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10,000,000,0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(Full Hous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10,000,000,0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(Flush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10,000,000,0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(Straigh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10,000,000,0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(3 of a Kin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10,000,000,0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(Two Pair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10,000,000,0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(One Pair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10,000,000,0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(High Car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10,000,000,0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08360" y="653256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Formulation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4" name=""/>
          <p:cNvSpPr/>
          <p:nvPr/>
        </p:nvSpPr>
        <p:spPr>
          <a:xfrm>
            <a:off x="4608360" y="653256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03040" y="1720800"/>
            <a:ext cx="883620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Formulation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34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2: Ranking H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player: Max(V(10 combinations,9 ha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k(Maximum hand for each player) for each scenario, where # of players=7,6,5,4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: when player 1 rank 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s: where # of players = 7,6,5,4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08360" y="653256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Formulation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0" name=""/>
          <p:cNvSpPr/>
          <p:nvPr/>
        </p:nvSpPr>
        <p:spPr>
          <a:xfrm>
            <a:off x="4608360" y="6532560"/>
            <a:ext cx="63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3360" y="1749600"/>
            <a:ext cx="898524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7240" y="2130120"/>
            <a:ext cx="7770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008000" y="820800"/>
            <a:ext cx="7032600" cy="58579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157760" y="184320"/>
            <a:ext cx="67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 &amp;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5181480" y="3124080"/>
            <a:ext cx="3764160" cy="3573720"/>
          </a:xfrm>
          <a:prstGeom prst="rect">
            <a:avLst/>
          </a:prstGeom>
          <a:ln w="0">
            <a:noFill/>
          </a:ln>
        </p:spPr>
      </p:pic>
      <p:grpSp>
        <p:nvGrpSpPr>
          <p:cNvPr id="268" name=""/>
          <p:cNvGrpSpPr/>
          <p:nvPr/>
        </p:nvGrpSpPr>
        <p:grpSpPr>
          <a:xfrm>
            <a:off x="957240" y="830160"/>
            <a:ext cx="4149720" cy="2335320"/>
            <a:chOff x="957240" y="830160"/>
            <a:chExt cx="4149720" cy="2335320"/>
          </a:xfrm>
        </p:grpSpPr>
        <p:sp>
          <p:nvSpPr>
            <p:cNvPr id="269" name=""/>
            <p:cNvSpPr/>
            <p:nvPr/>
          </p:nvSpPr>
          <p:spPr>
            <a:xfrm>
              <a:off x="957240" y="830160"/>
              <a:ext cx="3811680" cy="2335320"/>
            </a:xfrm>
            <a:prstGeom prst="ellipse">
              <a:avLst/>
            </a:prstGeom>
            <a:noFill/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08320" y="2870280"/>
              <a:ext cx="998640" cy="2952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5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2806560"/>
            <a:ext cx="5402160" cy="40514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340080" y="825480"/>
            <a:ext cx="5587920" cy="2044800"/>
          </a:xfrm>
          <a:prstGeom prst="wedgeRoundRectCallout">
            <a:avLst>
              <a:gd name="adj1" fmla="val -59430"/>
              <a:gd name="adj2" fmla="val 179578"/>
              <a:gd name="adj3" fmla="val 1666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3797280" y="1302840"/>
            <a:ext cx="49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7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ook Antiqua"/>
              </a:rPr>
              <a:t>Overview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exas Hold‘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player gets only two cards (which only he can se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ve more cards are dealt face-up (“community cards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playe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use the two cards which only he can see when making a h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winner is the player at the end who can put together the best five-card poker hand as a combination of his two cards and the “community card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41640" y="653256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Hand Rankings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41640" y="654696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9120" y="1757520"/>
            <a:ext cx="828828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oker Winning H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Royal Flu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five highest cards, being 10 through Ace with all five from the sam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it. There is no suit order in poker so in the unlikely event of two people having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yal flushes, the result would be a t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traight Flu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ve consecutive cards in numerical order from the same su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Four Of A Ki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 cards of the same denomination, obviously from different sui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Full Hou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ree cards of the same denomination, plus a pair of cards of a differen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nomination. The three of a kind takes precedence over a pair if there is a ti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Flus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ive cards from the same su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Straigh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ve consecutive cards in numerical order from different sui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hree Of A Ki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ree cards of the same denomination, obviously from different sui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wo P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cards of the same denomination, plus another two cards of the sam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nomin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P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two cards of the same denomin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gh C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highest card held, if none of the above are applica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Overview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41640" y="654696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030400" y="3038400"/>
            <a:ext cx="5270400" cy="1639800"/>
          </a:xfrm>
          <a:prstGeom prst="flowChartAlternateProcess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An Example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346640" y="3268800"/>
            <a:ext cx="812880" cy="112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2166840" y="6529320"/>
            <a:ext cx="497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354400" y="18252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390600" y="3063960"/>
            <a:ext cx="1076400" cy="75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393840" y="3902040"/>
            <a:ext cx="1096920" cy="760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6273720" y="3309840"/>
            <a:ext cx="801720" cy="110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2657520" y="5016600"/>
            <a:ext cx="799920" cy="113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8"/>
          <a:stretch/>
        </p:blipFill>
        <p:spPr>
          <a:xfrm>
            <a:off x="3733920" y="1576440"/>
            <a:ext cx="799920" cy="114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9"/>
          <a:stretch/>
        </p:blipFill>
        <p:spPr>
          <a:xfrm>
            <a:off x="5343480" y="3303720"/>
            <a:ext cx="782640" cy="1114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10"/>
          <a:stretch/>
        </p:blipFill>
        <p:spPr>
          <a:xfrm>
            <a:off x="2808360" y="1560600"/>
            <a:ext cx="793800" cy="113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11"/>
          <a:stretch/>
        </p:blipFill>
        <p:spPr>
          <a:xfrm>
            <a:off x="2422440" y="3255840"/>
            <a:ext cx="811440" cy="113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4" name="" descr=""/>
          <p:cNvPicPr/>
          <p:nvPr/>
        </p:nvPicPr>
        <p:blipFill>
          <a:blip r:embed="rId12"/>
          <a:stretch/>
        </p:blipFill>
        <p:spPr>
          <a:xfrm>
            <a:off x="3403440" y="3247920"/>
            <a:ext cx="80676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5" name="" descr=""/>
          <p:cNvPicPr/>
          <p:nvPr/>
        </p:nvPicPr>
        <p:blipFill>
          <a:blip r:embed="rId13"/>
          <a:stretch/>
        </p:blipFill>
        <p:spPr>
          <a:xfrm>
            <a:off x="3621240" y="5019840"/>
            <a:ext cx="809640" cy="114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4614120" y="1987560"/>
            <a:ext cx="139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yer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wn Card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64800" y="5433840"/>
            <a:ext cx="139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y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wn Card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334080" y="2046240"/>
            <a:ext cx="139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y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wn Card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49120" y="370368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92640" y="1935000"/>
            <a:ext cx="1119600" cy="52020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Best Ha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ce 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74920" y="5327640"/>
            <a:ext cx="1119600" cy="52020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Best Ha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Pair 8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370080" y="5217120"/>
            <a:ext cx="1119600" cy="52020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Best Ha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Stra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743200" y="4405320"/>
            <a:ext cx="2127240" cy="276480"/>
            <a:chOff x="2743200" y="4405320"/>
            <a:chExt cx="2127240" cy="276480"/>
          </a:xfrm>
        </p:grpSpPr>
        <p:sp>
          <p:nvSpPr>
            <p:cNvPr id="174" name=""/>
            <p:cNvSpPr/>
            <p:nvPr/>
          </p:nvSpPr>
          <p:spPr>
            <a:xfrm>
              <a:off x="3335040" y="4405320"/>
              <a:ext cx="968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he Flop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4289400" y="4425840"/>
              <a:ext cx="581040" cy="125280"/>
              <a:chOff x="4289400" y="4425840"/>
              <a:chExt cx="581040" cy="125280"/>
            </a:xfrm>
          </p:grpSpPr>
          <p:sp>
            <p:nvSpPr>
              <p:cNvPr id="176" name=""/>
              <p:cNvSpPr/>
              <p:nvPr/>
            </p:nvSpPr>
            <p:spPr>
              <a:xfrm>
                <a:off x="4289400" y="4551120"/>
                <a:ext cx="58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4862520" y="4425840"/>
                <a:ext cx="0" cy="11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2743200" y="4425840"/>
              <a:ext cx="595080" cy="117360"/>
              <a:chOff x="2743200" y="4425840"/>
              <a:chExt cx="595080" cy="117360"/>
            </a:xfrm>
          </p:grpSpPr>
          <p:sp>
            <p:nvSpPr>
              <p:cNvPr id="179" name=""/>
              <p:cNvSpPr/>
              <p:nvPr/>
            </p:nvSpPr>
            <p:spPr>
              <a:xfrm>
                <a:off x="2757240" y="4543200"/>
                <a:ext cx="581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2743200" y="4425840"/>
                <a:ext cx="0" cy="10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5400" spc="-1" strike="noStrike">
                <a:solidFill>
                  <a:srgbClr val="000000"/>
                </a:solidFill>
                <a:latin typeface="Book Antiqua"/>
              </a:rPr>
              <a:t>Problem Definition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4600" y="1889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laying poker it is often difficult to decide whether or not you should keep playing or fold your 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anted to produce an easy reference sheet to give the odds of winning a hand given the two cards you were de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60840" y="65311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5400" spc="-1" strike="noStrike">
                <a:solidFill>
                  <a:srgbClr val="000000"/>
                </a:solidFill>
                <a:latin typeface="Book Antiqua"/>
              </a:rPr>
              <a:t>Model Objectives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44600" y="1889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te Texas Hold’em Poker for a given set of “down card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 repeated trials, develop odds of winning for each given set of “down card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means for Kervin to minimize his losses the next time he plays Texas Hold’em with his 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90720" y="6531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Book Antiqua"/>
              </a:rPr>
              <a:t>Constraints</a:t>
            </a:r>
            <a:endParaRPr b="0" lang="en-US" sz="6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bet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hea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ffing is ir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 Od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70360" y="6515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13:11:27Z</dcterms:created>
  <dc:creator>baseuser</dc:creator>
  <dc:description/>
  <dc:language>en-US</dc:language>
  <cp:lastModifiedBy>baseuser</cp:lastModifiedBy>
  <dcterms:modified xsi:type="dcterms:W3CDTF">2003-12-01T00:40:24Z</dcterms:modified>
  <cp:revision>46</cp:revision>
  <dc:subject/>
  <dc:title>Slide 1</dc:title>
</cp:coreProperties>
</file>