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august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267-73D4-4594-8A8C-B2704252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BBA-57FA-470E-98C1-F5FA6140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633-AE50-421D-B476-F14E20ED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06E-3D87-4BFA-8560-911F14F1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0008-99EB-4799-BCDA-28B93C6E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1BE9-04F4-4755-8F1B-8FB7A9E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5B7F-4311-4D0B-B38F-A2A60DEC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2769-1EB2-4402-9CEF-4C2ECB6C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7C6B-FECF-4334-B6BA-977EDAD2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09680" y="244440"/>
            <a:ext cx="66326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ADD7-7116-4A8E-BD50-928935BB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52C-A466-4C66-801F-85DF83D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D78-78A1-4EF4-A48D-B6BAAC6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646B-1E7D-4036-84EC-50B21E0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EC95-7491-4F34-8046-CB59F019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5019-F625-458B-B040-BE4BD14C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DD64-03C7-48DE-8DF0-70DEA3D9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1812-C90B-42A0-9D84-41A6FE67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914-F040-4789-8AC4-9CA79F8D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EA5-018E-430F-A097-44DFD117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00E-9EA8-446F-83D2-FEBA9534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209680" y="244440"/>
            <a:ext cx="66326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153-D803-4FCA-92DA-E67B4F15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D66-1E67-4A2A-988B-24F843E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EAF-015F-4C77-8CD1-4EC7E6F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49C-E331-431B-AE85-07E153C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DB95-278D-4509-801C-4B785EB92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" name="" descr="Ocean Course At Kiawah"/>
          <p:cNvPicPr/>
          <p:nvPr/>
        </p:nvPicPr>
        <p:blipFill>
          <a:blip r:embed="rId2"/>
          <a:stretch/>
        </p:blipFill>
        <p:spPr>
          <a:xfrm>
            <a:off x="0" y="0"/>
            <a:ext cx="1857240" cy="18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6FB9-EB14-48EE-B5A5-4AAA6755D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Ocean Course At Kiawah"/>
          <p:cNvPicPr/>
          <p:nvPr/>
        </p:nvPicPr>
        <p:blipFill>
          <a:blip r:embed="rId2"/>
          <a:stretch/>
        </p:blipFill>
        <p:spPr>
          <a:xfrm>
            <a:off x="0" y="0"/>
            <a:ext cx="1857240" cy="1847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ostalgia.com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nostalgia.com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august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Golf Vacation Optimiz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 Ba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 Mini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Radin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240" y="76320"/>
            <a:ext cx="63277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ep 2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853920"/>
            <a:ext cx="67086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Course &amp; Hotel Selection: Constrained by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2039760"/>
            <a:ext cx="8915400" cy="466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0400" y="2590920"/>
            <a:ext cx="5335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244440"/>
            <a:ext cx="68612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lver Setup and Observ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432080" y="50655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33412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Using Standard Simplex LP, binary variables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V “Sum to 1” constraints didn’t work. Better to just build in penal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7827" t="31742" r="27605" b="35852"/>
          <a:stretch/>
        </p:blipFill>
        <p:spPr>
          <a:xfrm>
            <a:off x="1981080" y="1981080"/>
            <a:ext cx="5105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0" y="244440"/>
            <a:ext cx="6556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mple Outp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08000"/>
            <a:ext cx="77025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ent Enhanc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ities, More Hotels, More Golf Co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f School Data in addition to Cour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rporate 2004 PGA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attractions and other activities in the desired golf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unctional Enhanc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 data feeds to populate the model with real-time prices (airline, hotel, courses) and weather fore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Optim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acation D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en Destination and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Vacation Insurance (requires large and diversified customer b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itrariness of Utility Function (It’s meaningles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tionary solver has trouble handling more hotels, resorts, and dest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Modeling of Weather is far more Compli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various user inputs, our optimizer will find the best vacation for our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ravel agents, no f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Image courtesy nostalgia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828800" cy="1361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Image courtesy nostalgi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5520" y="4608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209680" y="2057400"/>
            <a:ext cx="48006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bl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currently a number of services that offer hotel and golf course booking on-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ervices tend to focus on one location (e.g. Charleston only) and are limited to courses and hotels which contract directly with the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tend to be the worst courses that cost the most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Ene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21878" r="23630" b="25260"/>
          <a:stretch/>
        </p:blipFill>
        <p:spPr>
          <a:xfrm>
            <a:off x="228600" y="1968480"/>
            <a:ext cx="86868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l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user friendly system that will optimize your golf vacation exper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isfy user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vacation u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estimated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Inpu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ure City and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Va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d Days of Go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willing to Tra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um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Ranking between Accommodations and Cours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2854" t="21657" r="53372" b="29094"/>
          <a:stretch/>
        </p:blipFill>
        <p:spPr>
          <a:xfrm>
            <a:off x="1523880" y="1981080"/>
            <a:ext cx="5943600" cy="4532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er Inpu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3784680"/>
            <a:ext cx="121932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267080"/>
            <a:ext cx="121932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403848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172200" y="426672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21000" y="411480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opdown L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244440"/>
            <a:ext cx="6708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Form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tage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 Standard Evolutionary 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2: Standard Simplex 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im Utility = (1500 – Ticket Price) + (Pr. (Min Golf Days) * 1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Utility = Interim Utility +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∑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((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,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* 20) - (Q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,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* 10) -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,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6480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tep 1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388" t="20830" r="5231" b="21942"/>
          <a:stretch/>
        </p:blipFill>
        <p:spPr>
          <a:xfrm>
            <a:off x="152280" y="1911240"/>
            <a:ext cx="8915400" cy="4870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57400" y="853920"/>
            <a:ext cx="6784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Solve Destination: Constrained by Travel Time &amp; Prob. (Min. Playable Day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4876920"/>
            <a:ext cx="45720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876920"/>
            <a:ext cx="45720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244440"/>
            <a:ext cx="68612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lver Setup and Observ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7443" t="31929" r="27557" b="35817"/>
          <a:stretch/>
        </p:blipFill>
        <p:spPr>
          <a:xfrm>
            <a:off x="304920" y="19810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32692" t="27273" r="33146" b="32731"/>
          <a:stretch/>
        </p:blipFill>
        <p:spPr>
          <a:xfrm>
            <a:off x="4952880" y="1981080"/>
            <a:ext cx="3429000" cy="3030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3505320"/>
            <a:ext cx="1218960" cy="6094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3657600"/>
            <a:ext cx="60948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32080" y="50655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33412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Binary: Needed to “trick” Evolutionary Solver. Did not work otherw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Increasing Mutation Rate  and Max Sub problems seemed to hel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3:18:49Z</dcterms:created>
  <dc:creator>Ben Radinsky</dc:creator>
  <dc:description/>
  <dc:language>en-US</dc:language>
  <cp:lastModifiedBy>baseuser</cp:lastModifiedBy>
  <dcterms:modified xsi:type="dcterms:W3CDTF">2003-12-07T22:26:18Z</dcterms:modified>
  <cp:revision>30</cp:revision>
  <dc:subject/>
  <dc:title>Slide 1</dc:title>
</cp:coreProperties>
</file>