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augusta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C82C-E861-4387-82B3-04848ED9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222D-8830-4F71-973D-7F40E102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E4E-B964-4D9C-98C3-B71EEE15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3C04-39C0-481E-A7B6-084EABE3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E72C-B3D0-46F5-ADDC-D6E90D16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F2AC-A17C-4B99-8DE5-D1496F6B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26AB-FCC1-4788-B8BF-9D2E98F0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23B5-B068-460E-907F-1A8E1D52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A7E0-6275-49AB-8A5C-1BCBDE65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209680" y="244440"/>
            <a:ext cx="66326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DE55-2AB5-42FA-8507-51A5FBF8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D401-941D-46C7-BF3D-C477F57C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86F-4AE4-4D84-952D-14FC7B36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9C9D-26D9-474C-98CA-E4EB8C5C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E0B4-5F6E-46DE-91CB-C6F0F359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C5C9-1177-4C96-A824-942EB0F9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05C5-A7FE-497B-BC3A-6C21B93A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EF14-10DB-49E7-B36B-ADA8D392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A61-1771-47C9-84ED-8FDDC4DB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6D7-8BBE-4E79-9872-D4704904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AEB-FE3D-49CB-9A45-BA13D0ED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209680" y="244440"/>
            <a:ext cx="66326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34C4-CD45-4620-BCB1-61A2E372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6AD-9AE7-48F3-A4D8-82F06DA5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DE78-F603-4A74-880D-0A1579B0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76B8-22E2-4158-BF69-6727FC4A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98FB-59EF-4FD1-BBEF-C0EE94EAE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" name="" descr="Ocean Course At Kiawah"/>
          <p:cNvPicPr/>
          <p:nvPr/>
        </p:nvPicPr>
        <p:blipFill>
          <a:blip r:embed="rId2"/>
          <a:stretch/>
        </p:blipFill>
        <p:spPr>
          <a:xfrm>
            <a:off x="0" y="0"/>
            <a:ext cx="1857240" cy="18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DCE0-EC04-485B-9258-8A90DF3756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Ocean Course At Kiawah"/>
          <p:cNvPicPr/>
          <p:nvPr/>
        </p:nvPicPr>
        <p:blipFill>
          <a:blip r:embed="rId2"/>
          <a:stretch/>
        </p:blipFill>
        <p:spPr>
          <a:xfrm>
            <a:off x="0" y="0"/>
            <a:ext cx="1857240" cy="1847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ostalgia.com/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www.nostalgia.com/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audio" Target="../media/augusta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Golf Vacation Optimiz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 Ba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 Mini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 Radins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14240" y="76320"/>
            <a:ext cx="63277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ep 2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853920"/>
            <a:ext cx="67086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Course &amp; Hotel Selection: Constrained by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280" y="2039760"/>
            <a:ext cx="8915400" cy="4665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00400" y="2590920"/>
            <a:ext cx="533520" cy="3808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720" y="244440"/>
            <a:ext cx="68612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lver Setup and Observa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432080" y="5065560"/>
            <a:ext cx="352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5334120"/>
            <a:ext cx="8305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b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Using Standard Simplex LP, binary variables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b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DV “Sum to 1” constraints didn’t work. Better to just build in penal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27827" t="31742" r="27605" b="35852"/>
          <a:stretch/>
        </p:blipFill>
        <p:spPr>
          <a:xfrm>
            <a:off x="1981080" y="1981080"/>
            <a:ext cx="51055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0" y="244440"/>
            <a:ext cx="6556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mple Outpu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908000"/>
            <a:ext cx="77025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tent Enhancem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ities, More Hotels, More Golf Cour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f School Data in addition to Cours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rporate 2004 PGA Sched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of attractions and other activities in the desired golf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unctional Enhancem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e data feeds to populate the model with real-time prices (airline, hotel, courses) and weather foreca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 Optima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acation Da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iven Destination and Bud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 Vacation Insurance (requires large and diversified customer b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mita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itrariness of Utility Function (It’s meaningles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olutionary solver has trouble handling more hotels, resorts, and dest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Modeling of Weather is far more Complic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various user inputs, our optimizer will find the best vacation for our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ravel agents, no f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ues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" descr="Image courtesy nostalgia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1828800" cy="1361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Image courtesy nostalgia.co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5520" y="46080"/>
            <a:ext cx="1828800" cy="1361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209680" y="2057400"/>
            <a:ext cx="48006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bl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currently a number of services that offer hotel and golf course booking on-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services tend to focus on one location (e.g. Charleston only) and are limited to courses and hotels which contract directly with the ser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tend to be the worst courses that cost the most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Enem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21878" r="23630" b="25260"/>
          <a:stretch/>
        </p:blipFill>
        <p:spPr>
          <a:xfrm>
            <a:off x="228600" y="1968480"/>
            <a:ext cx="86868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lu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user friendly system that will optimize your golf vacation exper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isfy user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 vacation ut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 estimated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613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del Inpu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arture City and 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ngth of Va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ed Days of Go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 willing to Tra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imum Bud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 Ranking between Accommodations and Course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2854" t="21657" r="53372" b="29094"/>
          <a:stretch/>
        </p:blipFill>
        <p:spPr>
          <a:xfrm>
            <a:off x="1523880" y="1981080"/>
            <a:ext cx="5943600" cy="45324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09680" y="244440"/>
            <a:ext cx="6632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ser Inpu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3784680"/>
            <a:ext cx="121932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267080"/>
            <a:ext cx="121932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4038480"/>
            <a:ext cx="7621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172200" y="4266720"/>
            <a:ext cx="7621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21000" y="411480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opdown L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244440"/>
            <a:ext cx="6708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del Formul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Stage Optim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1: Standard Evolutionary Sol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2: Standard Simplex 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im Utility = (1500 – Ticket Price) + (Pr. (Min Golf Days) * 10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Utility = Interim Utility +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∑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((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,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* 20) - (Q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,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* 10) -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,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2320" y="76320"/>
            <a:ext cx="6480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Step 1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2388" t="20830" r="5231" b="21942"/>
          <a:stretch/>
        </p:blipFill>
        <p:spPr>
          <a:xfrm>
            <a:off x="152280" y="1911240"/>
            <a:ext cx="8915400" cy="4870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057400" y="853920"/>
            <a:ext cx="67849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Solve Destination: Constrained by Travel Time &amp; Prob. (Min. Playable Day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4876920"/>
            <a:ext cx="457200" cy="304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4876920"/>
            <a:ext cx="457200" cy="304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80720" y="244440"/>
            <a:ext cx="68612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lver Setup and Observa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27443" t="31929" r="27557" b="35817"/>
          <a:stretch/>
        </p:blipFill>
        <p:spPr>
          <a:xfrm>
            <a:off x="304920" y="1981080"/>
            <a:ext cx="4572000" cy="2667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32692" t="27273" r="33146" b="32731"/>
          <a:stretch/>
        </p:blipFill>
        <p:spPr>
          <a:xfrm>
            <a:off x="4952880" y="1981080"/>
            <a:ext cx="3429000" cy="3030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3505320"/>
            <a:ext cx="1218960" cy="6094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3657600"/>
            <a:ext cx="609480" cy="3808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32080" y="5065560"/>
            <a:ext cx="352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5334120"/>
            <a:ext cx="8305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b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Binary: Needed to “trick” Evolutionary Solver. Did not work otherwi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b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Increasing Mutation Rate  and Max Sub problems seemed to hel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3:18:49Z</dcterms:created>
  <dc:creator>Ben Radinsky</dc:creator>
  <dc:description/>
  <dc:language>en-US</dc:language>
  <cp:lastModifiedBy>baseuser</cp:lastModifiedBy>
  <dcterms:modified xsi:type="dcterms:W3CDTF">2003-12-07T22:26:18Z</dcterms:modified>
  <cp:revision>30</cp:revision>
  <dc:subject/>
  <dc:title>Slide 1</dc:title>
</cp:coreProperties>
</file>