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28.wmf" ContentType="image/x-wmf"/>
  <Override PartName="/ppt/media/image13.wmf" ContentType="image/x-wmf"/>
  <Override PartName="/ppt/media/image25.gif" ContentType="image/gif"/>
  <Override PartName="/ppt/media/image9.png" ContentType="image/png"/>
  <Override PartName="/ppt/media/image12.wmf" ContentType="image/x-wmf"/>
  <Override PartName="/ppt/media/image4.png" ContentType="image/png"/>
  <Override PartName="/ppt/media/image8.png" ContentType="image/png"/>
  <Override PartName="/ppt/media/image7.png" ContentType="image/png"/>
  <Override PartName="/ppt/media/image15.wmf" ContentType="image/x-wmf"/>
  <Override PartName="/ppt/media/image11.png" ContentType="image/png"/>
  <Override PartName="/ppt/media/image6.png" ContentType="image/png"/>
  <Override PartName="/ppt/media/image14.wmf" ContentType="image/x-wmf"/>
  <Override PartName="/ppt/media/image26.gif" ContentType="image/gif"/>
  <Override PartName="/ppt/media/image5.jpeg" ContentType="image/jpeg"/>
  <Override PartName="/ppt/media/image27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2.wmf" ContentType="image/x-wmf"/>
  <Override PartName="/ppt/media/image20.png" ContentType="image/png"/>
  <Override PartName="/ppt/media/image18.png" ContentType="image/png"/>
  <Override PartName="/ppt/media/image17.png" ContentType="image/png"/>
  <Override PartName="/ppt/media/image3.jpeg" ContentType="image/jpeg"/>
  <Override PartName="/ppt/media/image19.png" ContentType="image/png"/>
  <Override PartName="/ppt/media/image16.gif" ContentType="image/gif"/>
  <Override PartName="/ppt/media/image1.wmf" ContentType="image/x-wmf"/>
  <Override PartName="/ppt/media/image24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333B0-7F9A-495F-A784-AA434ED2D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18860-D882-46B5-A495-16F296220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70EB0-BF29-4B58-803A-4D667190F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FF07C-8157-4DFE-A7E3-47C2AFF39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82D6F-8E7B-4DF5-82D9-729BDBA6F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96F40-023C-48F1-AFB0-52E5D926E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B2A4D-06C2-412E-BAB3-5DFB06C5D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22D9B-938D-4AC9-8BB7-34917931E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6C0B7-14FE-49B4-920B-9E09E5D32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192FA-4F74-49E3-A91D-243603F4D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3AE24-E1CD-4949-9DF0-3CE46526F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64F43-D15D-4555-899D-285EAB0D4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46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241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6B392-B5CF-4C3D-9820-4CF88E2AD4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image" Target="../media/image16.gif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image" Target="../media/image16.gif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gif"/><Relationship Id="rId6" Type="http://schemas.openxmlformats.org/officeDocument/2006/relationships/image" Target="../media/image15.wmf"/><Relationship Id="rId7" Type="http://schemas.openxmlformats.org/officeDocument/2006/relationships/image" Target="../media/image16.gif"/><Relationship Id="rId8" Type="http://schemas.openxmlformats.org/officeDocument/2006/relationships/image" Target="../media/image26.gif"/><Relationship Id="rId9" Type="http://schemas.openxmlformats.org/officeDocument/2006/relationships/image" Target="../media/image2.wmf"/><Relationship Id="rId10" Type="http://schemas.openxmlformats.org/officeDocument/2006/relationships/image" Target="../media/image1.wmf"/><Relationship Id="rId11" Type="http://schemas.openxmlformats.org/officeDocument/2006/relationships/image" Target="../media/image27.wmf"/><Relationship Id="rId12" Type="http://schemas.openxmlformats.org/officeDocument/2006/relationships/image" Target="../media/image14.wmf"/><Relationship Id="rId13" Type="http://schemas.openxmlformats.org/officeDocument/2006/relationships/image" Target="../media/image28.wmf"/><Relationship Id="rId14" Type="http://schemas.openxmlformats.org/officeDocument/2006/relationships/image" Target="../media/image12.wmf"/><Relationship Id="rId1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46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1219320"/>
            <a:ext cx="69008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THE  ELEVATOR  TAL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01480" y="4713120"/>
            <a:ext cx="263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rik Grimsha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rcos M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steban Sambo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Jose Ignacio San J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73400" y="3471840"/>
            <a:ext cx="2687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cember 1, 20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am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248520" y="3673440"/>
            <a:ext cx="2133360" cy="21178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762120" y="2619360"/>
            <a:ext cx="1689120" cy="1876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D591E-85F5-4A31-AA19-5B444F8B2BD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46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74520" y="179280"/>
            <a:ext cx="602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nagerial Problem Defin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838080" y="4952880"/>
            <a:ext cx="7467840" cy="11145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ctive: Minimize time elevators spend to distribu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udents and faculty into KMC floors @ peak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7620120" cy="29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w to assign elevators to passengers in real time while optimizing different elevator configurations with respect to overall service quality, traffic throughput, energy consumption, etc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- OR, more simply 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is the optimal arrangement by which the three elevators of the Kaufman Management Center and the four elevators of Skimkin Hall can be se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984D1-5DA1-474B-815D-16F31280CE4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46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75240" y="179280"/>
            <a:ext cx="313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ta Coll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80880" y="1206360"/>
            <a:ext cx="7162920" cy="504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urce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tern Administration, Team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mand” for Elevat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40000"/>
              </a:lnSpc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ass Sched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40000"/>
              </a:lnSpc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ximum capacity per class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40000"/>
              </a:lnSpc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pply” of Elevat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40000"/>
              </a:lnSpc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itary capacity per elev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40000"/>
              </a:lnSpc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verage time to walk up a flo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40000"/>
              </a:lnSpc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verage elevator time between flo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40000"/>
              </a:lnSpc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verage elevator stop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96C67-FF74-46F4-A4D1-15DF9442B2F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46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6320" y="179280"/>
            <a:ext cx="275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ssump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28600" y="1111320"/>
            <a:ext cx="8763120" cy="52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levat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itary capacity per elevator: KMC 15, Shimkin 18 peo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 between floors: 3 seco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op time: 10 seco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vator capacity equally distributed among floor st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vators will always stop at the designated flo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mand for elevators only exists on first floor, and all at o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ople will walk up one flight and down two rather than wa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inherent preferences among riders (all equally accessib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ly interested in total demand at peak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 ignore demand from one intermediate floor to an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80623-A329-4538-AC76-4A07D7DCE89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46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75960" y="179280"/>
            <a:ext cx="252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rm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28600" y="1066680"/>
            <a:ext cx="8697960" cy="561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cision Variabl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inary 1/0 per elevator per floor (1 = Elevator stops he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umber of runs per elevator from first to terminal flo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bjec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nimize elevators’ total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l floors are served with minimum one elevator except floor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acity served per floor higher or equal to floor de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 minimum runs per elev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fference between number of runs made by the most ac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vator and that made by the least active elevator can n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ceed 9 (“balance” constraint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5DB30-B96E-451F-A24F-8F6623C508F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46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75240" y="179280"/>
            <a:ext cx="270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ethod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0" y="973080"/>
            <a:ext cx="9031320" cy="46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mulate demand for each floor from first floor at various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ze capacity information from re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timate utilization percentages for classroom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un Evolutionary Solver for five demand pea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:00AM, 10.30AM, 12:00PM, 1.30 PM, 6:00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rst solver run mandates at least 3 elevators stop at each flo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ccessive runs gradually eliminate elevator stop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serve where service capacity greatly exceeds de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duce solver’s mandated stop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ultiple runs to avoid local mini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486400" y="5473800"/>
            <a:ext cx="2743200" cy="11595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he context of evolutionary algorithms, policies can be interpreted as successful genes that have to be combined to make up a complete genome.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8646B-F06B-4978-BDB2-2C2D8BDA1E2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46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75600" y="179280"/>
            <a:ext cx="566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mand Simulation for 9 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380880" y="1371600"/>
            <a:ext cx="8458200" cy="4613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4F25D-B3E2-4D8B-9E16-CD678734AA5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46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75960" y="179280"/>
            <a:ext cx="327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odel Over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457200" y="833400"/>
            <a:ext cx="8229600" cy="5516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DDCAE-2038-44C5-8DA7-1DFE7C11AE0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46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75960" y="179280"/>
            <a:ext cx="327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odel Over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362320" y="3838680"/>
            <a:ext cx="4400280" cy="230508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2362320" y="1247760"/>
            <a:ext cx="4402080" cy="2305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C5455-5B38-4951-91CB-1D1664AF2F1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46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75240" y="179280"/>
            <a:ext cx="343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ptimized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51600" y="960480"/>
            <a:ext cx="76377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tal Time: 4554 seco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ximum elevator run time to serve demand @ 9 a.m. 22 minu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verage time per person to reach desired floor 4.84 minu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7315200" cy="4570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24C50-1A20-4388-9600-24DD11E8AA5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46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75600" y="179280"/>
            <a:ext cx="261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662040" y="1531800"/>
            <a:ext cx="7719840" cy="4106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CE694-5DE0-415E-B324-7B6D625B5B3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46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04920" y="1600200"/>
            <a:ext cx="7696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920" y="179280"/>
            <a:ext cx="167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gen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4920" y="1550880"/>
            <a:ext cx="85341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neral Guidelines/Conclu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ur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tensions of the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rcRect l="8002" t="24000" r="2002" b="22669"/>
          <a:stretch/>
        </p:blipFill>
        <p:spPr>
          <a:xfrm>
            <a:off x="1676520" y="4038480"/>
            <a:ext cx="5410080" cy="24051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2B73E-D944-477D-828D-9BB9FC89AA8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46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75600" y="179280"/>
            <a:ext cx="261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52280" y="1243080"/>
            <a:ext cx="8839440" cy="42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@ peak hours, if you are going to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r 3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floor, take the stairs (average time of 1:30 min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floor or higher, keep in mind a likely waiting time of over 4 minu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iting time depends heavily on whether the most de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s on the KMC upper floors or not - it took longer 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verage to wait for an elevator at noon, when the only re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mand was for the 11th floor, than it did to get an elev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t 6pm, where there are many more people but they all g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ff on floors 3-5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47A85-BA6B-464A-BFD3-3DF88B8B7C2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46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04920" y="3124080"/>
            <a:ext cx="7696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4920" y="179280"/>
            <a:ext cx="167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gen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04920" y="1550880"/>
            <a:ext cx="85341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neral Guidelines/Conclu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ur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ensions of the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0B8D8-65A8-4E48-9637-19DDD59FC6D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46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73800" y="179280"/>
            <a:ext cx="503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tensions Of Th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52280" y="1550880"/>
            <a:ext cx="883944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roduce opportunity costs that penalize low # of ru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del interarrival times and distribution of demand per flo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velop complex network mode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roduce new technology (elevator optimiz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5768F-9EA0-419A-8BD5-21ED1644119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46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86040" y="179280"/>
            <a:ext cx="616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levator Optimizer 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52280" y="1093680"/>
            <a:ext cx="8839440" cy="37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entralized computer-base elevator management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elevators have no floor buttons in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ou enter the floor you want to go to in a touchpad located 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ach floor outside the elev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ystem assigns you to one elevator using a pre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grammed optimizer ap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touchpad shows the elevator you need to ta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nce an optimizer application is managing the elevators, th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e operated at maximum effici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6886440" y="4898880"/>
            <a:ext cx="907920" cy="1431720"/>
            <a:chOff x="6886440" y="4898880"/>
            <a:chExt cx="907920" cy="143172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6886440" y="4898880"/>
              <a:ext cx="907920" cy="143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 flipV="1">
              <a:off x="6974280" y="5103000"/>
              <a:ext cx="706320" cy="81864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974280" y="5103000"/>
              <a:ext cx="706320" cy="81864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998640" y="5051520"/>
            <a:ext cx="1135080" cy="1197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24E5F-F34A-4D2C-A050-5E5416F713A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46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905120" y="2743200"/>
            <a:ext cx="525780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6953400" y="1752480"/>
            <a:ext cx="1428480" cy="14479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064040" y="4648320"/>
            <a:ext cx="965160" cy="153036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838080" y="914400"/>
            <a:ext cx="1295640" cy="1219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DB265-D2C9-4F04-8FFF-B0A8C8E93F9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46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905120" y="2743200"/>
            <a:ext cx="525780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Back-u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6953400" y="1752480"/>
            <a:ext cx="1428480" cy="14479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4064040" y="4648320"/>
            <a:ext cx="965160" cy="153036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838080" y="914400"/>
            <a:ext cx="1295640" cy="1219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5BC19-A1A8-4B55-A128-16E7D31ACE1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46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72360" y="152280"/>
            <a:ext cx="817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ptimized model For 10:30, 1:30 and 3: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990720" y="838080"/>
            <a:ext cx="7467480" cy="27162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990720" y="3657600"/>
            <a:ext cx="7466040" cy="2716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E2E03-CCDA-4108-95B4-A3446CC665E8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46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07640" y="152280"/>
            <a:ext cx="713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ptimized model For 12:00 and 6: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992160" y="866880"/>
            <a:ext cx="7462800" cy="27144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993600" y="3657600"/>
            <a:ext cx="7463160" cy="2714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49FE2-C9DA-4935-A892-370ED326E4C6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171746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52640" y="179280"/>
            <a:ext cx="164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p 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838080" y="1371600"/>
            <a:ext cx="905040" cy="90504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4114800" y="723960"/>
            <a:ext cx="1219320" cy="10605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2271600" y="3581280"/>
            <a:ext cx="1766880" cy="13176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4"/>
          <a:stretch/>
        </p:blipFill>
        <p:spPr>
          <a:xfrm>
            <a:off x="4495680" y="3981600"/>
            <a:ext cx="1270080" cy="24955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5"/>
          <a:stretch/>
        </p:blipFill>
        <p:spPr>
          <a:xfrm>
            <a:off x="7086600" y="990720"/>
            <a:ext cx="857160" cy="8287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6"/>
          <a:stretch/>
        </p:blipFill>
        <p:spPr>
          <a:xfrm>
            <a:off x="7238880" y="2362320"/>
            <a:ext cx="1109880" cy="175896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7"/>
          <a:stretch/>
        </p:blipFill>
        <p:spPr>
          <a:xfrm>
            <a:off x="762120" y="5486400"/>
            <a:ext cx="961920" cy="9050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8"/>
          <a:stretch/>
        </p:blipFill>
        <p:spPr>
          <a:xfrm>
            <a:off x="7086600" y="4495680"/>
            <a:ext cx="1352520" cy="92412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9"/>
          <a:stretch/>
        </p:blipFill>
        <p:spPr>
          <a:xfrm>
            <a:off x="457200" y="2666880"/>
            <a:ext cx="1689120" cy="187668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10"/>
          <a:stretch/>
        </p:blipFill>
        <p:spPr>
          <a:xfrm>
            <a:off x="4724280" y="2057400"/>
            <a:ext cx="1722600" cy="170964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11"/>
          <a:stretch/>
        </p:blipFill>
        <p:spPr>
          <a:xfrm>
            <a:off x="2819520" y="2133720"/>
            <a:ext cx="1042920" cy="108108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12"/>
          <a:stretch/>
        </p:blipFill>
        <p:spPr>
          <a:xfrm>
            <a:off x="6095880" y="5257800"/>
            <a:ext cx="1238400" cy="125424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13"/>
          <a:stretch/>
        </p:blipFill>
        <p:spPr>
          <a:xfrm>
            <a:off x="2514600" y="5105520"/>
            <a:ext cx="1477800" cy="149688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14"/>
          <a:stretch/>
        </p:blipFill>
        <p:spPr>
          <a:xfrm>
            <a:off x="2362320" y="304920"/>
            <a:ext cx="1120680" cy="1523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82497-0924-43C5-B53C-0A0E764ECC3E}" type="slidenum">
              <a:t>28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46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79920" y="179280"/>
            <a:ext cx="662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levators are a hot issue @ S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8534160" cy="45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ern has 7 elev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 @ KMC that go up to the 11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flo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 @ Skimkin that go up to the 6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flo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sch Hall “back door” not conside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ny students use the stairs @ peak times. Some quot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elevators take year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rather walk up to the 4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floor; it’s fast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l I want is a frickin’ elevator.  Is that so wrong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ur challenge: is there a better alternativ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4FA1B-289E-4CBD-9915-930243DE647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46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72360" y="179280"/>
            <a:ext cx="840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levator Optimization – Some Backgr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33520" y="1295280"/>
            <a:ext cx="8076960" cy="34149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fficient elevator group control is a </a:t>
            </a: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omplex combinatorial optimization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blem.  Recent developments in this field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clude the use of reinforcement learning, fuzz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c, neural networks and evolutionary algorithms [Mar95,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CB98].  …Meta-heuristics might be useful as quick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developm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echniques to create a new generation of self-adaptive elevator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up control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systems that can handle high maximum traffic situations.  Additionally, population base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t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heuristics such as evolution strategies can be easily paralleliz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F6A30-7E4F-4EC6-A247-6152A2BCDC9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46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72360" y="179280"/>
            <a:ext cx="840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levator Optimization – Some Backgr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762280" y="2919240"/>
            <a:ext cx="3619440" cy="31654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2144520" y="6019920"/>
            <a:ext cx="485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-Ring as an Elevator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09480" y="1266840"/>
            <a:ext cx="7925040" cy="15570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problem is related to many other stochastic traffic control problems, especially with respect to the complex behavior and to many difficulties in analysis, design, simulation, and contr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CFA32-CD6D-4F4C-9AB0-5EB000A91D2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46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77040" y="179280"/>
            <a:ext cx="155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33520" y="2133720"/>
            <a:ext cx="8076960" cy="30200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omas Beielstein, Sandor Markon, and Mike Preu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Parallel Approach to Elevator Optimization Based on Soft Computing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Paper prepare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C2003: The Fifth Metaheuristics International Con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yoto, August 23-25, 20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ACAEC-366C-4186-B259-8BDC9AC68FA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46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04920" y="2133720"/>
            <a:ext cx="769608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04920" y="1550880"/>
            <a:ext cx="85341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l Guidelines/Conclu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ur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tensions of the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920" y="179280"/>
            <a:ext cx="167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gen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4419720" y="3333600"/>
            <a:ext cx="3581280" cy="2686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A313F-BFA8-494C-8AFC-CD2908C98EF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46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4280" y="179280"/>
            <a:ext cx="84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al Guidelines To “Survive” Elev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52280" y="1371600"/>
            <a:ext cx="8839440" cy="42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@ peak hours, if you are going to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r 3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floor, take the stairs (average time of 1:30 min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floor or higher, keep in mind the wait time will likely 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t least 4 min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re efficient elevators would imply some “radical” measure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crease elevator capacity/number of elev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pply complex network modeling algorith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roduce a new technology (elevator optimiz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lay with arrival times/queue system (e.g. form a si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ueue in lobb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930C3-6CED-43AE-81E0-88DE8EB2B9F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46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304920" y="2057400"/>
            <a:ext cx="76960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04920" y="914400"/>
            <a:ext cx="853416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neral guidelines/conclu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r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4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nagerial Problem Defin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4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ta Coll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4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sum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4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rm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4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ptim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4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tensions of the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4920" y="179280"/>
            <a:ext cx="167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gen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8634E-4D4C-47E4-AEE8-62160001CC9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26T16:24:30Z</dcterms:created>
  <dc:creator>Esteban Samboal</dc:creator>
  <dc:description/>
  <dc:language>en-US</dc:language>
  <cp:lastModifiedBy>baseuser</cp:lastModifiedBy>
  <dcterms:modified xsi:type="dcterms:W3CDTF">2003-12-01T13:54:01Z</dcterms:modified>
  <cp:revision>77</cp:revision>
  <dc:subject/>
  <dc:title>Slide 1</dc:title>
</cp:coreProperties>
</file>