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7994-2599-4D9D-961F-1B07F60F3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6539-5E77-40D1-A97C-F553E7CAB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BF29-AAD7-4948-B80D-D7CE9C51D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94A7-360B-4B57-A4E2-17DB60E40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F48DB-DA26-4AA7-848F-039059B3B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8B7AF-FB68-4D92-8053-E3480BE03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61874-5002-4A88-90A0-D98F1809F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24190-C898-48EB-87E0-86E1B580F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7BEA7-E6E5-42B7-926D-2FFE0309A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252E8-5BE0-4902-968D-F22BD971D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3C4A0-6383-4EF4-B104-046FB6566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1867-D004-4E0D-A5D3-FB14ACD6B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E8D32-B0FD-4092-9EB9-AB53A31CB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9D69D-6510-438C-9AF0-692532077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0FCDC-DF3B-4638-B95B-554FF7D60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89BBA-4068-4D4D-A5F3-AE6017C71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5BBC6-096C-4897-98D4-ECA8FB6ED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69EE-5552-4D12-9A0E-5E1EDB5DF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D320-07F3-40F3-AD03-8160DC975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A80E-80C2-4F64-8EF5-3A0E95D2D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CD19-9F89-4EFE-9BA4-FEE20F0A1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92F7-6E51-4831-8A2B-0AB8C39ED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A642-58DF-4A16-90BC-BA5C5784E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553C-0216-4406-B143-A508FFD6F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D312D-084B-48BA-9AF2-74E8CB0DF88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7238880" y="457200"/>
            <a:ext cx="1447920" cy="93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7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261D7-735B-46CE-82E7-C35A4CEDC00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3000" y="838080"/>
            <a:ext cx="6781680" cy="14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Decision Models Final Project</a:t>
            </a:r>
            <a:br>
              <a:rPr sz="5600"/>
            </a:b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240" y="3733560"/>
            <a:ext cx="670572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eam 8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saf Buchner, Mark Loe, Jamie McCarron, Elissa Meadow and Jane Slat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048120" y="1600200"/>
            <a:ext cx="2895480" cy="18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robability of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chieving Profit-Resul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pplied arbitrary floor of $2M needed to cover all other cost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d Crystal Ball to calculate probability of achieving a profi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990720" y="3733920"/>
          <a:ext cx="7097760" cy="2276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733920"/>
                    <a:ext cx="7097760" cy="22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esul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ighest Profits (In Descending Order)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rkvil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resh Meadow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arroll Garde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ighest Certainty of Achieving a Profi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resh Meadows-79.8%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rkville-74.8%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arroll Gardens-49.7%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oblems Encountere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Originally set out to use Solver to do a conjoint analysis based on demographic attributes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oo many variables and no way to determine revenu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fter changing methodology, first run at data collection and analysis did not produce results usable for Crystal Bal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ecommendat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hoose Fresh Meadow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espite lower gross profit, higher probability of achieving a profit (less red below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4800600" y="3886200"/>
            <a:ext cx="4038480" cy="20588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457200" y="3886200"/>
            <a:ext cx="4000680" cy="20397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1752480" y="35053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kvil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791320" y="350532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esh Meadow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1371600" y="2819520"/>
            <a:ext cx="6400800" cy="1263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ny Questions?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genda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Overview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Objective Func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Data Collec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rystal Ball Result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Problem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commenda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verview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YSC looking to open a new loca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hoosing between 3 neighborhood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arroll Garden, Brookly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rkville, Brookly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resh Meadows, Quee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ant to determine most profitable location based on demographic information of potential client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bjective Func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aximize Gross Profi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venue – Lease Costs = Gross Profi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venue derived from number of customers times monthly fee per custom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ease cost derived from $/square foot time total square feet for the loca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ata Collec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Obtained demographic and competitor information from NYSC for the three location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alculated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opulation and estimated growt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g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arital Statu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ncom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Number of Competitors in are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mpetitor Analysi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609480" y="1871640"/>
          <a:ext cx="8085240" cy="4092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871640"/>
                    <a:ext cx="8085240" cy="409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mographic Analysi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609480" y="1371600"/>
          <a:ext cx="7559640" cy="5210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371600"/>
                    <a:ext cx="7559640" cy="521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ata Collection-Revenu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d International Health, Racquet &amp; Sportsclub data to find % of NYC population that belong to a health club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ssumed all clubs in a single location attract equal # of peop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sed Crystal Ball with Normal distribution for expected # of customers for revenue calcula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Used NYSC annual report for average fee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ata Collection-Cos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d internet research for average lease costs/square foot in each loca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d triangular distribution in Crystal Ball for $/square foot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4T01:53:41Z</dcterms:created>
  <dc:creator>Elissa Meadow</dc:creator>
  <dc:description/>
  <dc:language>en-US</dc:language>
  <cp:lastModifiedBy>Elissa Meadow</cp:lastModifiedBy>
  <dcterms:modified xsi:type="dcterms:W3CDTF">2003-12-04T03:50:18Z</dcterms:modified>
  <cp:revision>4</cp:revision>
  <dc:subject/>
  <dc:title>Decision Models Final Project NYSC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722213140</vt:r8>
  </property>
  <property fmtid="{D5CDD505-2E9C-101B-9397-08002B2CF9AE}" pid="3" name="_AuthorEmail">
    <vt:lpwstr>ehmeadow@verizon.net</vt:lpwstr>
  </property>
  <property fmtid="{D5CDD505-2E9C-101B-9397-08002B2CF9AE}" pid="4" name="_AuthorEmailDisplayName">
    <vt:lpwstr>Elissa Meadow</vt:lpwstr>
  </property>
  <property fmtid="{D5CDD505-2E9C-101B-9397-08002B2CF9AE}" pid="5" name="_EmailSubject">
    <vt:lpwstr>NYSC Project</vt:lpwstr>
  </property>
</Properties>
</file>