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FAC4-E416-443E-9B54-8FCEE8C3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FE108-57C7-4C0C-97BB-F9E6FFE2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0D46-A600-4695-8AEA-5EA4DD0B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ECAE-D0D1-4E1D-AC6E-6921CB77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484A-9C95-4BB8-98AA-88DB3127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FA73-7181-43F3-9BC8-C6076832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C305-D246-4842-B14A-858E361E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B0D5-FB43-4D8F-9427-5D66B7A8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A82D-2325-4BFD-AA3F-AD9DE79F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E317-512D-460E-935F-E7A766E9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200D-BA56-4A73-9BD2-5F17DC9A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0EAAA-2776-485F-AB8E-3A36958F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67D6-7F1D-4169-ABC9-D55D7C3B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B47E-9C20-469C-98D3-9F0E6E76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46DA-0506-4731-BDBE-520DCA50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E977-4FB5-4EF8-ACAA-F2917C4B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49D1-3AB0-4146-9782-84002636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6CF1A-52FD-4789-9424-5796089B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EAF13-A9AD-40E7-B58B-6B90B3EE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65D88-8B5B-4CF2-8F0D-857DB8A2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8946-4CE3-4CE4-A737-BC09ACBA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D230C-ADD3-420E-9B72-BF76561E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E722-BEFB-4828-9E7F-28EEBDB1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273C5-FA7B-45AC-80D2-10E622B3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5CB3-4A61-42B9-A7D0-496D539CCF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5C68-628B-4AB4-A611-33C5DA9890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ake a Pictur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6760" y="4386240"/>
            <a:ext cx="227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zegorz B. Blicha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 Ba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 C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a-Ling 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shihito Taka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Nikon FM3A"/>
          <p:cNvPicPr/>
          <p:nvPr/>
        </p:nvPicPr>
        <p:blipFill>
          <a:blip r:embed="rId1"/>
          <a:stretch/>
        </p:blipFill>
        <p:spPr>
          <a:xfrm>
            <a:off x="6781680" y="4419720"/>
            <a:ext cx="20764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 – Minimize Travel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5257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10 Sites Identified from Part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Time Spent at each Site for taking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1843200"/>
            <a:ext cx="5749920" cy="32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CA42-8D65-4B33-B120-2F7FC9130F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ravel route that minimizes total time, given time spent on site and total availabl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ite is visited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ite is visited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ACBD1-260E-4610-8137-63299C4613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9480" y="1790640"/>
            <a:ext cx="8001000" cy="41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562FF-541F-4D93-9B6A-B00CDE08D1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1584360"/>
            <a:ext cx="8686800" cy="4587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2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C2AA-F93C-4BF8-9E14-970B1BE7CC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320840"/>
            <a:ext cx="8381880" cy="4927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42287-32AC-4869-AAE5-4260C7E3D3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7010640" cy="3837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0920" y="5029200"/>
            <a:ext cx="1576440" cy="6426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Each sit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isited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5040" y="3978360"/>
            <a:ext cx="1248840" cy="6426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On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4343400"/>
            <a:ext cx="2743200" cy="304920"/>
          </a:xfrm>
          <a:prstGeom prst="ellipse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343400"/>
            <a:ext cx="533160" cy="152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4800600"/>
            <a:ext cx="2743200" cy="228600"/>
          </a:xfrm>
          <a:prstGeom prst="ellipse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752480" y="4876920"/>
            <a:ext cx="228600" cy="4572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EF5A-FD95-4D13-99E0-3F515F79EA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1893960"/>
            <a:ext cx="8153280" cy="3697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AFE0-C8E7-4F34-9221-9C13ADE58C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3032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66880" y="5029200"/>
            <a:ext cx="642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timized duration of the visit of the t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most important NYC sites is 412.5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03EE-1978-4DB8-BE4F-88BEAAEA6E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njoy Your Journe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ese tourist visiting NYC for on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s to take photographs at as many  famous NYC sites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NYU Professor - Juran’s H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ach - Maximize Utility from 30 possible sites to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ach – Minimize Time taken to visit top 10 sights identif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the tourist choos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hts and plan the itiner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467480" y="1447920"/>
            <a:ext cx="129384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>
            <a:off x="7467480" y="3733920"/>
            <a:ext cx="60984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8076960" y="3733920"/>
            <a:ext cx="68580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718400" y="4038480"/>
            <a:ext cx="739800" cy="99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432AB-96D3-43A2-B225-195B22E9CA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is not a constraint for the tou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rist has up to 14 hours per day for traveling and time spent on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or only takes pictures, therefore time spent at each site is short (15-30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rist rents a Limo (no waiting tim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h hour travel time is 2x slower than normal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rist begins from and ends at The Plaza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7CF45-474E-46D8-B1B9-60A1013206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preferences to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Choose 10 sites that maximizes utility based on tourist’s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Minimize time trave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st path problem between all 10 site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7CA0F-C401-4A5C-9BF0-C0E41E6B8A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York City Grid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Streets referenced on Y ax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Avenues on X axis (12 for Manhattan, 3 for Brookly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362320"/>
            <a:ext cx="7620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cerpt from Mid-Tow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2809800"/>
            <a:ext cx="8381880" cy="38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5699-1C4E-46F4-BF05-B0882C32AD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 – Site Iden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op 10 sites from list of 30 New York tourist at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rist’s Parameters for Site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rity in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al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heri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tige/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7A865-A0B0-42F6-9A6D-472B15A051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13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" y="2819520"/>
            <a:ext cx="129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971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05920" y="2971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8382240" cy="23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11C69-927D-4F43-8D50-4E3D60ACDC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0666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attribute level of 10 site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4600" y="2625840"/>
            <a:ext cx="624852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4114800"/>
            <a:ext cx="1739880" cy="6426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Parameter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Site 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4556160"/>
            <a:ext cx="2743200" cy="228600"/>
          </a:xfrm>
          <a:prstGeom prst="ellipse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4327560"/>
            <a:ext cx="7596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4937040"/>
            <a:ext cx="1828800" cy="228600"/>
          </a:xfrm>
          <a:prstGeom prst="ellipse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09680" y="5013360"/>
            <a:ext cx="228600" cy="4572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51040" y="5367240"/>
            <a:ext cx="1358640" cy="9169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Exactly 10 Sites ar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8A7C-FED1-41CC-996F-7F3640C600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 Solution -  Top 10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938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38080" y="30481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05920" y="30481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3995640"/>
            <a:ext cx="8229600" cy="21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0D5CF-8863-4DE8-A52E-9590D6F12E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22:41:07Z</dcterms:created>
  <dc:creator>Stern</dc:creator>
  <dc:description/>
  <dc:language>en-US</dc:language>
  <cp:lastModifiedBy>baseuser</cp:lastModifiedBy>
  <dcterms:modified xsi:type="dcterms:W3CDTF">2003-12-01T13:52:25Z</dcterms:modified>
  <cp:revision>19</cp:revision>
  <dc:subject/>
  <dc:title>Slide 1</dc:title>
</cp:coreProperties>
</file>