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CB7-C079-4A38-893D-635DED13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55D-B078-4D90-A6B9-4D9CF36A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0DA-8E7A-49D4-82BB-5E20F1D2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C8F-4086-4A88-86F3-1B46A86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600-6DD4-4C5B-9DDC-63E3FF59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8B1-398C-48A1-9845-110FD73D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C95-B9DD-4E50-9B22-A027C2E5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D46-F12F-4144-9D5D-ADFD9798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512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452-F156-42CF-88E2-A9FF1777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091-1BC6-4E16-B84B-97387CC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05C-FA93-48E6-9201-FA87186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CED-8120-450F-9CAB-1D0DF8B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0040-CDA6-45A2-9A09-C8706BA638F3}" type="slidenum">
              <a:rPr b="0" lang="en-US" sz="1400" spc="-1" strike="noStrike">
                <a:solidFill>
                  <a:srgbClr val="fffff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ptimizing Seating to Achieve Wedded Blis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Jennifer Milacci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Robb Milacci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John Pettengill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Jeff Wilson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바탕"/>
              </a:rPr>
              <a:t>Mike Wimsatt</a:t>
            </a: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utput 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2920" y="298440"/>
            <a:ext cx="3857760" cy="640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inal table assignments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0F2-364C-41A6-97AD-32BA5AF9E3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바탕"/>
              </a:rPr>
              <a:t>Model Limitations</a:t>
            </a:r>
            <a:endParaRPr b="1" lang="en-US" sz="36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Evolutionary Solver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Doesn’t always find optimal solution – gets stuck on local max/min instead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cale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Excel gets bogged down with more guest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Penalty Decision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Highly sensitive to relative payoff amount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4EA-5704-4FE6-9F75-04FBD39226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Potential Enhancemen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Allow for individual penalties/payoff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Maximize individual utility rather than table utility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One-on-one tradeoffs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Needs to be more realistic for real-world wedding scenarios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bility to import guest list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llow for greater flexibility in number of tables and guests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855-0D65-488D-84EF-1807337CCD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Conclusion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The model solved our problem, but Evolutionary Solver didn’t provide the optimal solution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Limitations of scale kept us from conducting this in a larger and more flexible capacity.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984-A989-461C-9A3C-391DF3981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Problem Definition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Assign wedding guests to tables for the wedding reception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Ensure like groups sit together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Ensure people who are dissimilar do not sit together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A92-D9B4-442B-9A01-61975992D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Formulation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Decision variable: At which table does each guest sit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Objective: Maximize utility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Constraints: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umber of table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umber of guests per tab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F8B-F4D9-4E27-BC16-ACED17DA94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npu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Guest list consists of 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# of peop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Group assignment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292560" cy="637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59E-FF62-41BA-805D-A5DF735037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npu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Payoff table by group to determine cross utility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62012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C3D-B1F8-4054-8C71-EAD7C53811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nputs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Penalties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Number of tables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Minimum/Maximum guests per table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394320" cy="31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6E5-12F5-48BE-B858-622EDCAEB8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Solution Methodology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Calculation of utility (by table)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360" y="5102280"/>
            <a:ext cx="9123480" cy="1603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62056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44120" y="23623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sh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D60-FDA7-4FC8-BE3F-771114AAB2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utput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First run of Evolutionary Solver</a:t>
            </a:r>
            <a:endParaRPr b="0" lang="en-US" sz="32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867360" cy="1139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8320" y="3825720"/>
            <a:ext cx="4694400" cy="24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BCA-26BF-43B8-8C2B-F125875983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Output</a:t>
            </a:r>
            <a:endParaRPr b="1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바탕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 Iteration: Minor tweaks to initial output</a:t>
            </a:r>
            <a:endParaRPr b="0" lang="en-US" sz="2800" spc="-1" strike="noStrike">
              <a:solidFill>
                <a:srgbClr val="ffffff"/>
              </a:solidFill>
              <a:latin typeface="바탕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6867360" cy="114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4435560" cy="22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56A-2035-4AC6-90C0-43C1FAD4B3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4:11:54Z</dcterms:created>
  <dc:creator>Jennifer Milacci</dc:creator>
  <dc:description/>
  <dc:language>en-US</dc:language>
  <cp:lastModifiedBy>Mike Wimsatt</cp:lastModifiedBy>
  <dcterms:modified xsi:type="dcterms:W3CDTF">2003-12-01T13:59:15Z</dcterms:modified>
  <cp:revision>12</cp:revision>
  <dc:subject/>
  <dc:title>Optimizing Wedded Bli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7871394</vt:r8>
  </property>
  <property fmtid="{D5CDD505-2E9C-101B-9397-08002B2CF9AE}" pid="3" name="_AuthorEmail">
    <vt:lpwstr>mw689@stern.nyu.edu</vt:lpwstr>
  </property>
  <property fmtid="{D5CDD505-2E9C-101B-9397-08002B2CF9AE}" pid="4" name="_AuthorEmailDisplayName">
    <vt:lpwstr>Mike Wimsatt</vt:lpwstr>
  </property>
  <property fmtid="{D5CDD505-2E9C-101B-9397-08002B2CF9AE}" pid="5" name="_EmailSubject">
    <vt:lpwstr>FINAL - wedding presentation.ppt</vt:lpwstr>
  </property>
</Properties>
</file>