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A7E6-BAF3-447C-90A2-3625AEBA3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E683-F5E9-4077-93AF-828C79F0D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55AB-D149-4488-96E0-AD6166907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DD3B-8CF5-4553-B7EB-2088915C2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1C53C-7C0A-4F53-BCB8-CCDB4E097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A424-224F-4929-B614-CE6BFDFC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BEE5-5F89-462B-A1D8-84FFCF423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5B43-2608-4EDD-A401-C50FAE98D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B6B4-EE0C-4C1C-8F55-83442FBEB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B85A-04CF-4049-AFF8-8DACDEA83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B12B-A9AE-4AC5-B6B7-2E7DDA189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2CFF-78F4-4A74-B876-14813F927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0236-4226-4106-A1C2-EA6ACAB4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5720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rginia Ralston, Laura Smith, Elizabeth Schoellkopf, Aisha Wa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90720" y="198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ciding upon a downtow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develop a utility score, we multiplied the user’s attribute ranks by 100 and then by each bar’s binary scor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then summed these attribute scores to create a total “bar score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next ranked the bar scores and created a macro to have excel sort by rank and return the top three highest ranking ba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nally, we created a user friendly interface to gather inputs and return the top three “ideal bars” with the click of a butt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Challeng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o Many Bars, Too Little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ilot software is limited to “Below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aramond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Stree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ltiple bars returned the same total score. Excel returned only the first bar with the top sc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o address this challenge, we adjusted the binary values in the “Who do you want to see?” attribute to be non integers from 1.0000 to 1.0099 based on prob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ng additional bars required major model adjust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We scaled the model to handle up to 1000 bars without further adjus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Q &amp; 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Arial Black"/>
              </a:rPr>
              <a:t>APPLAUSE!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ch day, innocent Manhattanites are faced with the mind bending task of choosing the perfect bar for an evening on the town from a list of hundred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0435" t="0" r="16532" b="18272"/>
          <a:stretch/>
        </p:blipFill>
        <p:spPr>
          <a:xfrm rot="360000">
            <a:off x="2280960" y="2966760"/>
            <a:ext cx="2154240" cy="3668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498000">
            <a:off x="5711760" y="3409560"/>
            <a:ext cx="2819520" cy="1465200"/>
          </a:xfrm>
          <a:prstGeom prst="cloudCallout">
            <a:avLst>
              <a:gd name="adj1" fmla="val -116805"/>
              <a:gd name="adj2" fmla="val -5285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 really want to go out tonight but there are so many bars to choose from…I have no idea where to go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Managerial Problem Defini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2520720" cy="367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2193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have taken on the noble task to help them find the perfect bar to maximize their utility based on their p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0866800">
            <a:off x="2822040" y="2849400"/>
            <a:ext cx="2117880" cy="1371600"/>
          </a:xfrm>
          <a:prstGeom prst="cloudCallout">
            <a:avLst>
              <a:gd name="adj1" fmla="val -50773"/>
              <a:gd name="adj2" fmla="val -5954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’m a punk rocker and I  want to hear some live mus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266840" cy="396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20866800">
            <a:off x="6248520" y="3505320"/>
            <a:ext cx="2313000" cy="1323720"/>
          </a:xfrm>
          <a:prstGeom prst="cloudCallout">
            <a:avLst>
              <a:gd name="adj1" fmla="val -34134"/>
              <a:gd name="adj2" fmla="val -6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lease. Where can I find an expertly stirred cocktail on the L.E.S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36232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)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ast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st Village - Centr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Ho - Little Italy –No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ibeca – Chinatown – Wall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wer East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make your life easier, you may choose from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38680" y="23619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)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37160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) Type of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u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ay/Les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orts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ve Ba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b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te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ara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in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sic 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ood for a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) Live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) D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)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) Dres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re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05120" y="1066680"/>
            <a:ext cx="7010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) Who you want to see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-Ba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nk ro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irls with Pea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lleg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els/Rappers/Eurot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at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en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tin 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ip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Formulation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Objective: Maximize total utility by returning the bar with the highest “bar score”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ar Score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Preference Rank * 100 * a (True/Fal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Solution Methodology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e built a data table of attributes for each bar assigning a binary number to indicate true (1) or false (0) for each characteris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ome bars scored true (1) for more than one characteristic per attribu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5:56:31Z</dcterms:created>
  <dc:creator>Laura M. Smith</dc:creator>
  <dc:description/>
  <dc:language>en-US</dc:language>
  <cp:lastModifiedBy>opportun</cp:lastModifiedBy>
  <dcterms:modified xsi:type="dcterms:W3CDTF">2003-12-08T16:59:14Z</dcterms:modified>
  <cp:revision>14</cp:revision>
  <dc:subject/>
  <dc:title>PowerPoint Presentation</dc:title>
</cp:coreProperties>
</file>