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LASER.WAV" ContentType="audio/x-wav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D1A-136F-438B-85D4-45E0E587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EC8-5242-4382-84AA-A0998C6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5B6-56E4-4916-AAEE-5EAB5EC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04F-2F77-44DB-ACBC-D4C44572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83E-4675-45B6-990F-43FA7E94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081-6502-40BB-913C-EE28148D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A0F-5872-43D4-A0CE-591DDFBB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9ED-1EB9-4F78-914F-3D18AE15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6BD-9857-41FF-A5B5-D84B4B70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325-E3C0-4946-B505-5724104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FB9-BB29-48BB-9578-D74B3AD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7BB-DBB8-4931-B893-AC6501A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18C-9AEB-4929-8131-0A4E91E4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EF ENGINEER -  AMNON S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 - ITAY BARZI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OR - KAPIL R. BH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LESS SUBWAY RIDER - YAIR RE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entire MT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ore functionality by modeling additional parameters e.g. possibility of taking a 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ests to choose the bes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st a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Decision Facilitator for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PALM O/S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user friendly kiosks at key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aplace Transform of the Sinusidal Functions to  map MTA Network -&gt; Increas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RIDING BETWEEN C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LIT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4680" y="33526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9880" y="1752480"/>
          <a:ext cx="106704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1067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267080" y="2971800"/>
          <a:ext cx="9907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9718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6611760" y="3733920"/>
            <a:ext cx="1008360" cy="1143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267080" y="4952880"/>
            <a:ext cx="8287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7920" y="1477800"/>
            <a:ext cx="6594480" cy="452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im: to provide a solution to a New Yorker’s eternal problem whether to take the local or wait for the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Bo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day (rush hour, normal, off-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or Place to 10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data and observations of actu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ossible routes to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how long these different routes will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ider to most suitabl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 Analytical Equation or Simu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 linkages between transit times and hence simulation better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of the 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possibility of more than one train in the tunnel a generic server modeling of the train station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of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13280"/>
            <a:ext cx="2666880" cy="12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rt I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cel model of the route and the st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te the combinations  of Local/Exp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3124440" cy="15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rt II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d models of the stations and passeng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mulation of the time taken in the various scen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ults gene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727280"/>
            <a:ext cx="3124440" cy="14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ublished Data + Observ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ns frequencies and Station delays (as function of time of da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erage Riding time and Standard deviations between stations : Local and Exp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>
            <a:off x="3200040" y="4635000"/>
            <a:ext cx="610200" cy="11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3" idx="2"/>
            <a:endCxn id="52" idx="0"/>
          </p:cNvCxnSpPr>
          <p:nvPr/>
        </p:nvCxnSpPr>
        <p:spPr>
          <a:xfrm flipV="1" rot="10800000">
            <a:off x="5371560" y="32000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33520" y="1955880"/>
            <a:ext cx="2666880" cy="10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er Inpu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ing Point and Dest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sh hour 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51" idx="0"/>
          </p:cNvCxnSpPr>
          <p:nvPr/>
        </p:nvCxnSpPr>
        <p:spPr>
          <a:xfrm>
            <a:off x="1866600" y="2971440"/>
            <a:ext cx="108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696080" y="3225960"/>
            <a:ext cx="1067040" cy="286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it Ti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1"/>
          </p:cNvCxnSpPr>
          <p:nvPr/>
        </p:nvCxnSpPr>
        <p:spPr>
          <a:xfrm>
            <a:off x="6934320" y="4646160"/>
            <a:ext cx="76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2754360"/>
            <a:ext cx="6934320" cy="227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&amp; SCENARIO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828800"/>
            <a:ext cx="1066680" cy="6858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38480"/>
            <a:ext cx="1066680" cy="6858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8280" y="2362320"/>
            <a:ext cx="609480" cy="533160"/>
            <a:chOff x="2438280" y="2362320"/>
            <a:chExt cx="609480" cy="533160"/>
          </a:xfrm>
        </p:grpSpPr>
        <p:sp>
          <p:nvSpPr>
            <p:cNvPr id="66" name=""/>
            <p:cNvSpPr/>
            <p:nvPr/>
          </p:nvSpPr>
          <p:spPr>
            <a:xfrm>
              <a:off x="243828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2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1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4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3400" y="2362320"/>
            <a:ext cx="609480" cy="533160"/>
            <a:chOff x="5783400" y="2362320"/>
            <a:chExt cx="609480" cy="533160"/>
          </a:xfrm>
        </p:grpSpPr>
        <p:sp>
          <p:nvSpPr>
            <p:cNvPr id="72" name=""/>
            <p:cNvSpPr/>
            <p:nvPr/>
          </p:nvSpPr>
          <p:spPr>
            <a:xfrm>
              <a:off x="578340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593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120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642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165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505320" y="2362320"/>
            <a:ext cx="609480" cy="533160"/>
            <a:chOff x="3505320" y="2362320"/>
            <a:chExt cx="609480" cy="533160"/>
          </a:xfrm>
        </p:grpSpPr>
        <p:sp>
          <p:nvSpPr>
            <p:cNvPr id="78" name=""/>
            <p:cNvSpPr/>
            <p:nvPr/>
          </p:nvSpPr>
          <p:spPr>
            <a:xfrm>
              <a:off x="350532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92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62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09600" y="152388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enger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840" y="37339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9720" y="2362320"/>
            <a:ext cx="609480" cy="533160"/>
            <a:chOff x="4419720" y="2362320"/>
            <a:chExt cx="609480" cy="533160"/>
          </a:xfrm>
        </p:grpSpPr>
        <p:sp>
          <p:nvSpPr>
            <p:cNvPr id="86" name=""/>
            <p:cNvSpPr/>
            <p:nvPr/>
          </p:nvSpPr>
          <p:spPr>
            <a:xfrm>
              <a:off x="441972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832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006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28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44008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80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520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219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3200400"/>
            <a:ext cx="609480" cy="533520"/>
            <a:chOff x="2438280" y="3200400"/>
            <a:chExt cx="609480" cy="533520"/>
          </a:xfrm>
        </p:grpSpPr>
        <p:sp>
          <p:nvSpPr>
            <p:cNvPr id="97" name=""/>
            <p:cNvSpPr/>
            <p:nvPr/>
          </p:nvSpPr>
          <p:spPr>
            <a:xfrm>
              <a:off x="243828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24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68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44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83400" y="3200400"/>
            <a:ext cx="609480" cy="533520"/>
            <a:chOff x="5783400" y="3200400"/>
            <a:chExt cx="609480" cy="533520"/>
          </a:xfrm>
        </p:grpSpPr>
        <p:sp>
          <p:nvSpPr>
            <p:cNvPr id="103" name=""/>
            <p:cNvSpPr/>
            <p:nvPr/>
          </p:nvSpPr>
          <p:spPr>
            <a:xfrm>
              <a:off x="578340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93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20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642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165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05320" y="3200400"/>
            <a:ext cx="609480" cy="533520"/>
            <a:chOff x="3505320" y="3200400"/>
            <a:chExt cx="609480" cy="533520"/>
          </a:xfrm>
        </p:grpSpPr>
        <p:sp>
          <p:nvSpPr>
            <p:cNvPr id="109" name=""/>
            <p:cNvSpPr/>
            <p:nvPr/>
          </p:nvSpPr>
          <p:spPr>
            <a:xfrm>
              <a:off x="350532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19720" y="3200400"/>
            <a:ext cx="609480" cy="533520"/>
            <a:chOff x="4419720" y="3200400"/>
            <a:chExt cx="609480" cy="533520"/>
          </a:xfrm>
        </p:grpSpPr>
        <p:sp>
          <p:nvSpPr>
            <p:cNvPr id="115" name=""/>
            <p:cNvSpPr/>
            <p:nvPr/>
          </p:nvSpPr>
          <p:spPr>
            <a:xfrm>
              <a:off x="441972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56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4008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080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520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0760" y="29257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008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080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520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38280" y="5638680"/>
            <a:ext cx="609480" cy="533520"/>
            <a:chOff x="2438280" y="5638680"/>
            <a:chExt cx="609480" cy="533520"/>
          </a:xfrm>
        </p:grpSpPr>
        <p:sp>
          <p:nvSpPr>
            <p:cNvPr id="130" name=""/>
            <p:cNvSpPr/>
            <p:nvPr/>
          </p:nvSpPr>
          <p:spPr>
            <a:xfrm>
              <a:off x="243828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24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1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44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83400" y="5638680"/>
            <a:ext cx="609480" cy="533520"/>
            <a:chOff x="5783400" y="5638680"/>
            <a:chExt cx="609480" cy="533520"/>
          </a:xfrm>
        </p:grpSpPr>
        <p:sp>
          <p:nvSpPr>
            <p:cNvPr id="136" name=""/>
            <p:cNvSpPr/>
            <p:nvPr/>
          </p:nvSpPr>
          <p:spPr>
            <a:xfrm>
              <a:off x="578340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93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20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42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65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5638680"/>
            <a:ext cx="609480" cy="533520"/>
            <a:chOff x="3505320" y="5638680"/>
            <a:chExt cx="609480" cy="533520"/>
          </a:xfrm>
        </p:grpSpPr>
        <p:sp>
          <p:nvSpPr>
            <p:cNvPr id="142" name=""/>
            <p:cNvSpPr/>
            <p:nvPr/>
          </p:nvSpPr>
          <p:spPr>
            <a:xfrm>
              <a:off x="350532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12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92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19720" y="5638680"/>
            <a:ext cx="609480" cy="533520"/>
            <a:chOff x="4419720" y="5638680"/>
            <a:chExt cx="609480" cy="533520"/>
          </a:xfrm>
        </p:grpSpPr>
        <p:sp>
          <p:nvSpPr>
            <p:cNvPr id="148" name=""/>
            <p:cNvSpPr/>
            <p:nvPr/>
          </p:nvSpPr>
          <p:spPr>
            <a:xfrm>
              <a:off x="441972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06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44008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3080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520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05740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44197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25780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2784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46200" y="4724280"/>
            <a:ext cx="609480" cy="533520"/>
            <a:chOff x="2446200" y="4724280"/>
            <a:chExt cx="609480" cy="533520"/>
          </a:xfrm>
        </p:grpSpPr>
        <p:sp>
          <p:nvSpPr>
            <p:cNvPr id="162" name=""/>
            <p:cNvSpPr/>
            <p:nvPr/>
          </p:nvSpPr>
          <p:spPr>
            <a:xfrm>
              <a:off x="244620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2216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48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0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36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791320" y="4724280"/>
            <a:ext cx="609480" cy="533520"/>
            <a:chOff x="5791320" y="4724280"/>
            <a:chExt cx="609480" cy="533520"/>
          </a:xfrm>
        </p:grpSpPr>
        <p:sp>
          <p:nvSpPr>
            <p:cNvPr id="168" name=""/>
            <p:cNvSpPr/>
            <p:nvPr/>
          </p:nvSpPr>
          <p:spPr>
            <a:xfrm>
              <a:off x="579132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22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44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13240" y="4724280"/>
            <a:ext cx="609480" cy="533520"/>
            <a:chOff x="3513240" y="4724280"/>
            <a:chExt cx="609480" cy="533520"/>
          </a:xfrm>
        </p:grpSpPr>
        <p:sp>
          <p:nvSpPr>
            <p:cNvPr id="174" name=""/>
            <p:cNvSpPr/>
            <p:nvPr/>
          </p:nvSpPr>
          <p:spPr>
            <a:xfrm>
              <a:off x="351324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92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4184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41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464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27640" y="4724280"/>
            <a:ext cx="609480" cy="533520"/>
            <a:chOff x="4427640" y="4724280"/>
            <a:chExt cx="609480" cy="533520"/>
          </a:xfrm>
        </p:grpSpPr>
        <p:sp>
          <p:nvSpPr>
            <p:cNvPr id="180" name=""/>
            <p:cNvSpPr/>
            <p:nvPr/>
          </p:nvSpPr>
          <p:spPr>
            <a:xfrm>
              <a:off x="442764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36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624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85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608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352680" y="1752480"/>
            <a:ext cx="2590920" cy="381240"/>
          </a:xfrm>
          <a:prstGeom prst="rightArrow">
            <a:avLst>
              <a:gd name="adj1" fmla="val 50000"/>
              <a:gd name="adj2" fmla="val 1699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Up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733920"/>
            <a:ext cx="2361960" cy="380880"/>
          </a:xfrm>
          <a:prstGeom prst="rightArrow">
            <a:avLst>
              <a:gd name="adj1" fmla="val 50000"/>
              <a:gd name="adj2" fmla="val 155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Up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4114800"/>
            <a:ext cx="2361960" cy="380880"/>
          </a:xfrm>
          <a:prstGeom prst="leftArrow">
            <a:avLst>
              <a:gd name="adj1" fmla="val 50000"/>
              <a:gd name="adj2" fmla="val 1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63" idx="3"/>
            <a:endCxn id="66" idx="1"/>
          </p:cNvCxnSpPr>
          <p:nvPr/>
        </p:nvCxnSpPr>
        <p:spPr>
          <a:xfrm>
            <a:off x="1523880" y="21718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64" idx="3"/>
            <a:endCxn id="66" idx="1"/>
          </p:cNvCxnSpPr>
          <p:nvPr/>
        </p:nvCxnSpPr>
        <p:spPr>
          <a:xfrm flipV="1">
            <a:off x="1523880" y="2628720"/>
            <a:ext cx="91512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64" idx="3"/>
            <a:endCxn id="97" idx="1"/>
          </p:cNvCxnSpPr>
          <p:nvPr/>
        </p:nvCxnSpPr>
        <p:spPr>
          <a:xfrm flipV="1">
            <a:off x="1523880" y="3466800"/>
            <a:ext cx="915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64" idx="3"/>
            <a:endCxn id="162" idx="1"/>
          </p:cNvCxnSpPr>
          <p:nvPr/>
        </p:nvCxnSpPr>
        <p:spPr>
          <a:xfrm>
            <a:off x="1523880" y="4381200"/>
            <a:ext cx="9230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64" idx="3"/>
            <a:endCxn id="130" idx="1"/>
          </p:cNvCxnSpPr>
          <p:nvPr/>
        </p:nvCxnSpPr>
        <p:spPr>
          <a:xfrm>
            <a:off x="1523880" y="4381200"/>
            <a:ext cx="9151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676520" y="19350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6248520"/>
            <a:ext cx="2361960" cy="380880"/>
          </a:xfrm>
          <a:prstGeom prst="leftArrow">
            <a:avLst>
              <a:gd name="adj1" fmla="val 50000"/>
              <a:gd name="adj2" fmla="val 1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2470320"/>
            <a:ext cx="380880" cy="2705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72" idx="3"/>
            <a:endCxn id="195" idx="1"/>
          </p:cNvCxnSpPr>
          <p:nvPr/>
        </p:nvCxnSpPr>
        <p:spPr>
          <a:xfrm>
            <a:off x="6392880" y="2629080"/>
            <a:ext cx="1456560" cy="11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03" idx="3"/>
            <a:endCxn id="195" idx="1"/>
          </p:cNvCxnSpPr>
          <p:nvPr/>
        </p:nvCxnSpPr>
        <p:spPr>
          <a:xfrm>
            <a:off x="6392880" y="3467160"/>
            <a:ext cx="14565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68" idx="3"/>
            <a:endCxn id="195" idx="1"/>
          </p:cNvCxnSpPr>
          <p:nvPr/>
        </p:nvCxnSpPr>
        <p:spPr>
          <a:xfrm flipV="1">
            <a:off x="6400800" y="3825000"/>
            <a:ext cx="1448640" cy="11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36" idx="3"/>
            <a:endCxn id="195" idx="1"/>
          </p:cNvCxnSpPr>
          <p:nvPr/>
        </p:nvCxnSpPr>
        <p:spPr>
          <a:xfrm flipV="1">
            <a:off x="6392880" y="3825000"/>
            <a:ext cx="1456560" cy="20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7162920" y="27432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3880" y="2362320"/>
            <a:ext cx="6394680" cy="2923920"/>
            <a:chOff x="1523880" y="2362320"/>
            <a:chExt cx="6394680" cy="2923920"/>
          </a:xfrm>
        </p:grpSpPr>
        <p:sp>
          <p:nvSpPr>
            <p:cNvPr id="204" name=""/>
            <p:cNvSpPr/>
            <p:nvPr/>
          </p:nvSpPr>
          <p:spPr>
            <a:xfrm>
              <a:off x="1531800" y="2370240"/>
              <a:ext cx="2487600" cy="6444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31800" y="3218040"/>
              <a:ext cx="6380280" cy="207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31800" y="3424320"/>
              <a:ext cx="638028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1800" y="4454640"/>
              <a:ext cx="4329360" cy="207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31800" y="4659480"/>
              <a:ext cx="4329360" cy="620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5960" y="2379600"/>
              <a:ext cx="40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dalus"/>
                </a:rPr>
                <a:t>Fr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1360" y="23796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9560" y="260676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7760" y="2606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7640" y="281628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e  of d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6400" y="281628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ush Hou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4680" y="322272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ou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3844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712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140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800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2280" y="3394080"/>
              <a:ext cx="91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372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764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900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3394080"/>
              <a:ext cx="91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5760" y="342576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ig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076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800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852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44840" y="363384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0" y="363996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02280" y="363996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ion Sq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23160" y="363996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ion Sq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1320" y="3840120"/>
              <a:ext cx="121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0" y="38466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74640" y="384660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9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5160" y="384660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6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41600" y="40464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416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464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16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29720" y="4457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3844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92360" y="4630680"/>
              <a:ext cx="92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712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51400" y="4630680"/>
              <a:ext cx="92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800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2280" y="4630680"/>
              <a:ext cx="91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7800" y="466416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an (minute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2400" y="467028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.229385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4670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.7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10920" y="467028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.892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2240" y="4870440"/>
              <a:ext cx="68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2400" y="487512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.499432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17040" y="487512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1.7218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0920" y="487512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1.53743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16400" y="50752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2400" y="508176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8078120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7040" y="508176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6322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10920" y="508176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615820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2362320"/>
              <a:ext cx="1800" cy="65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2362320"/>
              <a:ext cx="15840" cy="65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2378160"/>
              <a:ext cx="1440" cy="64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6960" y="2378160"/>
              <a:ext cx="15840" cy="64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10040" y="2378160"/>
              <a:ext cx="1440" cy="64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10040" y="2378160"/>
              <a:ext cx="15840" cy="64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3209760"/>
              <a:ext cx="1800" cy="10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3209760"/>
              <a:ext cx="15840" cy="104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3696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3696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004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1004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6120" y="3225960"/>
              <a:ext cx="180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612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1440" y="3225960"/>
              <a:ext cx="180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44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4446720"/>
              <a:ext cx="1800" cy="83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4446720"/>
              <a:ext cx="15840" cy="83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6960" y="4462560"/>
              <a:ext cx="144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696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0040" y="4462560"/>
              <a:ext cx="144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1004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6120" y="4462560"/>
              <a:ext cx="180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612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51440" y="4462560"/>
              <a:ext cx="180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5144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0576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576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272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0272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39720" y="2362320"/>
              <a:ext cx="24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39720" y="236232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9720" y="2568600"/>
              <a:ext cx="24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9720" y="256860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39720" y="2798640"/>
              <a:ext cx="248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9720" y="279864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9720" y="3003480"/>
              <a:ext cx="248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9720" y="300348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39720" y="320976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39720" y="3209760"/>
              <a:ext cx="63788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9720" y="341640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39720" y="341640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39720" y="362268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39720" y="362268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39720" y="382752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39720" y="382752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9720" y="403380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9720" y="403380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9720" y="424008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39720" y="424008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9720" y="444672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39720" y="444672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9720" y="465120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39720" y="4651200"/>
              <a:ext cx="43275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39720" y="48578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39720" y="485784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9720" y="506412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39720" y="506412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9720" y="527040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39720" y="527040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1:47:20Z</dcterms:created>
  <dc:creator>baseuser</dc:creator>
  <dc:description/>
  <dc:language>en-US</dc:language>
  <cp:lastModifiedBy>baseuser</cp:lastModifiedBy>
  <dcterms:modified xsi:type="dcterms:W3CDTF">2003-12-07T22:27:59Z</dcterms:modified>
  <cp:revision>25</cp:revision>
  <dc:subject/>
  <dc:title>TO CLIMB OR NOT TO CLIMB</dc:title>
</cp:coreProperties>
</file>