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LASER.WAV" ContentType="audio/x-wav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532-C10D-496E-90E4-50EF3936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E9C-0352-40FD-AE11-3E6B0C03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BAA-C379-4888-902B-0D715AAC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D7E-D92A-4021-95C5-AB5749EB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BD3-854D-48E9-80A6-6FAA168B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D75-8583-4CD6-954E-C0170C6C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0DD-C1C1-4325-A256-0E00FF16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8AC-C9E6-4EF4-A728-B03E17C2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0C9-6540-4191-818A-BF4D271D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9AF-2489-43E5-A42E-4D034A34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56B-BF34-4704-95BE-4AC8A279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62D-B70E-4282-94BB-B31780E8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8C5E-78C4-4A76-A798-9FB30AAF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EF ENGINEER -  AMNON S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 - ITAY BARZI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OR - KAPIL R. BH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LESS SUBWAY RIDER - YAIR RE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25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entire MT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ore functionality by modeling additional parameters e.g. possibility of taking a 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ests to choose the best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cost as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Decision Facilitator for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PALM O/S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ing user friendly kiosks at key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aplace Transform of the Sinusidal Functions to  map MTA Network -&gt; Increase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SMO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RIDING BETWEEN C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LITT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4680" y="33526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809880" y="1752480"/>
          <a:ext cx="106704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52480"/>
                    <a:ext cx="10670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267080" y="2971800"/>
          <a:ext cx="9907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9718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6611760" y="3733920"/>
            <a:ext cx="1008360" cy="1143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267080" y="4952880"/>
            <a:ext cx="82872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447920" y="1477800"/>
            <a:ext cx="6594480" cy="4527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im: to provide a solution to a New Yorker’s eternal problem whether to take the local or wait for the 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 Bo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day (rush hour, normal, off-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or Place to 10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data and observations of actu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possible routes to 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how long these different routes will 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rider to most suitable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 Analytical Equation or Simu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 linkages between transit times and hence simulation better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of the S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possibility of more than one train in the tunnel a generic server modeling of the train station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of Scen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ption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13280"/>
            <a:ext cx="2666880" cy="12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rt I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cel model of the route and the st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te the combinations  of Local/Expr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886200"/>
            <a:ext cx="3124440" cy="15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rt II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end models of the stations and passeng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mulation of the time taken in the various scena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ults gene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727280"/>
            <a:ext cx="3124440" cy="14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ublished Data + Observ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ins frequencies and Station delays (as function of time of day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verage Riding time and Standard deviations between stations : Local and Expr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3"/>
            <a:endCxn id="52" idx="1"/>
          </p:cNvCxnSpPr>
          <p:nvPr/>
        </p:nvCxnSpPr>
        <p:spPr>
          <a:xfrm>
            <a:off x="3200040" y="4635000"/>
            <a:ext cx="610200" cy="11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3" idx="2"/>
            <a:endCxn id="52" idx="0"/>
          </p:cNvCxnSpPr>
          <p:nvPr/>
        </p:nvCxnSpPr>
        <p:spPr>
          <a:xfrm flipV="1" rot="10800000">
            <a:off x="5371560" y="32000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33520" y="1955880"/>
            <a:ext cx="2666880" cy="10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ser Inpu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ing Point and Dest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sh hour 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51" idx="0"/>
          </p:cNvCxnSpPr>
          <p:nvPr/>
        </p:nvCxnSpPr>
        <p:spPr>
          <a:xfrm>
            <a:off x="1866600" y="2971440"/>
            <a:ext cx="108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696080" y="3225960"/>
            <a:ext cx="1067040" cy="286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it Ti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istical Analy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1"/>
          </p:cNvCxnSpPr>
          <p:nvPr/>
        </p:nvCxnSpPr>
        <p:spPr>
          <a:xfrm>
            <a:off x="6934320" y="4646160"/>
            <a:ext cx="762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2754360"/>
            <a:ext cx="6934320" cy="227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&amp; SCENARIO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828800"/>
            <a:ext cx="1066680" cy="6858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038480"/>
            <a:ext cx="1066680" cy="6858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38280" y="2362320"/>
            <a:ext cx="609480" cy="533160"/>
            <a:chOff x="2438280" y="2362320"/>
            <a:chExt cx="609480" cy="533160"/>
          </a:xfrm>
        </p:grpSpPr>
        <p:sp>
          <p:nvSpPr>
            <p:cNvPr id="66" name=""/>
            <p:cNvSpPr/>
            <p:nvPr/>
          </p:nvSpPr>
          <p:spPr>
            <a:xfrm>
              <a:off x="2438280" y="2362320"/>
              <a:ext cx="609480" cy="5331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24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68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1916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7144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83400" y="2362320"/>
            <a:ext cx="609480" cy="533160"/>
            <a:chOff x="5783400" y="2362320"/>
            <a:chExt cx="609480" cy="533160"/>
          </a:xfrm>
        </p:grpSpPr>
        <p:sp>
          <p:nvSpPr>
            <p:cNvPr id="72" name=""/>
            <p:cNvSpPr/>
            <p:nvPr/>
          </p:nvSpPr>
          <p:spPr>
            <a:xfrm>
              <a:off x="5783400" y="2362320"/>
              <a:ext cx="609480" cy="5331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5936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1200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642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1656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505320" y="2362320"/>
            <a:ext cx="609480" cy="533160"/>
            <a:chOff x="3505320" y="2362320"/>
            <a:chExt cx="609480" cy="533160"/>
          </a:xfrm>
        </p:grpSpPr>
        <p:sp>
          <p:nvSpPr>
            <p:cNvPr id="78" name=""/>
            <p:cNvSpPr/>
            <p:nvPr/>
          </p:nvSpPr>
          <p:spPr>
            <a:xfrm>
              <a:off x="3505320" y="2362320"/>
              <a:ext cx="609480" cy="5331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12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392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8620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09600" y="1523880"/>
            <a:ext cx="14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enger 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840" y="373392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 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19720" y="2362320"/>
            <a:ext cx="609480" cy="533160"/>
            <a:chOff x="4419720" y="2362320"/>
            <a:chExt cx="609480" cy="533160"/>
          </a:xfrm>
        </p:grpSpPr>
        <p:sp>
          <p:nvSpPr>
            <p:cNvPr id="86" name=""/>
            <p:cNvSpPr/>
            <p:nvPr/>
          </p:nvSpPr>
          <p:spPr>
            <a:xfrm>
              <a:off x="4419720" y="2362320"/>
              <a:ext cx="609480" cy="5331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832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0060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528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440080" y="205740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30800" y="205740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5200" y="205740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2193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3200400"/>
            <a:ext cx="609480" cy="533520"/>
            <a:chOff x="2438280" y="3200400"/>
            <a:chExt cx="609480" cy="533520"/>
          </a:xfrm>
        </p:grpSpPr>
        <p:sp>
          <p:nvSpPr>
            <p:cNvPr id="97" name=""/>
            <p:cNvSpPr/>
            <p:nvPr/>
          </p:nvSpPr>
          <p:spPr>
            <a:xfrm>
              <a:off x="243828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424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68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44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783400" y="3200400"/>
            <a:ext cx="609480" cy="533520"/>
            <a:chOff x="5783400" y="3200400"/>
            <a:chExt cx="609480" cy="533520"/>
          </a:xfrm>
        </p:grpSpPr>
        <p:sp>
          <p:nvSpPr>
            <p:cNvPr id="103" name=""/>
            <p:cNvSpPr/>
            <p:nvPr/>
          </p:nvSpPr>
          <p:spPr>
            <a:xfrm>
              <a:off x="578340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936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200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642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1656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505320" y="3200400"/>
            <a:ext cx="609480" cy="533520"/>
            <a:chOff x="3505320" y="3200400"/>
            <a:chExt cx="609480" cy="533520"/>
          </a:xfrm>
        </p:grpSpPr>
        <p:sp>
          <p:nvSpPr>
            <p:cNvPr id="109" name=""/>
            <p:cNvSpPr/>
            <p:nvPr/>
          </p:nvSpPr>
          <p:spPr>
            <a:xfrm>
              <a:off x="350532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12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419720" y="3200400"/>
            <a:ext cx="609480" cy="533520"/>
            <a:chOff x="4419720" y="3200400"/>
            <a:chExt cx="609480" cy="533520"/>
          </a:xfrm>
        </p:grpSpPr>
        <p:sp>
          <p:nvSpPr>
            <p:cNvPr id="115" name=""/>
            <p:cNvSpPr/>
            <p:nvPr/>
          </p:nvSpPr>
          <p:spPr>
            <a:xfrm>
              <a:off x="441972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956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832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2880" y="3200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440080" y="289548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0800" y="289548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5200" y="289548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0760" y="292572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40080" y="44197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0800" y="44197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5200" y="44197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5486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438280" y="5638680"/>
            <a:ext cx="609480" cy="533520"/>
            <a:chOff x="2438280" y="5638680"/>
            <a:chExt cx="609480" cy="533520"/>
          </a:xfrm>
        </p:grpSpPr>
        <p:sp>
          <p:nvSpPr>
            <p:cNvPr id="130" name=""/>
            <p:cNvSpPr/>
            <p:nvPr/>
          </p:nvSpPr>
          <p:spPr>
            <a:xfrm>
              <a:off x="2438280" y="56386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24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1916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44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783400" y="5638680"/>
            <a:ext cx="609480" cy="533520"/>
            <a:chOff x="5783400" y="5638680"/>
            <a:chExt cx="609480" cy="533520"/>
          </a:xfrm>
        </p:grpSpPr>
        <p:sp>
          <p:nvSpPr>
            <p:cNvPr id="136" name=""/>
            <p:cNvSpPr/>
            <p:nvPr/>
          </p:nvSpPr>
          <p:spPr>
            <a:xfrm>
              <a:off x="5783400" y="56386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5936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200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642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1656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5320" y="5638680"/>
            <a:ext cx="609480" cy="533520"/>
            <a:chOff x="3505320" y="5638680"/>
            <a:chExt cx="609480" cy="533520"/>
          </a:xfrm>
        </p:grpSpPr>
        <p:sp>
          <p:nvSpPr>
            <p:cNvPr id="142" name=""/>
            <p:cNvSpPr/>
            <p:nvPr/>
          </p:nvSpPr>
          <p:spPr>
            <a:xfrm>
              <a:off x="3505320" y="56386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12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3392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620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84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419720" y="5638680"/>
            <a:ext cx="609480" cy="533520"/>
            <a:chOff x="4419720" y="5638680"/>
            <a:chExt cx="609480" cy="533520"/>
          </a:xfrm>
        </p:grpSpPr>
        <p:sp>
          <p:nvSpPr>
            <p:cNvPr id="148" name=""/>
            <p:cNvSpPr/>
            <p:nvPr/>
          </p:nvSpPr>
          <p:spPr>
            <a:xfrm>
              <a:off x="4419720" y="56386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832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060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5638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440080" y="53341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30800" y="53341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45200" y="533412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205740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4419720"/>
            <a:ext cx="107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5257800"/>
            <a:ext cx="10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2784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46200" y="4724280"/>
            <a:ext cx="609480" cy="533520"/>
            <a:chOff x="2446200" y="4724280"/>
            <a:chExt cx="609480" cy="533520"/>
          </a:xfrm>
        </p:grpSpPr>
        <p:sp>
          <p:nvSpPr>
            <p:cNvPr id="162" name=""/>
            <p:cNvSpPr/>
            <p:nvPr/>
          </p:nvSpPr>
          <p:spPr>
            <a:xfrm>
              <a:off x="2446200" y="47242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2216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748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08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936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791320" y="4724280"/>
            <a:ext cx="609480" cy="533520"/>
            <a:chOff x="5791320" y="4724280"/>
            <a:chExt cx="609480" cy="533520"/>
          </a:xfrm>
        </p:grpSpPr>
        <p:sp>
          <p:nvSpPr>
            <p:cNvPr id="168" name=""/>
            <p:cNvSpPr/>
            <p:nvPr/>
          </p:nvSpPr>
          <p:spPr>
            <a:xfrm>
              <a:off x="5791320" y="47242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728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722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2448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13240" y="4724280"/>
            <a:ext cx="609480" cy="533520"/>
            <a:chOff x="3513240" y="4724280"/>
            <a:chExt cx="609480" cy="533520"/>
          </a:xfrm>
        </p:grpSpPr>
        <p:sp>
          <p:nvSpPr>
            <p:cNvPr id="174" name=""/>
            <p:cNvSpPr/>
            <p:nvPr/>
          </p:nvSpPr>
          <p:spPr>
            <a:xfrm>
              <a:off x="3513240" y="47242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92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4184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941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464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427640" y="4724280"/>
            <a:ext cx="609480" cy="533520"/>
            <a:chOff x="4427640" y="4724280"/>
            <a:chExt cx="609480" cy="533520"/>
          </a:xfrm>
        </p:grpSpPr>
        <p:sp>
          <p:nvSpPr>
            <p:cNvPr id="180" name=""/>
            <p:cNvSpPr/>
            <p:nvPr/>
          </p:nvSpPr>
          <p:spPr>
            <a:xfrm>
              <a:off x="4427640" y="472428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036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5624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85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608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352680" y="1752480"/>
            <a:ext cx="2590920" cy="381240"/>
          </a:xfrm>
          <a:prstGeom prst="rightArrow">
            <a:avLst>
              <a:gd name="adj1" fmla="val 50000"/>
              <a:gd name="adj2" fmla="val 1699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Up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3733920"/>
            <a:ext cx="2361960" cy="380880"/>
          </a:xfrm>
          <a:prstGeom prst="rightArrow">
            <a:avLst>
              <a:gd name="adj1" fmla="val 50000"/>
              <a:gd name="adj2" fmla="val 1550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Up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4114800"/>
            <a:ext cx="2361960" cy="380880"/>
          </a:xfrm>
          <a:prstGeom prst="leftArrow">
            <a:avLst>
              <a:gd name="adj1" fmla="val 50000"/>
              <a:gd name="adj2" fmla="val 15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Down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63" idx="3"/>
            <a:endCxn id="66" idx="1"/>
          </p:cNvCxnSpPr>
          <p:nvPr/>
        </p:nvCxnSpPr>
        <p:spPr>
          <a:xfrm>
            <a:off x="1523880" y="21718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64" idx="3"/>
            <a:endCxn id="66" idx="1"/>
          </p:cNvCxnSpPr>
          <p:nvPr/>
        </p:nvCxnSpPr>
        <p:spPr>
          <a:xfrm flipV="1">
            <a:off x="1523880" y="2628720"/>
            <a:ext cx="91512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64" idx="3"/>
            <a:endCxn id="97" idx="1"/>
          </p:cNvCxnSpPr>
          <p:nvPr/>
        </p:nvCxnSpPr>
        <p:spPr>
          <a:xfrm flipV="1">
            <a:off x="1523880" y="3466800"/>
            <a:ext cx="9151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64" idx="3"/>
            <a:endCxn id="162" idx="1"/>
          </p:cNvCxnSpPr>
          <p:nvPr/>
        </p:nvCxnSpPr>
        <p:spPr>
          <a:xfrm>
            <a:off x="1523880" y="4381200"/>
            <a:ext cx="9230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64" idx="3"/>
            <a:endCxn id="130" idx="1"/>
          </p:cNvCxnSpPr>
          <p:nvPr/>
        </p:nvCxnSpPr>
        <p:spPr>
          <a:xfrm>
            <a:off x="1523880" y="4381200"/>
            <a:ext cx="9151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1676520" y="19350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6248520"/>
            <a:ext cx="2361960" cy="380880"/>
          </a:xfrm>
          <a:prstGeom prst="leftArrow">
            <a:avLst>
              <a:gd name="adj1" fmla="val 50000"/>
              <a:gd name="adj2" fmla="val 15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own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2470320"/>
            <a:ext cx="380880" cy="2705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72" idx="3"/>
            <a:endCxn id="195" idx="1"/>
          </p:cNvCxnSpPr>
          <p:nvPr/>
        </p:nvCxnSpPr>
        <p:spPr>
          <a:xfrm>
            <a:off x="6392880" y="2629080"/>
            <a:ext cx="1456560" cy="11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03" idx="3"/>
            <a:endCxn id="195" idx="1"/>
          </p:cNvCxnSpPr>
          <p:nvPr/>
        </p:nvCxnSpPr>
        <p:spPr>
          <a:xfrm>
            <a:off x="6392880" y="3467160"/>
            <a:ext cx="14565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68" idx="3"/>
            <a:endCxn id="195" idx="1"/>
          </p:cNvCxnSpPr>
          <p:nvPr/>
        </p:nvCxnSpPr>
        <p:spPr>
          <a:xfrm flipV="1">
            <a:off x="6400800" y="3825000"/>
            <a:ext cx="1448640" cy="11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36" idx="3"/>
            <a:endCxn id="195" idx="1"/>
          </p:cNvCxnSpPr>
          <p:nvPr/>
        </p:nvCxnSpPr>
        <p:spPr>
          <a:xfrm flipV="1">
            <a:off x="6392880" y="3825000"/>
            <a:ext cx="1456560" cy="20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7162920" y="274320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3880" y="2362320"/>
            <a:ext cx="6394680" cy="2923920"/>
            <a:chOff x="1523880" y="2362320"/>
            <a:chExt cx="6394680" cy="2923920"/>
          </a:xfrm>
        </p:grpSpPr>
        <p:sp>
          <p:nvSpPr>
            <p:cNvPr id="204" name=""/>
            <p:cNvSpPr/>
            <p:nvPr/>
          </p:nvSpPr>
          <p:spPr>
            <a:xfrm>
              <a:off x="1531800" y="2370240"/>
              <a:ext cx="2487600" cy="6444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31800" y="3218040"/>
              <a:ext cx="6380280" cy="207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31800" y="3424320"/>
              <a:ext cx="638028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31800" y="4454640"/>
              <a:ext cx="4329360" cy="207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31800" y="4659480"/>
              <a:ext cx="4329360" cy="620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5960" y="2379600"/>
              <a:ext cx="40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dalus"/>
                </a:rPr>
                <a:t>Fr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1360" y="237960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tor P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9560" y="260676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37760" y="26067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37640" y="2816280"/>
              <a:ext cx="90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e  of d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6400" y="281628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ush Hou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24680" y="322272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ou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3844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3394080"/>
              <a:ext cx="921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712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51400" y="3394080"/>
              <a:ext cx="921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800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2280" y="3394080"/>
              <a:ext cx="918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4372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7640" y="3394080"/>
              <a:ext cx="921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9000" y="3222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3280" y="3394080"/>
              <a:ext cx="918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25760" y="342576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rig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90760" y="343044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tor P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48000" y="343044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tor P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68520" y="3430440"/>
              <a:ext cx="62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stor Pl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44840" y="3633840"/>
              <a:ext cx="979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ch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9600" y="363996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02280" y="363996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ion Sq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23160" y="363996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ion Sq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51320" y="3840120"/>
              <a:ext cx="121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ch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89600" y="384660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74640" y="384660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9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95160" y="384660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6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41600" y="404640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4160" y="4051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74640" y="4051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5160" y="4051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th St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29720" y="4457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38440" y="4457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92360" y="4630680"/>
              <a:ext cx="92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7120" y="4457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51400" y="4630680"/>
              <a:ext cx="921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18000" y="4457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72280" y="4630680"/>
              <a:ext cx="91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7800" y="466416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ean (minutes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2400" y="467028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5.229385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0" y="4670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.7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10920" y="467028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6.89216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2240" y="4870440"/>
              <a:ext cx="68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ari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82400" y="487512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.499432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17040" y="487512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1.72184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10920" y="487512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1.53743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16400" y="50752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t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82400" y="508176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8078120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17040" y="508176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63221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10920" y="508176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615820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2362320"/>
              <a:ext cx="1800" cy="65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3880" y="2362320"/>
              <a:ext cx="15840" cy="65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36960" y="2378160"/>
              <a:ext cx="1440" cy="64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6960" y="2378160"/>
              <a:ext cx="15840" cy="64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10040" y="2378160"/>
              <a:ext cx="1440" cy="64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10040" y="2378160"/>
              <a:ext cx="15840" cy="64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3880" y="3209760"/>
              <a:ext cx="1800" cy="1046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3880" y="3209760"/>
              <a:ext cx="15840" cy="104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36960" y="3225960"/>
              <a:ext cx="144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3696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10040" y="3225960"/>
              <a:ext cx="144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1004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6120" y="3225960"/>
              <a:ext cx="180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612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51440" y="3225960"/>
              <a:ext cx="180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5144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3880" y="4446720"/>
              <a:ext cx="1800" cy="83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3880" y="4446720"/>
              <a:ext cx="15840" cy="83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36960" y="4462560"/>
              <a:ext cx="144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6960" y="4462560"/>
              <a:ext cx="15840" cy="8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0040" y="4462560"/>
              <a:ext cx="144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10040" y="4462560"/>
              <a:ext cx="15840" cy="8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6120" y="4462560"/>
              <a:ext cx="180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6120" y="4462560"/>
              <a:ext cx="15840" cy="8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51440" y="4462560"/>
              <a:ext cx="1800" cy="82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51440" y="4462560"/>
              <a:ext cx="15840" cy="82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05760" y="3225960"/>
              <a:ext cx="144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576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02720" y="3225960"/>
              <a:ext cx="1440" cy="10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02720" y="3225960"/>
              <a:ext cx="15840" cy="102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39720" y="2362320"/>
              <a:ext cx="24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39720" y="2362320"/>
              <a:ext cx="248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9720" y="2568600"/>
              <a:ext cx="248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39720" y="2568600"/>
              <a:ext cx="248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39720" y="2798640"/>
              <a:ext cx="2486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9720" y="2798640"/>
              <a:ext cx="248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39720" y="3003480"/>
              <a:ext cx="2486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9720" y="3003480"/>
              <a:ext cx="24861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39720" y="3209760"/>
              <a:ext cx="637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39720" y="3209760"/>
              <a:ext cx="637884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39720" y="3416400"/>
              <a:ext cx="637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39720" y="341640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39720" y="3622680"/>
              <a:ext cx="637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39720" y="362268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39720" y="3827520"/>
              <a:ext cx="637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39720" y="382752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39720" y="4033800"/>
              <a:ext cx="637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39720" y="403380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9720" y="4240080"/>
              <a:ext cx="637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39720" y="4240080"/>
              <a:ext cx="6378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39720" y="444672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39720" y="4446720"/>
              <a:ext cx="4327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39720" y="4651200"/>
              <a:ext cx="432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39720" y="4651200"/>
              <a:ext cx="43275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39720" y="48578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39720" y="4857840"/>
              <a:ext cx="4327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39720" y="506412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39720" y="5064120"/>
              <a:ext cx="4327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9720" y="5270400"/>
              <a:ext cx="432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39720" y="5270400"/>
              <a:ext cx="4327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1:47:20Z</dcterms:created>
  <dc:creator>baseuser</dc:creator>
  <dc:description/>
  <dc:language>en-US</dc:language>
  <cp:lastModifiedBy>baseuser</cp:lastModifiedBy>
  <dcterms:modified xsi:type="dcterms:W3CDTF">2003-12-07T22:27:59Z</dcterms:modified>
  <cp:revision>25</cp:revision>
  <dc:subject/>
  <dc:title>TO CLIMB OR NOT TO CLIMB</dc:title>
</cp:coreProperties>
</file>