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owerManhattan_1886_Level1" descr="Lower Manhattan, 1886"/>
          <p:cNvPicPr/>
          <p:nvPr/>
        </p:nvPicPr>
        <p:blipFill>
          <a:blip r:embed="rId2">
            <a:lum bright="70000" contrast="-70000"/>
          </a:blip>
          <a:srcRect l="5714" t="48451" r="5714" b="0"/>
          <a:stretch/>
        </p:blipFill>
        <p:spPr>
          <a:xfrm>
            <a:off x="0" y="1584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52280" y="866880"/>
            <a:ext cx="86868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26880" y="685800"/>
            <a:ext cx="0" cy="22860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16000" y="749160"/>
            <a:ext cx="22860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420840"/>
            <a:ext cx="38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Manhattan im Überblick"/>
          <p:cNvPicPr/>
          <p:nvPr/>
        </p:nvPicPr>
        <p:blipFill>
          <a:blip r:embed="rId1"/>
          <a:srcRect l="0" t="0" r="9843" b="0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28600" y="1969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Apartment Search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0" y="4773600"/>
            <a:ext cx="2286000" cy="24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Justin Car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avid Gro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nthony Pacel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lex Tor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3520" y="152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Q &amp; 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152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The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21932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avid Gross &amp; Ruben Vargas are buying an apartment together in the city this summer.  David is working in Tribeca, while Ruben is working in midtown.  They agree on $500,000 as their price max for a two bedroom in Manhattan(good luck), but they agree on little el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t would never be said that either is a selfless individual, and both refuse to take the shit end of the deal on the apartment they will eventually purchase.  Can an apartment be found that will strike a balance between their preferences and make them both equally happy with their final purcha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152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Objectives of th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8305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acilitate the selection of an ideal apartment for David and Rub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ximize their joint happiness given their disparate preferences in   location and the relative importance of a set list ame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is is subject to both a maximum price of $550,000 and a minimum of two bed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3520" y="152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ecision Variab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30592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Inpu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ividual rankings of a set of amen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ividual rankings of Manhattan neighborho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aximum 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inimum number of bed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3 best apartments in database in descending or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Garamond"/>
              </a:rPr>
              <a:t>Data Sour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50 apartment listings from the New York T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3520" y="152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Input She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8076960" cy="3867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247840" y="1841400"/>
            <a:ext cx="1067040" cy="20574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24280" y="1841400"/>
            <a:ext cx="1067040" cy="17528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66880" y="4343400"/>
            <a:ext cx="914400" cy="6858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360" y="5305320"/>
            <a:ext cx="1947960" cy="360360"/>
          </a:xfrm>
          <a:noFill/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earch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599160" y="1649520"/>
            <a:ext cx="2210040" cy="865080"/>
          </a:xfrm>
          <a:noFill/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Individual ranking of amenities &amp; Neighborhoo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276360" y="1762200"/>
            <a:ext cx="2895480" cy="539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6251" r="0" b="7814"/>
          <a:stretch/>
        </p:blipFill>
        <p:spPr>
          <a:xfrm>
            <a:off x="533520" y="1068480"/>
            <a:ext cx="7802280" cy="5027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6251" r="0" b="7814"/>
          <a:stretch/>
        </p:blipFill>
        <p:spPr>
          <a:xfrm>
            <a:off x="533520" y="1066680"/>
            <a:ext cx="7802280" cy="5029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152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286000" y="3504960"/>
            <a:ext cx="190512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36840" y="1650960"/>
            <a:ext cx="2361960" cy="6094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2362320"/>
            <a:ext cx="2743200" cy="9903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962160" y="3276360"/>
            <a:ext cx="1066680" cy="16002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809880" y="2133360"/>
            <a:ext cx="2438640" cy="2361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191120" y="6095880"/>
            <a:ext cx="2533680" cy="609840"/>
          </a:xfrm>
          <a:noFill/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Neighborhood rankings averaged toge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520" y="152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atab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79840" y="3139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0" t="6251" r="0" b="7814"/>
          <a:stretch/>
        </p:blipFill>
        <p:spPr>
          <a:xfrm>
            <a:off x="503280" y="1066680"/>
            <a:ext cx="7802640" cy="50292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191120" y="1447920"/>
            <a:ext cx="3124080" cy="76176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33520" y="152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Model’s Limi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219320"/>
            <a:ext cx="8305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implification of individual Pre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oes not measure “bang for your buck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0" t="12502" r="0" b="15628"/>
          <a:stretch/>
        </p:blipFill>
        <p:spPr>
          <a:xfrm>
            <a:off x="669960" y="2422440"/>
            <a:ext cx="7802640" cy="4206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01720" y="4660920"/>
            <a:ext cx="2438640" cy="533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5549760"/>
            <a:ext cx="76176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33520" y="15228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1305000"/>
            <a:ext cx="8076960" cy="4087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429000" y="3809880"/>
            <a:ext cx="4952880" cy="167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309760" y="5681520"/>
            <a:ext cx="1981080" cy="343080"/>
          </a:xfrm>
          <a:noFill/>
          <a:ln w="255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Our Apar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6T20:00:37Z</dcterms:created>
  <dc:creator>Real Estate</dc:creator>
  <dc:description/>
  <dc:language>en-US</dc:language>
  <cp:lastModifiedBy> </cp:lastModifiedBy>
  <dcterms:modified xsi:type="dcterms:W3CDTF">2003-12-10T23:43:4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2962878</vt:r8>
  </property>
  <property fmtid="{D5CDD505-2E9C-101B-9397-08002B2CF9AE}" pid="3" name="_AuthorEmail">
    <vt:lpwstr>art239@stern.nyu.edu</vt:lpwstr>
  </property>
  <property fmtid="{D5CDD505-2E9C-101B-9397-08002B2CF9AE}" pid="4" name="_AuthorEmailDisplayName">
    <vt:lpwstr>Alex Torres</vt:lpwstr>
  </property>
  <property fmtid="{D5CDD505-2E9C-101B-9397-08002B2CF9AE}" pid="5" name="_EmailSubject">
    <vt:lpwstr>Team 15 Final Project</vt:lpwstr>
  </property>
</Properties>
</file>