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7681-3518-493F-AC82-8D2852A7E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274680"/>
            <a:ext cx="7620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76201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320" y="3818160"/>
            <a:ext cx="76201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061B-45D1-489A-B24E-3B8728A3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274680"/>
            <a:ext cx="7620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37184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71240" y="1294920"/>
            <a:ext cx="37184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320" y="3818160"/>
            <a:ext cx="37184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71240" y="3818160"/>
            <a:ext cx="37184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A5DC-B658-4C46-867A-B208EA865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274680"/>
            <a:ext cx="7620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245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42840" y="1294920"/>
            <a:ext cx="245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19360" y="1294920"/>
            <a:ext cx="245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320" y="3818160"/>
            <a:ext cx="245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42840" y="3818160"/>
            <a:ext cx="245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19360" y="3818160"/>
            <a:ext cx="245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C401-8A2C-4989-BCDF-400FFBB82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10ADA-EBC9-41B9-AB42-62D21E702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274680"/>
            <a:ext cx="7620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6320" y="1294920"/>
            <a:ext cx="762012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80CDA-88F1-4FD3-9598-152943C9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274680"/>
            <a:ext cx="7620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76201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E4C69-FE72-4131-9BCD-2CEEE7924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274680"/>
            <a:ext cx="7620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37184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1240" y="1294920"/>
            <a:ext cx="37184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F109A-89A4-480A-BED0-926F46A37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274680"/>
            <a:ext cx="7620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BEB61-2F26-46BC-8E8D-D3051BAD1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274680"/>
            <a:ext cx="76201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051F0-A159-4A59-BA04-3DF8CAA64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274680"/>
            <a:ext cx="7620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37184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1240" y="1294920"/>
            <a:ext cx="37184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320" y="3818160"/>
            <a:ext cx="37184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37FC6-C6DA-4B41-AD7A-20737D7A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274680"/>
            <a:ext cx="7620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320" y="1294920"/>
            <a:ext cx="762012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CFD9-25D6-4FE0-910B-D142E82CC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274680"/>
            <a:ext cx="7620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37184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1240" y="1294920"/>
            <a:ext cx="37184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1240" y="3818160"/>
            <a:ext cx="37184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69025-1089-4987-A57A-AF234AC0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274680"/>
            <a:ext cx="7620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37184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1240" y="1294920"/>
            <a:ext cx="37184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818160"/>
            <a:ext cx="76201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B6993-23D5-4EB5-A51C-D79EC9EB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274680"/>
            <a:ext cx="7620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76201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6320" y="3818160"/>
            <a:ext cx="76201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67E9B-4D77-4986-8995-A91CD2727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274680"/>
            <a:ext cx="7620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37184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1240" y="1294920"/>
            <a:ext cx="37184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320" y="3818160"/>
            <a:ext cx="37184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1240" y="3818160"/>
            <a:ext cx="37184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88EF9-F544-4482-9DA9-F958E8FD8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274680"/>
            <a:ext cx="7620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245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42840" y="1294920"/>
            <a:ext cx="245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19360" y="1294920"/>
            <a:ext cx="245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6320" y="3818160"/>
            <a:ext cx="245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42840" y="3818160"/>
            <a:ext cx="245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19360" y="3818160"/>
            <a:ext cx="245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B26B3-A95B-448A-846A-B8283E80D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274680"/>
            <a:ext cx="7620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76201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A6FF-FAB4-4DA0-8F89-259E451E6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274680"/>
            <a:ext cx="7620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37184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71240" y="1294920"/>
            <a:ext cx="37184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364E-DA0E-45E3-A897-811B9F02C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274680"/>
            <a:ext cx="7620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8FEF-E553-43CF-9C36-D8219E60E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320" y="274680"/>
            <a:ext cx="76201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FD6F-5B80-435D-A802-F1B285950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274680"/>
            <a:ext cx="7620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37184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71240" y="1294920"/>
            <a:ext cx="37184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320" y="3818160"/>
            <a:ext cx="37184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DB5D-6103-4C3B-827B-6233B6D7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274680"/>
            <a:ext cx="7620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37184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71240" y="1294920"/>
            <a:ext cx="37184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71240" y="3818160"/>
            <a:ext cx="37184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4E0A-CE24-4488-BACB-22A57A73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274680"/>
            <a:ext cx="7620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37184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71240" y="1294920"/>
            <a:ext cx="37184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320" y="3818160"/>
            <a:ext cx="76201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9BA4-5751-44EB-879D-89C8786A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320" y="274680"/>
            <a:ext cx="7620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294920"/>
            <a:ext cx="76201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28A56-DD3F-4CD2-B465-8A0F4565A1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90720" y="0"/>
            <a:ext cx="0" cy="6858000"/>
          </a:xfrm>
          <a:prstGeom prst="line">
            <a:avLst/>
          </a:prstGeom>
          <a:ln w="572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72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61055-545F-4CD6-AF8E-F8F20936FB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72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572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6600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600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66006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600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600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80010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Finding your Spring 2005 Class Schedule without interrupting your beauty sleep</a:t>
            </a:r>
            <a:br>
              <a:rPr sz="2800"/>
            </a:b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Hayle Chun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Jessica LeMay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Brendan Lynch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Mac Narahara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Addy Spiller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December 6</a:t>
            </a:r>
            <a:r>
              <a:rPr b="1" lang="en-US" sz="2000" spc="-1" strike="noStrike" baseline="30000">
                <a:solidFill>
                  <a:srgbClr val="660066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, 2004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274680"/>
            <a:ext cx="7620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Model Overview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294920"/>
            <a:ext cx="37339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Inputs (cont’d)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Specialization units remaining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419720" y="1371600"/>
            <a:ext cx="4065480" cy="51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274680"/>
            <a:ext cx="7620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Running the Model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76201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Based on inputs, each criterion is assigned a value based on how well it meets preference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otal course value is sum of criteria value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057400" y="3429000"/>
                <a:ext cx="54500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+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G</m:t>
                    </m:r>
                    <m:r>
                      <m:t xml:space="preserve">+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43000" y="4038480"/>
            <a:ext cx="7620120" cy="23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274680"/>
            <a:ext cx="7620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Model Output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76201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output is a schedule that best satisfies all requirement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139760" y="2438280"/>
            <a:ext cx="7925040" cy="1395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371600" y="4191120"/>
            <a:ext cx="7467480" cy="20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-735120" y="-997200"/>
            <a:ext cx="11604960" cy="10148040"/>
            <a:chOff x="-735120" y="-997200"/>
            <a:chExt cx="11604960" cy="10148040"/>
          </a:xfrm>
        </p:grpSpPr>
        <p:sp>
          <p:nvSpPr>
            <p:cNvPr id="140" name=""/>
            <p:cNvSpPr/>
            <p:nvPr/>
          </p:nvSpPr>
          <p:spPr>
            <a:xfrm rot="1294200">
              <a:off x="228600" y="533520"/>
              <a:ext cx="9677520" cy="7086600"/>
            </a:xfrm>
            <a:prstGeom prst="irregularSeal2">
              <a:avLst/>
            </a:prstGeom>
            <a:solidFill>
              <a:srgbClr val="ffffff">
                <a:alpha val="70000"/>
              </a:srgbClr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" name="" descr=""/>
            <p:cNvPicPr/>
            <p:nvPr/>
          </p:nvPicPr>
          <p:blipFill>
            <a:blip r:embed="rId1"/>
            <a:stretch/>
          </p:blipFill>
          <p:spPr>
            <a:xfrm>
              <a:off x="2666880" y="2438280"/>
              <a:ext cx="4191120" cy="314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274680"/>
            <a:ext cx="7620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Evaluation of Outcome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1294920"/>
            <a:ext cx="78487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re you satisfied, D. Slacker Juran?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274680"/>
            <a:ext cx="7620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Next Steps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76201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Input classes taken in previous semesters and add constraint to exclude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Include other NYU course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Improve normalization of criteria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nalysis of expected GPA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nalysis of room locations and how much time he has to grab a beer between classe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066320" y="1294920"/>
            <a:ext cx="76201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274680"/>
            <a:ext cx="7620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76201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Problem Definition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Formulation of the Solution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Model Overview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Sample Situation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Next Step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Q&amp;A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274680"/>
            <a:ext cx="7620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Problem Definition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76201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Stern is offering 126 courses in Spring 2005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When a student selects courses, he/she may consider: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2743200"/>
            <a:ext cx="3124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Course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Professor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Class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Class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274320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Expected 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Module (full/half seme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Number of cred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Specialization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4419720"/>
            <a:ext cx="76201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Arial"/>
              </a:rPr>
              <a:t>OBJECTI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o find the optimal class schedule for an MBA2 in the Spring 2005 Semester, given the student’s requirements and prefere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19320" y="4197240"/>
            <a:ext cx="7543800" cy="0"/>
          </a:xfrm>
          <a:prstGeom prst="line">
            <a:avLst/>
          </a:prstGeom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74680"/>
            <a:ext cx="7620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Formulation of the Solution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76201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Decision Variable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Which courses to take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Which specialization to point courses toward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6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Constraint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Course load must adhere to credit limit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Classes should meet specialization requirement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Classes must meet at different time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A particular course can only be chosen once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Classes must be selected from list of 126 classes offered in Spring 2005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19320" y="2762280"/>
            <a:ext cx="7543800" cy="0"/>
          </a:xfrm>
          <a:prstGeom prst="line">
            <a:avLst/>
          </a:prstGeom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274680"/>
            <a:ext cx="7620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In Modeling Terms… 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39625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6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Objective is to maximize: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where: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5292720" y="1349280"/>
                <a:ext cx="144792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048120" y="2362320"/>
                <a:ext cx="54496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+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G</m:t>
                    </m:r>
                    <m:r>
                      <m:t xml:space="preserve">+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1219320" y="3146400"/>
            <a:ext cx="7543800" cy="0"/>
          </a:xfrm>
          <a:prstGeom prst="line">
            <a:avLst/>
          </a:prstGeom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47600" y="3048120"/>
            <a:ext cx="481968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C = Value of Course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P = Value of Professor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S = Value of Class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T = Value of Class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G = Value of Expected G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M = Value of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R = Value of Number of Cred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43600" y="3749760"/>
            <a:ext cx="2971800" cy="24987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660066"/>
                </a:solidFill>
                <a:latin typeface="Arial"/>
              </a:rPr>
              <a:t>Value determined by multiplying the “importance of factor” input by how well the preference is met by the particular cour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274680"/>
            <a:ext cx="7620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Model Overview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294920"/>
            <a:ext cx="78487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Data Collection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Spring 2005 Course Listings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CFE Reports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7772400" cy="16002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143000" y="4343400"/>
            <a:ext cx="666900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274680"/>
            <a:ext cx="7620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Model Overview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294920"/>
            <a:ext cx="37339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Data Collection (cont’d)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Specializations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75438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274680"/>
            <a:ext cx="7620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Sample Student: D. Slacker Juran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429000" y="2514600"/>
            <a:ext cx="2840040" cy="2130480"/>
          </a:xfrm>
          <a:prstGeom prst="rect">
            <a:avLst/>
          </a:prstGeom>
          <a:ln w="28440">
            <a:solidFill>
              <a:srgbClr val="660066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4267080" y="1219320"/>
            <a:ext cx="3124440" cy="1295280"/>
          </a:xfrm>
          <a:prstGeom prst="cloudCallout">
            <a:avLst>
              <a:gd name="adj1" fmla="val -20833"/>
              <a:gd name="adj2" fmla="val 63847"/>
            </a:avLst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No morning classes - I need my beauty sleep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1676520"/>
            <a:ext cx="3124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3048120"/>
            <a:ext cx="3276720" cy="1295280"/>
          </a:xfrm>
          <a:prstGeom prst="cloudCallout">
            <a:avLst>
              <a:gd name="adj1" fmla="val 75046"/>
              <a:gd name="adj2" fmla="val -26717"/>
            </a:avLst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I need as many A’s as I can get to bring up my 2.7 G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1523880"/>
            <a:ext cx="3276720" cy="990720"/>
          </a:xfrm>
          <a:prstGeom prst="cloudCallout">
            <a:avLst>
              <a:gd name="adj1" fmla="val 59254"/>
              <a:gd name="adj2" fmla="val 100481"/>
            </a:avLst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Big classes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No Cold Calling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4952880"/>
            <a:ext cx="3276720" cy="1447920"/>
          </a:xfrm>
          <a:prstGeom prst="cloudCallout">
            <a:avLst>
              <a:gd name="adj1" fmla="val -33333"/>
              <a:gd name="adj2" fmla="val -144958"/>
            </a:avLst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Good courses &amp; good professors – a “nice to have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4800600"/>
            <a:ext cx="3886200" cy="1523880"/>
          </a:xfrm>
          <a:prstGeom prst="cloudCallout">
            <a:avLst>
              <a:gd name="adj1" fmla="val 51509"/>
              <a:gd name="adj2" fmla="val -135208"/>
            </a:avLst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1.5 more credits towards that Ops Management specializ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72200" y="3124080"/>
            <a:ext cx="2971800" cy="1295640"/>
          </a:xfrm>
          <a:prstGeom prst="cloudCallout">
            <a:avLst>
              <a:gd name="adj1" fmla="val -71902"/>
              <a:gd name="adj2" fmla="val -44240"/>
            </a:avLst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I need 15 more credits to graduat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274680"/>
            <a:ext cx="7620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Model Overview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294920"/>
            <a:ext cx="37339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Input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Preferences / priorities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Requirements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143000" y="5105520"/>
            <a:ext cx="7467480" cy="13557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114560" y="2232000"/>
            <a:ext cx="761976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3T16:02:11Z</dcterms:created>
  <dc:creator>Stern School of Business</dc:creator>
  <dc:description/>
  <dc:language>en-US</dc:language>
  <cp:lastModifiedBy>Stern School of Business</cp:lastModifiedBy>
  <dcterms:modified xsi:type="dcterms:W3CDTF">2004-12-05T21:58:32Z</dcterms:modified>
  <cp:revision>2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6232852</vt:r8>
  </property>
  <property fmtid="{D5CDD505-2E9C-101B-9397-08002B2CF9AE}" pid="3" name="_AuthorEmail">
    <vt:lpwstr>jel286@stern.nyu.edu</vt:lpwstr>
  </property>
  <property fmtid="{D5CDD505-2E9C-101B-9397-08002B2CF9AE}" pid="4" name="_AuthorEmailDisplayName">
    <vt:lpwstr>Jessica LeMay</vt:lpwstr>
  </property>
  <property fmtid="{D5CDD505-2E9C-101B-9397-08002B2CF9AE}" pid="5" name="_EmailSubject">
    <vt:lpwstr>Our Files, Take 2</vt:lpwstr>
  </property>
</Properties>
</file>