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4504-3292-4ECA-BECF-84B2D72EE073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\\\\\\\\\\\\\\\\\\\\\\\\\\\\\\\\\\\\\\\\\\\\\\\\\\\\\\\\\\\\\\\\\\\\\\\\\\\\\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EAA-3D32-4DF2-A369-37FDE695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D37-8F08-4DD6-B46B-944BCD84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F2D-0C66-42D5-9A35-0AAA47E7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7A1-936D-4272-8E6F-6B352097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518-6697-4EF6-8EEF-5ADF87FE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03F-5EC5-45D1-B928-18DA4801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151-5D93-4438-AB9C-0D53EC3A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73A-0D50-40C6-AE92-46E13805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C85-5308-40AD-9241-0C693541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F8C-3130-416F-BC3D-B4493604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E4F-8717-473C-B144-FADD68A8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D68-30B7-4254-8C9F-97C433E4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080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4080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4080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4080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B691-6EA5-41B0-BDD0-D28EAC2CCB28}" type="slidenum"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eerpictures.net/beer-pictures/tt/beer-pictures-26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eerpictures.net/beer-pictures/tt/beer-pictures-16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40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864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864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0" y="34290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6600" y="1438200"/>
            <a:ext cx="4429080" cy="130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17120" y="2943360"/>
            <a:ext cx="2674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pperplate Gothic Bold"/>
              </a:rPr>
              <a:t>Presented By:</a:t>
            </a:r>
            <a:r>
              <a:rPr b="1" lang="en-US" sz="18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Chris Como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Nolly Evans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John Henson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Jan LaChapelle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Jed Lambert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4343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Operational Challenge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Assumptions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Arrival Simulation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Profit Optimization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Summary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Q &amp; A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Table of Contents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04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Operational Challenge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905120"/>
            <a:ext cx="38098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Optimal allocation of floor space between bar and table service at varying bar and table service demand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Leverage simulation to forecast staffing requirements to meet service goals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600200"/>
            <a:ext cx="495288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Assumptions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440" y="166356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4 “shifts” per day--varying demand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440" y="3492360"/>
            <a:ext cx="4496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Usable Floor Space: 5,000 Sq. Ft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Required Kitchen Space:1,000 Sq. Ft.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Average group per table: 2.5 people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Average food order per person: $1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Average drink price: $5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Average # of drinks per person: 2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280" y="2120760"/>
          <a:ext cx="4343400" cy="1241280"/>
        </p:xfrm>
        <a:graphic>
          <a:graphicData uri="http://schemas.openxmlformats.org/drawingml/2006/table">
            <a:tbl>
              <a:tblPr/>
              <a:tblGrid>
                <a:gridCol w="868320"/>
                <a:gridCol w="870120"/>
                <a:gridCol w="866880"/>
                <a:gridCol w="869760"/>
                <a:gridCol w="868320"/>
              </a:tblGrid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am-3pm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pm-7pm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pm-11pm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pm-3am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1368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r Demand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1368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e Demand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1368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Arrival Simulation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905120"/>
            <a:ext cx="4419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7d1f"/>
                </a:solidFill>
                <a:latin typeface="Copperplate Gothic Bold"/>
              </a:rPr>
              <a:t>We used Extend to model the need for bar / table servers at various levels of demand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Assuming people will not wait longer than 3 minutes: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We need an additional bar server per 600 Sq. Ft.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We need an additional table server per 300 Sq. Ft. (approximately 5 tables)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4114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Profit Optimization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0" y="1523880"/>
          <a:ext cx="4572000" cy="34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23880"/>
                    <a:ext cx="457200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28600" y="1905120"/>
            <a:ext cx="441972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7d1f"/>
                </a:solidFill>
                <a:latin typeface="Copperplate Gothic Bold"/>
              </a:rPr>
              <a:t>We used Solver to identify the optimal allocation of floor space (tables vs. bar space)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Optimal allocation of the 4k space is: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2,400 Sq. Ft for bar 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1,600 Sq. Ft. for tables (25 tables) 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The optimal floor space mix provides a profit of $18,916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Summary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9051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99" name="" descr="beer bottle art cl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84600" y="0"/>
            <a:ext cx="45579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1905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Beer is good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Q&amp;A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9051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107" name="" descr="beer bottle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33360"/>
            <a:ext cx="3881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2:59:31Z</dcterms:created>
  <dc:creator>Trial User</dc:creator>
  <dc:description/>
  <dc:language>en-US</dc:language>
  <cp:lastModifiedBy>Christopher R Como</cp:lastModifiedBy>
  <dcterms:modified xsi:type="dcterms:W3CDTF">2004-11-29T15:06:0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5698184</vt:r8>
  </property>
  <property fmtid="{D5CDD505-2E9C-101B-9397-08002B2CF9AE}" pid="3" name="_AuthorEmail">
    <vt:lpwstr>christopher.como@stern.nyu.edu</vt:lpwstr>
  </property>
  <property fmtid="{D5CDD505-2E9C-101B-9397-08002B2CF9AE}" pid="4" name="_AuthorEmailDisplayName">
    <vt:lpwstr>Christopher R Como</vt:lpwstr>
  </property>
  <property fmtid="{D5CDD505-2E9C-101B-9397-08002B2CF9AE}" pid="5" name="_EmailSubject">
    <vt:lpwstr>Group 3 Submission</vt:lpwstr>
  </property>
</Properties>
</file>