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ECC0-D4F5-427F-B4A8-9DF0E77C53DB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\\\\\\\\\\\\\\\\\\\\\\\\\\\\\\\\\\\\\\\\\\\\\\\\\\\\\\\\\\\\\\\\\\\\\\\\\\\\\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EAD-E51B-46E2-8AFA-C6530FEE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AAA-F6E2-4489-82D8-55B6740E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B1E-59DE-447D-85B9-ABEA1368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DD8-7794-4854-AB55-ED52837E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A25-8DAC-4A7C-8108-5F9A27FE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7F0-3F68-4909-A115-2F901001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9C9-3EB9-4AFE-957F-B6F29118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F82-381E-4884-A597-A415090C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7C2-F936-42C4-A9B1-952A3D73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4A2-AFC0-4414-AB0E-876E9FCF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BC0-F329-4FB5-91CF-46A05EE2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EDA-94BB-4F48-A6CA-3C89DC5E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080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4080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4080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4080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4080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b4080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b4080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080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4080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4080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4080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4080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4080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1A16-49AB-4032-AAE9-15ECBCEADA89}" type="slidenum">
              <a:rPr b="0" lang="en-US" sz="1400" spc="-1" strike="noStrike">
                <a:solidFill>
                  <a:srgbClr val="b4080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eerpictures.net/beer-pictures/tt/beer-pictures-26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eerpictures.net/beer-pictures/tt/beer-pictures-16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b40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864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864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0" y="34290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6600" y="1438200"/>
            <a:ext cx="4429080" cy="1305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17120" y="2943360"/>
            <a:ext cx="2674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pperplate Gothic Bold"/>
              </a:rPr>
              <a:t>Presented By:</a:t>
            </a:r>
            <a:r>
              <a:rPr b="1" lang="en-US" sz="1800" spc="-1" strike="noStrike">
                <a:solidFill>
                  <a:srgbClr val="ffffff"/>
                </a:solidFill>
                <a:latin typeface="Copperplate Gothic Bold"/>
              </a:rPr>
              <a:t> 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Chris Como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Nolly Evans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John Henson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Jan LaChapelle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Jed Lambert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81080"/>
            <a:ext cx="4343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Operational Challenge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Assumptions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Arrival Simulation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Profit Optimization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Summary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Q &amp; A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Table of Contents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04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Operational Challenge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905120"/>
            <a:ext cx="38098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Optimal allocation of floor space between bar and table service at varying bar and table service demand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Leverage simulation to forecast staffing requirements to meet service goals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600200"/>
            <a:ext cx="495288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Assumptions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440" y="166356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4 “shifts” per day--varying demand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440" y="3492360"/>
            <a:ext cx="44960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Usable Floor Space: 5,000 Sq. Ft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Required Kitchen Space:1,000 Sq. Ft.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Average group per table: 2.5 people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Average food order per person: $10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Average drink price: $5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7d1f"/>
                </a:solidFill>
                <a:latin typeface="Futura Bd BT"/>
              </a:rPr>
              <a:t>Average # of drinks per person: 2</a:t>
            </a:r>
            <a:endParaRPr b="0" lang="en-US" sz="1800" spc="-1" strike="noStrike">
              <a:solidFill>
                <a:srgbClr val="b4080c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280" y="2120760"/>
          <a:ext cx="4343400" cy="1241280"/>
        </p:xfrm>
        <a:graphic>
          <a:graphicData uri="http://schemas.openxmlformats.org/drawingml/2006/table">
            <a:tbl>
              <a:tblPr/>
              <a:tblGrid>
                <a:gridCol w="868320"/>
                <a:gridCol w="870120"/>
                <a:gridCol w="866880"/>
                <a:gridCol w="869760"/>
                <a:gridCol w="868320"/>
              </a:tblGrid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1368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am-3pm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1368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pm-7pm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1368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pm-11pm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1368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pm-3am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13680">
                      <a:solidFill>
                        <a:srgbClr val="b4080c"/>
                      </a:solidFill>
                    </a:lnR>
                    <a:lnT w="1368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r Demand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1368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5760">
                      <a:solidFill>
                        <a:srgbClr val="b4080c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ble Demand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1368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1368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1368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576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13680">
                      <a:solidFill>
                        <a:srgbClr val="b4080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 per hour</a:t>
                      </a:r>
                      <a:endParaRPr b="0" lang="en-US" sz="1200" spc="-1" strike="noStrike">
                        <a:solidFill>
                          <a:srgbClr val="b4080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4080c"/>
                      </a:solidFill>
                    </a:lnL>
                    <a:lnR w="13680">
                      <a:solidFill>
                        <a:srgbClr val="b4080c"/>
                      </a:solidFill>
                    </a:lnR>
                    <a:lnT w="5760">
                      <a:solidFill>
                        <a:srgbClr val="b4080c"/>
                      </a:solidFill>
                    </a:lnT>
                    <a:lnB w="13680">
                      <a:solidFill>
                        <a:srgbClr val="b4080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Arrival Simulation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905120"/>
            <a:ext cx="4419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7d1f"/>
                </a:solidFill>
                <a:latin typeface="Copperplate Gothic Bold"/>
              </a:rPr>
              <a:t>We used Extend to model the need for bar / table servers at various levels of demand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Assuming people will not wait longer than 3 minutes: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We need an additional bar server per 600 Sq. Ft.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We need an additional table server per 300 Sq. Ft. (approximately 5 tables)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800600" y="304920"/>
            <a:ext cx="4114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Profit Optimization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0" y="1523880"/>
          <a:ext cx="4572000" cy="348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523880"/>
                    <a:ext cx="457200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28600" y="1905120"/>
            <a:ext cx="441972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7d1f"/>
                </a:solidFill>
                <a:latin typeface="Copperplate Gothic Bold"/>
              </a:rPr>
              <a:t>We used Solver to identify the optimal allocation of floor space (tables vs. bar space)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Optimal allocation of the 4k space is: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2,400 Sq. Ft for bar 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1,600 Sq. Ft. for tables (25 tables) 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e7d1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d1f"/>
                </a:solidFill>
                <a:latin typeface="Copperplate Gothic Bold"/>
              </a:rPr>
              <a:t>The optimal floor space mix provides a profit of $18,916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Summary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9051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99" name="" descr="beer bottle art cl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84600" y="0"/>
            <a:ext cx="455796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8600" y="1905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7d1f"/>
                </a:solidFill>
                <a:latin typeface="Futura Bd BT"/>
              </a:rPr>
              <a:t>Beer is good</a:t>
            </a: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4572000" cy="5257800"/>
          </a:xfrm>
          <a:prstGeom prst="rect">
            <a:avLst/>
          </a:prstGeom>
          <a:solidFill>
            <a:srgbClr val="8c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pperplate Gothic Bold"/>
              </a:rPr>
              <a:t>Q&amp;A</a:t>
            </a:r>
            <a:endParaRPr b="0" lang="en-US" sz="36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9051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e7d1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00200"/>
            <a:ext cx="4572000" cy="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5560">
            <a:solidFill>
              <a:srgbClr val="fe7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4080c"/>
              </a:solidFill>
              <a:latin typeface="Times New Roman"/>
            </a:endParaRPr>
          </a:p>
        </p:txBody>
      </p:sp>
      <p:pic>
        <p:nvPicPr>
          <p:cNvPr id="107" name="" descr="beer bottle im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33360"/>
            <a:ext cx="3881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00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22:59:31Z</dcterms:created>
  <dc:creator>Trial User</dc:creator>
  <dc:description/>
  <dc:language>en-US</dc:language>
  <cp:lastModifiedBy>Christopher R Como</cp:lastModifiedBy>
  <dcterms:modified xsi:type="dcterms:W3CDTF">2004-11-29T15:06:0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5698184</vt:r8>
  </property>
  <property fmtid="{D5CDD505-2E9C-101B-9397-08002B2CF9AE}" pid="3" name="_AuthorEmail">
    <vt:lpwstr>christopher.como@stern.nyu.edu</vt:lpwstr>
  </property>
  <property fmtid="{D5CDD505-2E9C-101B-9397-08002B2CF9AE}" pid="4" name="_AuthorEmailDisplayName">
    <vt:lpwstr>Christopher R Como</vt:lpwstr>
  </property>
  <property fmtid="{D5CDD505-2E9C-101B-9397-08002B2CF9AE}" pid="5" name="_EmailSubject">
    <vt:lpwstr>Group 3 Submission</vt:lpwstr>
  </property>
</Properties>
</file>