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7DFD-6004-4AFE-93FC-5F123BCB6CC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\\\\\\\\\\\\\\\\\\\\\\\\\\\\\\\\\\\\\\\\\\\\\\\\\\\\\\\\\\\\\\\\\\\\\\\\\\\\\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C4E-3EEA-493F-9780-E0573559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441-3CED-48F8-9EF2-FABF9219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6EA-16A0-4F5C-B9BA-BA8E86F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0B9-99F9-448F-931C-A5D42FD4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B7A-4878-4EB0-837A-F9525CF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DFB-6E47-437E-BC00-69ABE52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DCC-75BD-4804-B2C9-AA07E771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976-24DE-46D2-9D70-D9F8A65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D56-0F8C-4768-BD2A-9719C4A0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6C9-9CA1-4C7D-8D5C-A97103A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10F-AB88-4174-B099-ABC9CF8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236-9062-4EC8-BDD4-B0B5667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FE74-F06C-4BC5-961E-B1F07C023ED5}" type="slidenum"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26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16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4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864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864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34290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6600" y="1438200"/>
            <a:ext cx="4429080" cy="130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7120" y="2943360"/>
            <a:ext cx="2674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pperplate Gothic Bold"/>
              </a:rPr>
              <a:t>Presented By:</a:t>
            </a: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Chris Como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olly Evans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ohn Henson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an LaChapel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ed Lamber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4343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erational Challenge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ssumpt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rrival Simul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Profit Optimiz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Summary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Q &amp; A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Table of Content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Operational Challenge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905120"/>
            <a:ext cx="38098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timal allocation of floor space between bar and table service at varying bar and table service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Leverage simulation to forecast staffing requirements to meet service goal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495288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ssumption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440" y="16635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4 “shifts” per day--varying demand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3492360"/>
            <a:ext cx="4496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Usable Floor Space: 5,000 Sq. F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Required Kitchen Space:1,000 Sq. Ft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group per table: 2.5 peop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food order per person: $1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drink price: $5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# of drinks per person: 2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120760"/>
          <a:ext cx="4343400" cy="1241280"/>
        </p:xfrm>
        <a:graphic>
          <a:graphicData uri="http://schemas.openxmlformats.org/drawingml/2006/table">
            <a:tbl>
              <a:tblPr/>
              <a:tblGrid>
                <a:gridCol w="868320"/>
                <a:gridCol w="870120"/>
                <a:gridCol w="866880"/>
                <a:gridCol w="869760"/>
                <a:gridCol w="868320"/>
              </a:tblGrid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am-3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pm-7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pm-11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pm-3a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r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rrival Simul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905120"/>
            <a:ext cx="4419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Extend to model the need for bar / table servers at various levels of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Assuming people will not wait longer than 3 minute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bar server per 600 Sq. Ft.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table server per 300 Sq. Ft. (approximately 5 tables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Profit Optimiz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0" y="1523880"/>
          <a:ext cx="4572000" cy="34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23880"/>
                    <a:ext cx="45720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1905120"/>
            <a:ext cx="441972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Solver to identify the optimal allocation of floor space (tables vs. bar space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Optimal allocation of the 4k space i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2,400 Sq. Ft for bar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1,600 Sq. Ft. for tables (25 tables)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The optimal floor space mix provides a profit of $18,916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Summary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9" name="" descr="beer bottle art cl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84600" y="0"/>
            <a:ext cx="45579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Beer is goo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Q&amp;A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107" name="" descr="beer bottle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33360"/>
            <a:ext cx="3881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59:31Z</dcterms:created>
  <dc:creator>Trial User</dc:creator>
  <dc:description/>
  <dc:language>en-US</dc:language>
  <cp:lastModifiedBy>Christopher R Como</cp:lastModifiedBy>
  <dcterms:modified xsi:type="dcterms:W3CDTF">2004-11-29T15:06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5698184</vt:r8>
  </property>
  <property fmtid="{D5CDD505-2E9C-101B-9397-08002B2CF9AE}" pid="3" name="_AuthorEmail">
    <vt:lpwstr>christopher.como@stern.nyu.edu</vt:lpwstr>
  </property>
  <property fmtid="{D5CDD505-2E9C-101B-9397-08002B2CF9AE}" pid="4" name="_AuthorEmailDisplayName">
    <vt:lpwstr>Christopher R Como</vt:lpwstr>
  </property>
  <property fmtid="{D5CDD505-2E9C-101B-9397-08002B2CF9AE}" pid="5" name="_EmailSubject">
    <vt:lpwstr>Group 3 Submission</vt:lpwstr>
  </property>
</Properties>
</file>