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4.jpeg" ContentType="image/jpeg"/>
  <Override PartName="/ppt/media/image18.png" ContentType="image/png"/>
  <Override PartName="/ppt/media/image20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B47CE-1A5E-47DF-97CE-56E13ADA23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8E361-08F1-4F5C-904B-3FEBD0699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BD639-1ECD-483C-BBBE-012239770C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BFE67-F716-459D-8172-C7C5840290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2A3E-CD0A-4497-A868-D8983833A1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E509A-12AB-4822-99B7-07DB2F5DED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53B46-A4B6-4EF1-94C3-A09482181E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CDE90-933E-4DE8-B01A-6C60F0712F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-360"/>
            <a:ext cx="8077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C5453-8E73-4035-8A5E-887799CC59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B652F-9514-412D-BEF5-C1C5218D0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972B7-E20D-4576-BD44-2C156B658A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C546F-2245-4113-89B1-6088238E3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05720" y="62481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C4FC2-6F6D-4EBC-8E9B-18A47A3DE20A}" type="slidenum">
              <a:rPr b="0" lang="en-US" sz="1400" spc="-1" strike="noStrike">
                <a:solidFill>
                  <a:srgbClr val="3333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" name=""/>
          <p:cNvGraphicFramePr/>
          <p:nvPr/>
        </p:nvGraphicFramePr>
        <p:xfrm>
          <a:off x="0" y="0"/>
          <a:ext cx="1101600" cy="114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11016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image" Target="../media/image15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5.wmf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image" Target="../media/image11.jpeg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12.jpe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nagerial Problem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Recommendation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ormulation and Data Analysi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olution Methodology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iscussion / Conclusion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 include the budget constraints and proper player restrictions constraints were placed on the mode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ximize V(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1-5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) subject to: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batters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≤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S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t-1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batter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where t = season for 2005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pitchers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≤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Symbol"/>
                <a:ea typeface="Symbol"/>
              </a:rPr>
              <a:t>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S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t-1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pitcher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where t = season for 2005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1-5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= Free Agent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= 2B; 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= SS; 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= C; P4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= SP; 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5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= SP;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6-14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Kevin Millar, Bill Mueller, Manny Ramirez, Johnny Damon, Trot Nixon, David Ortiz, Curt Schilling, Bronson Arroyo, Tim Wakefield (respectively)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(Free Agents)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= V(Free Agents)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t-1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t Bats(Free Agents)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≥ At Bats (Leader Board)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Innings Pitched (Free Agents) ≥ Innings Pitched (Starting Pitchers)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t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free agent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=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S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t-1</a:t>
            </a:r>
            <a:r>
              <a:rPr b="0" lang="en-US" sz="1600" spc="-1" strike="noStrike" baseline="30000">
                <a:solidFill>
                  <a:srgbClr val="333399"/>
                </a:solidFill>
                <a:latin typeface="Arial"/>
              </a:rPr>
              <a:t>free agent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≠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≠ 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3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≠ 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4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Arial"/>
              </a:rPr>
              <a:t>≠ 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  <a:ea typeface="Arial"/>
              </a:rPr>
              <a:t>5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lver shot of constrai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rcRect l="27679" t="30649" r="27679" b="37097"/>
          <a:stretch/>
        </p:blipFill>
        <p:spPr>
          <a:xfrm>
            <a:off x="1676520" y="2529000"/>
            <a:ext cx="586728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del demonstration of constraint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0" t="13540" r="8594" b="12502"/>
          <a:stretch/>
        </p:blipFill>
        <p:spPr>
          <a:xfrm>
            <a:off x="228600" y="1219320"/>
            <a:ext cx="8534520" cy="51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 maximize the chance of winning the world series, the Red Sox should choose their team wisely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4515" r="0" b="8062"/>
          <a:stretch/>
        </p:blipFill>
        <p:spPr>
          <a:xfrm>
            <a:off x="304920" y="1523880"/>
            <a:ext cx="8534160" cy="3657600"/>
          </a:xfrm>
          <a:prstGeom prst="rect">
            <a:avLst/>
          </a:prstGeom>
          <a:ln w="0">
            <a:noFill/>
          </a:ln>
        </p:spPr>
      </p:pic>
      <p:pic>
        <p:nvPicPr>
          <p:cNvPr id="107" name="ph_124523" descr=""/>
          <p:cNvPicPr/>
          <p:nvPr/>
        </p:nvPicPr>
        <p:blipFill>
          <a:blip r:embed="rId2"/>
          <a:stretch/>
        </p:blipFill>
        <p:spPr>
          <a:xfrm>
            <a:off x="900000" y="5486400"/>
            <a:ext cx="409680" cy="609480"/>
          </a:xfrm>
          <a:prstGeom prst="rect">
            <a:avLst/>
          </a:prstGeom>
          <a:ln w="0">
            <a:noFill/>
          </a:ln>
        </p:spPr>
      </p:pic>
      <p:pic>
        <p:nvPicPr>
          <p:cNvPr id="108" name="ph_111851" descr=""/>
          <p:cNvPicPr/>
          <p:nvPr/>
        </p:nvPicPr>
        <p:blipFill>
          <a:blip r:embed="rId3"/>
          <a:stretch/>
        </p:blipFill>
        <p:spPr>
          <a:xfrm>
            <a:off x="2612880" y="5486400"/>
            <a:ext cx="398520" cy="609480"/>
          </a:xfrm>
          <a:prstGeom prst="rect">
            <a:avLst/>
          </a:prstGeom>
          <a:ln w="0">
            <a:noFill/>
          </a:ln>
        </p:spPr>
      </p:pic>
      <p:pic>
        <p:nvPicPr>
          <p:cNvPr id="109" name="ph_123660" descr=""/>
          <p:cNvPicPr/>
          <p:nvPr/>
        </p:nvPicPr>
        <p:blipFill>
          <a:blip r:embed="rId4"/>
          <a:stretch/>
        </p:blipFill>
        <p:spPr>
          <a:xfrm>
            <a:off x="4376880" y="5486400"/>
            <a:ext cx="406080" cy="609480"/>
          </a:xfrm>
          <a:prstGeom prst="rect">
            <a:avLst/>
          </a:prstGeom>
          <a:ln w="0">
            <a:noFill/>
          </a:ln>
        </p:spPr>
      </p:pic>
      <p:pic>
        <p:nvPicPr>
          <p:cNvPr id="110" name="ph_124605" descr=""/>
          <p:cNvPicPr/>
          <p:nvPr/>
        </p:nvPicPr>
        <p:blipFill>
          <a:blip r:embed="rId5"/>
          <a:stretch/>
        </p:blipFill>
        <p:spPr>
          <a:xfrm>
            <a:off x="6148440" y="5486400"/>
            <a:ext cx="409680" cy="609480"/>
          </a:xfrm>
          <a:prstGeom prst="rect">
            <a:avLst/>
          </a:prstGeom>
          <a:ln w="0">
            <a:noFill/>
          </a:ln>
        </p:spPr>
      </p:pic>
      <p:pic>
        <p:nvPicPr>
          <p:cNvPr id="111" name="ph_134321" descr=""/>
          <p:cNvPicPr/>
          <p:nvPr/>
        </p:nvPicPr>
        <p:blipFill>
          <a:blip r:embed="rId6"/>
          <a:stretch/>
        </p:blipFill>
        <p:spPr>
          <a:xfrm>
            <a:off x="7924680" y="5486400"/>
            <a:ext cx="411120" cy="6094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57200" y="6172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ony Wom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6172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Orlando Cab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114800" y="61722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ason Vari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6172200"/>
            <a:ext cx="83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Carl Pav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96080" y="617220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Jaret Wr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Question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???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Question and Answ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o should The Boston Red Sox put on their roster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4191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The Boston Red Sox have just won the World Series.  The General Manager, Theo Epstein, is heading down to Florida for the GM Meetings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cc0000"/>
                </a:solidFill>
                <a:latin typeface="Arial"/>
              </a:rPr>
              <a:t>As assistants to Epstein, we have been asked:</a:t>
            </a: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0000"/>
                </a:solidFill>
                <a:latin typeface="Arial"/>
              </a:rPr>
              <a:t>To make a recommendation on whether to re-sign the current team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333399"/>
                </a:solidFill>
                <a:latin typeface="Arial"/>
              </a:rPr>
              <a:t>or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cc0000"/>
                </a:solidFill>
                <a:latin typeface="Arial"/>
              </a:rPr>
              <a:t>Enter the free agent market and seek out new players to fill the roster in order to win another World Series next year.</a:t>
            </a: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45" name="im_playerchart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572000" cy="4724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800" y="-2714760"/>
            <a:ext cx="487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amon (C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800" y="-2226240"/>
            <a:ext cx="47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-1343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h_120903" descr=""/>
          <p:cNvPicPr/>
          <p:nvPr/>
        </p:nvPicPr>
        <p:blipFill>
          <a:blip r:embed="rId2"/>
          <a:stretch/>
        </p:blipFill>
        <p:spPr>
          <a:xfrm>
            <a:off x="5257800" y="2438280"/>
            <a:ext cx="469800" cy="704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55400" y="-714960"/>
            <a:ext cx="397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h_119811" descr=""/>
          <p:cNvPicPr/>
          <p:nvPr/>
        </p:nvPicPr>
        <p:blipFill>
          <a:blip r:embed="rId3"/>
          <a:stretch/>
        </p:blipFill>
        <p:spPr>
          <a:xfrm>
            <a:off x="7772400" y="2438280"/>
            <a:ext cx="45720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bd00028_" descr=""/>
          <p:cNvPicPr/>
          <p:nvPr/>
        </p:nvPicPr>
        <p:blipFill>
          <a:blip r:embed="rId4"/>
          <a:stretch/>
        </p:blipFill>
        <p:spPr>
          <a:xfrm>
            <a:off x="7086600" y="3733920"/>
            <a:ext cx="457200" cy="447480"/>
          </a:xfrm>
          <a:prstGeom prst="rect">
            <a:avLst/>
          </a:prstGeom>
          <a:ln w="0">
            <a:noFill/>
          </a:ln>
        </p:spPr>
      </p:pic>
      <p:pic>
        <p:nvPicPr>
          <p:cNvPr id="53" name="bd00028_" descr=""/>
          <p:cNvPicPr/>
          <p:nvPr/>
        </p:nvPicPr>
        <p:blipFill>
          <a:blip r:embed="rId5"/>
          <a:stretch/>
        </p:blipFill>
        <p:spPr>
          <a:xfrm>
            <a:off x="6019920" y="5724360"/>
            <a:ext cx="380880" cy="447840"/>
          </a:xfrm>
          <a:prstGeom prst="rect">
            <a:avLst/>
          </a:prstGeom>
          <a:ln w="0">
            <a:noFill/>
          </a:ln>
        </p:spPr>
      </p:pic>
      <p:pic>
        <p:nvPicPr>
          <p:cNvPr id="54" name="ph_119482" descr=""/>
          <p:cNvPicPr/>
          <p:nvPr/>
        </p:nvPicPr>
        <p:blipFill>
          <a:blip r:embed="rId6"/>
          <a:stretch/>
        </p:blipFill>
        <p:spPr>
          <a:xfrm>
            <a:off x="5562720" y="4267080"/>
            <a:ext cx="457200" cy="685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40" y="2799360"/>
            <a:ext cx="298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h_132788" descr=""/>
          <p:cNvPicPr/>
          <p:nvPr/>
        </p:nvPicPr>
        <p:blipFill>
          <a:blip r:embed="rId7"/>
          <a:stretch/>
        </p:blipFill>
        <p:spPr>
          <a:xfrm>
            <a:off x="7539120" y="4267080"/>
            <a:ext cx="461880" cy="685800"/>
          </a:xfrm>
          <a:prstGeom prst="rect">
            <a:avLst/>
          </a:prstGeom>
          <a:ln w="0">
            <a:noFill/>
          </a:ln>
        </p:spPr>
      </p:pic>
      <p:pic>
        <p:nvPicPr>
          <p:cNvPr id="57" name="ph_120074" descr=""/>
          <p:cNvPicPr/>
          <p:nvPr/>
        </p:nvPicPr>
        <p:blipFill>
          <a:blip r:embed="rId8"/>
          <a:stretch/>
        </p:blipFill>
        <p:spPr>
          <a:xfrm>
            <a:off x="8458200" y="5334120"/>
            <a:ext cx="457200" cy="6858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40" y="4599360"/>
            <a:ext cx="390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bd00028_" descr=""/>
          <p:cNvPicPr/>
          <p:nvPr/>
        </p:nvPicPr>
        <p:blipFill>
          <a:blip r:embed="rId9"/>
          <a:stretch/>
        </p:blipFill>
        <p:spPr>
          <a:xfrm>
            <a:off x="6477120" y="5419800"/>
            <a:ext cx="457200" cy="447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80" y="5276160"/>
            <a:ext cx="134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h_276520" descr=""/>
          <p:cNvPicPr/>
          <p:nvPr/>
        </p:nvPicPr>
        <p:blipFill>
          <a:blip r:embed="rId10"/>
          <a:stretch/>
        </p:blipFill>
        <p:spPr>
          <a:xfrm>
            <a:off x="4495680" y="5486400"/>
            <a:ext cx="457200" cy="6858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0" y="600588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h_121811" descr=""/>
          <p:cNvPicPr/>
          <p:nvPr/>
        </p:nvPicPr>
        <p:blipFill>
          <a:blip r:embed="rId11"/>
          <a:stretch/>
        </p:blipFill>
        <p:spPr>
          <a:xfrm>
            <a:off x="6553080" y="4267080"/>
            <a:ext cx="457200" cy="6858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0" y="6720480"/>
            <a:ext cx="46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h_123801" descr=""/>
          <p:cNvPicPr/>
          <p:nvPr/>
        </p:nvPicPr>
        <p:blipFill>
          <a:blip r:embed="rId12"/>
          <a:stretch/>
        </p:blipFill>
        <p:spPr>
          <a:xfrm>
            <a:off x="5029200" y="5486400"/>
            <a:ext cx="452520" cy="685800"/>
          </a:xfrm>
          <a:prstGeom prst="rect">
            <a:avLst/>
          </a:prstGeom>
          <a:ln w="0">
            <a:noFill/>
          </a:ln>
        </p:spPr>
      </p:pic>
      <p:pic>
        <p:nvPicPr>
          <p:cNvPr id="66" name="bd00028_" descr=""/>
          <p:cNvPicPr/>
          <p:nvPr/>
        </p:nvPicPr>
        <p:blipFill>
          <a:blip r:embed="rId13"/>
          <a:stretch/>
        </p:blipFill>
        <p:spPr>
          <a:xfrm>
            <a:off x="6095880" y="3743280"/>
            <a:ext cx="390600" cy="447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80" y="84225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bd00028_" descr=""/>
          <p:cNvPicPr/>
          <p:nvPr/>
        </p:nvPicPr>
        <p:blipFill>
          <a:blip r:embed="rId14"/>
          <a:stretch/>
        </p:blipFill>
        <p:spPr>
          <a:xfrm>
            <a:off x="5553000" y="5724360"/>
            <a:ext cx="390600" cy="447840"/>
          </a:xfrm>
          <a:prstGeom prst="rect">
            <a:avLst/>
          </a:prstGeom>
          <a:ln w="0">
            <a:noFill/>
          </a:ln>
        </p:spPr>
      </p:pic>
      <p:pic>
        <p:nvPicPr>
          <p:cNvPr id="69" name="ph_113028" descr=""/>
          <p:cNvPicPr/>
          <p:nvPr/>
        </p:nvPicPr>
        <p:blipFill>
          <a:blip r:embed="rId15"/>
          <a:stretch/>
        </p:blipFill>
        <p:spPr>
          <a:xfrm>
            <a:off x="6553080" y="2057400"/>
            <a:ext cx="4604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 re-sign or not to re-sign…. that is the question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fter much consideration and analysis, we recommend that Theo Epstein enter the free agent pool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With openings at second base (2B), short stop (SS), catcher (C), and two starting pitchers (SP), the best available free agents for the Boston Red Sox are: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480" y="2819520"/>
          <a:ext cx="7620120" cy="3886200"/>
        </p:xfrm>
        <a:graphic>
          <a:graphicData uri="http://schemas.openxmlformats.org/drawingml/2006/table">
            <a:tbl>
              <a:tblPr/>
              <a:tblGrid>
                <a:gridCol w="5089680"/>
                <a:gridCol w="253044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lay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      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vg.     HR.     RBI.     ERA.     Win-Lo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osi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0e0e0"/>
                    </a:solidFill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0" y="432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h_124605" descr=""/>
          <p:cNvPicPr/>
          <p:nvPr/>
        </p:nvPicPr>
        <p:blipFill>
          <a:blip r:embed="rId1"/>
          <a:stretch/>
        </p:blipFill>
        <p:spPr>
          <a:xfrm>
            <a:off x="647640" y="5410080"/>
            <a:ext cx="409680" cy="609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43000" y="6369840"/>
            <a:ext cx="4419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l Pavano              NA        NA      NA       3.00       18-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h_134321" descr=""/>
          <p:cNvPicPr/>
          <p:nvPr/>
        </p:nvPicPr>
        <p:blipFill>
          <a:blip r:embed="rId2"/>
          <a:stretch/>
        </p:blipFill>
        <p:spPr>
          <a:xfrm>
            <a:off x="647640" y="6095880"/>
            <a:ext cx="411120" cy="609840"/>
          </a:xfrm>
          <a:prstGeom prst="rect">
            <a:avLst/>
          </a:prstGeom>
          <a:ln w="0">
            <a:noFill/>
          </a:ln>
        </p:spPr>
      </p:pic>
      <p:pic>
        <p:nvPicPr>
          <p:cNvPr id="78" name="ph_123660" descr=""/>
          <p:cNvPicPr/>
          <p:nvPr/>
        </p:nvPicPr>
        <p:blipFill>
          <a:blip r:embed="rId3"/>
          <a:stretch/>
        </p:blipFill>
        <p:spPr>
          <a:xfrm>
            <a:off x="649440" y="4724280"/>
            <a:ext cx="406080" cy="609840"/>
          </a:xfrm>
          <a:prstGeom prst="rect">
            <a:avLst/>
          </a:prstGeom>
          <a:ln w="0">
            <a:noFill/>
          </a:ln>
        </p:spPr>
      </p:pic>
      <p:pic>
        <p:nvPicPr>
          <p:cNvPr id="79" name="ph_111851" descr=""/>
          <p:cNvPicPr/>
          <p:nvPr/>
        </p:nvPicPr>
        <p:blipFill>
          <a:blip r:embed="rId4"/>
          <a:stretch/>
        </p:blipFill>
        <p:spPr>
          <a:xfrm>
            <a:off x="654120" y="4114800"/>
            <a:ext cx="398520" cy="609480"/>
          </a:xfrm>
          <a:prstGeom prst="rect">
            <a:avLst/>
          </a:prstGeom>
          <a:ln w="0">
            <a:noFill/>
          </a:ln>
        </p:spPr>
      </p:pic>
      <p:pic>
        <p:nvPicPr>
          <p:cNvPr id="80" name="ph_124523" descr=""/>
          <p:cNvPicPr/>
          <p:nvPr/>
        </p:nvPicPr>
        <p:blipFill>
          <a:blip r:embed="rId5"/>
          <a:stretch/>
        </p:blipFill>
        <p:spPr>
          <a:xfrm>
            <a:off x="647640" y="3429000"/>
            <a:ext cx="409680" cy="6094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136520" y="5744160"/>
            <a:ext cx="4502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Jaret Wright              NA        NA      NA       3.28       15-8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112760" y="5074200"/>
            <a:ext cx="452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Jason Varitek            .296       18       73         NA         NA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28600" y="4281480"/>
            <a:ext cx="4510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Orlando Cabrera       .264       10       62         NA         NA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3672360"/>
            <a:ext cx="4495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ony Womack           .307        5        38         NA         NA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What went into our decision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ur goal is to get the best players available to fill the starting lineup, while staying within budgetary constraints.  We want to repeat as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WORLD CHAMPION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next year.  We will leave the “building for the future” for the Stankees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ecision Variables: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o determine which player affords the maximum value for each position that the team is looking to fill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Objectives: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ximize player value at each “open” position.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 why not pick up Barry Bonds, Randy Johnson, and Albert Pujols?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ssumptions and Constraints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otal money spent on starting batters for this coming season must be less than or equal to the money spent on starting batters last yea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otal money spent on starting pitchers for this coming season must be less than or equal to the money spent on starting pitchers last yea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ach open position must be filled by a free agent playe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Each position must be filled by a player that plays that particular position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ll existing contracts must be upheld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ree agents’ statistics based only on last year’s statistics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ly those free agents who qualified for the leader board were considered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he anticipated pay of each free agent is based on his pay during previous year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he positions that are to be filled are 2B, SS, C, and 2 x SP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Once a free agent has been chosen, he cannot be chosen again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omar Garciaparra and Roger Clemens were excluded because of prior affiliation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layer statistic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Key players statistics were gathered together in the following categories for both batters and pitchers: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057400" y="1981080"/>
          <a:ext cx="4191120" cy="4676760"/>
        </p:xfrm>
        <a:graphic>
          <a:graphicData uri="http://schemas.openxmlformats.org/drawingml/2006/table">
            <a:tbl>
              <a:tblPr/>
              <a:tblGrid>
                <a:gridCol w="2765520"/>
                <a:gridCol w="142560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Batting Statis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Pitching statisti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Ga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Ga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t B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Games Start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R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Wi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H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o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Dou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a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Trip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omplete Gam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HR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hutou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RBI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Innings Pitch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Wal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H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trike Ou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R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tolen B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arned R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Caught Steal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Home Ru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Batting Average = Hits/At Ba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Walk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On Base Percentage = Hits + Walks/At Ba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trikeou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9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Slugging Percentage = bases over at bats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arned Run Avera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On Base Percentage + Slugging Percentage = How productive player 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Walks plus hits per inning pitch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Batting Average Again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o maximize value, measure each player’s contribution to winning the world seri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Maximize V(P</a:t>
            </a:r>
            <a:r>
              <a:rPr b="0" lang="en-US" sz="1600" spc="-1" strike="noStrike" baseline="-25000">
                <a:solidFill>
                  <a:srgbClr val="333399"/>
                </a:solidFill>
                <a:latin typeface="Arial"/>
              </a:rPr>
              <a:t>1-5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) =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or batters: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= 20% * (Games played) + 10% * (Stolen bases) + 20% * (Strikeouts) + 50% * (On-base plus slugging) 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= .2(G) + .1(SB) + .20(K) +.5(OPS) 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For pitchers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= 10% * (Games started) + 10% * (Complete games) + 30% * (Innings pitched) + 20% * (Strikeouts) 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+ 30% * (Walks plus hits divided by innings pitched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= .1(GS) + .1(CG) + .3(IP) + .2(K) + .3(WHIP)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These categories were indexed based on the player’s standard deviation from the mean.  The player’s value was then summed to determine his overall value. </a:t>
            </a: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Z-score conver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0769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99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The mean and standard deviation of these statistics was then found, and converted to a z-score to make the statistics comparable using the following formula:</a:t>
            </a:r>
            <a:endParaRPr b="0" lang="en-US" sz="1400" spc="-1" strike="noStrike">
              <a:solidFill>
                <a:srgbClr val="3333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2895480" y="2878200"/>
                <a:ext cx="2438640" cy="12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σ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8077320" cy="1143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Model demonstration of player valu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12500" t="29168" r="3127" b="17709"/>
          <a:stretch/>
        </p:blipFill>
        <p:spPr>
          <a:xfrm>
            <a:off x="380880" y="1600200"/>
            <a:ext cx="82296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7T22:50:30Z</dcterms:created>
  <dc:creator>Administrator</dc:creator>
  <dc:description/>
  <dc:language>en-US</dc:language>
  <cp:lastModifiedBy>Spiro J Skouras</cp:lastModifiedBy>
  <dcterms:modified xsi:type="dcterms:W3CDTF">2004-11-29T01:32:31Z</dcterms:modified>
  <cp:revision>23</cp:revision>
  <dc:subject/>
  <dc:title>Slide 1</dc:title>
</cp:coreProperties>
</file>