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F6A73-2E7E-4E52-B981-6EF5781E53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3555000"/>
            <a:ext cx="8839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E0A5-A50E-4AA0-BDFA-74AACD8F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880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CD30-D1EE-4CEB-8341-00657393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8000" y="60948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6720" y="60948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355500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8000" y="355500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6720" y="355500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5D6B-DC59-4B8E-AA13-29A6F00AD8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BC3A6-BB2F-4A32-915D-1D31D57278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BE945-546E-41BD-BB77-6B2549A1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96D0C-37C8-4B17-951F-8227AA32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4F7FF-D415-4364-8911-61C9FFE8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116C4-15DE-4562-8DDF-792F7485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3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91E84-EA9F-4781-9B36-9156F865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-36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D7898-F781-4DFE-AA6D-A301A462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16C5-CC8E-403E-A48F-9D109EE7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2880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1F984-F8CB-4162-B92A-AA88B270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-360" y="3555000"/>
            <a:ext cx="8839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F8201-DCA3-402B-A2F3-4BC8A656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-360" y="3555000"/>
            <a:ext cx="8839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0E4B1-7688-4706-883C-D0601661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-36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2880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FF507-D827-40F1-ACE5-FC7B8530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88000" y="60948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6720" y="60948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-360" y="355500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88000" y="355500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6720" y="3555000"/>
            <a:ext cx="284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946F5-0224-4151-8B21-D337C9844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2CEC-6350-4507-B1CF-CC10D741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4BC4-7B5A-45A2-BD36-B3F9215D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A55C-D520-4AF9-AC57-76118717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3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34C6-F223-4941-8526-17DBA334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1991-CDB9-4245-A7FE-4D63D82E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8800" y="355500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DBE0-6137-4A1E-8250-138A6B67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8800" y="609480"/>
            <a:ext cx="4313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3555000"/>
            <a:ext cx="8839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BB92-1671-4135-BE75-8F9B41A4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14185" b="675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  <a:ea typeface="바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  <a:ea typeface="바탕"/>
              </a:rPr>
              <a:t>Team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  <a:ea typeface="바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  <a:ea typeface="바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549B-E414-46FE-AB96-A00EDBE02019}" type="slidenum">
              <a:rPr b="0" lang="en-US" sz="800" spc="-1" strike="noStrike">
                <a:solidFill>
                  <a:srgbClr val="ffffff"/>
                </a:solidFill>
                <a:latin typeface="Century Gothic"/>
                <a:ea typeface="바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09480"/>
            <a:ext cx="887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4185" b="675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  <a:ea typeface="바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  <a:ea typeface="바탕"/>
              </a:rPr>
              <a:t>Team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  <a:ea typeface="바탕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Century Gothic"/>
                <a:ea typeface="바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C40B-E6C5-4333-8EDD-FCE4BA90C27B}" type="slidenum">
              <a:rPr b="0" lang="en-US" sz="800" spc="-1" strike="noStrike">
                <a:solidFill>
                  <a:srgbClr val="ffffff"/>
                </a:solidFill>
                <a:latin typeface="Century Gothic"/>
                <a:ea typeface="바탕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09480"/>
            <a:ext cx="887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unky Bunch Airline Consultin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Presents an Inventory Management Tool for Hub &amp; Spoke Airline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November 29, 2004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Decision Models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Professor Juran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Team 5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ricktickler D. Money 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Ghetto Fabulous L. Sweetness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D. Magical Sakagawa Silk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he Deacon Dr. Treinen Smooth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Route Network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From its Des Moines hub, Soul Plane serves 5 major cities across the “Soul-belt”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n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mah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arg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inneapol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icag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614680" y="1766880"/>
            <a:ext cx="6224400" cy="4260960"/>
            <a:chOff x="2614680" y="1766880"/>
            <a:chExt cx="6224400" cy="426096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2614680" y="1766880"/>
              <a:ext cx="622440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530520" y="2243160"/>
              <a:ext cx="3173400" cy="1954080"/>
            </a:xfrm>
            <a:custGeom>
              <a:avLst/>
              <a:gdLst/>
              <a:ahLst/>
              <a:rect l="l" t="t" r="r" b="b"/>
              <a:pathLst>
                <a:path w="2496" h="1536">
                  <a:moveTo>
                    <a:pt x="0" y="1152"/>
                  </a:moveTo>
                  <a:lnTo>
                    <a:pt x="528" y="96"/>
                  </a:lnTo>
                  <a:lnTo>
                    <a:pt x="1200" y="0"/>
                  </a:lnTo>
                  <a:lnTo>
                    <a:pt x="1920" y="288"/>
                  </a:lnTo>
                  <a:lnTo>
                    <a:pt x="2496" y="720"/>
                  </a:lnTo>
                  <a:lnTo>
                    <a:pt x="2400" y="1152"/>
                  </a:lnTo>
                  <a:lnTo>
                    <a:pt x="1920" y="1200"/>
                  </a:lnTo>
                  <a:lnTo>
                    <a:pt x="1536" y="1248"/>
                  </a:lnTo>
                  <a:lnTo>
                    <a:pt x="1152" y="1248"/>
                  </a:lnTo>
                  <a:lnTo>
                    <a:pt x="960" y="1200"/>
                  </a:lnTo>
                  <a:lnTo>
                    <a:pt x="576" y="1392"/>
                  </a:lnTo>
                  <a:lnTo>
                    <a:pt x="384" y="1536"/>
                  </a:lnTo>
                  <a:lnTo>
                    <a:pt x="192" y="1488"/>
                  </a:lnTo>
                  <a:lnTo>
                    <a:pt x="0" y="139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aeb4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775320" y="3281400"/>
              <a:ext cx="1707480" cy="684720"/>
              <a:chOff x="3775320" y="3281400"/>
              <a:chExt cx="1707480" cy="684720"/>
            </a:xfrm>
          </p:grpSpPr>
          <p:sp>
            <p:nvSpPr>
              <p:cNvPr id="144" name=""/>
              <p:cNvSpPr/>
              <p:nvPr/>
            </p:nvSpPr>
            <p:spPr>
              <a:xfrm>
                <a:off x="3775320" y="3597840"/>
                <a:ext cx="66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261680" y="3281400"/>
                <a:ext cx="1221120" cy="42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176720" y="2365200"/>
              <a:ext cx="2484720" cy="1234080"/>
              <a:chOff x="4176720" y="2365200"/>
              <a:chExt cx="2484720" cy="1234080"/>
            </a:xfrm>
          </p:grpSpPr>
          <p:sp>
            <p:nvSpPr>
              <p:cNvPr id="147" name=""/>
              <p:cNvSpPr/>
              <p:nvPr/>
            </p:nvSpPr>
            <p:spPr>
              <a:xfrm>
                <a:off x="4176720" y="3231000"/>
                <a:ext cx="71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59600" y="23652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S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22680" y="267012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73120" y="309744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4566600" y="2609280"/>
                <a:ext cx="1465200" cy="671040"/>
                <a:chOff x="4566600" y="2609280"/>
                <a:chExt cx="1465200" cy="671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482440" y="3280320"/>
                  <a:ext cx="549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4566600" y="2609280"/>
                  <a:ext cx="1098360" cy="671040"/>
                  <a:chOff x="4566600" y="2609280"/>
                  <a:chExt cx="1098360" cy="67104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H="1">
                    <a:off x="4566600" y="3280320"/>
                    <a:ext cx="915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4627440" y="2609280"/>
                    <a:ext cx="1037520" cy="671040"/>
                    <a:chOff x="4627440" y="2609280"/>
                    <a:chExt cx="1037520" cy="67104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 flipV="1">
                      <a:off x="5482080" y="2914200"/>
                      <a:ext cx="182880" cy="365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flipH="1" flipV="1">
                      <a:off x="4627440" y="2609280"/>
                      <a:ext cx="854280" cy="67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58" name=""/>
            <p:cNvSpPr/>
            <p:nvPr/>
          </p:nvSpPr>
          <p:spPr>
            <a:xfrm>
              <a:off x="5056200" y="2976480"/>
              <a:ext cx="770040" cy="731880"/>
            </a:xfrm>
            <a:prstGeom prst="star5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10120" y="3586320"/>
              <a:ext cx="42732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48520" y="403848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oul-be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arket Research: Demand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Each market has a different level of demand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84080" y="1981080"/>
            <a:ext cx="75866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arket Research: Supply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he Soul Belt market is a highly competitive one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9476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arket Research: Price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Prices are different in each market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49240" y="2004840"/>
            <a:ext cx="74566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oul Plane is a Price Taker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However, their experience reflects their ability to capture yield relative to the industry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76400" y="1447920"/>
            <a:ext cx="69152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Optimized Inventory Allocation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he optimal inventory allocation proves the “double-dip” hypothesis 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73280" y="1981080"/>
            <a:ext cx="7565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trategic Concern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o establish itself as the premier airline among pimps and hos, Soul Plane must sell seats in each of the soul-belt markets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 can introduce a constrai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vised “optimal” inventory allocatio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03440" y="2665440"/>
            <a:ext cx="76276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Yo, who’s got questions?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2280" y="1201680"/>
            <a:ext cx="883944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ub and Spoke?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A “hub and spoke” airline operates waves of flights into and out of a central hub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pposite of a point-to-point carri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90720" y="2590920"/>
            <a:ext cx="6933600" cy="3124800"/>
            <a:chOff x="990720" y="2590920"/>
            <a:chExt cx="6933600" cy="3124800"/>
          </a:xfrm>
        </p:grpSpPr>
        <p:grpSp>
          <p:nvGrpSpPr>
            <p:cNvPr id="89" name=""/>
            <p:cNvGrpSpPr/>
            <p:nvPr/>
          </p:nvGrpSpPr>
          <p:grpSpPr>
            <a:xfrm>
              <a:off x="990720" y="2590920"/>
              <a:ext cx="3047760" cy="3124800"/>
              <a:chOff x="990720" y="2590920"/>
              <a:chExt cx="3047760" cy="31248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1028880" y="3016080"/>
                <a:ext cx="2971800" cy="2699640"/>
                <a:chOff x="1028880" y="3016080"/>
                <a:chExt cx="2971800" cy="26996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171880" y="3870000"/>
                  <a:ext cx="762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Hu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C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057760" y="5073120"/>
                  <a:ext cx="990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Spok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C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028880" y="3016080"/>
                  <a:ext cx="990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Spok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C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010320" y="3016080"/>
                  <a:ext cx="990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Spok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entury Gothic"/>
                    </a:rPr>
                    <a:t>C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1843560" y="3501360"/>
                  <a:ext cx="404640" cy="428040"/>
                  <a:chOff x="1843560" y="3501360"/>
                  <a:chExt cx="404640" cy="4280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1843560" y="3577680"/>
                    <a:ext cx="404640" cy="351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flipV="1">
                    <a:off x="1843560" y="3501360"/>
                    <a:ext cx="404640" cy="351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2505960" y="4524840"/>
                  <a:ext cx="65160" cy="587160"/>
                  <a:chOff x="2505960" y="4524840"/>
                  <a:chExt cx="65160" cy="587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flipV="1">
                    <a:off x="2562480" y="4524840"/>
                    <a:ext cx="8640" cy="536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505960" y="4575600"/>
                    <a:ext cx="8640" cy="5364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2781720" y="3548880"/>
                  <a:ext cx="428040" cy="404640"/>
                  <a:chOff x="2781720" y="3548880"/>
                  <a:chExt cx="428040" cy="4046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V="1">
                    <a:off x="2857680" y="3548880"/>
                    <a:ext cx="352080" cy="404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2781720" y="3549240"/>
                    <a:ext cx="352080" cy="404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4" name=""/>
              <p:cNvSpPr/>
              <p:nvPr/>
            </p:nvSpPr>
            <p:spPr>
              <a:xfrm>
                <a:off x="990720" y="2590920"/>
                <a:ext cx="304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Hub and Spoke Syste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876560" y="2590920"/>
              <a:ext cx="3047760" cy="1816200"/>
              <a:chOff x="4876560" y="2590920"/>
              <a:chExt cx="3047760" cy="1816200"/>
            </a:xfrm>
          </p:grpSpPr>
          <p:sp>
            <p:nvSpPr>
              <p:cNvPr id="106" name=""/>
              <p:cNvSpPr/>
              <p:nvPr/>
            </p:nvSpPr>
            <p:spPr>
              <a:xfrm>
                <a:off x="4914360" y="301644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C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5637960" y="3276360"/>
                <a:ext cx="404640" cy="429120"/>
                <a:chOff x="5637960" y="3276360"/>
                <a:chExt cx="404640" cy="429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638320" y="3353040"/>
                  <a:ext cx="404280" cy="35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flipV="1">
                  <a:off x="5637960" y="3276360"/>
                  <a:ext cx="404280" cy="35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7190640" y="3414240"/>
                <a:ext cx="65880" cy="587160"/>
                <a:chOff x="7190640" y="3414240"/>
                <a:chExt cx="65880" cy="587160"/>
              </a:xfrm>
            </p:grpSpPr>
            <p:sp>
              <p:nvSpPr>
                <p:cNvPr id="111" name=""/>
                <p:cNvSpPr/>
                <p:nvPr/>
              </p:nvSpPr>
              <p:spPr>
                <a:xfrm flipH="1" flipV="1">
                  <a:off x="7247520" y="3414240"/>
                  <a:ext cx="9000" cy="536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190640" y="3465360"/>
                  <a:ext cx="9000" cy="536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552360" y="3276720"/>
                <a:ext cx="428040" cy="404640"/>
                <a:chOff x="6552360" y="3276720"/>
                <a:chExt cx="428040" cy="404640"/>
              </a:xfrm>
            </p:grpSpPr>
            <p:sp>
              <p:nvSpPr>
                <p:cNvPr id="114" name=""/>
                <p:cNvSpPr/>
                <p:nvPr/>
              </p:nvSpPr>
              <p:spPr>
                <a:xfrm flipV="1">
                  <a:off x="6628680" y="3276720"/>
                  <a:ext cx="351720" cy="404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6552360" y="3276720"/>
                  <a:ext cx="351720" cy="404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4876560" y="2590920"/>
                <a:ext cx="304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Point-to-Point Syste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90600" y="359568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C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05000" y="304812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C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05000" y="403884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C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ub &amp; Spoke vs. Point-to-Poin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There are advantages and disadvantages to the Hub &amp; Spoke system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523880"/>
            <a:ext cx="4419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ore markets available for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ore full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onopoly power in hub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centrated Buying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ower c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1523880"/>
            <a:ext cx="4419720" cy="32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ir traffic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nderutilized labor an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onger routing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ess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ess Effic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roducing Inventory Managemen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Hub &amp; Spoke carriers face a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critical challenge</a:t>
            </a: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: inventory management 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sider a Hypothetical hub and spoke airline serving 100 ci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99 destinations available for sale from each origi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9,800 city pairs available for sa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ch with their ow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ma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uppl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ic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t is difficult for the airline to determine which city pairs to se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here and how do they spend their marketing dollars??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hat we propose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A decision model used to allocate inventory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bjective Function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ptimize profitabilit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cision Variables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umber of seats to allocate to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ch marke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straints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umber of seats into and out of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ch market cannot exceed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pac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Assumption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ustomer demand is fixed and const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 will acquire fair share of the market (Market share = capacity shar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connecting passenger costs an additional $5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ne type of aircraf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put Data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Reliable data can be found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orm 4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.S. Air Carriers are required to file Form 41 dat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ublished at summary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ata includ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umber of passengers carri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verage ticket pric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umber of flights operat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fficial Airline Guid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rriers participate voluntarily (most do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schedule for all airlin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irline reservation system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icket pric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ome visibility to inventory manageme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troducing Juran’s Soul Plane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Juran’s Soul Plane is fizzy of an airline, serving the soul capital of the world Des Moines, IA.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229600" cy="31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438280" y="4341960"/>
            <a:ext cx="43434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ituation Facing Juran’s Soul Plane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oul Plane has discovered a flourishing untapped marke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nagement has chosen a hub &amp; spoke syste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iven estimated demand, supply and price how should Soul Plane allocated inventory to maximize profits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5:05:25Z</dcterms:created>
  <dc:creator> </dc:creator>
  <dc:description/>
  <dc:language>en-US</dc:language>
  <cp:lastModifiedBy> </cp:lastModifiedBy>
  <dcterms:modified xsi:type="dcterms:W3CDTF">2004-11-29T13:14:51Z</dcterms:modified>
  <cp:revision>32</cp:revision>
  <dc:subject/>
  <dc:title>A viable concer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0975936</vt:r8>
  </property>
  <property fmtid="{D5CDD505-2E9C-101B-9397-08002B2CF9AE}" pid="3" name="_AuthorEmail">
    <vt:lpwstr>lori.kessler@stern.nyu.edu</vt:lpwstr>
  </property>
  <property fmtid="{D5CDD505-2E9C-101B-9397-08002B2CF9AE}" pid="4" name="_AuthorEmailDisplayName">
    <vt:lpwstr>Lori Kessler</vt:lpwstr>
  </property>
  <property fmtid="{D5CDD505-2E9C-101B-9397-08002B2CF9AE}" pid="5" name="_EmailSubject">
    <vt:lpwstr>Team 5 Final Project - #2</vt:lpwstr>
  </property>
  <property fmtid="{D5CDD505-2E9C-101B-9397-08002B2CF9AE}" pid="6" name="_PreviousAdHocReviewCycleID">
    <vt:r8>689498990</vt:r8>
  </property>
</Properties>
</file>