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96AA-18D4-43D4-A672-8AF167BBD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E3E5-319C-4E3E-B438-35720C691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838A-E15F-4D93-B154-43D743A66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992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980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992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980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D061-BADA-4EEE-ADA4-A9C46FB81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F075E-2444-4F7C-AFE0-37AF3965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56B47-F72A-4983-ABDF-F17B628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EFCE3-23CB-46FB-8803-833FD7E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E4814-806E-48E8-B289-B63E280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EEDF8-E5ED-4BB8-BE9B-BC8EB925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828BD-9B5C-4C63-A723-3CDCC46F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AAB8E-F675-479C-8D5B-EC69535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ACB2-03A7-48FB-ADC7-A717CDAB7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DBF6-4912-4BCE-AC9F-8445F17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A87A6-9B69-4F09-95D7-6086961D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CF601-45EE-4D28-B2FF-B5D47439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094FF-B896-454F-B719-528C9FDB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992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980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0968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992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980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BA114-F7AE-4557-9750-5E7F748C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E007-0CE3-4D9C-83FC-A61F76EF4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FE40-DEE1-4EAA-A638-FBF73BE0B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223E-374A-41CE-81FD-1FD1DAF81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82F7-15CB-44DE-B2D2-BEEEBE9EB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0CF1-7153-40A8-ABCB-946E4F252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1322-9109-4A4C-A4A5-E49CED4F6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8FC55-BCC8-4E42-9817-024E6ED2B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6000" y="624492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FD39-3101-42D9-9996-94F61D05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18590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859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C726-BBCC-4317-B029-A6D9FD2A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4510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1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876920" y="774720"/>
            <a:ext cx="4114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Super Subway Sol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34340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ision model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 Dobk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zabeth Rog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o Romero de D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415 stations and 25 lines, the solution space is very large.  To find 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mutation rate = 0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opulation size =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max solutions, sub-problems, time, very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 initial data using macros to help sol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these settings, good results tak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line calculation: 5000 sub-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ransfer calculation: 10000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transfers (2 transfers, or from one outer borough to another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0-50000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ata sheets for rush hour, night, late-night, and part-tim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wheelchair accessibility information to data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model with distance, time, train frequenc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better solver to speed up calculation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model allows a rider to find an efficient route between any two subway stations in New York City’s MTA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uses Evolutionary Solver to generate possible sol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12pm on a weekday and you wish to travel from one station on the MTA to another as quickly as possi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willing to give solver up to three minutes to produce an answer while you are getting ready to le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 (Step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variables: the stations and lines between the starting and ending s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minimize the number of transfers and the total number of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: 1 transfer = 3 s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 (Step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ion is serviced only by certain subw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only transfer between lines at a station serviced by bot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415 stations and 25 lines in the 12pm weekd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tart and stop at the requested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09320" y="1371240"/>
            <a:ext cx="6705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records the station name, number (1-415), borough, and position on all relevant lin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16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eet is th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ion we entered, and it’s th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 on the 1, the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 on the A, and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 on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7400" y="4324320"/>
            <a:ext cx="6934320" cy="238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an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6324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basic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 cells are station inputs (1-415) and line inputs (1-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 cell tracks the total penalty for each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809880"/>
            <a:ext cx="6553440" cy="268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advanced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599840"/>
            <a:ext cx="6705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has two major logical constraints, two statements to calculate transfers and stops, and one statement to force solver to preserve trip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8610480" cy="232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18:17Z</dcterms:created>
  <dc:creator>Jake</dc:creator>
  <dc:description/>
  <dc:language>en-US</dc:language>
  <cp:lastModifiedBy> </cp:lastModifiedBy>
  <dcterms:modified xsi:type="dcterms:W3CDTF">2004-11-29T13:01:0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0242747</vt:r8>
  </property>
  <property fmtid="{D5CDD505-2E9C-101B-9397-08002B2CF9AE}" pid="3" name="_AuthorEmail">
    <vt:lpwstr>elizabeth.rogus@stern.nyu.edu</vt:lpwstr>
  </property>
  <property fmtid="{D5CDD505-2E9C-101B-9397-08002B2CF9AE}" pid="4" name="_AuthorEmailDisplayName">
    <vt:lpwstr>Elizabeth Rogus</vt:lpwstr>
  </property>
  <property fmtid="{D5CDD505-2E9C-101B-9397-08002B2CF9AE}" pid="5" name="_EmailSubject">
    <vt:lpwstr>Team 6 Project </vt:lpwstr>
  </property>
</Properties>
</file>