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7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109-8635-4E88-A35E-141B5104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1BC-89D0-42F2-81A2-2208542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5D1-6813-4921-9097-1CF74734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ADD-5944-4B2E-A6E3-4D21A704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520-CFD3-49D5-8D65-9219CF24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058-D609-4299-8834-011DD58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1CB-4652-48F5-A457-6F8F229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9DC-CAD1-4C16-9DB9-C5B2CA9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1C6-D882-47F6-BEE8-366CB02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B9E-09BA-4F4F-8CFA-5AA9BCA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0BE-0463-4407-A127-C750151B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522-95F0-4E48-A7F9-93F7A56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397A-C0CE-4302-B667-96A15037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ff"/>
                </a:solidFill>
                <a:latin typeface="Franklin Gothic Medium Cond"/>
              </a:rPr>
              <a:t>NYC</a:t>
            </a:r>
            <a:r>
              <a:rPr b="0" lang="en-US" sz="8000" spc="-1" strike="noStrike">
                <a:solidFill>
                  <a:srgbClr val="ff0000"/>
                </a:solidFill>
                <a:latin typeface="Franklin Gothic Medium Cond"/>
              </a:rPr>
              <a:t>2</a:t>
            </a:r>
            <a:r>
              <a:rPr b="0" lang="en-US" sz="8000" spc="-1" strike="noStrike">
                <a:solidFill>
                  <a:srgbClr val="00ffff"/>
                </a:solidFill>
                <a:latin typeface="Franklin Gothic Medium Cond"/>
              </a:rPr>
              <a:t>0</a:t>
            </a:r>
            <a:r>
              <a:rPr b="0" lang="en-US" sz="8000" spc="-1" strike="noStrike">
                <a:solidFill>
                  <a:srgbClr val="ffcc00"/>
                </a:solidFill>
                <a:latin typeface="Franklin Gothic Medium Cond"/>
              </a:rPr>
              <a:t>1</a:t>
            </a:r>
            <a:r>
              <a:rPr b="0" lang="en-US" sz="8000" spc="-1" strike="noStrike">
                <a:solidFill>
                  <a:srgbClr val="00cc00"/>
                </a:solidFill>
                <a:latin typeface="Franklin Gothic Medium Cond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3623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438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l Estate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881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 Ganci     Rebecca Horan     Dana Meir     Edward Mielke     Lainie Spi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6420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601992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809880"/>
            <a:ext cx="838440" cy="762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809880"/>
            <a:ext cx="838440" cy="762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809880"/>
            <a:ext cx="83844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343400"/>
            <a:ext cx="838440" cy="76212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343400"/>
            <a:ext cx="838440" cy="762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ssumption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951200"/>
            <a:ext cx="7086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same sales price appreciation rates for eac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properties regardless of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4% increase in rent each year regardless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 (based on rent control allowable increase)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rices of apartments (purchase and rental)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current data for each 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38560" y="5022720"/>
            <a:ext cx="47480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1951200"/>
            <a:ext cx="70866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real estate prices in each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s, historical appreciation rates, pri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in rentals due to Olym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ROCESSING – 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trials using random variable to predic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rates in the next eights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cast of appreciation with and without Olymp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rystal Ball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981080"/>
            <a:ext cx="70866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257800" y="1981080"/>
            <a:ext cx="3886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343400"/>
            <a:ext cx="3886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4343400"/>
            <a:ext cx="4038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1981080"/>
            <a:ext cx="40384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rystal Ball Results,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– with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2041560"/>
            <a:ext cx="4038480" cy="206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4038840" cy="206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4379760"/>
            <a:ext cx="4038480" cy="206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181480" y="4411800"/>
            <a:ext cx="40388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Data Output – Forec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676520"/>
            <a:ext cx="73915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7315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1724040"/>
            <a:ext cx="77724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e is no clear winn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Olympic effect” on rentals is minimal and is dilut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 of the cash flows over the course of our invest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little difference in IRR for each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ardless of neighborhood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YC real estate appears to be a great investment regardless of 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ular event such as the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, construction in and around Olympic venues could impact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of real estate, but we have no reliable way of predicting th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ould ultimately base our purchase decision on the amou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ital we have available for this ven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332400">
            <a:off x="6765120" y="1233720"/>
            <a:ext cx="3112920" cy="339840"/>
          </a:xfrm>
          <a:custGeom>
            <a:avLst/>
            <a:gdLst>
              <a:gd name="textAreaLeft" fmla="*/ 0 w 3112920"/>
              <a:gd name="textAreaRight" fmla="*/ 3113280 w 3112920"/>
              <a:gd name="textAreaTop" fmla="*/ 43920 h 339840"/>
              <a:gd name="textAreaBottom" fmla="*/ 295920 h 339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093800">
            <a:off x="7118280" y="1269000"/>
            <a:ext cx="3124440" cy="315720"/>
          </a:xfrm>
          <a:custGeom>
            <a:avLst/>
            <a:gdLst>
              <a:gd name="textAreaLeft" fmla="*/ 0 w 3124440"/>
              <a:gd name="textAreaRight" fmla="*/ 3124800 w 3124440"/>
              <a:gd name="textAreaTop" fmla="*/ 40680 h 315720"/>
              <a:gd name="textAreaBottom" fmla="*/ 275040 h 315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410600">
            <a:off x="7315200" y="259092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ich is our Gold Medal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38920" y="1828800"/>
            <a:ext cx="2381400" cy="298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4505400"/>
            <a:ext cx="3619440" cy="2581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8288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895480" y="-228600"/>
            <a:ext cx="3619800" cy="256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209680" y="4419720"/>
            <a:ext cx="3619800" cy="32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24560" y="-76320"/>
            <a:ext cx="361944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-380880" y="4419720"/>
            <a:ext cx="3619440" cy="2676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-304920" y="2362320"/>
            <a:ext cx="3619800" cy="2066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-228600" y="0"/>
            <a:ext cx="3619440" cy="2371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200400" y="1981080"/>
            <a:ext cx="3619440" cy="2476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749736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1447920"/>
            <a:ext cx="8229600" cy="54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77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986120"/>
            <a:ext cx="6476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ackground:  NYC2012 Olympic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Mode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 Gold Medal 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577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2012 Olympics: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17720"/>
            <a:ext cx="70866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York City is one of 5 candidates (including Par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don, Moscow, and Madrid) to host the 2012 Sum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ym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ternational Olympic Committee will announce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oice in Ju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ew York City wins, the Olympic events will be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ong an X-shaped plan that runs through all 5 boroug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New Jer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ceremonies will be held July 27, 2012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ing Ceremonies will be August 12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304920"/>
            <a:ext cx="7467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The Scen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Our Real Estate Invest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812960"/>
            <a:ext cx="71629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ould like to purchase a 2-bedroom luxury New York City apartment in January 2005, rent it out before and during the NYC 2012 Olympics, and sell it in January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kind of effect would NYC Olympic Games have on rental and sale pri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“Olympic neighborhood” should we invest in to get the best return on our inves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8740" t="13761" r="35509" b="18494"/>
          <a:stretch/>
        </p:blipFill>
        <p:spPr>
          <a:xfrm>
            <a:off x="1065240" y="1293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66680" y="320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ghborhoods we are considering a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Olympic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50532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6685" t="0" r="82234" b="0"/>
          <a:stretch/>
        </p:blipFill>
        <p:spPr>
          <a:xfrm>
            <a:off x="0" y="33480"/>
            <a:ext cx="1143000" cy="1261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929628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83800">
            <a:off x="7619400" y="489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rest H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543440" y="4800240"/>
            <a:ext cx="10666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523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est Side,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1981080"/>
            <a:ext cx="114300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533000">
            <a:off x="6095520" y="548604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iam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4495680"/>
            <a:ext cx="129528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767200">
            <a:off x="5443560" y="2568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g Island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14680" y="3124080"/>
            <a:ext cx="11430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411480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276720"/>
            <a:ext cx="60948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114800"/>
            <a:ext cx="60984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917720"/>
            <a:ext cx="70866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best neighborhood in which to purchase and 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ur apartment in order to maximize the return on ou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917720"/>
            <a:ext cx="708660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NYC neighborhood(s) to purchase and rent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rtmen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side of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st Hills,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Island City,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sburg, Brook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17720"/>
            <a:ext cx="70866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RANDOM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eciation rates for the next eight years based on historical appreciation over the last nine years in NYC real estate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3922560"/>
            <a:ext cx="4268520" cy="241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48520" y="39625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Crystal Ball was used to generate a random number and then vlookup was used  to find the corresponding appreci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6685" t="0" r="82234" b="0"/>
          <a:stretch/>
        </p:blipFill>
        <p:spPr>
          <a:xfrm>
            <a:off x="-152280" y="33480"/>
            <a:ext cx="1325520" cy="1463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577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Assumptions and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0"/>
            <a:ext cx="0" cy="708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6320" y="1447920"/>
            <a:ext cx="944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938240"/>
            <a:ext cx="70866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YC hosts, rental prices during 17 days of Games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between 300 - 600%, depending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rate percentages for each neighborh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d by convenience of location and proximity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tainment and sport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21:47:35Z</dcterms:created>
  <dc:creator>Preferred Customer</dc:creator>
  <dc:description/>
  <dc:language>en-US</dc:language>
  <cp:lastModifiedBy>Preferred Customer</cp:lastModifiedBy>
  <dcterms:modified xsi:type="dcterms:W3CDTF">2004-11-29T02:33:27Z</dcterms:modified>
  <cp:revision>103</cp:revision>
  <dc:subject/>
  <dc:title>Slide 1</dc:title>
</cp:coreProperties>
</file>