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79C8-4820-4D30-A82A-D09EBD4C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Factor = normal distribution scaled to specific neighborhood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933-8D34-453C-8A07-83118A5A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541-9F22-4BE8-B094-D156AC2C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AB7-A6A1-4316-B327-BE021980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7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496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9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7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496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9EE-E19F-4F31-A7B3-915A7BA5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4E47-F73C-437B-9787-78BA28E6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DC0F-6E73-408D-98C3-2E88AA19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EA2F-A106-48C7-A0EB-FC39D69A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D225-F0F3-4627-843D-8AE14F3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7352-F39B-46CC-BCBE-6408D36E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808-C494-43D6-8969-EFF3E59F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45D1-4966-4FE2-B905-9360FDF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271-276A-47A7-BD60-462C240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427-2790-4AE3-95CB-40FF5FF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9E5-150F-437F-876A-92991D8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8B0B-E698-49C1-9F55-AAAAF470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826A-B3B8-4309-A05E-F1C9A0C9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74DC-DDDF-4AFD-BDE3-1CCF4A34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E7C-5D85-4314-97DB-A3A8CE47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632-ABFA-4653-8209-C124D11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582-114E-4A58-BD2F-F4D7A95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31C-FF23-49E5-AD20-C901EFC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D46-88A4-4C63-AAAB-FDF1389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811-7624-432E-87A9-78D2056C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404-E814-417F-9BF6-5EEA5150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1066680"/>
            <a:ext cx="78483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20920" y="6673680"/>
            <a:ext cx="14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COPYRIGHT 2002-2004 AARON FARBER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447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934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447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098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34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20920" y="6673680"/>
            <a:ext cx="14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COPYRIGHT 2002-2004 AARON FARBER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g Dealer Probl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Juran’s Just-In-Tim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y Ba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ian Br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a Theophi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ur 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escription – Purchasing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19320" y="1447920"/>
          <a:ext cx="7772400" cy="3657600"/>
        </p:xfrm>
        <a:graphic>
          <a:graphicData uri="http://schemas.openxmlformats.org/drawingml/2006/table">
            <a:tbl>
              <a:tblPr/>
              <a:tblGrid>
                <a:gridCol w="2306520"/>
                <a:gridCol w="1366920"/>
                <a:gridCol w="1365120"/>
                <a:gridCol w="1366920"/>
                <a:gridCol w="1366920"/>
              </a:tblGrid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Quantity Purch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orecasted Dem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ecast Quantity S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uantity Purch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371600" y="5334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52578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5334120"/>
          <a:ext cx="4952880" cy="1490400"/>
        </p:xfrm>
        <a:graphic>
          <a:graphicData uri="http://schemas.openxmlformats.org/drawingml/2006/table">
            <a:tbl>
              <a:tblPr/>
              <a:tblGrid>
                <a:gridCol w="2638440"/>
                <a:gridCol w="2314440"/>
              </a:tblGrid>
              <a:tr h="380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ncome Statement - Fore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84,25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r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ofit (Lo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4,250.00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escription – Inventory Allocation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9320" y="1295280"/>
          <a:ext cx="7238880" cy="3083040"/>
        </p:xfrm>
        <a:graphic>
          <a:graphicData uri="http://schemas.openxmlformats.org/drawingml/2006/table">
            <a:tbl>
              <a:tblPr/>
              <a:tblGrid>
                <a:gridCol w="2058840"/>
                <a:gridCol w="932040"/>
                <a:gridCol w="1415880"/>
                <a:gridCol w="1416240"/>
                <a:gridCol w="1415880"/>
              </a:tblGrid>
              <a:tr h="329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ecast De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tual Demand (Random Factor calculated using Crystal B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,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19320" y="4648320"/>
          <a:ext cx="7543800" cy="1858680"/>
        </p:xfrm>
        <a:graphic>
          <a:graphicData uri="http://schemas.openxmlformats.org/drawingml/2006/table">
            <a:tbl>
              <a:tblPr/>
              <a:tblGrid>
                <a:gridCol w="2009520"/>
                <a:gridCol w="1762200"/>
                <a:gridCol w="2009880"/>
                <a:gridCol w="1762200"/>
              </a:tblGrid>
              <a:tr h="54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ncome Statement - Fore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ncome Statement - 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84,25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81,37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r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r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ofit (Lo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4,250.00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ofit (Lo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1,370.00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del ran solv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ximiz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determined how much of each drug to order, but demand varied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could effectively “look into the future” and optimize purchases using future demand (no overstock or underst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verstated monthly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un Solver Tw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un: Based on Forecast Demand, Purchas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quantity rule: Optimize quantity ordered based on last month’s actual demand in order to maximize expected prof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 determined by maximizing expected profits, given forecast demand as well as supply and budgetar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Run: Based on Actual Demand, Selling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order quantities, use solver to allocate drugs to each neighborhood to maximize expected revenu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&amp; Future Complex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principle of this model is applicable to many retail or inventory- based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number of neighborhoods or type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ntory carryover from previous month (we have to cut Juran 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re sophisticated forecasting methods to optimize order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diversion (to other drugs in inven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costs and constraints over time and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losing Though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lity is a crutch for people who can’t cope with drugs” –Lily Toml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’ve never had a problem with drugs, I’ve had problems with the police”  -Keith Rich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God dropped acid, would he see people?” –Steven W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ugs have taught an entire generation of American kids the metric system” – P.J. O’Rourk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’t do drugs ‘cause if you do drugs, you’ll go to prison, and drugs are very expensive in prison” –John Hardw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760" cy="741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565632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1220760" cy="85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0" y="4027320"/>
            <a:ext cx="122076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 up with on-campus recruiting, Arthur, Damian, Dan and Sofia decide to become entrepreneurs and start their own drug selling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office visit, Professor Juran expresses an interest in diversifying his investments beyond beer brewing and gives the new entity (“Juran’s Just-in-Time Goody Bags”) $200,000 to star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estimonials from Washington Square park experts and observable demand from different neighborhoods, JJITGB will decide the follow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rug supplier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drugs to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ighborhoods to se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ermine where to purchase each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ide how to allocate inventory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ju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ross neighbor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ll Str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ive: Maximize profits for a given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drug, the best estimate of this month’s total demand (which we do not know), is last month’s total demand. (Key Assump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ugs must be ordered at the beginning of the month, before the current month’s demand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carrying of inventory from one month to the next because any excess drugs goes to Juran as a special “dividen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capacity is known with certainty and is fix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variable cost is the drug cost. All other costs are fix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sts are known with certainty and are fix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selling prices are certain and are fix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our drug sales to the two most lucrative neighborh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 &amp; Key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otation: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th; 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ug; 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month demand modeled 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[n, d, m] = Demand[n, d, m-1] + Random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Factor = N(0,1)*D(m-1)*Volatil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 drug d in month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rder Quantity[s, d, 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Demand[d, m-1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constraint forces the model to order the optimal amount of drugs assuming that last month’s demand will be equal to this month’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 &amp; Key Formula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supplier s and drug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[s, d, 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y[s, 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rdered from a supplier cannot exceed the supplier’s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drug d and neighborho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Sold [n,d,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mand[n,d,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sold cannot exceed the quantity dema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drug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antity Sold[n,d,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rder Quantity[s,d,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quantity sold cannot exceed the quantity in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 &amp; Key Formula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month (Actual and Fore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Order Quantity[s,d,m] x Cost[s,d]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ixed Cost[n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 Funds 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Variable costs and fixed costs cannot exceed funds on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Description -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lord costs (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1752480"/>
          <a:ext cx="7925040" cy="2922840"/>
        </p:xfrm>
        <a:graphic>
          <a:graphicData uri="http://schemas.openxmlformats.org/drawingml/2006/table">
            <a:tbl>
              <a:tblPr/>
              <a:tblGrid>
                <a:gridCol w="1895760"/>
                <a:gridCol w="1504800"/>
                <a:gridCol w="1509840"/>
                <a:gridCol w="1509480"/>
                <a:gridCol w="1505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upply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2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5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7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2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4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1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2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4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9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upply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19320" y="5562720"/>
          <a:ext cx="7543800" cy="113508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2205000"/>
                <a:gridCol w="18338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: Sales, security, and strat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: Bribery and witness tamp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43000" y="48769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Overhead (F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2:11:09Z</dcterms:created>
  <dc:creator> </dc:creator>
  <dc:description/>
  <dc:language>en-US</dc:language>
  <cp:lastModifiedBy>Damian Britt</cp:lastModifiedBy>
  <dcterms:modified xsi:type="dcterms:W3CDTF">2004-12-06T02:06:26Z</dcterms:modified>
  <cp:revision>42</cp:revision>
  <dc:subject/>
  <dc:title>??????</dc:title>
</cp:coreProperties>
</file>