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5D2-6DDB-4AE1-8D0D-3FD5F5FB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B7E-74D6-4BB6-85B5-C26B2594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B41-0156-4BFD-8CED-A71A589B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BBF-6F8C-420D-923F-798217F1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0B6-20C0-49EA-A64C-60BFC419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979C-2BDA-4C82-A8F1-C5ED1DE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0186-E9B6-4416-92C6-3FD9592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47FD-23FF-46CE-978F-1DC7744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2D01-DE60-4892-9990-E038A5F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7640" y="-132120"/>
            <a:ext cx="975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6C27-9A3A-4480-88B8-4FB57C9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B70C-E947-4A9E-944A-CE9CDBF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B26-C9C4-49F3-BABF-00C02B8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DF2-3476-4D72-996C-06D82AE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98C-BC6A-470E-9CAE-A9F8282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397A-C34B-4CF4-B308-D8A94DDD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F55-062E-4123-9601-F158E915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CEA5-D4E0-4E28-B05E-24F86BEA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28B-231E-46DE-ACC2-FC1982F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B28-D5E7-4B64-AF19-6D67AAF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A60-B49A-41B3-975F-10C89E48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7640" y="-132120"/>
            <a:ext cx="975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BD7-AF1C-4B70-86A7-2F354773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ADB-2AD6-4129-8E8C-04871B5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7DB-1ACC-4BC0-97E1-FD3819A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803-40D1-42CF-A4E3-69F71E0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095880" y="838080"/>
            <a:ext cx="1406520" cy="4380120"/>
            <a:chOff x="6095880" y="838080"/>
            <a:chExt cx="1406520" cy="4380120"/>
          </a:xfrm>
        </p:grpSpPr>
        <p:sp>
          <p:nvSpPr>
            <p:cNvPr id="2" name=""/>
            <p:cNvSpPr/>
            <p:nvPr/>
          </p:nvSpPr>
          <p:spPr>
            <a:xfrm>
              <a:off x="6095880" y="838080"/>
              <a:ext cx="1274760" cy="4380120"/>
            </a:xfrm>
            <a:custGeom>
              <a:avLst/>
              <a:gdLst/>
              <a:ahLst/>
              <a:rect l="l" t="t" r="r" b="b"/>
              <a:pathLst>
                <a:path w="1027" h="3527">
                  <a:moveTo>
                    <a:pt x="637" y="39"/>
                  </a:moveTo>
                  <a:cubicBezTo>
                    <a:pt x="720" y="32"/>
                    <a:pt x="808" y="20"/>
                    <a:pt x="850" y="108"/>
                  </a:cubicBezTo>
                  <a:cubicBezTo>
                    <a:pt x="892" y="196"/>
                    <a:pt x="896" y="547"/>
                    <a:pt x="886" y="569"/>
                  </a:cubicBezTo>
                  <a:cubicBezTo>
                    <a:pt x="876" y="591"/>
                    <a:pt x="870" y="298"/>
                    <a:pt x="792" y="238"/>
                  </a:cubicBezTo>
                  <a:lnTo>
                    <a:pt x="418" y="209"/>
                  </a:lnTo>
                  <a:lnTo>
                    <a:pt x="344" y="1007"/>
                  </a:lnTo>
                  <a:lnTo>
                    <a:pt x="152" y="1391"/>
                  </a:lnTo>
                  <a:lnTo>
                    <a:pt x="129" y="2927"/>
                  </a:lnTo>
                  <a:cubicBezTo>
                    <a:pt x="197" y="3250"/>
                    <a:pt x="413" y="3273"/>
                    <a:pt x="561" y="3329"/>
                  </a:cubicBezTo>
                  <a:cubicBezTo>
                    <a:pt x="709" y="3385"/>
                    <a:pt x="1005" y="3234"/>
                    <a:pt x="1016" y="3263"/>
                  </a:cubicBezTo>
                  <a:cubicBezTo>
                    <a:pt x="1027" y="3292"/>
                    <a:pt x="797" y="3527"/>
                    <a:pt x="629" y="3503"/>
                  </a:cubicBezTo>
                  <a:cubicBezTo>
                    <a:pt x="461" y="3479"/>
                    <a:pt x="113" y="3461"/>
                    <a:pt x="8" y="3119"/>
                  </a:cubicBezTo>
                  <a:lnTo>
                    <a:pt x="0" y="1449"/>
                  </a:lnTo>
                  <a:cubicBezTo>
                    <a:pt x="40" y="1089"/>
                    <a:pt x="190" y="1175"/>
                    <a:pt x="248" y="959"/>
                  </a:cubicBezTo>
                  <a:cubicBezTo>
                    <a:pt x="306" y="743"/>
                    <a:pt x="284" y="306"/>
                    <a:pt x="349" y="153"/>
                  </a:cubicBezTo>
                  <a:cubicBezTo>
                    <a:pt x="414" y="0"/>
                    <a:pt x="551" y="48"/>
                    <a:pt x="637" y="39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72520" y="2745360"/>
              <a:ext cx="929880" cy="1580760"/>
            </a:xfrm>
            <a:custGeom>
              <a:avLst/>
              <a:gdLst/>
              <a:ahLst/>
              <a:rect l="l" t="t" r="r" b="b"/>
              <a:pathLst>
                <a:path w="749" h="1273">
                  <a:moveTo>
                    <a:pt x="669" y="36"/>
                  </a:moveTo>
                  <a:cubicBezTo>
                    <a:pt x="588" y="90"/>
                    <a:pt x="501" y="89"/>
                    <a:pt x="404" y="97"/>
                  </a:cubicBezTo>
                  <a:cubicBezTo>
                    <a:pt x="284" y="93"/>
                    <a:pt x="159" y="96"/>
                    <a:pt x="40" y="74"/>
                  </a:cubicBezTo>
                  <a:cubicBezTo>
                    <a:pt x="0" y="86"/>
                    <a:pt x="23" y="71"/>
                    <a:pt x="25" y="104"/>
                  </a:cubicBezTo>
                  <a:cubicBezTo>
                    <a:pt x="30" y="198"/>
                    <a:pt x="30" y="291"/>
                    <a:pt x="32" y="385"/>
                  </a:cubicBezTo>
                  <a:cubicBezTo>
                    <a:pt x="30" y="440"/>
                    <a:pt x="27" y="496"/>
                    <a:pt x="25" y="551"/>
                  </a:cubicBezTo>
                  <a:cubicBezTo>
                    <a:pt x="19" y="728"/>
                    <a:pt x="10" y="1082"/>
                    <a:pt x="10" y="1082"/>
                  </a:cubicBezTo>
                  <a:cubicBezTo>
                    <a:pt x="26" y="1168"/>
                    <a:pt x="23" y="1197"/>
                    <a:pt x="116" y="1218"/>
                  </a:cubicBezTo>
                  <a:cubicBezTo>
                    <a:pt x="150" y="1247"/>
                    <a:pt x="378" y="1273"/>
                    <a:pt x="465" y="1273"/>
                  </a:cubicBezTo>
                  <a:cubicBezTo>
                    <a:pt x="568" y="1269"/>
                    <a:pt x="727" y="1214"/>
                    <a:pt x="737" y="1196"/>
                  </a:cubicBezTo>
                  <a:cubicBezTo>
                    <a:pt x="667" y="1019"/>
                    <a:pt x="738" y="1165"/>
                    <a:pt x="275" y="1150"/>
                  </a:cubicBezTo>
                  <a:cubicBezTo>
                    <a:pt x="242" y="1149"/>
                    <a:pt x="209" y="1139"/>
                    <a:pt x="176" y="1135"/>
                  </a:cubicBezTo>
                  <a:cubicBezTo>
                    <a:pt x="143" y="1123"/>
                    <a:pt x="135" y="1132"/>
                    <a:pt x="123" y="1097"/>
                  </a:cubicBezTo>
                  <a:cubicBezTo>
                    <a:pt x="114" y="963"/>
                    <a:pt x="122" y="477"/>
                    <a:pt x="123" y="332"/>
                  </a:cubicBezTo>
                  <a:cubicBezTo>
                    <a:pt x="124" y="296"/>
                    <a:pt x="122" y="260"/>
                    <a:pt x="131" y="225"/>
                  </a:cubicBezTo>
                  <a:cubicBezTo>
                    <a:pt x="132" y="222"/>
                    <a:pt x="210" y="206"/>
                    <a:pt x="222" y="203"/>
                  </a:cubicBezTo>
                  <a:cubicBezTo>
                    <a:pt x="355" y="164"/>
                    <a:pt x="495" y="180"/>
                    <a:pt x="632" y="159"/>
                  </a:cubicBezTo>
                  <a:cubicBezTo>
                    <a:pt x="676" y="143"/>
                    <a:pt x="663" y="75"/>
                    <a:pt x="699" y="51"/>
                  </a:cubicBezTo>
                  <a:cubicBezTo>
                    <a:pt x="712" y="14"/>
                    <a:pt x="749" y="0"/>
                    <a:pt x="692" y="13"/>
                  </a:cubicBezTo>
                  <a:cubicBezTo>
                    <a:pt x="667" y="29"/>
                    <a:pt x="669" y="19"/>
                    <a:pt x="669" y="36"/>
                  </a:cubicBezTo>
                  <a:close/>
                </a:path>
              </a:pathLst>
            </a:custGeom>
            <a:solidFill>
              <a:srgbClr val="0808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066680" y="4454640"/>
            <a:ext cx="5257800" cy="1412640"/>
            <a:chOff x="1066680" y="4454640"/>
            <a:chExt cx="5257800" cy="1412640"/>
          </a:xfrm>
        </p:grpSpPr>
        <p:sp>
          <p:nvSpPr>
            <p:cNvPr id="5" name=""/>
            <p:cNvSpPr/>
            <p:nvPr/>
          </p:nvSpPr>
          <p:spPr>
            <a:xfrm>
              <a:off x="1066680" y="4656240"/>
              <a:ext cx="5257800" cy="1211040"/>
            </a:xfrm>
            <a:custGeom>
              <a:avLst/>
              <a:gdLst/>
              <a:ahLst/>
              <a:rect l="l" t="t" r="r" b="b"/>
              <a:pathLst>
                <a:path w="3312" h="763">
                  <a:moveTo>
                    <a:pt x="963" y="0"/>
                  </a:moveTo>
                  <a:cubicBezTo>
                    <a:pt x="892" y="9"/>
                    <a:pt x="274" y="33"/>
                    <a:pt x="160" y="78"/>
                  </a:cubicBezTo>
                  <a:cubicBezTo>
                    <a:pt x="122" y="113"/>
                    <a:pt x="0" y="160"/>
                    <a:pt x="59" y="241"/>
                  </a:cubicBezTo>
                  <a:cubicBezTo>
                    <a:pt x="165" y="400"/>
                    <a:pt x="390" y="535"/>
                    <a:pt x="682" y="615"/>
                  </a:cubicBezTo>
                  <a:cubicBezTo>
                    <a:pt x="875" y="655"/>
                    <a:pt x="1420" y="728"/>
                    <a:pt x="1616" y="740"/>
                  </a:cubicBezTo>
                  <a:cubicBezTo>
                    <a:pt x="2006" y="737"/>
                    <a:pt x="2768" y="763"/>
                    <a:pt x="3024" y="599"/>
                  </a:cubicBezTo>
                  <a:cubicBezTo>
                    <a:pt x="3048" y="592"/>
                    <a:pt x="3071" y="584"/>
                    <a:pt x="3095" y="576"/>
                  </a:cubicBezTo>
                  <a:cubicBezTo>
                    <a:pt x="3103" y="573"/>
                    <a:pt x="3118" y="568"/>
                    <a:pt x="3118" y="568"/>
                  </a:cubicBezTo>
                  <a:cubicBezTo>
                    <a:pt x="3177" y="519"/>
                    <a:pt x="3244" y="486"/>
                    <a:pt x="3312" y="451"/>
                  </a:cubicBezTo>
                  <a:cubicBezTo>
                    <a:pt x="3245" y="431"/>
                    <a:pt x="3229" y="438"/>
                    <a:pt x="3141" y="444"/>
                  </a:cubicBezTo>
                  <a:cubicBezTo>
                    <a:pt x="3110" y="453"/>
                    <a:pt x="3100" y="477"/>
                    <a:pt x="3071" y="490"/>
                  </a:cubicBezTo>
                  <a:cubicBezTo>
                    <a:pt x="2975" y="532"/>
                    <a:pt x="2876" y="574"/>
                    <a:pt x="2775" y="599"/>
                  </a:cubicBezTo>
                  <a:cubicBezTo>
                    <a:pt x="2651" y="663"/>
                    <a:pt x="2489" y="654"/>
                    <a:pt x="2355" y="661"/>
                  </a:cubicBezTo>
                  <a:cubicBezTo>
                    <a:pt x="2085" y="657"/>
                    <a:pt x="1927" y="662"/>
                    <a:pt x="1693" y="646"/>
                  </a:cubicBezTo>
                  <a:cubicBezTo>
                    <a:pt x="1294" y="619"/>
                    <a:pt x="893" y="556"/>
                    <a:pt x="510" y="444"/>
                  </a:cubicBezTo>
                  <a:cubicBezTo>
                    <a:pt x="486" y="427"/>
                    <a:pt x="460" y="416"/>
                    <a:pt x="432" y="405"/>
                  </a:cubicBezTo>
                  <a:cubicBezTo>
                    <a:pt x="417" y="399"/>
                    <a:pt x="401" y="394"/>
                    <a:pt x="386" y="389"/>
                  </a:cubicBezTo>
                  <a:cubicBezTo>
                    <a:pt x="378" y="386"/>
                    <a:pt x="362" y="381"/>
                    <a:pt x="362" y="381"/>
                  </a:cubicBezTo>
                  <a:cubicBezTo>
                    <a:pt x="354" y="373"/>
                    <a:pt x="348" y="364"/>
                    <a:pt x="339" y="358"/>
                  </a:cubicBezTo>
                  <a:cubicBezTo>
                    <a:pt x="332" y="353"/>
                    <a:pt x="322" y="355"/>
                    <a:pt x="316" y="350"/>
                  </a:cubicBezTo>
                  <a:cubicBezTo>
                    <a:pt x="269" y="312"/>
                    <a:pt x="269" y="309"/>
                    <a:pt x="246" y="272"/>
                  </a:cubicBezTo>
                  <a:cubicBezTo>
                    <a:pt x="248" y="249"/>
                    <a:pt x="247" y="225"/>
                    <a:pt x="253" y="202"/>
                  </a:cubicBezTo>
                  <a:cubicBezTo>
                    <a:pt x="260" y="172"/>
                    <a:pt x="293" y="166"/>
                    <a:pt x="316" y="156"/>
                  </a:cubicBezTo>
                  <a:cubicBezTo>
                    <a:pt x="354" y="140"/>
                    <a:pt x="385" y="114"/>
                    <a:pt x="425" y="101"/>
                  </a:cubicBezTo>
                  <a:cubicBezTo>
                    <a:pt x="475" y="66"/>
                    <a:pt x="566" y="74"/>
                    <a:pt x="620" y="47"/>
                  </a:cubicBezTo>
                  <a:cubicBezTo>
                    <a:pt x="671" y="21"/>
                    <a:pt x="905" y="0"/>
                    <a:pt x="963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9680" y="4454640"/>
              <a:ext cx="2684520" cy="955440"/>
            </a:xfrm>
            <a:custGeom>
              <a:avLst/>
              <a:gdLst/>
              <a:ahLst/>
              <a:rect l="l" t="t" r="r" b="b"/>
              <a:pathLst>
                <a:path w="1691" h="602">
                  <a:moveTo>
                    <a:pt x="1230" y="0"/>
                  </a:moveTo>
                  <a:cubicBezTo>
                    <a:pt x="1112" y="13"/>
                    <a:pt x="983" y="7"/>
                    <a:pt x="864" y="20"/>
                  </a:cubicBezTo>
                  <a:cubicBezTo>
                    <a:pt x="683" y="40"/>
                    <a:pt x="523" y="73"/>
                    <a:pt x="358" y="109"/>
                  </a:cubicBezTo>
                  <a:cubicBezTo>
                    <a:pt x="353" y="113"/>
                    <a:pt x="349" y="117"/>
                    <a:pt x="342" y="119"/>
                  </a:cubicBezTo>
                  <a:cubicBezTo>
                    <a:pt x="328" y="124"/>
                    <a:pt x="296" y="132"/>
                    <a:pt x="296" y="132"/>
                  </a:cubicBezTo>
                  <a:cubicBezTo>
                    <a:pt x="255" y="156"/>
                    <a:pt x="214" y="179"/>
                    <a:pt x="171" y="202"/>
                  </a:cubicBezTo>
                  <a:cubicBezTo>
                    <a:pt x="149" y="214"/>
                    <a:pt x="141" y="225"/>
                    <a:pt x="117" y="238"/>
                  </a:cubicBezTo>
                  <a:cubicBezTo>
                    <a:pt x="104" y="255"/>
                    <a:pt x="83" y="268"/>
                    <a:pt x="70" y="285"/>
                  </a:cubicBezTo>
                  <a:cubicBezTo>
                    <a:pt x="64" y="307"/>
                    <a:pt x="56" y="326"/>
                    <a:pt x="39" y="348"/>
                  </a:cubicBezTo>
                  <a:cubicBezTo>
                    <a:pt x="47" y="379"/>
                    <a:pt x="58" y="419"/>
                    <a:pt x="0" y="444"/>
                  </a:cubicBezTo>
                  <a:cubicBezTo>
                    <a:pt x="5" y="450"/>
                    <a:pt x="2" y="460"/>
                    <a:pt x="16" y="464"/>
                  </a:cubicBezTo>
                  <a:cubicBezTo>
                    <a:pt x="122" y="494"/>
                    <a:pt x="238" y="557"/>
                    <a:pt x="367" y="563"/>
                  </a:cubicBezTo>
                  <a:cubicBezTo>
                    <a:pt x="622" y="574"/>
                    <a:pt x="843" y="594"/>
                    <a:pt x="1099" y="602"/>
                  </a:cubicBezTo>
                  <a:cubicBezTo>
                    <a:pt x="1191" y="599"/>
                    <a:pt x="1264" y="525"/>
                    <a:pt x="1354" y="520"/>
                  </a:cubicBezTo>
                  <a:cubicBezTo>
                    <a:pt x="1405" y="513"/>
                    <a:pt x="1442" y="501"/>
                    <a:pt x="1487" y="490"/>
                  </a:cubicBezTo>
                  <a:cubicBezTo>
                    <a:pt x="1509" y="485"/>
                    <a:pt x="1534" y="482"/>
                    <a:pt x="1557" y="477"/>
                  </a:cubicBezTo>
                  <a:cubicBezTo>
                    <a:pt x="1570" y="474"/>
                    <a:pt x="1583" y="470"/>
                    <a:pt x="1596" y="467"/>
                  </a:cubicBezTo>
                  <a:cubicBezTo>
                    <a:pt x="1616" y="462"/>
                    <a:pt x="1658" y="453"/>
                    <a:pt x="1658" y="453"/>
                  </a:cubicBezTo>
                  <a:cubicBezTo>
                    <a:pt x="1665" y="449"/>
                    <a:pt x="1691" y="437"/>
                    <a:pt x="1666" y="430"/>
                  </a:cubicBezTo>
                  <a:cubicBezTo>
                    <a:pt x="1657" y="428"/>
                    <a:pt x="1645" y="433"/>
                    <a:pt x="1635" y="434"/>
                  </a:cubicBezTo>
                  <a:cubicBezTo>
                    <a:pt x="1619" y="436"/>
                    <a:pt x="1604" y="438"/>
                    <a:pt x="1588" y="440"/>
                  </a:cubicBezTo>
                  <a:cubicBezTo>
                    <a:pt x="1516" y="450"/>
                    <a:pt x="1445" y="462"/>
                    <a:pt x="1370" y="467"/>
                  </a:cubicBezTo>
                  <a:cubicBezTo>
                    <a:pt x="1306" y="480"/>
                    <a:pt x="1243" y="481"/>
                    <a:pt x="1175" y="487"/>
                  </a:cubicBezTo>
                  <a:cubicBezTo>
                    <a:pt x="974" y="485"/>
                    <a:pt x="776" y="483"/>
                    <a:pt x="576" y="477"/>
                  </a:cubicBezTo>
                  <a:cubicBezTo>
                    <a:pt x="496" y="468"/>
                    <a:pt x="612" y="480"/>
                    <a:pt x="459" y="467"/>
                  </a:cubicBezTo>
                  <a:cubicBezTo>
                    <a:pt x="446" y="466"/>
                    <a:pt x="433" y="465"/>
                    <a:pt x="420" y="464"/>
                  </a:cubicBezTo>
                  <a:cubicBezTo>
                    <a:pt x="404" y="462"/>
                    <a:pt x="374" y="457"/>
                    <a:pt x="374" y="457"/>
                  </a:cubicBezTo>
                  <a:cubicBezTo>
                    <a:pt x="363" y="444"/>
                    <a:pt x="350" y="441"/>
                    <a:pt x="319" y="437"/>
                  </a:cubicBezTo>
                  <a:cubicBezTo>
                    <a:pt x="292" y="429"/>
                    <a:pt x="274" y="422"/>
                    <a:pt x="257" y="410"/>
                  </a:cubicBezTo>
                  <a:cubicBezTo>
                    <a:pt x="266" y="395"/>
                    <a:pt x="283" y="380"/>
                    <a:pt x="304" y="368"/>
                  </a:cubicBezTo>
                  <a:cubicBezTo>
                    <a:pt x="281" y="353"/>
                    <a:pt x="271" y="349"/>
                    <a:pt x="257" y="334"/>
                  </a:cubicBezTo>
                  <a:cubicBezTo>
                    <a:pt x="251" y="328"/>
                    <a:pt x="241" y="315"/>
                    <a:pt x="241" y="315"/>
                  </a:cubicBezTo>
                  <a:cubicBezTo>
                    <a:pt x="254" y="276"/>
                    <a:pt x="281" y="267"/>
                    <a:pt x="335" y="238"/>
                  </a:cubicBezTo>
                  <a:cubicBezTo>
                    <a:pt x="364" y="222"/>
                    <a:pt x="391" y="205"/>
                    <a:pt x="420" y="189"/>
                  </a:cubicBezTo>
                  <a:cubicBezTo>
                    <a:pt x="451" y="172"/>
                    <a:pt x="471" y="151"/>
                    <a:pt x="506" y="136"/>
                  </a:cubicBezTo>
                  <a:cubicBezTo>
                    <a:pt x="536" y="99"/>
                    <a:pt x="612" y="84"/>
                    <a:pt x="693" y="73"/>
                  </a:cubicBezTo>
                  <a:cubicBezTo>
                    <a:pt x="794" y="58"/>
                    <a:pt x="893" y="41"/>
                    <a:pt x="996" y="30"/>
                  </a:cubicBezTo>
                  <a:cubicBezTo>
                    <a:pt x="1033" y="20"/>
                    <a:pt x="1061" y="18"/>
                    <a:pt x="1105" y="13"/>
                  </a:cubicBezTo>
                  <a:cubicBezTo>
                    <a:pt x="1149" y="9"/>
                    <a:pt x="1184" y="0"/>
                    <a:pt x="1230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91120" y="4454640"/>
              <a:ext cx="1447560" cy="609480"/>
            </a:xfrm>
            <a:custGeom>
              <a:avLst/>
              <a:gdLst/>
              <a:ahLst/>
              <a:rect l="l" t="t" r="r" b="b"/>
              <a:pathLst>
                <a:path w="1189" h="477">
                  <a:moveTo>
                    <a:pt x="41" y="65"/>
                  </a:moveTo>
                  <a:cubicBezTo>
                    <a:pt x="49" y="70"/>
                    <a:pt x="62" y="71"/>
                    <a:pt x="65" y="80"/>
                  </a:cubicBezTo>
                  <a:cubicBezTo>
                    <a:pt x="73" y="108"/>
                    <a:pt x="44" y="143"/>
                    <a:pt x="34" y="166"/>
                  </a:cubicBezTo>
                  <a:cubicBezTo>
                    <a:pt x="21" y="195"/>
                    <a:pt x="17" y="215"/>
                    <a:pt x="10" y="244"/>
                  </a:cubicBezTo>
                  <a:cubicBezTo>
                    <a:pt x="14" y="308"/>
                    <a:pt x="0" y="428"/>
                    <a:pt x="49" y="477"/>
                  </a:cubicBezTo>
                  <a:cubicBezTo>
                    <a:pt x="72" y="472"/>
                    <a:pt x="100" y="470"/>
                    <a:pt x="119" y="454"/>
                  </a:cubicBezTo>
                  <a:cubicBezTo>
                    <a:pt x="143" y="434"/>
                    <a:pt x="152" y="395"/>
                    <a:pt x="166" y="368"/>
                  </a:cubicBezTo>
                  <a:cubicBezTo>
                    <a:pt x="201" y="299"/>
                    <a:pt x="237" y="233"/>
                    <a:pt x="275" y="166"/>
                  </a:cubicBezTo>
                  <a:cubicBezTo>
                    <a:pt x="316" y="94"/>
                    <a:pt x="281" y="110"/>
                    <a:pt x="329" y="96"/>
                  </a:cubicBezTo>
                  <a:cubicBezTo>
                    <a:pt x="394" y="201"/>
                    <a:pt x="364" y="331"/>
                    <a:pt x="399" y="446"/>
                  </a:cubicBezTo>
                  <a:cubicBezTo>
                    <a:pt x="422" y="441"/>
                    <a:pt x="447" y="440"/>
                    <a:pt x="469" y="430"/>
                  </a:cubicBezTo>
                  <a:cubicBezTo>
                    <a:pt x="492" y="420"/>
                    <a:pt x="514" y="380"/>
                    <a:pt x="524" y="360"/>
                  </a:cubicBezTo>
                  <a:cubicBezTo>
                    <a:pt x="563" y="281"/>
                    <a:pt x="543" y="266"/>
                    <a:pt x="618" y="214"/>
                  </a:cubicBezTo>
                  <a:cubicBezTo>
                    <a:pt x="676" y="254"/>
                    <a:pt x="713" y="232"/>
                    <a:pt x="773" y="275"/>
                  </a:cubicBezTo>
                  <a:cubicBezTo>
                    <a:pt x="884" y="355"/>
                    <a:pt x="1040" y="345"/>
                    <a:pt x="1170" y="360"/>
                  </a:cubicBezTo>
                  <a:cubicBezTo>
                    <a:pt x="1175" y="352"/>
                    <a:pt x="1184" y="346"/>
                    <a:pt x="1186" y="337"/>
                  </a:cubicBezTo>
                  <a:cubicBezTo>
                    <a:pt x="1189" y="320"/>
                    <a:pt x="1137" y="245"/>
                    <a:pt x="1123" y="236"/>
                  </a:cubicBezTo>
                  <a:cubicBezTo>
                    <a:pt x="1104" y="223"/>
                    <a:pt x="1033" y="220"/>
                    <a:pt x="1030" y="220"/>
                  </a:cubicBezTo>
                  <a:cubicBezTo>
                    <a:pt x="987" y="205"/>
                    <a:pt x="953" y="178"/>
                    <a:pt x="913" y="158"/>
                  </a:cubicBezTo>
                  <a:cubicBezTo>
                    <a:pt x="852" y="128"/>
                    <a:pt x="793" y="102"/>
                    <a:pt x="726" y="88"/>
                  </a:cubicBezTo>
                  <a:cubicBezTo>
                    <a:pt x="694" y="95"/>
                    <a:pt x="664" y="100"/>
                    <a:pt x="633" y="111"/>
                  </a:cubicBezTo>
                  <a:cubicBezTo>
                    <a:pt x="525" y="95"/>
                    <a:pt x="423" y="69"/>
                    <a:pt x="314" y="57"/>
                  </a:cubicBezTo>
                  <a:cubicBezTo>
                    <a:pt x="237" y="35"/>
                    <a:pt x="158" y="15"/>
                    <a:pt x="80" y="2"/>
                  </a:cubicBezTo>
                  <a:cubicBezTo>
                    <a:pt x="70" y="5"/>
                    <a:pt x="54" y="0"/>
                    <a:pt x="49" y="10"/>
                  </a:cubicBezTo>
                  <a:cubicBezTo>
                    <a:pt x="43" y="22"/>
                    <a:pt x="59" y="36"/>
                    <a:pt x="57" y="49"/>
                  </a:cubicBezTo>
                  <a:cubicBezTo>
                    <a:pt x="56" y="56"/>
                    <a:pt x="46" y="60"/>
                    <a:pt x="41" y="65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897680" y="5618160"/>
            <a:ext cx="914400" cy="914400"/>
          </a:xfrm>
          <a:prstGeom prst="rect">
            <a:avLst/>
          </a:prstGeom>
          <a:solidFill>
            <a:srgbClr val="ee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9038-8651-4C5B-A6B8-AA39F621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922880" y="60040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XBlk BT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62120" y="6324480"/>
            <a:ext cx="6858000" cy="152640"/>
            <a:chOff x="762120" y="6324480"/>
            <a:chExt cx="6858000" cy="152640"/>
          </a:xfrm>
        </p:grpSpPr>
        <p:sp>
          <p:nvSpPr>
            <p:cNvPr id="16" name=""/>
            <p:cNvSpPr/>
            <p:nvPr/>
          </p:nvSpPr>
          <p:spPr>
            <a:xfrm>
              <a:off x="7621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719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9814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909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007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8102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4197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0295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90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485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8583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678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" name=""/>
          <p:cNvSpPr/>
          <p:nvPr/>
        </p:nvSpPr>
        <p:spPr>
          <a:xfrm>
            <a:off x="7898760" y="5715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T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2c2c"/>
          </a:solidFill>
          <a:ln w="9360">
            <a:solidFill>
              <a:srgbClr val="ee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7240" y="1752480"/>
            <a:ext cx="328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utura XBlk BT"/>
              </a:rPr>
              <a:t>THAI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09680" y="3352680"/>
            <a:ext cx="4419720" cy="152640"/>
            <a:chOff x="2209680" y="3352680"/>
            <a:chExt cx="4419720" cy="152640"/>
          </a:xfrm>
        </p:grpSpPr>
        <p:sp>
          <p:nvSpPr>
            <p:cNvPr id="68" name=""/>
            <p:cNvSpPr/>
            <p:nvPr/>
          </p:nvSpPr>
          <p:spPr>
            <a:xfrm>
              <a:off x="22096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5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384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771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8FF-A042-416D-8440-F5724F74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781680" y="609480"/>
            <a:ext cx="1798560" cy="5599080"/>
            <a:chOff x="6781680" y="609480"/>
            <a:chExt cx="1798560" cy="5599080"/>
          </a:xfrm>
        </p:grpSpPr>
        <p:sp>
          <p:nvSpPr>
            <p:cNvPr id="80" name=""/>
            <p:cNvSpPr/>
            <p:nvPr/>
          </p:nvSpPr>
          <p:spPr>
            <a:xfrm>
              <a:off x="6781680" y="609480"/>
              <a:ext cx="1630440" cy="5599080"/>
            </a:xfrm>
            <a:custGeom>
              <a:avLst/>
              <a:gdLst/>
              <a:ahLst/>
              <a:rect l="l" t="t" r="r" b="b"/>
              <a:pathLst>
                <a:path w="1027" h="3527">
                  <a:moveTo>
                    <a:pt x="637" y="39"/>
                  </a:moveTo>
                  <a:cubicBezTo>
                    <a:pt x="720" y="32"/>
                    <a:pt x="808" y="20"/>
                    <a:pt x="850" y="108"/>
                  </a:cubicBezTo>
                  <a:cubicBezTo>
                    <a:pt x="892" y="196"/>
                    <a:pt x="896" y="547"/>
                    <a:pt x="886" y="569"/>
                  </a:cubicBezTo>
                  <a:cubicBezTo>
                    <a:pt x="876" y="591"/>
                    <a:pt x="870" y="298"/>
                    <a:pt x="792" y="238"/>
                  </a:cubicBezTo>
                  <a:lnTo>
                    <a:pt x="418" y="209"/>
                  </a:lnTo>
                  <a:lnTo>
                    <a:pt x="344" y="1007"/>
                  </a:lnTo>
                  <a:lnTo>
                    <a:pt x="152" y="1391"/>
                  </a:lnTo>
                  <a:lnTo>
                    <a:pt x="129" y="2927"/>
                  </a:lnTo>
                  <a:cubicBezTo>
                    <a:pt x="197" y="3250"/>
                    <a:pt x="413" y="3273"/>
                    <a:pt x="561" y="3329"/>
                  </a:cubicBezTo>
                  <a:cubicBezTo>
                    <a:pt x="709" y="3385"/>
                    <a:pt x="1005" y="3234"/>
                    <a:pt x="1016" y="3263"/>
                  </a:cubicBezTo>
                  <a:cubicBezTo>
                    <a:pt x="1027" y="3292"/>
                    <a:pt x="797" y="3527"/>
                    <a:pt x="629" y="3503"/>
                  </a:cubicBezTo>
                  <a:cubicBezTo>
                    <a:pt x="461" y="3479"/>
                    <a:pt x="113" y="3461"/>
                    <a:pt x="8" y="3119"/>
                  </a:cubicBezTo>
                  <a:lnTo>
                    <a:pt x="0" y="1449"/>
                  </a:lnTo>
                  <a:cubicBezTo>
                    <a:pt x="40" y="1089"/>
                    <a:pt x="190" y="1175"/>
                    <a:pt x="248" y="959"/>
                  </a:cubicBezTo>
                  <a:cubicBezTo>
                    <a:pt x="306" y="743"/>
                    <a:pt x="284" y="306"/>
                    <a:pt x="349" y="153"/>
                  </a:cubicBezTo>
                  <a:cubicBezTo>
                    <a:pt x="414" y="0"/>
                    <a:pt x="551" y="48"/>
                    <a:pt x="637" y="39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91160" y="3047760"/>
              <a:ext cx="1189080" cy="2021040"/>
            </a:xfrm>
            <a:custGeom>
              <a:avLst/>
              <a:gdLst/>
              <a:ahLst/>
              <a:rect l="l" t="t" r="r" b="b"/>
              <a:pathLst>
                <a:path w="749" h="1273">
                  <a:moveTo>
                    <a:pt x="669" y="36"/>
                  </a:moveTo>
                  <a:cubicBezTo>
                    <a:pt x="588" y="90"/>
                    <a:pt x="501" y="89"/>
                    <a:pt x="404" y="97"/>
                  </a:cubicBezTo>
                  <a:cubicBezTo>
                    <a:pt x="284" y="93"/>
                    <a:pt x="159" y="96"/>
                    <a:pt x="40" y="74"/>
                  </a:cubicBezTo>
                  <a:cubicBezTo>
                    <a:pt x="0" y="86"/>
                    <a:pt x="23" y="71"/>
                    <a:pt x="25" y="104"/>
                  </a:cubicBezTo>
                  <a:cubicBezTo>
                    <a:pt x="30" y="198"/>
                    <a:pt x="30" y="291"/>
                    <a:pt x="32" y="385"/>
                  </a:cubicBezTo>
                  <a:cubicBezTo>
                    <a:pt x="30" y="440"/>
                    <a:pt x="27" y="496"/>
                    <a:pt x="25" y="551"/>
                  </a:cubicBezTo>
                  <a:cubicBezTo>
                    <a:pt x="19" y="728"/>
                    <a:pt x="10" y="1082"/>
                    <a:pt x="10" y="1082"/>
                  </a:cubicBezTo>
                  <a:cubicBezTo>
                    <a:pt x="26" y="1168"/>
                    <a:pt x="23" y="1197"/>
                    <a:pt x="116" y="1218"/>
                  </a:cubicBezTo>
                  <a:cubicBezTo>
                    <a:pt x="150" y="1247"/>
                    <a:pt x="378" y="1273"/>
                    <a:pt x="465" y="1273"/>
                  </a:cubicBezTo>
                  <a:cubicBezTo>
                    <a:pt x="568" y="1269"/>
                    <a:pt x="727" y="1214"/>
                    <a:pt x="737" y="1196"/>
                  </a:cubicBezTo>
                  <a:cubicBezTo>
                    <a:pt x="667" y="1019"/>
                    <a:pt x="738" y="1165"/>
                    <a:pt x="275" y="1150"/>
                  </a:cubicBezTo>
                  <a:cubicBezTo>
                    <a:pt x="242" y="1149"/>
                    <a:pt x="209" y="1139"/>
                    <a:pt x="176" y="1135"/>
                  </a:cubicBezTo>
                  <a:cubicBezTo>
                    <a:pt x="143" y="1123"/>
                    <a:pt x="135" y="1132"/>
                    <a:pt x="123" y="1097"/>
                  </a:cubicBezTo>
                  <a:cubicBezTo>
                    <a:pt x="114" y="963"/>
                    <a:pt x="122" y="477"/>
                    <a:pt x="123" y="332"/>
                  </a:cubicBezTo>
                  <a:cubicBezTo>
                    <a:pt x="124" y="296"/>
                    <a:pt x="122" y="260"/>
                    <a:pt x="131" y="225"/>
                  </a:cubicBezTo>
                  <a:cubicBezTo>
                    <a:pt x="132" y="222"/>
                    <a:pt x="210" y="206"/>
                    <a:pt x="222" y="203"/>
                  </a:cubicBezTo>
                  <a:cubicBezTo>
                    <a:pt x="355" y="164"/>
                    <a:pt x="495" y="180"/>
                    <a:pt x="632" y="159"/>
                  </a:cubicBezTo>
                  <a:cubicBezTo>
                    <a:pt x="676" y="143"/>
                    <a:pt x="663" y="75"/>
                    <a:pt x="699" y="51"/>
                  </a:cubicBezTo>
                  <a:cubicBezTo>
                    <a:pt x="712" y="14"/>
                    <a:pt x="749" y="0"/>
                    <a:pt x="692" y="13"/>
                  </a:cubicBezTo>
                  <a:cubicBezTo>
                    <a:pt x="667" y="29"/>
                    <a:pt x="669" y="19"/>
                    <a:pt x="669" y="36"/>
                  </a:cubicBezTo>
                  <a:close/>
                </a:path>
              </a:pathLst>
            </a:custGeom>
            <a:solidFill>
              <a:srgbClr val="0808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971800" y="2438280"/>
            <a:ext cx="3949560" cy="609840"/>
          </a:xfrm>
          <a:custGeom>
            <a:avLst/>
            <a:gdLst/>
            <a:ahLst/>
            <a:rect l="l" t="t" r="r" b="b"/>
            <a:pathLst>
              <a:path w="3064" h="499">
                <a:moveTo>
                  <a:pt x="346" y="276"/>
                </a:moveTo>
                <a:cubicBezTo>
                  <a:pt x="492" y="229"/>
                  <a:pt x="534" y="278"/>
                  <a:pt x="683" y="239"/>
                </a:cubicBezTo>
                <a:cubicBezTo>
                  <a:pt x="966" y="164"/>
                  <a:pt x="1263" y="115"/>
                  <a:pt x="1555" y="102"/>
                </a:cubicBezTo>
                <a:cubicBezTo>
                  <a:pt x="1676" y="85"/>
                  <a:pt x="1801" y="83"/>
                  <a:pt x="1922" y="73"/>
                </a:cubicBezTo>
                <a:cubicBezTo>
                  <a:pt x="1977" y="55"/>
                  <a:pt x="2044" y="57"/>
                  <a:pt x="2102" y="52"/>
                </a:cubicBezTo>
                <a:cubicBezTo>
                  <a:pt x="2216" y="42"/>
                  <a:pt x="2326" y="35"/>
                  <a:pt x="2440" y="30"/>
                </a:cubicBezTo>
                <a:cubicBezTo>
                  <a:pt x="2589" y="12"/>
                  <a:pt x="2737" y="7"/>
                  <a:pt x="2887" y="1"/>
                </a:cubicBezTo>
                <a:cubicBezTo>
                  <a:pt x="2940" y="3"/>
                  <a:pt x="2993" y="0"/>
                  <a:pt x="3045" y="8"/>
                </a:cubicBezTo>
                <a:cubicBezTo>
                  <a:pt x="3064" y="11"/>
                  <a:pt x="3006" y="13"/>
                  <a:pt x="2987" y="16"/>
                </a:cubicBezTo>
                <a:cubicBezTo>
                  <a:pt x="2882" y="32"/>
                  <a:pt x="3025" y="14"/>
                  <a:pt x="2865" y="30"/>
                </a:cubicBezTo>
                <a:cubicBezTo>
                  <a:pt x="2774" y="39"/>
                  <a:pt x="2682" y="50"/>
                  <a:pt x="2591" y="59"/>
                </a:cubicBezTo>
                <a:cubicBezTo>
                  <a:pt x="2542" y="71"/>
                  <a:pt x="2490" y="73"/>
                  <a:pt x="2440" y="80"/>
                </a:cubicBezTo>
                <a:cubicBezTo>
                  <a:pt x="2316" y="114"/>
                  <a:pt x="2179" y="133"/>
                  <a:pt x="2051" y="145"/>
                </a:cubicBezTo>
                <a:cubicBezTo>
                  <a:pt x="1979" y="163"/>
                  <a:pt x="1902" y="172"/>
                  <a:pt x="1828" y="181"/>
                </a:cubicBezTo>
                <a:cubicBezTo>
                  <a:pt x="1781" y="197"/>
                  <a:pt x="1830" y="182"/>
                  <a:pt x="1742" y="196"/>
                </a:cubicBezTo>
                <a:cubicBezTo>
                  <a:pt x="1674" y="207"/>
                  <a:pt x="1608" y="223"/>
                  <a:pt x="1540" y="232"/>
                </a:cubicBezTo>
                <a:cubicBezTo>
                  <a:pt x="1485" y="250"/>
                  <a:pt x="1418" y="253"/>
                  <a:pt x="1360" y="260"/>
                </a:cubicBezTo>
                <a:cubicBezTo>
                  <a:pt x="1311" y="279"/>
                  <a:pt x="1254" y="278"/>
                  <a:pt x="1202" y="289"/>
                </a:cubicBezTo>
                <a:cubicBezTo>
                  <a:pt x="1101" y="310"/>
                  <a:pt x="1002" y="335"/>
                  <a:pt x="899" y="347"/>
                </a:cubicBezTo>
                <a:cubicBezTo>
                  <a:pt x="826" y="371"/>
                  <a:pt x="738" y="382"/>
                  <a:pt x="662" y="390"/>
                </a:cubicBezTo>
                <a:cubicBezTo>
                  <a:pt x="558" y="423"/>
                  <a:pt x="439" y="433"/>
                  <a:pt x="331" y="448"/>
                </a:cubicBezTo>
                <a:cubicBezTo>
                  <a:pt x="259" y="471"/>
                  <a:pt x="175" y="470"/>
                  <a:pt x="100" y="476"/>
                </a:cubicBezTo>
                <a:cubicBezTo>
                  <a:pt x="55" y="484"/>
                  <a:pt x="0" y="499"/>
                  <a:pt x="28" y="426"/>
                </a:cubicBezTo>
                <a:cubicBezTo>
                  <a:pt x="30" y="420"/>
                  <a:pt x="38" y="416"/>
                  <a:pt x="43" y="412"/>
                </a:cubicBezTo>
                <a:cubicBezTo>
                  <a:pt x="90" y="374"/>
                  <a:pt x="93" y="312"/>
                  <a:pt x="151" y="298"/>
                </a:cubicBezTo>
                <a:cubicBezTo>
                  <a:pt x="170" y="334"/>
                  <a:pt x="316" y="255"/>
                  <a:pt x="346" y="2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2280" y="4572000"/>
            <a:ext cx="5257800" cy="1412640"/>
            <a:chOff x="152280" y="4572000"/>
            <a:chExt cx="5257800" cy="1412640"/>
          </a:xfrm>
        </p:grpSpPr>
        <p:sp>
          <p:nvSpPr>
            <p:cNvPr id="84" name=""/>
            <p:cNvSpPr/>
            <p:nvPr/>
          </p:nvSpPr>
          <p:spPr>
            <a:xfrm>
              <a:off x="152280" y="4773600"/>
              <a:ext cx="5257800" cy="1211040"/>
            </a:xfrm>
            <a:custGeom>
              <a:avLst/>
              <a:gdLst/>
              <a:ahLst/>
              <a:rect l="l" t="t" r="r" b="b"/>
              <a:pathLst>
                <a:path w="3312" h="763">
                  <a:moveTo>
                    <a:pt x="963" y="0"/>
                  </a:moveTo>
                  <a:cubicBezTo>
                    <a:pt x="892" y="9"/>
                    <a:pt x="274" y="33"/>
                    <a:pt x="160" y="78"/>
                  </a:cubicBezTo>
                  <a:cubicBezTo>
                    <a:pt x="122" y="113"/>
                    <a:pt x="0" y="160"/>
                    <a:pt x="59" y="241"/>
                  </a:cubicBezTo>
                  <a:cubicBezTo>
                    <a:pt x="165" y="400"/>
                    <a:pt x="390" y="535"/>
                    <a:pt x="682" y="615"/>
                  </a:cubicBezTo>
                  <a:cubicBezTo>
                    <a:pt x="875" y="655"/>
                    <a:pt x="1420" y="728"/>
                    <a:pt x="1616" y="740"/>
                  </a:cubicBezTo>
                  <a:cubicBezTo>
                    <a:pt x="2006" y="737"/>
                    <a:pt x="2768" y="763"/>
                    <a:pt x="3024" y="599"/>
                  </a:cubicBezTo>
                  <a:cubicBezTo>
                    <a:pt x="3048" y="592"/>
                    <a:pt x="3071" y="584"/>
                    <a:pt x="3095" y="576"/>
                  </a:cubicBezTo>
                  <a:cubicBezTo>
                    <a:pt x="3103" y="573"/>
                    <a:pt x="3118" y="568"/>
                    <a:pt x="3118" y="568"/>
                  </a:cubicBezTo>
                  <a:cubicBezTo>
                    <a:pt x="3177" y="519"/>
                    <a:pt x="3244" y="486"/>
                    <a:pt x="3312" y="451"/>
                  </a:cubicBezTo>
                  <a:cubicBezTo>
                    <a:pt x="3245" y="431"/>
                    <a:pt x="3229" y="438"/>
                    <a:pt x="3141" y="444"/>
                  </a:cubicBezTo>
                  <a:cubicBezTo>
                    <a:pt x="3110" y="453"/>
                    <a:pt x="3100" y="477"/>
                    <a:pt x="3071" y="490"/>
                  </a:cubicBezTo>
                  <a:cubicBezTo>
                    <a:pt x="2975" y="532"/>
                    <a:pt x="2876" y="574"/>
                    <a:pt x="2775" y="599"/>
                  </a:cubicBezTo>
                  <a:cubicBezTo>
                    <a:pt x="2651" y="663"/>
                    <a:pt x="2489" y="654"/>
                    <a:pt x="2355" y="661"/>
                  </a:cubicBezTo>
                  <a:cubicBezTo>
                    <a:pt x="2085" y="657"/>
                    <a:pt x="1927" y="662"/>
                    <a:pt x="1693" y="646"/>
                  </a:cubicBezTo>
                  <a:cubicBezTo>
                    <a:pt x="1294" y="619"/>
                    <a:pt x="893" y="556"/>
                    <a:pt x="510" y="444"/>
                  </a:cubicBezTo>
                  <a:cubicBezTo>
                    <a:pt x="486" y="427"/>
                    <a:pt x="460" y="416"/>
                    <a:pt x="432" y="405"/>
                  </a:cubicBezTo>
                  <a:cubicBezTo>
                    <a:pt x="417" y="399"/>
                    <a:pt x="401" y="394"/>
                    <a:pt x="386" y="389"/>
                  </a:cubicBezTo>
                  <a:cubicBezTo>
                    <a:pt x="378" y="386"/>
                    <a:pt x="362" y="381"/>
                    <a:pt x="362" y="381"/>
                  </a:cubicBezTo>
                  <a:cubicBezTo>
                    <a:pt x="354" y="373"/>
                    <a:pt x="348" y="364"/>
                    <a:pt x="339" y="358"/>
                  </a:cubicBezTo>
                  <a:cubicBezTo>
                    <a:pt x="332" y="353"/>
                    <a:pt x="322" y="355"/>
                    <a:pt x="316" y="350"/>
                  </a:cubicBezTo>
                  <a:cubicBezTo>
                    <a:pt x="269" y="312"/>
                    <a:pt x="269" y="309"/>
                    <a:pt x="246" y="272"/>
                  </a:cubicBezTo>
                  <a:cubicBezTo>
                    <a:pt x="248" y="249"/>
                    <a:pt x="247" y="225"/>
                    <a:pt x="253" y="202"/>
                  </a:cubicBezTo>
                  <a:cubicBezTo>
                    <a:pt x="260" y="172"/>
                    <a:pt x="293" y="166"/>
                    <a:pt x="316" y="156"/>
                  </a:cubicBezTo>
                  <a:cubicBezTo>
                    <a:pt x="354" y="140"/>
                    <a:pt x="385" y="114"/>
                    <a:pt x="425" y="101"/>
                  </a:cubicBezTo>
                  <a:cubicBezTo>
                    <a:pt x="475" y="66"/>
                    <a:pt x="566" y="74"/>
                    <a:pt x="620" y="47"/>
                  </a:cubicBezTo>
                  <a:cubicBezTo>
                    <a:pt x="671" y="21"/>
                    <a:pt x="905" y="0"/>
                    <a:pt x="963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4572000"/>
              <a:ext cx="2684520" cy="955440"/>
            </a:xfrm>
            <a:custGeom>
              <a:avLst/>
              <a:gdLst/>
              <a:ahLst/>
              <a:rect l="l" t="t" r="r" b="b"/>
              <a:pathLst>
                <a:path w="1691" h="602">
                  <a:moveTo>
                    <a:pt x="1230" y="0"/>
                  </a:moveTo>
                  <a:cubicBezTo>
                    <a:pt x="1112" y="13"/>
                    <a:pt x="983" y="7"/>
                    <a:pt x="864" y="20"/>
                  </a:cubicBezTo>
                  <a:cubicBezTo>
                    <a:pt x="683" y="40"/>
                    <a:pt x="523" y="73"/>
                    <a:pt x="358" y="109"/>
                  </a:cubicBezTo>
                  <a:cubicBezTo>
                    <a:pt x="353" y="113"/>
                    <a:pt x="349" y="117"/>
                    <a:pt x="342" y="119"/>
                  </a:cubicBezTo>
                  <a:cubicBezTo>
                    <a:pt x="328" y="124"/>
                    <a:pt x="296" y="132"/>
                    <a:pt x="296" y="132"/>
                  </a:cubicBezTo>
                  <a:cubicBezTo>
                    <a:pt x="255" y="156"/>
                    <a:pt x="214" y="179"/>
                    <a:pt x="171" y="202"/>
                  </a:cubicBezTo>
                  <a:cubicBezTo>
                    <a:pt x="149" y="214"/>
                    <a:pt x="141" y="225"/>
                    <a:pt x="117" y="238"/>
                  </a:cubicBezTo>
                  <a:cubicBezTo>
                    <a:pt x="104" y="255"/>
                    <a:pt x="83" y="268"/>
                    <a:pt x="70" y="285"/>
                  </a:cubicBezTo>
                  <a:cubicBezTo>
                    <a:pt x="64" y="307"/>
                    <a:pt x="56" y="326"/>
                    <a:pt x="39" y="348"/>
                  </a:cubicBezTo>
                  <a:cubicBezTo>
                    <a:pt x="47" y="379"/>
                    <a:pt x="58" y="419"/>
                    <a:pt x="0" y="444"/>
                  </a:cubicBezTo>
                  <a:cubicBezTo>
                    <a:pt x="5" y="450"/>
                    <a:pt x="2" y="460"/>
                    <a:pt x="16" y="464"/>
                  </a:cubicBezTo>
                  <a:cubicBezTo>
                    <a:pt x="122" y="494"/>
                    <a:pt x="238" y="557"/>
                    <a:pt x="367" y="563"/>
                  </a:cubicBezTo>
                  <a:cubicBezTo>
                    <a:pt x="622" y="574"/>
                    <a:pt x="843" y="594"/>
                    <a:pt x="1099" y="602"/>
                  </a:cubicBezTo>
                  <a:cubicBezTo>
                    <a:pt x="1191" y="599"/>
                    <a:pt x="1264" y="525"/>
                    <a:pt x="1354" y="520"/>
                  </a:cubicBezTo>
                  <a:cubicBezTo>
                    <a:pt x="1405" y="513"/>
                    <a:pt x="1442" y="501"/>
                    <a:pt x="1487" y="490"/>
                  </a:cubicBezTo>
                  <a:cubicBezTo>
                    <a:pt x="1509" y="485"/>
                    <a:pt x="1534" y="482"/>
                    <a:pt x="1557" y="477"/>
                  </a:cubicBezTo>
                  <a:cubicBezTo>
                    <a:pt x="1570" y="474"/>
                    <a:pt x="1583" y="470"/>
                    <a:pt x="1596" y="467"/>
                  </a:cubicBezTo>
                  <a:cubicBezTo>
                    <a:pt x="1616" y="462"/>
                    <a:pt x="1658" y="453"/>
                    <a:pt x="1658" y="453"/>
                  </a:cubicBezTo>
                  <a:cubicBezTo>
                    <a:pt x="1665" y="449"/>
                    <a:pt x="1691" y="437"/>
                    <a:pt x="1666" y="430"/>
                  </a:cubicBezTo>
                  <a:cubicBezTo>
                    <a:pt x="1657" y="428"/>
                    <a:pt x="1645" y="433"/>
                    <a:pt x="1635" y="434"/>
                  </a:cubicBezTo>
                  <a:cubicBezTo>
                    <a:pt x="1619" y="436"/>
                    <a:pt x="1604" y="438"/>
                    <a:pt x="1588" y="440"/>
                  </a:cubicBezTo>
                  <a:cubicBezTo>
                    <a:pt x="1516" y="450"/>
                    <a:pt x="1445" y="462"/>
                    <a:pt x="1370" y="467"/>
                  </a:cubicBezTo>
                  <a:cubicBezTo>
                    <a:pt x="1306" y="480"/>
                    <a:pt x="1243" y="481"/>
                    <a:pt x="1175" y="487"/>
                  </a:cubicBezTo>
                  <a:cubicBezTo>
                    <a:pt x="974" y="485"/>
                    <a:pt x="776" y="483"/>
                    <a:pt x="576" y="477"/>
                  </a:cubicBezTo>
                  <a:cubicBezTo>
                    <a:pt x="496" y="468"/>
                    <a:pt x="612" y="480"/>
                    <a:pt x="459" y="467"/>
                  </a:cubicBezTo>
                  <a:cubicBezTo>
                    <a:pt x="446" y="466"/>
                    <a:pt x="433" y="465"/>
                    <a:pt x="420" y="464"/>
                  </a:cubicBezTo>
                  <a:cubicBezTo>
                    <a:pt x="404" y="462"/>
                    <a:pt x="374" y="457"/>
                    <a:pt x="374" y="457"/>
                  </a:cubicBezTo>
                  <a:cubicBezTo>
                    <a:pt x="363" y="444"/>
                    <a:pt x="350" y="441"/>
                    <a:pt x="319" y="437"/>
                  </a:cubicBezTo>
                  <a:cubicBezTo>
                    <a:pt x="292" y="429"/>
                    <a:pt x="274" y="422"/>
                    <a:pt x="257" y="410"/>
                  </a:cubicBezTo>
                  <a:cubicBezTo>
                    <a:pt x="266" y="395"/>
                    <a:pt x="283" y="380"/>
                    <a:pt x="304" y="368"/>
                  </a:cubicBezTo>
                  <a:cubicBezTo>
                    <a:pt x="281" y="353"/>
                    <a:pt x="271" y="349"/>
                    <a:pt x="257" y="334"/>
                  </a:cubicBezTo>
                  <a:cubicBezTo>
                    <a:pt x="251" y="328"/>
                    <a:pt x="241" y="315"/>
                    <a:pt x="241" y="315"/>
                  </a:cubicBezTo>
                  <a:cubicBezTo>
                    <a:pt x="254" y="276"/>
                    <a:pt x="281" y="267"/>
                    <a:pt x="335" y="238"/>
                  </a:cubicBezTo>
                  <a:cubicBezTo>
                    <a:pt x="364" y="222"/>
                    <a:pt x="391" y="205"/>
                    <a:pt x="420" y="189"/>
                  </a:cubicBezTo>
                  <a:cubicBezTo>
                    <a:pt x="451" y="172"/>
                    <a:pt x="471" y="151"/>
                    <a:pt x="506" y="136"/>
                  </a:cubicBezTo>
                  <a:cubicBezTo>
                    <a:pt x="536" y="99"/>
                    <a:pt x="612" y="84"/>
                    <a:pt x="693" y="73"/>
                  </a:cubicBezTo>
                  <a:cubicBezTo>
                    <a:pt x="794" y="58"/>
                    <a:pt x="893" y="41"/>
                    <a:pt x="996" y="30"/>
                  </a:cubicBezTo>
                  <a:cubicBezTo>
                    <a:pt x="1033" y="20"/>
                    <a:pt x="1061" y="18"/>
                    <a:pt x="1105" y="13"/>
                  </a:cubicBezTo>
                  <a:cubicBezTo>
                    <a:pt x="1149" y="9"/>
                    <a:pt x="1184" y="0"/>
                    <a:pt x="1230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6720" y="4572000"/>
              <a:ext cx="1447560" cy="609480"/>
            </a:xfrm>
            <a:custGeom>
              <a:avLst/>
              <a:gdLst/>
              <a:ahLst/>
              <a:rect l="l" t="t" r="r" b="b"/>
              <a:pathLst>
                <a:path w="1189" h="477">
                  <a:moveTo>
                    <a:pt x="41" y="65"/>
                  </a:moveTo>
                  <a:cubicBezTo>
                    <a:pt x="49" y="70"/>
                    <a:pt x="62" y="71"/>
                    <a:pt x="65" y="80"/>
                  </a:cubicBezTo>
                  <a:cubicBezTo>
                    <a:pt x="73" y="108"/>
                    <a:pt x="44" y="143"/>
                    <a:pt x="34" y="166"/>
                  </a:cubicBezTo>
                  <a:cubicBezTo>
                    <a:pt x="21" y="195"/>
                    <a:pt x="17" y="215"/>
                    <a:pt x="10" y="244"/>
                  </a:cubicBezTo>
                  <a:cubicBezTo>
                    <a:pt x="14" y="308"/>
                    <a:pt x="0" y="428"/>
                    <a:pt x="49" y="477"/>
                  </a:cubicBezTo>
                  <a:cubicBezTo>
                    <a:pt x="72" y="472"/>
                    <a:pt x="100" y="470"/>
                    <a:pt x="119" y="454"/>
                  </a:cubicBezTo>
                  <a:cubicBezTo>
                    <a:pt x="143" y="434"/>
                    <a:pt x="152" y="395"/>
                    <a:pt x="166" y="368"/>
                  </a:cubicBezTo>
                  <a:cubicBezTo>
                    <a:pt x="201" y="299"/>
                    <a:pt x="237" y="233"/>
                    <a:pt x="275" y="166"/>
                  </a:cubicBezTo>
                  <a:cubicBezTo>
                    <a:pt x="316" y="94"/>
                    <a:pt x="281" y="110"/>
                    <a:pt x="329" y="96"/>
                  </a:cubicBezTo>
                  <a:cubicBezTo>
                    <a:pt x="394" y="201"/>
                    <a:pt x="364" y="331"/>
                    <a:pt x="399" y="446"/>
                  </a:cubicBezTo>
                  <a:cubicBezTo>
                    <a:pt x="422" y="441"/>
                    <a:pt x="447" y="440"/>
                    <a:pt x="469" y="430"/>
                  </a:cubicBezTo>
                  <a:cubicBezTo>
                    <a:pt x="492" y="420"/>
                    <a:pt x="514" y="380"/>
                    <a:pt x="524" y="360"/>
                  </a:cubicBezTo>
                  <a:cubicBezTo>
                    <a:pt x="563" y="281"/>
                    <a:pt x="543" y="266"/>
                    <a:pt x="618" y="214"/>
                  </a:cubicBezTo>
                  <a:cubicBezTo>
                    <a:pt x="676" y="254"/>
                    <a:pt x="713" y="232"/>
                    <a:pt x="773" y="275"/>
                  </a:cubicBezTo>
                  <a:cubicBezTo>
                    <a:pt x="884" y="355"/>
                    <a:pt x="1040" y="345"/>
                    <a:pt x="1170" y="360"/>
                  </a:cubicBezTo>
                  <a:cubicBezTo>
                    <a:pt x="1175" y="352"/>
                    <a:pt x="1184" y="346"/>
                    <a:pt x="1186" y="337"/>
                  </a:cubicBezTo>
                  <a:cubicBezTo>
                    <a:pt x="1189" y="320"/>
                    <a:pt x="1137" y="245"/>
                    <a:pt x="1123" y="236"/>
                  </a:cubicBezTo>
                  <a:cubicBezTo>
                    <a:pt x="1104" y="223"/>
                    <a:pt x="1033" y="220"/>
                    <a:pt x="1030" y="220"/>
                  </a:cubicBezTo>
                  <a:cubicBezTo>
                    <a:pt x="987" y="205"/>
                    <a:pt x="953" y="178"/>
                    <a:pt x="913" y="158"/>
                  </a:cubicBezTo>
                  <a:cubicBezTo>
                    <a:pt x="852" y="128"/>
                    <a:pt x="793" y="102"/>
                    <a:pt x="726" y="88"/>
                  </a:cubicBezTo>
                  <a:cubicBezTo>
                    <a:pt x="694" y="95"/>
                    <a:pt x="664" y="100"/>
                    <a:pt x="633" y="111"/>
                  </a:cubicBezTo>
                  <a:cubicBezTo>
                    <a:pt x="525" y="95"/>
                    <a:pt x="423" y="69"/>
                    <a:pt x="314" y="57"/>
                  </a:cubicBezTo>
                  <a:cubicBezTo>
                    <a:pt x="237" y="35"/>
                    <a:pt x="158" y="15"/>
                    <a:pt x="80" y="2"/>
                  </a:cubicBezTo>
                  <a:cubicBezTo>
                    <a:pt x="70" y="5"/>
                    <a:pt x="54" y="0"/>
                    <a:pt x="49" y="10"/>
                  </a:cubicBezTo>
                  <a:cubicBezTo>
                    <a:pt x="43" y="22"/>
                    <a:pt x="59" y="36"/>
                    <a:pt x="57" y="49"/>
                  </a:cubicBezTo>
                  <a:cubicBezTo>
                    <a:pt x="56" y="56"/>
                    <a:pt x="46" y="60"/>
                    <a:pt x="41" y="65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65720" y="411948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EIHSU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080" y="4419720"/>
            <a:ext cx="19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ENC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5800" y="380988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YICHING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5800" y="47293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TIP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ANANUK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8400" y="5029200"/>
            <a:ext cx="25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ANLADA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SS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llegro BT"/>
              </a:rPr>
              <a:t>Click to edit the title text format</a:t>
            </a:r>
            <a:endParaRPr b="0" lang="en-US" sz="4400" spc="-1" strike="noStrike">
              <a:solidFill>
                <a:srgbClr val="ee2c2c"/>
              </a:solidFill>
              <a:latin typeface="Allegro B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Practical Issues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dishes to ma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has lots of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odels require computing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knowledge required 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imulated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- to deal with non-smooth optimiz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- To simulate impact of uncertainty in demand on profits, given the solution from the evolutionary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61320" cy="3756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c2c"/>
                </a:solidFill>
                <a:latin typeface="Arial Black"/>
              </a:rPr>
              <a:t>Solution Methodology (Demand)</a:t>
            </a:r>
            <a:endParaRPr b="0" lang="en-US" sz="2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914400"/>
            <a:ext cx="1600200" cy="533520"/>
          </a:xfrm>
          <a:prstGeom prst="wedgeRoundRectCallout">
            <a:avLst>
              <a:gd name="adj1" fmla="val 17657"/>
              <a:gd name="adj2" fmla="val 229763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914400"/>
            <a:ext cx="1828800" cy="533520"/>
          </a:xfrm>
          <a:prstGeom prst="wedgeRoundRectCallout">
            <a:avLst>
              <a:gd name="adj1" fmla="val -38365"/>
              <a:gd name="adj2" fmla="val 2080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914400"/>
            <a:ext cx="1600200" cy="533520"/>
          </a:xfrm>
          <a:prstGeom prst="wedgeRoundRectCallout">
            <a:avLst>
              <a:gd name="adj1" fmla="val -155953"/>
              <a:gd name="adj2" fmla="val 2050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6019920"/>
            <a:ext cx="1600200" cy="533160"/>
          </a:xfrm>
          <a:prstGeom prst="wedgeRoundRectCallout">
            <a:avLst>
              <a:gd name="adj1" fmla="val 61509"/>
              <a:gd name="adj2" fmla="val -1705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019920"/>
            <a:ext cx="2133360" cy="533160"/>
          </a:xfrm>
          <a:prstGeom prst="wedgeRoundRectCallout">
            <a:avLst>
              <a:gd name="adj1" fmla="val 13393"/>
              <a:gd name="adj2" fmla="val -411606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c2c"/>
                </a:solidFill>
                <a:latin typeface="Arial Black"/>
              </a:rPr>
              <a:t>Solution Methodology </a:t>
            </a:r>
            <a:r>
              <a:rPr b="0" lang="en-US" sz="2400" spc="-1" strike="noStrike">
                <a:solidFill>
                  <a:srgbClr val="ee2c2c"/>
                </a:solidFill>
                <a:latin typeface="Arial Black"/>
              </a:rPr>
              <a:t>(Ingredient Requirement)</a:t>
            </a:r>
            <a:endParaRPr b="0" lang="en-US" sz="24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9360" y="1924200"/>
            <a:ext cx="4291200" cy="2811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209680"/>
            <a:ext cx="1600200" cy="533520"/>
          </a:xfrm>
          <a:prstGeom prst="wedgeRoundRectCallout">
            <a:avLst>
              <a:gd name="adj1" fmla="val 118750"/>
              <a:gd name="adj2" fmla="val 84819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638680"/>
            <a:ext cx="1981440" cy="533520"/>
          </a:xfrm>
          <a:prstGeom prst="wedgeRoundRectCallout">
            <a:avLst>
              <a:gd name="adj1" fmla="val -2083"/>
              <a:gd name="adj2" fmla="val -280652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ion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1905120"/>
            <a:ext cx="1600200" cy="533160"/>
          </a:xfrm>
          <a:prstGeom prst="wedgeRoundRectCallout">
            <a:avLst>
              <a:gd name="adj1" fmla="val -139486"/>
              <a:gd name="adj2" fmla="val 18152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V="1">
            <a:off x="3276720" y="914400"/>
            <a:ext cx="0" cy="228600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The Model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914400"/>
            <a:ext cx="1600200" cy="9907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133720"/>
            <a:ext cx="1600200" cy="9903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352680"/>
            <a:ext cx="1600200" cy="9907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bj 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 – COGS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9144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ipe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redi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19051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redi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289548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914400"/>
            <a:ext cx="160020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elf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8862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 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8769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16002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5909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 used w/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sh Perio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58128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4572000"/>
            <a:ext cx="160020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 V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r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Qty &amp;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55627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95120" y="3809880"/>
            <a:ext cx="685800" cy="14479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312408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81480" y="3962520"/>
            <a:ext cx="60984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81480" y="4266720"/>
            <a:ext cx="609840" cy="6858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81480" y="4419360"/>
            <a:ext cx="609840" cy="1523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53341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35268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143000"/>
            <a:ext cx="30456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0"/>
                </a:lnTo>
                <a:lnTo>
                  <a:pt x="192" y="1152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480" y="1981080"/>
            <a:ext cx="609840" cy="1295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19051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120" y="2743200"/>
            <a:ext cx="685800" cy="5335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95120" y="2286000"/>
            <a:ext cx="685800" cy="3049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6765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81480" y="1905120"/>
            <a:ext cx="609840" cy="380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81480" y="2971800"/>
            <a:ext cx="609840" cy="380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2c2c"/>
                </a:solidFill>
                <a:latin typeface="Arial Black"/>
              </a:rPr>
              <a:t>Results (Evolutionary Solver)</a:t>
            </a:r>
            <a:endParaRPr b="0" lang="en-US" sz="32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477120" cy="5897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10280" y="1600200"/>
            <a:ext cx="1828800" cy="1981080"/>
          </a:xfrm>
          <a:prstGeom prst="wedgeRoundRectCallout">
            <a:avLst>
              <a:gd name="adj1" fmla="val -65277"/>
              <a:gd name="adj2" fmla="val 36055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order quantity and frequency per month based on the averag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2c2c"/>
                </a:solidFill>
                <a:latin typeface="Arial Black"/>
              </a:rPr>
              <a:t>Results (Crystal Ball)</a:t>
            </a:r>
            <a:endParaRPr b="0" lang="en-US" sz="32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029200" cy="36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57200" y="1143000"/>
          <a:ext cx="2666880" cy="4636800"/>
        </p:xfrm>
        <a:graphic>
          <a:graphicData uri="http://schemas.openxmlformats.org/drawingml/2006/table">
            <a:tbl>
              <a:tblPr/>
              <a:tblGrid>
                <a:gridCol w="1676160"/>
                <a:gridCol w="990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kew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ur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eff. of Var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g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an Std.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108400" y="10666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2c2c"/>
                </a:solidFill>
                <a:latin typeface="Arial Black"/>
              </a:rPr>
              <a:t>Conclusion and Recommendation</a:t>
            </a:r>
            <a:endParaRPr b="0" lang="en-US" sz="36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wastage is unavoi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up with daily 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 small on-the-hous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lower demanded ingredients from suppliers with lower minimum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o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del to cover the whole menu including drinks and Japanes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the model for day-to-da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modeling of storag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yearly and weekly seasonality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Revenue side- Data-mining on customer demand (Find out what they wa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2c2c"/>
          </a:solidFill>
          <a:ln w="9360">
            <a:solidFill>
              <a:srgbClr val="ee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9800" y="3733920"/>
            <a:ext cx="15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29920" y="23623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ngsana New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09680" y="3352680"/>
            <a:ext cx="4419720" cy="152640"/>
            <a:chOff x="2209680" y="3352680"/>
            <a:chExt cx="4419720" cy="152640"/>
          </a:xfrm>
        </p:grpSpPr>
        <p:sp>
          <p:nvSpPr>
            <p:cNvPr id="223" name=""/>
            <p:cNvSpPr/>
            <p:nvPr/>
          </p:nvSpPr>
          <p:spPr>
            <a:xfrm>
              <a:off x="22096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195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90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83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71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491880" y="16020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XBlk BT"/>
              </a:rPr>
              <a:t>THAI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The Restaurant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4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gant yet casual dining destination serving a range of authentic Thai foods and the sush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ing residential neighborhoods in South Florida (Delray Beach, Lighthouse Point, Boca Raton, and Deerfield B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ly pr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on: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2c2c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ventory management is sub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d by individual with no fixed ordering period nor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turing of the cost of wa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2c2c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types of major ingred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 dishes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wa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inventor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ing quantities of 64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ing frequencies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sh has a demand pattern (mean &amp; SD) based on hist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of Dish i = Normal random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ingredients has a different shel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819520"/>
            <a:ext cx="1981080" cy="761760"/>
          </a:xfrm>
          <a:custGeom>
            <a:avLst/>
            <a:gdLst/>
            <a:ahLst/>
            <a:rect l="l" t="t" r="r" b="b"/>
            <a:pathLst>
              <a:path w="1248" h="816">
                <a:moveTo>
                  <a:pt x="0" y="816"/>
                </a:moveTo>
                <a:cubicBezTo>
                  <a:pt x="556" y="810"/>
                  <a:pt x="368" y="0"/>
                  <a:pt x="576" y="0"/>
                </a:cubicBezTo>
                <a:cubicBezTo>
                  <a:pt x="784" y="0"/>
                  <a:pt x="556" y="801"/>
                  <a:pt x="1248" y="816"/>
                </a:cubicBezTo>
                <a:cubicBezTo>
                  <a:pt x="1248" y="816"/>
                  <a:pt x="0" y="816"/>
                  <a:pt x="0" y="81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581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4197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7360" y="259092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Me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of Dish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560" y="42670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 + Spice + Tofu +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7339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Revenue - Purchase – Misc.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of dis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demand met of dis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Un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of ingredie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ingredie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.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rdering Cost + Storag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24400" y="2322360"/>
            <a:ext cx="2036880" cy="1444680"/>
          </a:xfrm>
          <a:custGeom>
            <a:avLst/>
            <a:gdLst/>
            <a:ahLst/>
            <a:rect l="l" t="t" r="r" b="b"/>
            <a:pathLst>
              <a:path w="1283" h="910">
                <a:moveTo>
                  <a:pt x="23" y="0"/>
                </a:moveTo>
                <a:cubicBezTo>
                  <a:pt x="54" y="115"/>
                  <a:pt x="0" y="551"/>
                  <a:pt x="210" y="693"/>
                </a:cubicBezTo>
                <a:cubicBezTo>
                  <a:pt x="455" y="910"/>
                  <a:pt x="1060" y="817"/>
                  <a:pt x="1283" y="8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Solution Methodology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19520"/>
            <a:ext cx="2667240" cy="1600200"/>
          </a:xfrm>
          <a:prstGeom prst="rect">
            <a:avLst/>
          </a:prstGeom>
          <a:solidFill>
            <a:srgbClr val="c0c0c0">
              <a:alpha val="62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ily Runn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for each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ingred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1120" y="3200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gred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8920" y="33526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9280" y="182880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Demand (Mean &amp; 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12040" y="4952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5812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4197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3320" y="10666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 running Inventory wo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1905120"/>
            <a:ext cx="1981080" cy="1066680"/>
          </a:xfrm>
          <a:prstGeom prst="wedgeRoundRectCallout">
            <a:avLst>
              <a:gd name="adj1" fmla="val -125162"/>
              <a:gd name="adj2" fmla="val 77231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ingredient to make dish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49:06Z</dcterms:created>
  <dc:creator>Spencer</dc:creator>
  <dc:description/>
  <dc:language>en-US</dc:language>
  <cp:lastModifiedBy>Pat</cp:lastModifiedBy>
  <dcterms:modified xsi:type="dcterms:W3CDTF">2004-11-28T18:23:26Z</dcterms:modified>
  <cp:revision>61</cp:revision>
  <dc:subject/>
  <dc:title>Slide 1</dc:title>
</cp:coreProperties>
</file>