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F45B-E551-40BD-958C-9E01EEB3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lar de organismos multilaterales existentes para resoulcion de c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en mencionar prestamos bilaterales (caso USA en la crisis Mex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 selected will depend on the decision of the IMF about whether to provide the funds to do a bail-out or let the country collapse (bail-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quidity crisis vs. solvency cri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CC7-F429-486B-AE41-AE99C3A7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9C7-ED97-4562-BBB3-E6F8138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6C4-0055-464C-8EBB-C5AA3828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461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2600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461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2600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52F-B7F6-4193-89FC-B3F1152A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4594-7D7A-4FC0-90F0-1CBC3F0C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E19-0732-4144-A028-8839156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417D-0F3D-408A-B517-9E92797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451C-C365-488C-A62D-A41ED9DA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868-2044-4148-85FF-C4319F32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9250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DAED-A3D1-4F43-81BF-390565D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7668-5773-4F37-BAE2-E93BAE0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F53-9833-4BD5-8488-1976CA4E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77C-DC34-4393-A7D3-E1B16345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B8C7-13EB-4DBD-8D99-DDC87E3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2A4F-A3F2-484E-A9A1-5F4306ED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C8DE-A816-4419-AD51-8AEFCFBC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461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2600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06668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7461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2600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DEC-1EB3-42AC-980D-5AC1BBA9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3C6-AEE1-4C03-964F-FAFF1F09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6FE-C16B-4EDD-9327-F033B912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DF8-39FA-401D-AE3A-3734A0C6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9250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C36-52AD-45F2-B3BD-F5196BFF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836-1F43-4693-89F9-2E4F0C8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DF2-DA36-440C-9E1D-F71E58C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D02-503E-4E93-850C-4DD52F3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5960" y="1295280"/>
            <a:ext cx="8254800" cy="5562720"/>
          </a:xfrm>
          <a:custGeom>
            <a:avLst/>
            <a:gdLst/>
            <a:ahLst/>
            <a:rect l="l" t="t" r="r" b="b"/>
            <a:pathLst>
              <a:path w="5184" h="3159">
                <a:moveTo>
                  <a:pt x="0" y="3159"/>
                </a:moveTo>
                <a:lnTo>
                  <a:pt x="5184" y="3159"/>
                </a:lnTo>
                <a:lnTo>
                  <a:pt x="5184" y="0"/>
                </a:lnTo>
                <a:lnTo>
                  <a:pt x="0" y="0"/>
                </a:lnTo>
                <a:lnTo>
                  <a:pt x="0" y="3159"/>
                </a:lnTo>
                <a:lnTo>
                  <a:pt x="0" y="3159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885960" cy="5638680"/>
          </a:xfrm>
          <a:custGeom>
            <a:avLst/>
            <a:gdLst/>
            <a:ahLst/>
            <a:rect l="l" t="t" r="r" b="b"/>
            <a:pathLst>
              <a:path w="556" h="3159">
                <a:moveTo>
                  <a:pt x="0" y="0"/>
                </a:moveTo>
                <a:lnTo>
                  <a:pt x="0" y="3159"/>
                </a:lnTo>
                <a:lnTo>
                  <a:pt x="556" y="3159"/>
                </a:lnTo>
                <a:lnTo>
                  <a:pt x="55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6760" y="6480"/>
            <a:ext cx="19080" cy="907920"/>
          </a:xfrm>
          <a:custGeom>
            <a:avLst/>
            <a:gdLst/>
            <a:ahLst/>
            <a:rect l="l" t="t" r="r" b="b"/>
            <a:pathLst>
              <a:path w="12" h="695">
                <a:moveTo>
                  <a:pt x="12" y="0"/>
                </a:moveTo>
                <a:lnTo>
                  <a:pt x="0" y="0"/>
                </a:lnTo>
                <a:lnTo>
                  <a:pt x="0" y="695"/>
                </a:lnTo>
                <a:lnTo>
                  <a:pt x="12" y="69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6760" y="2576520"/>
            <a:ext cx="19080" cy="4281480"/>
          </a:xfrm>
          <a:custGeom>
            <a:avLst/>
            <a:gdLst/>
            <a:ahLst/>
            <a:rect l="l" t="t" r="r" b="b"/>
            <a:pathLst>
              <a:path w="12" h="2697">
                <a:moveTo>
                  <a:pt x="0" y="2697"/>
                </a:moveTo>
                <a:lnTo>
                  <a:pt x="12" y="2697"/>
                </a:lnTo>
                <a:lnTo>
                  <a:pt x="12" y="0"/>
                </a:lnTo>
                <a:lnTo>
                  <a:pt x="0" y="0"/>
                </a:lnTo>
                <a:lnTo>
                  <a:pt x="0" y="2697"/>
                </a:lnTo>
                <a:lnTo>
                  <a:pt x="0" y="2697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17840" y="1276200"/>
            <a:ext cx="7522920" cy="19080"/>
          </a:xfrm>
          <a:custGeom>
            <a:avLst/>
            <a:gdLst/>
            <a:ahLst/>
            <a:rect l="l" t="t" r="r" b="b"/>
            <a:pathLst>
              <a:path w="4724" h="12">
                <a:moveTo>
                  <a:pt x="4724" y="0"/>
                </a:moveTo>
                <a:lnTo>
                  <a:pt x="0" y="0"/>
                </a:lnTo>
                <a:lnTo>
                  <a:pt x="0" y="12"/>
                </a:lnTo>
                <a:lnTo>
                  <a:pt x="4724" y="12"/>
                </a:lnTo>
                <a:lnTo>
                  <a:pt x="4724" y="0"/>
                </a:lnTo>
                <a:lnTo>
                  <a:pt x="4724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6760" y="1600200"/>
            <a:ext cx="19080" cy="97632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252"/>
                </a:moveTo>
                <a:lnTo>
                  <a:pt x="12" y="252"/>
                </a:lnTo>
                <a:lnTo>
                  <a:pt x="12" y="0"/>
                </a:lnTo>
                <a:lnTo>
                  <a:pt x="0" y="0"/>
                </a:lnTo>
                <a:lnTo>
                  <a:pt x="0" y="252"/>
                </a:lnTo>
                <a:lnTo>
                  <a:pt x="0" y="252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6760" y="685800"/>
            <a:ext cx="19080" cy="609480"/>
          </a:xfrm>
          <a:custGeom>
            <a:avLst/>
            <a:gdLst/>
            <a:ahLst/>
            <a:rect l="l" t="t" r="r" b="b"/>
            <a:pathLst>
              <a:path w="12" h="252">
                <a:moveTo>
                  <a:pt x="12" y="0"/>
                </a:moveTo>
                <a:lnTo>
                  <a:pt x="0" y="0"/>
                </a:lnTo>
                <a:lnTo>
                  <a:pt x="0" y="252"/>
                </a:lnTo>
                <a:lnTo>
                  <a:pt x="12" y="25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6760" y="933480"/>
            <a:ext cx="19080" cy="666720"/>
          </a:xfrm>
          <a:custGeom>
            <a:avLst/>
            <a:gdLst/>
            <a:ahLst/>
            <a:rect l="l" t="t" r="r" b="b"/>
            <a:pathLst>
              <a:path w="12" h="420">
                <a:moveTo>
                  <a:pt x="0" y="0"/>
                </a:moveTo>
                <a:lnTo>
                  <a:pt x="0" y="420"/>
                </a:lnTo>
                <a:lnTo>
                  <a:pt x="12" y="42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cc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76200"/>
            <a:ext cx="55728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0" y="0"/>
                </a:move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217520" y="1276200"/>
            <a:ext cx="40032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251" y="0"/>
                </a:moveTo>
                <a:lnTo>
                  <a:pt x="0" y="0"/>
                </a:ln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251" y="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54040" y="1276200"/>
            <a:ext cx="665280" cy="19080"/>
          </a:xfrm>
          <a:custGeom>
            <a:avLst/>
            <a:gdLst/>
            <a:ahLst/>
            <a:rect l="l" t="t" r="r" b="b"/>
            <a:pathLst>
              <a:path w="418" h="12">
                <a:moveTo>
                  <a:pt x="0" y="0"/>
                </a:moveTo>
                <a:lnTo>
                  <a:pt x="0" y="12"/>
                </a:lnTo>
                <a:lnTo>
                  <a:pt x="418" y="12"/>
                </a:lnTo>
                <a:lnTo>
                  <a:pt x="41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cc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EB7-F882-4EC6-827E-6D11DECEE99D}" type="datetime3">
              <a:rPr b="0" lang="en-US" sz="1000" spc="-1" strike="noStrike">
                <a:solidFill>
                  <a:srgbClr val="ffffff"/>
                </a:solidFill>
                <a:latin typeface="Tahoma"/>
              </a:rPr>
              <a:t>July 29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32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ecision Models – Final Proj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Juan Pablo Murra – Andres Ondarra - Carlos Villarre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292-F720-49A5-9062-2A7861859F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77E-A81B-4DA9-B0A6-1A1AAE19C1A7}" type="datetime3">
              <a:rPr b="0" lang="en-US" sz="1000" spc="-1" strike="noStrike">
                <a:solidFill>
                  <a:srgbClr val="ffffff"/>
                </a:solidFill>
                <a:latin typeface="Tahoma"/>
              </a:rPr>
              <a:t>July 29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7F98-0175-4884-96DC-61CBFC6F56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8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Understanding the Actions of the IMF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 the Resolution of Country Cris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ision Mode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fessor David Jur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an Pablo Murra – Andres Ondarra – Carlos Villarr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43400" y="3200400"/>
          <a:ext cx="8366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00400"/>
                    <a:ext cx="836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27C-22ED-4CFB-9140-5236706B254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7E5610-851C-4585-A0D9-62DC3055348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Mexico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5105520" y="145404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048120" y="396864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E1E-743A-4655-909D-F92A225FC93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5414D-18F7-42B2-BB16-655FF4A3406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Argentin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5943600" cy="316080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897840" y="1387080"/>
            <a:ext cx="8174160" cy="1193400"/>
            <a:chOff x="897840" y="1387080"/>
            <a:chExt cx="8174160" cy="1193400"/>
          </a:xfrm>
        </p:grpSpPr>
        <p:sp>
          <p:nvSpPr>
            <p:cNvPr id="437" name=""/>
            <p:cNvSpPr/>
            <p:nvPr/>
          </p:nvSpPr>
          <p:spPr>
            <a:xfrm>
              <a:off x="969480" y="1387080"/>
              <a:ext cx="72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% Bail O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3120" y="13870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43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1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500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2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4744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3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6808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901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5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11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10920" y="138708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7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388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8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632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9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94720" y="13870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3480" y="173016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Trial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9912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656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8864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0964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3172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5236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80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4900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1788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3852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1416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25920" y="190008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0840" y="19000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45040" y="1900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416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9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6480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68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78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2996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12440" y="1900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7304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936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876160" y="1900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18720" y="207144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di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80840" y="2071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45040" y="207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416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6480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868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078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2996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12440" y="2071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7304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936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76160" y="2071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4480" y="2241360"/>
              <a:ext cx="37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d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80840" y="2241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5040" y="2241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416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6480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68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78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2996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12440" y="2241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304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936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876160" y="2241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97840" y="241272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6112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2172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16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480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868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078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2996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1244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304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36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87616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1EA-C433-43C7-965D-A5E6A01BBB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CBB87-E9ED-44D0-B7F0-3E3CF616CCB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Argentin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3124080" y="397656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BAF-378A-444D-BD45-C576AACCFB9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ED5C8-AD3C-4AE0-92FD-7A679D05999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Kore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976680" y="137160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%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49480" y="1371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4052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02768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1520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0092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8844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7416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6168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4960" y="1371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3456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637840" y="13716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37080" y="156060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i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1988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0020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8592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344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6096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4668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33384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992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1392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09460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68716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28800" y="174960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04120" y="174960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9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85160" y="17496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72320" y="17496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4444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3196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1768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0484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9092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81680" y="174960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26560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854920" y="174960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21600" y="1940040"/>
            <a:ext cx="53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04120" y="194004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8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85160" y="19400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4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72320" y="19400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296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196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4764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0484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2088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08040" y="194004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560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854920" y="194004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5920" y="212868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04120" y="212868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8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85160" y="21286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4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72320" y="21286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4444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3196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1768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50484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81680" y="2128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6560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854920" y="2128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00720" y="2317680"/>
            <a:ext cx="137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ndard Devi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7120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5692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4444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196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1768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0484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9092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8168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6560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85492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590920" y="2957400"/>
            <a:ext cx="49528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0F8-EA40-4807-83E7-22955039FB4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37199-57A9-4E15-8C09-1B87ED79B7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Kore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5105520" y="145404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13E-253A-4B16-AD30-CA232460656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C7652-DD61-4540-AB3B-1A425754A55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Key finding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crisis are expensive for the IMF, the countries and the private inves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timal solutions distribute the losses among all the parties invol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n the structure of the model, all the solutions gave approximately the same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IMF has very clear tradeoffs when deciding on the approach of helping countries navigate its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of the historical decisions of the IMF appear to have no a rational quantitative explanation. But this does not means that there were the wrong dec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682-2BB6-4DAF-96A8-24622583223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26682-9595-4E09-A584-039EF82488C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Going forward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ould only gather data on 14 cris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of the distribution that we are using might not be a reasonable representation of re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olitical and social aspect of these decisions are probably more important than the financial aspects but are harder to quantify and therefore include in the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ture addi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ould expand the number of countries for which we hav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 the capabilities to help predict future crisis rather than analyzing possible 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lude information on the capital accounts to be comprehensive in the inflows and outflows to the coun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 the number of macroeconomic variables that determine the future capital inflows and outflows of the countr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BB7-542C-40AB-B77F-0A1D2AD035E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704BE-0BCD-4314-8623-78B5B90B4BA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acroeconomic background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er the last years there were several crisis episodes in Emerging Economi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xico (1994); Asian crisis (1997); Russia (1998); Brazil (1998; 2002) and Argentina (2001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episodes included currency crisis, banking/financial crisis, corporate crisis and sovereign debt cr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were some macroeconomic characteristics that were common in all the cri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rrent Account Defic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ong appreciation of the curr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ort term maturities of the deb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levels of debt/GDP and payments/ex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35C-8826-467B-86A0-8409D84011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5EC6D-51D6-4064-BE21-FD6BAE0917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risis Resolution: Understanding the Role of the IMF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ission of the IMF includes among other thing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ure financial stability… Sustainable economic growth…  Reduce poverty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ally, there are three alternatives to solve a country cris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il-Out: the IMF provides the funds necessary to cover the exit of foreign investors and therefore the total level of debt of the country remains eq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il-In: investors are not allowed to exit and their debt claims are rolled over and thus need for IMF loan is mor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ial Bail-Ins: mixture of bail-out and bail-in, that is the IMF provides some funds but these funds are partially utilized to cover the exit of financial invest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4C6-B043-49C9-996A-B2B0E4D83E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56247-B42C-4DF4-9BFB-8AF69B4060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The proposed model: Bail-In vs. Bail out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reated a model to assist the IMF perform an initial analysis of these cr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r model assumes that the IMF utilizes the following variables to take its decis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over the funds borrowed to the country at a reasonable time frame and interest 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financing to those countries that are solvent but face a credit problem in the short te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the total loss faced by the international investors, so that the country does not lose access to the international capital markets for a long period of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hese variables the IMF basically takes the following deci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ount of Bail-Out: could be zero if the country is insolv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m structure of the bail-out pack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est rate of the bail-out pack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32E-5CDA-45B6-AB25-809926E75A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2380C-D278-4007-81AB-4464022DB4A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IMF’s objective function and decision variable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2521080"/>
            <a:ext cx="147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ective Fun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1160" y="2681280"/>
            <a:ext cx="146844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72040" y="252108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0520" y="2521080"/>
            <a:ext cx="54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2920" y="252108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7960" y="2903400"/>
            <a:ext cx="154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ancial Cost for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94440" y="2903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7600" y="2903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1320" y="3094200"/>
            <a:ext cx="267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pected Effect on the Country's GD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94440" y="30942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7600" y="3094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720" y="3094200"/>
            <a:ext cx="22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hange in GDP of country in cr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327960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tal Hairc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4440" y="3279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7600" y="32796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62960" y="349092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67520" y="3490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84880" y="349092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inim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8760" y="3479760"/>
            <a:ext cx="2666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28760" y="3479760"/>
            <a:ext cx="2666880" cy="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2240" y="3463920"/>
            <a:ext cx="44640" cy="25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67600" y="3510000"/>
            <a:ext cx="44280" cy="21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463920"/>
            <a:ext cx="765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46880" y="3676680"/>
            <a:ext cx="765000" cy="4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514600"/>
            <a:ext cx="80010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600200"/>
            <a:ext cx="1600200" cy="838080"/>
          </a:xfrm>
          <a:prstGeom prst="wedgeRectCallout">
            <a:avLst>
              <a:gd name="adj1" fmla="val 54166"/>
              <a:gd name="adj2" fmla="val 12272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countries don’t pay the cost have to be absorbed by the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1600200" cy="838080"/>
          </a:xfrm>
          <a:prstGeom prst="wedgeRectCallout">
            <a:avLst>
              <a:gd name="adj1" fmla="val 21328"/>
              <a:gd name="adj2" fmla="val 137120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F decisions can affect future GDP grow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809880"/>
            <a:ext cx="1600200" cy="685800"/>
          </a:xfrm>
          <a:prstGeom prst="wedgeRectCallout">
            <a:avLst>
              <a:gd name="adj1" fmla="val 7935"/>
              <a:gd name="adj2" fmla="val -9004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s for investors is not high-priority for the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360" y="4846680"/>
            <a:ext cx="136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cision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8080" y="5014800"/>
            <a:ext cx="1509840" cy="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4520" y="5245200"/>
            <a:ext cx="160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centage of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03360" y="524520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9840" y="5216400"/>
            <a:ext cx="47520" cy="270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3400" y="5264280"/>
            <a:ext cx="47520" cy="22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5216400"/>
            <a:ext cx="3373560" cy="47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5438880"/>
            <a:ext cx="3373560" cy="47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4800600"/>
            <a:ext cx="80010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08B-02DF-4930-968D-7C2ECCEE34B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3479F-18E9-42A8-8A75-C2A09077DE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input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037880" y="197316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pu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30320" y="2136600"/>
            <a:ext cx="560520" cy="1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1920" y="2281320"/>
            <a:ext cx="21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mount of Bail Out US$ Bill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08040" y="22813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4880" y="2476440"/>
            <a:ext cx="23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 Structure of Bail Out,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08040" y="24764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9800" y="2670120"/>
            <a:ext cx="192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est Rate of Bail Out,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9800" y="2670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98800" y="2865600"/>
            <a:ext cx="19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serves Floor (% Reser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85200" y="28656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400" y="325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68920" y="3254400"/>
            <a:ext cx="141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mount of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81240" y="3254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3600" y="3254400"/>
            <a:ext cx="348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serves - Reserves Floor - Short Term Pay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8280" y="344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88880" y="344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7400" y="3838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97720" y="383868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m (Inflow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81240" y="38386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gt;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56440" y="383868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m (Outflow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3680" y="40338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3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04280" y="40338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0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7400" y="442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424400"/>
            <a:ext cx="110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ircut / Bail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23360" y="442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6920" y="4424400"/>
            <a:ext cx="431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hort Term Payments - (Bail Out + Reserves - Reserves Floo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8280" y="461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8880" y="461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8001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438-752B-4C8C-A8C8-60EB95A63FD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03B29-E64B-4DDD-B7C6-C1773892165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the inflows of a country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71640" y="1379520"/>
            <a:ext cx="7891200" cy="4386240"/>
            <a:chOff x="971640" y="1379520"/>
            <a:chExt cx="7891200" cy="4386240"/>
          </a:xfrm>
        </p:grpSpPr>
        <p:sp>
          <p:nvSpPr>
            <p:cNvPr id="195" name=""/>
            <p:cNvSpPr/>
            <p:nvPr/>
          </p:nvSpPr>
          <p:spPr>
            <a:xfrm>
              <a:off x="4727520" y="2424240"/>
              <a:ext cx="4135320" cy="212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7520" y="4098960"/>
              <a:ext cx="4135320" cy="212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1640" y="1379520"/>
              <a:ext cx="183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Amounts in US$ Billion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6080" y="1589040"/>
              <a:ext cx="45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Year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925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80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528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22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768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2496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5680" y="2008080"/>
              <a:ext cx="22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Interest Rate of Country, 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9280" y="200808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4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6052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9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744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292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8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4020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200" y="2427120"/>
              <a:ext cx="230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Current Account as a % GDP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3324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6052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744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292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4020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75040" y="2637000"/>
              <a:ext cx="43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324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052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744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1292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020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8040" y="2844720"/>
              <a:ext cx="148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324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6052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744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292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4020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8280" y="3054240"/>
              <a:ext cx="29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i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636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184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2912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604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3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152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2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79720" y="32637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a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9280" y="326376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2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200" y="326376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0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744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7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1292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4020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5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9040" y="368316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Inflows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1760" y="3860640"/>
              <a:ext cx="701640" cy="1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5280" y="3892680"/>
              <a:ext cx="34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GDP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10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2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9796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29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252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39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5072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49.7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776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6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0492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71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50920" y="4102200"/>
              <a:ext cx="171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GDP Growth (random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3324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6052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8744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1292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4020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75040" y="4311720"/>
              <a:ext cx="43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6360" y="431172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3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052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744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292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020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8040" y="4519440"/>
              <a:ext cx="148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3324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6052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744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292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4020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39760" y="4938840"/>
              <a:ext cx="202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urrent Account (random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922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6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20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46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7196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988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6840" y="5148360"/>
              <a:ext cx="61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Bail O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624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9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3560" y="5567400"/>
              <a:ext cx="1073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Total Inflow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6564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2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9292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1984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4532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7260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6840" y="1790640"/>
              <a:ext cx="78660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1790640"/>
              <a:ext cx="7866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048120" y="990720"/>
            <a:ext cx="1600200" cy="685800"/>
          </a:xfrm>
          <a:prstGeom prst="wedgeRectCallout">
            <a:avLst>
              <a:gd name="adj1" fmla="val -26587"/>
              <a:gd name="adj2" fmla="val 11666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ed average based on the data of Bail In and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971800"/>
            <a:ext cx="1828800" cy="457200"/>
          </a:xfrm>
          <a:prstGeom prst="wedgeRectCallout">
            <a:avLst>
              <a:gd name="adj1" fmla="val -34722"/>
              <a:gd name="adj2" fmla="val -123263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iangular distribution, based on % of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4343400"/>
            <a:ext cx="1828800" cy="457200"/>
          </a:xfrm>
          <a:prstGeom prst="wedgeRectCallout">
            <a:avLst>
              <a:gd name="adj1" fmla="val -40625"/>
              <a:gd name="adj2" fmla="val -128125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mal distribution based on % of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46D-3C1C-4900-8B4A-0EB60DFF30D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78B0D-3B31-4EF2-B391-3D908FBFA86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the outflows of a country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81000" y="1379520"/>
            <a:ext cx="7891560" cy="4176720"/>
            <a:chOff x="981000" y="1379520"/>
            <a:chExt cx="7891560" cy="4176720"/>
          </a:xfrm>
        </p:grpSpPr>
        <p:sp>
          <p:nvSpPr>
            <p:cNvPr id="289" name=""/>
            <p:cNvSpPr/>
            <p:nvPr/>
          </p:nvSpPr>
          <p:spPr>
            <a:xfrm>
              <a:off x="981000" y="1379520"/>
              <a:ext cx="183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Amounts in US$ Billion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45800" y="1589040"/>
              <a:ext cx="45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Year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224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77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5464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819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074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343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47240" y="2008080"/>
              <a:ext cx="797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Outflows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41480" y="2185920"/>
              <a:ext cx="819000" cy="1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2217600"/>
              <a:ext cx="109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Stock of Deb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75760" y="2427120"/>
              <a:ext cx="67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Principa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164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2892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440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8132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0860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83320" y="26370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Interes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560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288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4980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7528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0256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7520" y="3054240"/>
              <a:ext cx="52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Bail I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2240" y="3263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Hairc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9560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288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980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528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0256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06360" y="3683160"/>
              <a:ext cx="66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Bail O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75760" y="3892680"/>
              <a:ext cx="67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Principa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4980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528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0256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3320" y="41022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Interes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980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7528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0256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1400" y="4519440"/>
              <a:ext cx="121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Total Outflow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753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228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295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5504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819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7240" y="4938840"/>
              <a:ext cx="109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Reserves Bo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753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0228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295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5504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819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62800" y="5148360"/>
              <a:ext cx="1501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Growth in Reserve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560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6420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9112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9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660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0256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1560" y="5357880"/>
              <a:ext cx="107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Reserves Eo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988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753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0228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95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5504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19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06560" y="1790640"/>
              <a:ext cx="78660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06560" y="1790640"/>
              <a:ext cx="7866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F36-9FF1-4651-9F73-19D83DD158D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1392B-02CA-47D9-9220-DCBF1CF5567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Mexico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96400" y="1346400"/>
            <a:ext cx="8177040" cy="1159920"/>
            <a:chOff x="896400" y="1346400"/>
            <a:chExt cx="8177040" cy="1159920"/>
          </a:xfrm>
        </p:grpSpPr>
        <p:sp>
          <p:nvSpPr>
            <p:cNvPr id="357" name=""/>
            <p:cNvSpPr/>
            <p:nvPr/>
          </p:nvSpPr>
          <p:spPr>
            <a:xfrm>
              <a:off x="968040" y="1346400"/>
              <a:ext cx="72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% Bail O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6080" y="134640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9652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1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744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2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1872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3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000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128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5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5220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600" y="134640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7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53880" y="134640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8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8748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9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94720" y="134640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2040" y="167652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Trial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0064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6160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288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8416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9544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636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764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892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9196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5292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1416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24120" y="184176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82720" y="1841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8640" y="1841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49920" y="1841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1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3932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9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060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618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7280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40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55400" y="1841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062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77600" y="1841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6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7280" y="200844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di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82720" y="2008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38640" y="200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49920" y="200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3932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060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18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280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40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5400" y="2008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62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877600" y="2008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22680" y="2173320"/>
              <a:ext cx="37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d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82720" y="2173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38640" y="2173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49920" y="2173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3932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5060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618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280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40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55400" y="217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3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062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877600" y="217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00" y="233856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408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1712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2804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3932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060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18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7280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840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5540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062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7760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5486400" cy="33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291-CE0D-42C6-914B-522BA1601A4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FF9E3-8ED7-49CD-968F-1B76F432094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21:37:58Z</dcterms:created>
  <dc:creator> </dc:creator>
  <dc:description/>
  <dc:language>en-US</dc:language>
  <cp:lastModifiedBy>Stern School of Business</cp:lastModifiedBy>
  <dcterms:modified xsi:type="dcterms:W3CDTF">2004-12-06T13:34:32Z</dcterms:modified>
  <cp:revision>19</cp:revision>
  <dc:subject/>
  <dc:title>Slide 1</dc:title>
</cp:coreProperties>
</file>