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9A24-6F97-4BE5-8F0F-BEC8BC49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lar de organismos multilaterales existentes para resoulcion de c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en mencionar prestamos bilaterales (caso USA en la crisis Mexi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lternative selected will depend on the decision of the IMF about whether to provide the funds to do a bail-out or let the country collapse (bail-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quidity crisis vs. solvency cri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047F-3F16-47AC-9BFB-90142223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559-D52E-4DD2-B866-7BBFDEE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FE0-9001-4EFC-B128-50B8DDBB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7461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2600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06668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7461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2600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B735-6C2B-43D7-A37D-C28716C0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678A-17EA-4EF4-A815-B5D594B7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187A-4973-402D-8747-5A51C4D7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7A77-D6BC-4058-8986-BC5BB886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4ABF-9625-4063-9F52-21205515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567-5DE9-46F6-88A1-18B79306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9250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35C9-FD97-4CD9-9887-5B7807DD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52F3-9BB6-4FEF-8F31-421A4E3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952-4F6D-4A7C-A8AB-72A60B4D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B7E5-2EB9-445C-9B3F-98E354F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7EBA-DB69-4B29-83E4-1AA3B6E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C8AD-4C8A-409D-A5DB-A2CD17FA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12AA-D4A6-4606-ABAC-8F2881CD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74616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26000" y="14479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06668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74616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26000" y="39952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A98-E969-4665-B008-A0CC1E57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16C-4467-429A-804C-B4CC881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D11-DEE4-4BE2-8968-0AA39E7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CAB-76E8-4BB6-AC77-91A12B12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79250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C31-1453-4833-917E-6CB493CF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B11-4AE0-44B9-9CE7-E106BAA4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27480" y="39952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E6C-73AF-4163-B3AB-7A21D02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7480" y="14479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3995280"/>
            <a:ext cx="7925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02B-B547-4E3D-9D96-7D52F500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5960" y="1295280"/>
            <a:ext cx="8254800" cy="5562720"/>
          </a:xfrm>
          <a:custGeom>
            <a:avLst/>
            <a:gdLst/>
            <a:ahLst/>
            <a:rect l="l" t="t" r="r" b="b"/>
            <a:pathLst>
              <a:path w="5184" h="3159">
                <a:moveTo>
                  <a:pt x="0" y="3159"/>
                </a:moveTo>
                <a:lnTo>
                  <a:pt x="5184" y="3159"/>
                </a:lnTo>
                <a:lnTo>
                  <a:pt x="5184" y="0"/>
                </a:lnTo>
                <a:lnTo>
                  <a:pt x="0" y="0"/>
                </a:lnTo>
                <a:lnTo>
                  <a:pt x="0" y="3159"/>
                </a:lnTo>
                <a:lnTo>
                  <a:pt x="0" y="3159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219320"/>
            <a:ext cx="885960" cy="5638680"/>
          </a:xfrm>
          <a:custGeom>
            <a:avLst/>
            <a:gdLst/>
            <a:ahLst/>
            <a:rect l="l" t="t" r="r" b="b"/>
            <a:pathLst>
              <a:path w="556" h="3159">
                <a:moveTo>
                  <a:pt x="0" y="0"/>
                </a:moveTo>
                <a:lnTo>
                  <a:pt x="0" y="3159"/>
                </a:lnTo>
                <a:lnTo>
                  <a:pt x="556" y="3159"/>
                </a:lnTo>
                <a:lnTo>
                  <a:pt x="55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6760" y="6480"/>
            <a:ext cx="19080" cy="907920"/>
          </a:xfrm>
          <a:custGeom>
            <a:avLst/>
            <a:gdLst/>
            <a:ahLst/>
            <a:rect l="l" t="t" r="r" b="b"/>
            <a:pathLst>
              <a:path w="12" h="695">
                <a:moveTo>
                  <a:pt x="12" y="0"/>
                </a:moveTo>
                <a:lnTo>
                  <a:pt x="0" y="0"/>
                </a:lnTo>
                <a:lnTo>
                  <a:pt x="0" y="695"/>
                </a:lnTo>
                <a:lnTo>
                  <a:pt x="12" y="695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96760" y="2576520"/>
            <a:ext cx="19080" cy="4281480"/>
          </a:xfrm>
          <a:custGeom>
            <a:avLst/>
            <a:gdLst/>
            <a:ahLst/>
            <a:rect l="l" t="t" r="r" b="b"/>
            <a:pathLst>
              <a:path w="12" h="2697">
                <a:moveTo>
                  <a:pt x="0" y="2697"/>
                </a:moveTo>
                <a:lnTo>
                  <a:pt x="12" y="2697"/>
                </a:lnTo>
                <a:lnTo>
                  <a:pt x="12" y="0"/>
                </a:lnTo>
                <a:lnTo>
                  <a:pt x="0" y="0"/>
                </a:lnTo>
                <a:lnTo>
                  <a:pt x="0" y="2697"/>
                </a:lnTo>
                <a:lnTo>
                  <a:pt x="0" y="2697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17840" y="1276200"/>
            <a:ext cx="7522920" cy="19080"/>
          </a:xfrm>
          <a:custGeom>
            <a:avLst/>
            <a:gdLst/>
            <a:ahLst/>
            <a:rect l="l" t="t" r="r" b="b"/>
            <a:pathLst>
              <a:path w="4724" h="12">
                <a:moveTo>
                  <a:pt x="4724" y="0"/>
                </a:moveTo>
                <a:lnTo>
                  <a:pt x="0" y="0"/>
                </a:lnTo>
                <a:lnTo>
                  <a:pt x="0" y="12"/>
                </a:lnTo>
                <a:lnTo>
                  <a:pt x="4724" y="12"/>
                </a:lnTo>
                <a:lnTo>
                  <a:pt x="4724" y="0"/>
                </a:lnTo>
                <a:lnTo>
                  <a:pt x="4724" y="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96760" y="1600200"/>
            <a:ext cx="19080" cy="97632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252"/>
                </a:moveTo>
                <a:lnTo>
                  <a:pt x="12" y="252"/>
                </a:lnTo>
                <a:lnTo>
                  <a:pt x="12" y="0"/>
                </a:lnTo>
                <a:lnTo>
                  <a:pt x="0" y="0"/>
                </a:lnTo>
                <a:lnTo>
                  <a:pt x="0" y="252"/>
                </a:lnTo>
                <a:lnTo>
                  <a:pt x="0" y="252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6760" y="685800"/>
            <a:ext cx="19080" cy="609480"/>
          </a:xfrm>
          <a:custGeom>
            <a:avLst/>
            <a:gdLst/>
            <a:ahLst/>
            <a:rect l="l" t="t" r="r" b="b"/>
            <a:pathLst>
              <a:path w="12" h="252">
                <a:moveTo>
                  <a:pt x="12" y="0"/>
                </a:moveTo>
                <a:lnTo>
                  <a:pt x="0" y="0"/>
                </a:lnTo>
                <a:lnTo>
                  <a:pt x="0" y="252"/>
                </a:lnTo>
                <a:lnTo>
                  <a:pt x="12" y="25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96760" y="933480"/>
            <a:ext cx="19080" cy="666720"/>
          </a:xfrm>
          <a:custGeom>
            <a:avLst/>
            <a:gdLst/>
            <a:ahLst/>
            <a:rect l="l" t="t" r="r" b="b"/>
            <a:pathLst>
              <a:path w="12" h="420">
                <a:moveTo>
                  <a:pt x="0" y="0"/>
                </a:moveTo>
                <a:lnTo>
                  <a:pt x="0" y="420"/>
                </a:lnTo>
                <a:lnTo>
                  <a:pt x="12" y="420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cc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276200"/>
            <a:ext cx="557280" cy="19080"/>
          </a:xfrm>
          <a:custGeom>
            <a:avLst/>
            <a:gdLst/>
            <a:ahLst/>
            <a:rect l="l" t="t" r="r" b="b"/>
            <a:pathLst>
              <a:path w="251" h="12">
                <a:moveTo>
                  <a:pt x="0" y="0"/>
                </a:moveTo>
                <a:lnTo>
                  <a:pt x="0" y="12"/>
                </a:lnTo>
                <a:lnTo>
                  <a:pt x="251" y="12"/>
                </a:lnTo>
                <a:lnTo>
                  <a:pt x="2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217520" y="1276200"/>
            <a:ext cx="400320" cy="19080"/>
          </a:xfrm>
          <a:custGeom>
            <a:avLst/>
            <a:gdLst/>
            <a:ahLst/>
            <a:rect l="l" t="t" r="r" b="b"/>
            <a:pathLst>
              <a:path w="251" h="12">
                <a:moveTo>
                  <a:pt x="251" y="0"/>
                </a:moveTo>
                <a:lnTo>
                  <a:pt x="0" y="0"/>
                </a:lnTo>
                <a:lnTo>
                  <a:pt x="0" y="12"/>
                </a:lnTo>
                <a:lnTo>
                  <a:pt x="251" y="12"/>
                </a:lnTo>
                <a:lnTo>
                  <a:pt x="251" y="0"/>
                </a:lnTo>
                <a:lnTo>
                  <a:pt x="251" y="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54040" y="1276200"/>
            <a:ext cx="665280" cy="19080"/>
          </a:xfrm>
          <a:custGeom>
            <a:avLst/>
            <a:gdLst/>
            <a:ahLst/>
            <a:rect l="l" t="t" r="r" b="b"/>
            <a:pathLst>
              <a:path w="418" h="12">
                <a:moveTo>
                  <a:pt x="0" y="0"/>
                </a:moveTo>
                <a:lnTo>
                  <a:pt x="0" y="12"/>
                </a:lnTo>
                <a:lnTo>
                  <a:pt x="418" y="12"/>
                </a:lnTo>
                <a:lnTo>
                  <a:pt x="41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66ff"/>
              </a:gs>
              <a:gs pos="50000">
                <a:srgbClr val="ffffcc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25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9169-DBAA-454E-B59D-D94216C2B06D}" type="datetime3">
              <a:rPr b="0" lang="en-US" sz="1000" spc="-1" strike="noStrike">
                <a:solidFill>
                  <a:srgbClr val="ffffff"/>
                </a:solidFill>
                <a:latin typeface="Tahoma"/>
              </a:rPr>
              <a:t>July 28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327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ecision Models – Final Proj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Juan Pablo Murra – Andres Ondarra - Carlos Villarre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DB52-2E0F-4D15-861D-C84432278A6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3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4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282D-7E08-4552-86B3-3C50A8F86369}" type="datetime3">
              <a:rPr b="0" lang="en-US" sz="1000" spc="-1" strike="noStrike">
                <a:solidFill>
                  <a:srgbClr val="ffffff"/>
                </a:solidFill>
                <a:latin typeface="Tahoma"/>
              </a:rPr>
              <a:t>July 28, 20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A3EE-2712-4C07-AF14-D3A86AC629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876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876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1447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Understanding the Actions of the IMF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n the Resolution of Country Cris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ision Mode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fessor David Jur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an Pablo Murra – Andres Ondarra – Carlos Villarre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343400" y="3200400"/>
          <a:ext cx="83664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200400"/>
                    <a:ext cx="836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5808-5D79-4D30-AC00-5E666081D8A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CEEE516-3F1B-4902-857B-EAA8EF9D784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Mexico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5105520" y="145404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048120" y="396864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687C-757C-46BF-BA05-E4CA85AB892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C42E0-E929-453D-A172-8BF21E54E0C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Argentin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5943600" cy="3160800"/>
          </a:xfrm>
          <a:prstGeom prst="rect">
            <a:avLst/>
          </a:prstGeom>
          <a:ln w="0">
            <a:noFill/>
          </a:ln>
        </p:spPr>
      </p:pic>
      <p:grpSp>
        <p:nvGrpSpPr>
          <p:cNvPr id="436" name=""/>
          <p:cNvGrpSpPr/>
          <p:nvPr/>
        </p:nvGrpSpPr>
        <p:grpSpPr>
          <a:xfrm>
            <a:off x="897840" y="1387080"/>
            <a:ext cx="8174160" cy="1193400"/>
            <a:chOff x="897840" y="1387080"/>
            <a:chExt cx="8174160" cy="1193400"/>
          </a:xfrm>
        </p:grpSpPr>
        <p:sp>
          <p:nvSpPr>
            <p:cNvPr id="437" name=""/>
            <p:cNvSpPr/>
            <p:nvPr/>
          </p:nvSpPr>
          <p:spPr>
            <a:xfrm>
              <a:off x="969480" y="1387080"/>
              <a:ext cx="72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% Bail O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3120" y="138708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0436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1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500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2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4744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3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6808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4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9016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5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1116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10920" y="138708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7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5388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8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176320" y="13870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9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694720" y="138708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33480" y="173016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Trial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99120" y="1730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6656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8864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0964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3172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5236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480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49000" y="1730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1788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138520" y="173016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14160" y="17301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25920" y="190008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0840" y="19000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45040" y="190008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1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4416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9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6480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7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688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0788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2996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12440" y="1900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7304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93680" y="190008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876160" y="19000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18720" y="207144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di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80840" y="2071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4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45040" y="2071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4416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6480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8688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0788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2996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012440" y="2071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67304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293680" y="2071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876160" y="2071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4480" y="2241360"/>
              <a:ext cx="37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d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80840" y="22413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3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5040" y="22413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4416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6480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8688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0788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3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2996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012440" y="2241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7304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293680" y="22413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876160" y="22413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97840" y="241272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61120" y="2412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2172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16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480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8688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0788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42996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12440" y="2412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7304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293680" y="24127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876160" y="24127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0B6-62FA-40DD-95EB-F8EEBBAD0EC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06B89-D196-438A-9B66-D67335315FD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Argentin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3124080" y="397656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31B-5207-44D6-A7EE-947793CB5DB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B6C20-2B2D-418E-93DB-0D4D75CA416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Kore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976680" y="137160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% Bail O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49480" y="1371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4052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02768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1520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0092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8844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5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7416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6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96168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4960" y="13716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8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134560" y="137160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9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637840" y="137160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937080" y="1560600"/>
            <a:ext cx="38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i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19880" y="156060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40020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8592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344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6096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4668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33384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1992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13920" y="156060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094600" y="156060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8687160" y="156060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,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28800" y="1749600"/>
            <a:ext cx="40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04120" y="174960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9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85160" y="17496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072320" y="17496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2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4444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33196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91768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50484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9092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681680" y="174960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265600" y="174960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854920" y="174960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21600" y="1940040"/>
            <a:ext cx="53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904120" y="194004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8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85160" y="19400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4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72320" y="19400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2960" y="1940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31960" y="19400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47640" y="1940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504840" y="19400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220880" y="1940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808040" y="194004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65600" y="19400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854920" y="194004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5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25920" y="2128680"/>
            <a:ext cx="41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04120" y="2128680"/>
            <a:ext cx="291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8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85160" y="212868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4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072320" y="212868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4444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8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33196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6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1768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50484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09092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681680" y="2128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2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8265600" y="2128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854920" y="2128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900720" y="2317680"/>
            <a:ext cx="1377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ndard Devi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987640" y="2317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57120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15692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74444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33196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1768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50484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9092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681680" y="2317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2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265600" y="23176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854920" y="2317680"/>
            <a:ext cx="20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2.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590920" y="2957400"/>
            <a:ext cx="49528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D496-3581-4371-8271-178328D1FE9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3326B-5C99-4A37-85CA-5967FADF4A3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Korea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5105520" y="1454040"/>
            <a:ext cx="3886200" cy="23479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3"/>
          <a:stretch/>
        </p:blipFill>
        <p:spPr>
          <a:xfrm>
            <a:off x="3048120" y="3886200"/>
            <a:ext cx="3886200" cy="23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3D0C-7088-42D5-A6DE-6527EB87FFC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BE0AC-6F1F-432D-925E-1F41CD3A4FD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Key finding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lus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crisis are expensive for the IMF, the countries and the private inves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timal solutions distribute the losses among all the parties invol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n the structure of the model, all the solutions gave approximately the same outc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IMF has very clear tradeoffs when deciding on the approach of helping countries navigate its cri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of the historical decisions of the IMF appear to have no a rational quantitative explanation. But this does not means that there were the wrong deci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DCB-B3CA-45D6-8FA7-E6F0DEA78B8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466D3-67FB-4DB3-862E-C4C9BCB3C8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Going forward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mit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ould only gather data on 14 cris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me of the distribution that we are using might not be a reasonable representation of re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olitical and social aspect of these decisions are probably more important than the financial aspects but are harder to quantify and therefore include in the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uture addi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 could expand the number of countries for which we hav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 the capabilities to help predict future crisis rather than analyzing possible 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lude information on the capital accounts to be comprehensive in the inflows and outflows to the count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 the number of macroeconomic variables that determine the future capital inflows and outflows of the countr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1E9-A28E-4BBC-AC03-8AC8C94E907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65A90-6FDE-4D2D-B9E8-8B424071739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Macroeconomic background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ver the last years there were several crisis episodes in Emerging Economi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xico (1994); Asian crisis (1997); Russia (1998); Brazil (1998; 2002) and Argentina (2001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episodes included currency crisis, banking/financial crisis, corporate crisis and sovereign debt cri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were some macroeconomic characteristics that were common in all the cris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rrent Account Defic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rong appreciation of the curre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hort term maturities of the deb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 levels of debt/GDP and payments/expo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FE9-F263-4112-8419-F8FF6D3D6B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2D3A1-F106-49CE-8721-D2FD356C542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risis Resolution: Understanding the Role of the IMF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mission of the IMF includes among other thing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ure financial stability… Sustainable economic growth…  Reduce poverty“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ically, there are three alternatives to solve a country cris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il-Out: the IMF provides the funds necessary to cover the exit of foreign investors and therefore the total level of debt of the country remains eq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il-In: investors are not allowed to exit and their debt claims are rolled over and thus need for IMF loan is mor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rtial Bail-Ins: mixture of bail-out and bail-in, that is the IMF provides some funds but these funds are partially utilized to cover the exit of financial investo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220-EED3-47F0-AD3E-6ED7A26AD9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B095C-41CB-4D50-9EF0-11FB82A0916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The proposed model: Bail-In vs. Bail out?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reated a model to assist the IMF perform an initial analysis of these cri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r model assumes that the IMF utilizes the following variables to take its decis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over the funds borrowed to the country at a reasonable time frame and interest r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financing to those countries that are solvent but face a credit problem in the short ter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uce the total loss faced by the international investors, so that the country does not lose access to the international capital markets for a long period of ti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these variables the IMF basically takes the following decis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ount of Bail-Out: could be zero if the country is insolv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m structure of the bail-out pack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est rate of the bail-out pack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913-AA91-4F25-9073-6A6A5DE524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CD2AA-7D5C-4994-9B36-47B6DEA0C2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IMF’s objective function and decision variable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447920"/>
            <a:ext cx="79250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9080" y="2521080"/>
            <a:ext cx="147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Objective Fun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1160" y="2681280"/>
            <a:ext cx="146844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72040" y="2521080"/>
            <a:ext cx="43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Eff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0520" y="2521080"/>
            <a:ext cx="547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We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2920" y="252108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To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7960" y="2903400"/>
            <a:ext cx="154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nancial Cost for I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94440" y="29034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7600" y="2903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1320" y="3094200"/>
            <a:ext cx="267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pected Effect on the Country's GD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94440" y="30942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7600" y="30942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18720" y="3094200"/>
            <a:ext cx="229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Change in GDP of country in cri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0200" y="3279600"/>
            <a:ext cx="92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tal Hairc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94440" y="3279600"/>
            <a:ext cx="30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7600" y="32796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62960" y="3490920"/>
            <a:ext cx="4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O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67520" y="34909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84880" y="349092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inim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28760" y="3479760"/>
            <a:ext cx="2666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28760" y="3479760"/>
            <a:ext cx="2666880" cy="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2240" y="3463920"/>
            <a:ext cx="44640" cy="25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67600" y="3510000"/>
            <a:ext cx="44280" cy="21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6880" y="3463920"/>
            <a:ext cx="765000" cy="4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46880" y="3676680"/>
            <a:ext cx="765000" cy="4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2514600"/>
            <a:ext cx="80010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1600200"/>
            <a:ext cx="1600200" cy="838080"/>
          </a:xfrm>
          <a:prstGeom prst="wedgeRectCallout">
            <a:avLst>
              <a:gd name="adj1" fmla="val 54166"/>
              <a:gd name="adj2" fmla="val 122726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countries don’t pay the cost have to be absorbed by the I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600200"/>
            <a:ext cx="1600200" cy="838080"/>
          </a:xfrm>
          <a:prstGeom prst="wedgeRectCallout">
            <a:avLst>
              <a:gd name="adj1" fmla="val 21328"/>
              <a:gd name="adj2" fmla="val 137120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F decisions can affect future GDP grow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3809880"/>
            <a:ext cx="1600200" cy="685800"/>
          </a:xfrm>
          <a:prstGeom prst="wedgeRectCallout">
            <a:avLst>
              <a:gd name="adj1" fmla="val 7935"/>
              <a:gd name="adj2" fmla="val -90046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ss for investors is not high-priority for the IM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360" y="4846680"/>
            <a:ext cx="136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cision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08080" y="5014800"/>
            <a:ext cx="1509840" cy="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4520" y="5245200"/>
            <a:ext cx="160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ercentage of Bail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03360" y="5245200"/>
            <a:ext cx="38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0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39840" y="5216400"/>
            <a:ext cx="47520" cy="270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13400" y="5264280"/>
            <a:ext cx="47520" cy="22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5216400"/>
            <a:ext cx="3373560" cy="47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5438880"/>
            <a:ext cx="3373560" cy="47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4800600"/>
            <a:ext cx="800100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18F3-5FD0-4C0D-BB9B-C6EF09D578F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46094-B1B2-4DF8-8232-B08E3862168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input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037880" y="197316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Input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30320" y="2136600"/>
            <a:ext cx="560520" cy="1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1920" y="2281320"/>
            <a:ext cx="21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mount of Bail Out US$ Bill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08040" y="228132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54880" y="2476440"/>
            <a:ext cx="23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rm Structure of Bail Out,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08040" y="24764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89800" y="2670120"/>
            <a:ext cx="192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terest Rate of Bail Out, 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69800" y="267012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98800" y="2865600"/>
            <a:ext cx="197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serves Floor (% Reserv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85200" y="2865600"/>
            <a:ext cx="42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0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7400" y="3254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68920" y="3254400"/>
            <a:ext cx="141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mount of Bail O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81240" y="325440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3600" y="3254400"/>
            <a:ext cx="348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serves - Reserves Floor - Short Term Pay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8280" y="344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88880" y="344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7400" y="3838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97720" y="3838680"/>
            <a:ext cx="97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m (Inflow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81240" y="3838680"/>
            <a:ext cx="17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gt;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56440" y="3838680"/>
            <a:ext cx="10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m (Outflow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3680" y="40338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3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04280" y="40338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90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67400" y="4424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87280" y="4424400"/>
            <a:ext cx="110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ircut / Bail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23360" y="4424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6920" y="4424400"/>
            <a:ext cx="431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hort Term Payments - (Bail Out + Reserves - Reserves Floo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8280" y="461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988880" y="461808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1828800"/>
            <a:ext cx="8001000" cy="3124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93E-46DC-4F62-A9C4-3F891D24EDD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4E4D1-E48F-4835-9F5D-BB6D1F443CB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the inflows of a country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971640" y="1379520"/>
            <a:ext cx="7891200" cy="4386240"/>
            <a:chOff x="971640" y="1379520"/>
            <a:chExt cx="7891200" cy="4386240"/>
          </a:xfrm>
        </p:grpSpPr>
        <p:sp>
          <p:nvSpPr>
            <p:cNvPr id="195" name=""/>
            <p:cNvSpPr/>
            <p:nvPr/>
          </p:nvSpPr>
          <p:spPr>
            <a:xfrm>
              <a:off x="4727520" y="2424240"/>
              <a:ext cx="4135320" cy="212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27520" y="4098960"/>
              <a:ext cx="4135320" cy="212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71640" y="1379520"/>
              <a:ext cx="183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Amounts in US$ Billion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36080" y="1589040"/>
              <a:ext cx="45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Year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925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1800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4528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7220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9768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2496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75680" y="2008080"/>
              <a:ext cx="22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Interest Rate of Country, 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39280" y="2008080"/>
              <a:ext cx="46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4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6052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9.3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8744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1292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8.1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440200" y="20080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2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9200" y="2427120"/>
              <a:ext cx="230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Current Account as a % GDP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3324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6052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744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1292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40200" y="24271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75040" y="2637000"/>
              <a:ext cx="43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324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6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052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1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744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1292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3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0200" y="26370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8040" y="2844720"/>
              <a:ext cx="148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324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6052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8744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292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40200" y="2844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4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78280" y="3054240"/>
              <a:ext cx="294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i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7636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4.7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184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4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2912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4.6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5604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3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81520" y="305424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2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79720" y="32637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ax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39280" y="3263760"/>
              <a:ext cx="46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2.7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6200" y="3263760"/>
              <a:ext cx="46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0.1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7440" y="326376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7.6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12920" y="326376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4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40200" y="326376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5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9040" y="368316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Inflows: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31760" y="3860640"/>
              <a:ext cx="701640" cy="1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05280" y="3892680"/>
              <a:ext cx="34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GDP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7104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2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9796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29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2524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39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5072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49.7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7764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60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04920" y="3892680"/>
              <a:ext cx="423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71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50920" y="4102200"/>
              <a:ext cx="171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GDP Growth (random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13324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6052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8744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1292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40200" y="410220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0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75040" y="4311720"/>
              <a:ext cx="43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76360" y="4311720"/>
              <a:ext cx="424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3.3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052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744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7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1292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3.2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0200" y="431172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48040" y="4519440"/>
              <a:ext cx="148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3324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2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6052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8744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9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1292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4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40200" y="451944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2.8%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39760" y="4938840"/>
              <a:ext cx="2024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Current Account (random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9228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6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1920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4468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7196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498880" y="493884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76840" y="5148360"/>
              <a:ext cx="618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Bail Ou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6240" y="51483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5.9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3560" y="5567400"/>
              <a:ext cx="1073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Total Inflow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16564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2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9292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1984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64532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72600" y="556740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6840" y="1790640"/>
              <a:ext cx="78660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1790640"/>
              <a:ext cx="78660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048120" y="990720"/>
            <a:ext cx="1600200" cy="685800"/>
          </a:xfrm>
          <a:prstGeom prst="wedgeRectCallout">
            <a:avLst>
              <a:gd name="adj1" fmla="val -26587"/>
              <a:gd name="adj2" fmla="val 116666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ed average based on the data of Bail In and Bail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2971800"/>
            <a:ext cx="1828800" cy="457200"/>
          </a:xfrm>
          <a:prstGeom prst="wedgeRectCallout">
            <a:avLst>
              <a:gd name="adj1" fmla="val -34722"/>
              <a:gd name="adj2" fmla="val -123263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riangular distribution, based on % of Bail Ou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19520" y="4343400"/>
            <a:ext cx="1828800" cy="457200"/>
          </a:xfrm>
          <a:prstGeom prst="wedgeRectCallout">
            <a:avLst>
              <a:gd name="adj1" fmla="val -40625"/>
              <a:gd name="adj2" fmla="val -128125"/>
            </a:avLst>
          </a:prstGeom>
          <a:solidFill>
            <a:srgbClr val="66cc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rmal distribution based on % of Bail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ED8-FCEF-4671-9E99-317B8D30697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BD904-4E46-4A04-9CC4-35361FBD4E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Our model: the outflows of a country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981000" y="1379520"/>
            <a:ext cx="7891560" cy="4176720"/>
            <a:chOff x="981000" y="1379520"/>
            <a:chExt cx="7891560" cy="4176720"/>
          </a:xfrm>
        </p:grpSpPr>
        <p:sp>
          <p:nvSpPr>
            <p:cNvPr id="289" name=""/>
            <p:cNvSpPr/>
            <p:nvPr/>
          </p:nvSpPr>
          <p:spPr>
            <a:xfrm>
              <a:off x="981000" y="1379520"/>
              <a:ext cx="1837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Amounts in US$ Billion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45800" y="1589040"/>
              <a:ext cx="45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Year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224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277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5464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819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0740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34320" y="1589040"/>
              <a:ext cx="9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47240" y="2008080"/>
              <a:ext cx="797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Outflows: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41480" y="2185920"/>
              <a:ext cx="819000" cy="17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19320" y="2217600"/>
              <a:ext cx="1099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Stock of Deb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75760" y="2427120"/>
              <a:ext cx="67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Principa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0164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2892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440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8132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508600" y="2427120"/>
              <a:ext cx="32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7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83320" y="26370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Interest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560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2288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3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4980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7528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602560" y="26370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17520" y="3054240"/>
              <a:ext cx="52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Bail I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2240" y="3263760"/>
              <a:ext cx="56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Haircu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9560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288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980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528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02560" y="32637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06360" y="3683160"/>
              <a:ext cx="665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Bail Out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75760" y="3892680"/>
              <a:ext cx="671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Principa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949800" y="38926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5280" y="38926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602560" y="389268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83320" y="4102200"/>
              <a:ext cx="69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Interest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9800" y="4102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75280" y="4102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602560" y="410220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1400" y="4519440"/>
              <a:ext cx="1212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Total Outflow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7536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0228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2956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65504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81960" y="45194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27240" y="4938840"/>
              <a:ext cx="109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Reserves Bo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7536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4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0228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2956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5504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81960" y="493884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62800" y="5148360"/>
              <a:ext cx="1501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Growth in Reserves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95600" y="51483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4.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64200" y="514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0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91120" y="514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0.9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16600" y="5148360"/>
              <a:ext cx="287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-0.5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602560" y="5148360"/>
              <a:ext cx="234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0.2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31560" y="5357880"/>
              <a:ext cx="107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Reserves Eo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4988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4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7536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4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0228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9.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2956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8.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5504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6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81960" y="5357880"/>
              <a:ext cx="33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Tahoma"/>
                </a:rPr>
                <a:t>17.8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06560" y="1790640"/>
              <a:ext cx="786600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06560" y="1790640"/>
              <a:ext cx="78660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FCE-0012-4FF5-8E3B-51390FE4CCB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8863D-28C3-4982-87DE-E4F37E59AD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925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fferent Cases: Mexico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896400" y="1346400"/>
            <a:ext cx="8177040" cy="1159920"/>
            <a:chOff x="896400" y="1346400"/>
            <a:chExt cx="8177040" cy="1159920"/>
          </a:xfrm>
        </p:grpSpPr>
        <p:sp>
          <p:nvSpPr>
            <p:cNvPr id="357" name=""/>
            <p:cNvSpPr/>
            <p:nvPr/>
          </p:nvSpPr>
          <p:spPr>
            <a:xfrm>
              <a:off x="968040" y="1346400"/>
              <a:ext cx="72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% Bail O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46080" y="1346400"/>
              <a:ext cx="19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9652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1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0744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2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1872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3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13000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4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128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5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5220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6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42600" y="134640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7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53880" y="1346400"/>
              <a:ext cx="27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8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87480" y="13464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9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94720" y="1346400"/>
              <a:ext cx="35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32040" y="1676520"/>
              <a:ext cx="35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Trial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00640" y="1676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6160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7288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8416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9544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636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1764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892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91960" y="1676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152920" y="1676520"/>
              <a:ext cx="36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714160" y="167652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,00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24120" y="1841760"/>
              <a:ext cx="372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82720" y="1841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8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38640" y="1841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4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49920" y="184176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1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3932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9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060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7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6188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7280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8408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55400" y="1841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306280" y="18417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877600" y="18417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6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17280" y="2008440"/>
              <a:ext cx="49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edi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82720" y="2008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38640" y="200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4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49920" y="200844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3932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5060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7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6188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7280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8408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5400" y="2008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5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6280" y="200844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877600" y="2008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6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22680" y="2173320"/>
              <a:ext cx="37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Mod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682720" y="2173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18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38640" y="2173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4.0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49920" y="2173320"/>
              <a:ext cx="28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3932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8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5060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6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6188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5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7280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4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8408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3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55400" y="2173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3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306280" y="217332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877600" y="217332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96400" y="2338560"/>
              <a:ext cx="1270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Standard Devi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4080" y="233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0.9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1712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2804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3932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3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5060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6188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7280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1.8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08408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1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55400" y="233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06280" y="2338560"/>
              <a:ext cx="20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4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77600" y="233856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ffffff"/>
                  </a:solidFill>
                  <a:latin typeface="Tahoma"/>
                </a:rPr>
                <a:t>2.5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5486400" cy="33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F50-76F9-421A-A296-647C01701F0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A2C81-D257-4F68-A31A-5785A21247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21:37:58Z</dcterms:created>
  <dc:creator> </dc:creator>
  <dc:description/>
  <dc:language>en-US</dc:language>
  <cp:lastModifiedBy>Stern School of Business</cp:lastModifiedBy>
  <dcterms:modified xsi:type="dcterms:W3CDTF">2004-12-06T13:34:32Z</dcterms:modified>
  <cp:revision>19</cp:revision>
  <dc:subject/>
  <dc:title>Slide 1</dc:title>
</cp:coreProperties>
</file>