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7.png" ContentType="image/png"/>
  <Override PartName="/ppt/media/image16.png" ContentType="image/png"/>
  <Override PartName="/ppt/media/image1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9CEC-B985-4988-B097-B1B2C5FDF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pplicants are accepted to Stern and pay the initial deposit, the admissions office focuses on increasing the “yield”, or number of students who actually matriculate. Yield is a critical metric reflecting Stern’s competitiveness. A mentor program has evolved that has proven to positively affect the decision of some admitted students. Upon indicating intent to enroll at Stern, an admitted student fills out a short questionnaire and is matched with a current student who has similar interests. The number of participants in the mentor program was initially small enough to manage manually, but has grown significantly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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graduate institution: A pull-down menu lists the undergraduate college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universities of the approximately 200 current student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graduate major: A list of standardized undergraduate major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untry/State: A list of states and foreign countrie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Prior industry: A list of prior industrie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ntended industry: A list of intended industrie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Specialization: A list of the current students’ specializations is pro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pull-down menus for each category are populated with data reflecting the background of each mentor who volunteers to participate that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s a result of rolling admissions and limitations on Solver capacity, the pairings must be done in ba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e program will run each time 5 admitted students submit their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 batch of 10 current students will comprise the options for optim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CF88-AC03-4F2B-AA84-0C72FA7AE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12BE-75E4-4B95-A643-40FADB277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3960" y="35211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B763-6693-4258-9B10-679573731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2680" y="13716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9200" y="137160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2680" y="35211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9200" y="352116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648C-AF09-4E81-A1D0-26B1685D0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927A-1828-4854-9439-A439BA092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0B000-0768-44F3-B982-478F863AE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32E8-7F99-4FB6-A780-EFBD8C214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B593-E8A6-40CB-A9B8-39F49C7B7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8932-452E-4306-8842-558FF7A00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C348-7A43-4A5C-8CE8-210AD4EEA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3960" y="352116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6F08-B0CA-4158-9C1E-1ADE7A74A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37160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E001-DE66-4E94-B496-37BB8CB58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7f43bb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5E2B-CDDE-489B-9F15-513970D97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657600" y="6248520"/>
            <a:ext cx="1828800" cy="487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990720"/>
            <a:ext cx="8534160" cy="5105160"/>
          </a:xfrm>
          <a:prstGeom prst="roundRect">
            <a:avLst>
              <a:gd name="adj" fmla="val 6519"/>
            </a:avLst>
          </a:prstGeom>
          <a:noFill/>
          <a:ln w="38160">
            <a:solidFill>
              <a:srgbClr val="7624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6400800" cy="675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0040" y="18288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rn Mentor Program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14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ision Model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J Be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nnifer Hear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ian Murph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ah Nosni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isha Smi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Model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22320" y="1219320"/>
            <a:ext cx="7302600" cy="2382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4879800" cy="2382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3657600"/>
            <a:ext cx="1218960" cy="609480"/>
          </a:xfrm>
          <a:prstGeom prst="wedgeRoundRectCallout">
            <a:avLst>
              <a:gd name="adj1" fmla="val 100912"/>
              <a:gd name="adj2" fmla="val -25650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 = Match, 0 = Not M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609480"/>
          </a:xfrm>
          <a:prstGeom prst="wedgeRoundRectCallout">
            <a:avLst>
              <a:gd name="adj1" fmla="val -83856"/>
              <a:gd name="adj2" fmla="val 151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= Weighted Value * 1 or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4648320"/>
            <a:ext cx="1218960" cy="609480"/>
          </a:xfrm>
          <a:prstGeom prst="wedgeRoundRectCallout">
            <a:avLst>
              <a:gd name="adj1" fmla="val -83856"/>
              <a:gd name="adj2" fmla="val 151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inimize Penal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Limitation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tch runs may not provide most optimal match for mente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lling accept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cel can only handle so many cel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mited number of schools, states/countries in dropdown menu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ill have manual require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olutionary solver did not provide optimal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y have linearity iss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Future Improvement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33560" y="114300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tend the model to run larger batch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eate an output page to track mat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tomate the input of mentee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 more decision variab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2990880" cy="4762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V="1">
            <a:off x="152280" y="380520"/>
            <a:ext cx="1905120" cy="990720"/>
          </a:xfrm>
          <a:prstGeom prst="wedgeRoundRectCallout">
            <a:avLst>
              <a:gd name="adj1" fmla="val 36578"/>
              <a:gd name="adj2" fmla="val -83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luck, Ad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Questions?</a:t>
            </a:r>
            <a:endParaRPr b="1" lang="en-US" sz="4400" spc="-1" strike="noStrike">
              <a:solidFill>
                <a:srgbClr val="7624b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Agenda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and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 and Sol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mitations and Future Improv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Background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dmissions office focuses on increasing the “yield” of admitted stud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Yield is a critical metric reflecting Stern’s competitivenes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entor program has proven to positively affect the decision of some stud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cess: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 Indicate intent to enroll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. Fills out short questionnair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 Admissions (manually) matches with a current student who has similar interest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umber of participants in the mentor program was initially small enough to manage manually, but has grown significantly in scop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88120" y="1892160"/>
            <a:ext cx="1803600" cy="4813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6324480" y="1294920"/>
            <a:ext cx="1600200" cy="990720"/>
          </a:xfrm>
          <a:prstGeom prst="wedgeRoundRectCallout">
            <a:avLst>
              <a:gd name="adj1" fmla="val 49995"/>
              <a:gd name="adj2" fmla="val -1278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ter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Problem Definition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8640" y="12193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ssions is in a bind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dious manual proc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tering dat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tching stud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efficient and time consum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es not ensure best match for admitted stud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905120"/>
            <a:ext cx="2743200" cy="4038480"/>
            <a:chOff x="457200" y="1905120"/>
            <a:chExt cx="2743200" cy="4038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274320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rcRect l="16521" t="4275" r="17434" b="23066"/>
            <a:stretch/>
          </p:blipFill>
          <p:spPr>
            <a:xfrm>
              <a:off x="1523880" y="2209680"/>
              <a:ext cx="914400" cy="12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 flipV="1">
            <a:off x="685800" y="1218960"/>
            <a:ext cx="1371600" cy="761760"/>
          </a:xfrm>
          <a:prstGeom prst="wedgeRoundRectCallout">
            <a:avLst>
              <a:gd name="adj1" fmla="val -5097"/>
              <a:gd name="adj2" fmla="val -1147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help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05320" y="4267080"/>
            <a:ext cx="4952880" cy="1447920"/>
            <a:chOff x="3505320" y="4267080"/>
            <a:chExt cx="4952880" cy="1447920"/>
          </a:xfrm>
        </p:grpSpPr>
        <p:sp>
          <p:nvSpPr>
            <p:cNvPr id="66" name=""/>
            <p:cNvSpPr/>
            <p:nvPr/>
          </p:nvSpPr>
          <p:spPr>
            <a:xfrm>
              <a:off x="3505320" y="4267080"/>
              <a:ext cx="4952880" cy="1447920"/>
            </a:xfrm>
            <a:prstGeom prst="roundRect">
              <a:avLst>
                <a:gd name="adj" fmla="val 10417"/>
              </a:avLst>
            </a:prstGeom>
            <a:noFill/>
            <a:ln w="38160">
              <a:solidFill>
                <a:srgbClr val="7624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4375080"/>
              <a:ext cx="4876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SimSun"/>
                </a:rPr>
                <a:t>How should admitted students be paired with mentors to maximize the new students’ satisfaction and increase yiel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0" y="2666880"/>
            <a:ext cx="2095560" cy="3975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Formulation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imize incoming MBA1’s satisfaction by matching them with the MBA2 that best fits their ranked preferenc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 categories to rank in order of prefere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dergraduate major; Undergraduate institution; Country/State; Prior industry; Intended industry; Specializ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e mentor per admitted stud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ch mentor may not have more than two mente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s a result of rolling admissions and limitations on Solver capacity, the pairings must be done in batches (35 mentors and 5 mentee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10453" t="10950" r="9867" b="15692"/>
          <a:stretch/>
        </p:blipFill>
        <p:spPr>
          <a:xfrm>
            <a:off x="7162920" y="274320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7315200" y="1523880"/>
            <a:ext cx="1447920" cy="990720"/>
          </a:xfrm>
          <a:prstGeom prst="wedgeRoundRectCallout">
            <a:avLst>
              <a:gd name="adj1" fmla="val 5259"/>
              <a:gd name="adj2" fmla="val -887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odels Rul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Data and Input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 mentee po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ntees assigned “names” A-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 mentor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ntors assigned “names” 1-1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10 mentors inclu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5360" y="2133720"/>
            <a:ext cx="8153280" cy="80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5360" y="4419720"/>
            <a:ext cx="8153280" cy="143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The Model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model employs a series of matrices used to track data and preferences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nked attributes of mentees (A-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igned weights to each decision variable for each mente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43bb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umber one rank = value of 600.  Values decrease disproportionately for each subsequent rank (300, 200, 100, 50, 25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cision variables as they correlate to mentors (1-10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mmed values of each characteristic by mentee as it related to each ment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Solver to maximize point val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lver table multiplies each binary decision by the weighted value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enalty for failing to meet constraints (1,000 pt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43bb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verall point value reflects the optimal pairing of mentees and mentors within the batch of options conside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Sample Matrice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 of Mentee “A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34120" cy="96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52480" y="2057400"/>
            <a:ext cx="10670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8288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10840" y="3938760"/>
            <a:ext cx="8257320" cy="1022400"/>
            <a:chOff x="510840" y="3938760"/>
            <a:chExt cx="8257320" cy="1022400"/>
          </a:xfrm>
        </p:grpSpPr>
        <p:sp>
          <p:nvSpPr>
            <p:cNvPr id="85" name=""/>
            <p:cNvSpPr/>
            <p:nvPr/>
          </p:nvSpPr>
          <p:spPr>
            <a:xfrm>
              <a:off x="510840" y="394164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nk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6600" y="394164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ur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88680" y="393876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03720" y="393876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UG Maj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11640" y="3938760"/>
              <a:ext cx="83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Country/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0920" y="393876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ior In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35240" y="3938760"/>
              <a:ext cx="79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tended In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75360" y="3938760"/>
              <a:ext cx="84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pecial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3428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8040" y="408636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8684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688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364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5868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7160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94000" y="4086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3428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49120" y="423072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G Maj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2364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64880" y="4230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364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5868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7160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94000" y="4230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428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4440" y="437508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ntry/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2364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688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8640" y="4375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5868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7160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94000" y="4375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3428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7680" y="4519440"/>
              <a:ext cx="51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or In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2364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2688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364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24040" y="4519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7160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9400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3428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43360" y="46641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nded Ind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364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2688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364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868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05000" y="466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94000" y="4664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3428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9120" y="4808520"/>
              <a:ext cx="77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cial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2364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2688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9364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868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71600" y="48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7400" y="480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3024360"/>
            <a:ext cx="6324480" cy="116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0720" y="1676520"/>
            <a:ext cx="8236080" cy="857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624ba"/>
                </a:solidFill>
                <a:latin typeface="Arial Narrow"/>
              </a:rPr>
              <a:t>Sample Matrices</a:t>
            </a:r>
            <a:endParaRPr b="1" lang="en-US" sz="3600" spc="-1" strike="noStrike">
              <a:solidFill>
                <a:srgbClr val="7624ba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3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 of Match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209680"/>
            <a:ext cx="320040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057400"/>
            <a:ext cx="106668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8229600" cy="95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086600" y="2819520"/>
            <a:ext cx="1600200" cy="990360"/>
          </a:xfrm>
          <a:prstGeom prst="wedgeRoundRectCallout">
            <a:avLst>
              <a:gd name="adj1" fmla="val -67064"/>
              <a:gd name="adj2" fmla="val 8076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ample Matrix for “Country/State”. One matrix for each decision vari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657600"/>
            <a:ext cx="45720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105520"/>
            <a:ext cx="457200" cy="304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39625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01:57:25Z</dcterms:created>
  <dc:creator>Leah Nosnik</dc:creator>
  <dc:description/>
  <dc:language>en-US</dc:language>
  <cp:lastModifiedBy>Brian Murphy</cp:lastModifiedBy>
  <dcterms:modified xsi:type="dcterms:W3CDTF">2004-12-06T16:12:11Z</dcterms:modified>
  <cp:revision>70</cp:revision>
  <dc:subject/>
  <dc:title>Stern Mentor Program  Decision Models Fall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5834751</vt:r8>
  </property>
  <property fmtid="{D5CDD505-2E9C-101B-9397-08002B2CF9AE}" pid="3" name="_AuthorEmail">
    <vt:lpwstr>brian.murphy@stern.nyu.edu</vt:lpwstr>
  </property>
  <property fmtid="{D5CDD505-2E9C-101B-9397-08002B2CF9AE}" pid="4" name="_AuthorEmailDisplayName">
    <vt:lpwstr>Brian D. Murphy</vt:lpwstr>
  </property>
  <property fmtid="{D5CDD505-2E9C-101B-9397-08002B2CF9AE}" pid="5" name="_EmailSubject">
    <vt:lpwstr>Updated Presentation Powerpoint</vt:lpwstr>
  </property>
</Properties>
</file>