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wmf" ContentType="image/x-wmf"/>
  <Override PartName="/ppt/media/image7.gif" ContentType="image/gif"/>
  <Override PartName="/ppt/media/image11.png" ContentType="image/png"/>
  <Override PartName="/ppt/media/image18.png" ContentType="image/png"/>
  <Override PartName="/ppt/media/image14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wmf" ContentType="image/x-wmf"/>
  <Override PartName="/ppt/media/image19.gif" ContentType="image/gif"/>
  <Override PartName="/ppt/media/image1.png" ContentType="image/png"/>
  <Override PartName="/ppt/media/image5.gif" ContentType="image/gif"/>
  <Override PartName="/ppt/media/image6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3C09-73F8-4FC0-AF59-26332948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types of penalt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receives a beer without a 5 r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receives fewer than 4 or greater than 5 be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does not try at least one beer from each 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149-B4B7-4670-9262-4EE90B5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A80-00BE-4CD1-A869-3D5001A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64F-3EE4-4BA6-9BD5-6AF44F1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165-F3BD-4353-B3E5-597D090C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1DF0-B6F3-422D-99C5-15593896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7FE-15C4-4550-88A2-9D90B4F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2AE3-5EE0-46BC-97CD-5D28C95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C59-A34B-4773-9AFB-7EC0264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82A-7DAC-4B9F-8CB7-BCD69001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4D90-55EC-4888-BFC7-EEBCD793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B21C-970F-49F1-A2CE-459C013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324-5D5A-4FE7-9732-EA61F99A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EDB2-D4BE-4207-9EDF-F461865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E93-2ECC-4F18-907B-5E431ED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FCAA-7DF7-4167-A53C-920B5EF2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2E4C-C133-49AA-8B40-5FFEF63D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F2A-0CAC-404F-ABFE-EAFE455E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331-08A2-48A5-B751-67D18E3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8EC-CEEB-441E-9CE4-14F56D8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272-343F-4FB2-83CB-EFE4B59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C56-A008-4F15-B76F-06A9EE8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ADA-61FA-4E5E-ABCB-40E944EF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8E2-E721-4AF4-B45C-EA0CCA4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B1C-07A7-4EA1-924F-8FF94D7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848360" cy="1981080"/>
            <a:chOff x="0" y="0"/>
            <a:chExt cx="784836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71948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84836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207-3F75-4D43-8A58-B70340C896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Beer Club - 10 months - Item #gc-bc1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55e2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293-E556-4045-BDB0-F7FF3EF6F4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" descr="Beer Club - 10 months - Item #gc-bc10"/>
          <p:cNvPicPr/>
          <p:nvPr/>
        </p:nvPicPr>
        <p:blipFill>
          <a:blip r:embed="rId3"/>
          <a:stretch/>
        </p:blipFill>
        <p:spPr>
          <a:xfrm>
            <a:off x="7764480" y="5105520"/>
            <a:ext cx="137952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8498" TargetMode="External"/><Relationship Id="rId3" Type="http://schemas.openxmlformats.org/officeDocument/2006/relationships/image" Target="../media/image14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15.wmf"/><Relationship Id="rId6" Type="http://schemas.openxmlformats.org/officeDocument/2006/relationships/hyperlink" Target="http://www.animationlibrary.com/a-l/?n=image.php3&amp;image_id=9630" TargetMode="External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3484" TargetMode="External"/><Relationship Id="rId3" Type="http://schemas.openxmlformats.org/officeDocument/2006/relationships/image" Target="../media/image17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hyperlink" Target="http://www.animationlibrary.com/a-l/?n=image.php3&amp;image_id=7826" TargetMode="External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1360" TargetMode="External"/><Relationship Id="rId3" Type="http://schemas.openxmlformats.org/officeDocument/2006/relationships/image" Target="../media/image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1957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09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Arial Narrow"/>
              </a:rPr>
              <a:t>The Greatest Beers in the World</a:t>
            </a:r>
            <a:r>
              <a:rPr b="1" i="1" lang="en-US" sz="6000" spc="-1" strike="noStrike">
                <a:solidFill>
                  <a:srgbClr val="0066cc"/>
                </a:solidFill>
                <a:latin typeface="Arial Narrow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2438280"/>
            <a:ext cx="2040120" cy="384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3505320"/>
            <a:ext cx="2514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gelina Carvaj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uka 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sura Kikuza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an M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nal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created three types of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nalty is assessed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receives a beer with a rating lower than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receives fewer than 4 or more than 5 b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does not try at least one beer from each categ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verity of the penalty depends on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the result is from the desired out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thematical 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 = ∑α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β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γ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α, β, 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we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are pen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805120" y="2849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8604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ver Limit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girls + Ian are invi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7 of the 11 beers can be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2499" t="16155" r="10835" b="6781"/>
          <a:stretch/>
        </p:blipFill>
        <p:spPr>
          <a:xfrm>
            <a:off x="533520" y="1600200"/>
            <a:ext cx="81532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ver Parame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24287" t="32254" r="30566" b="36506"/>
          <a:stretch/>
        </p:blipFill>
        <p:spPr>
          <a:xfrm>
            <a:off x="1219320" y="2676600"/>
            <a:ext cx="6781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440" t="15762" r="10569" b="6806"/>
          <a:stretch/>
        </p:blipFill>
        <p:spPr>
          <a:xfrm>
            <a:off x="45720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03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Cartoon beer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5029200"/>
            <a:ext cx="8766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609480" y="2209680"/>
          <a:ext cx="7912080" cy="2544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209680"/>
                    <a:ext cx="79120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0880" y="16002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fessor Juran should produc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Beer served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889520"/>
            <a:ext cx="2209680" cy="19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348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4724280"/>
            <a:ext cx="1828800" cy="1828800"/>
            <a:chOff x="914400" y="4724280"/>
            <a:chExt cx="1828800" cy="1828800"/>
          </a:xfrm>
        </p:grpSpPr>
        <p:pic>
          <p:nvPicPr>
            <p:cNvPr id="148" name="" descr="Convertible - Click image to download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14400" y="4724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9" name=""/>
            <p:cNvGraphicFramePr/>
            <p:nvPr/>
          </p:nvGraphicFramePr>
          <p:xfrm>
            <a:off x="1371600" y="5248080"/>
            <a:ext cx="571320" cy="70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1600" y="5248080"/>
                      <a:ext cx="5713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1" name="" descr="House is jumping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pperplate Gothic Bold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133720"/>
            <a:ext cx="579096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d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II.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Managerial 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III.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Mathematical 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3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36232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uring the course of the semester a select few students have had the good fortune of tasting Professor Juran’s premium beers. The rest of us feel left out, so we have decided to invite ourselves over for a beer tasting. Howeve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" y="3657600"/>
            <a:ext cx="1294920" cy="2285640"/>
            <a:chOff x="228600" y="3657600"/>
            <a:chExt cx="1294920" cy="2285640"/>
          </a:xfrm>
        </p:grpSpPr>
        <p:pic>
          <p:nvPicPr>
            <p:cNvPr id="105" name="" descr="Man with horn - Click image to download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28600" y="4114800"/>
              <a:ext cx="1294920" cy="1828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6" name=""/>
            <p:cNvGraphicFramePr/>
            <p:nvPr/>
          </p:nvGraphicFramePr>
          <p:xfrm>
            <a:off x="388440" y="3657600"/>
            <a:ext cx="580680" cy="90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440" y="3657600"/>
                      <a:ext cx="580680" cy="90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22058 C -0.06597 0.18336 -0.10451 0.14636 -0.1052 0.11076 C -0.1059 0.07515 -0.05677 0.01781 -0.03211 0.00717 C -0.00746 -0.00346 0.0283 0.0259 0.04254 0.0474 C 0.05677 0.06891 0.06077 0.10983 0.05365 0.13619 C 0.04653 0.16255 0.02396 0.20763 -0.00034 0.20578 C -0.02465 0.20393 -0.08316 0.1607 -0.09236 0.12555 C -0.10156 0.09041 -0.0776 0.02081 -0.0559 -0.00555 C -0.0342 -0.0319 0.01407 -0.03861 0.03768 -0.03306 C 0.06129 -0.02751 0.07552 0.00139 0.08542 0.02821 C 0.09532 0.05503 0.09757 0.10266 0.09653 0.12763 C 0.09549 0.1526 0.0882 0.16763 0.079 0.1785 C 0.0698 0.18937 0.05209 0.19006 0.04098 0.1933 C 0.02986 0.19654 0.02309 0.2 0.01233 0.19746 C 0.00157 0.19492 -0.01371 0.18613 -0.02413 0.1785 C -0.03455 0.17087 -0.04479 0.15954 -0.04965 0.15099 C -0.05451 0.14243 -0.05208 0.13758 -0.05277 0.12763 C -0.05347 0.11769 -0.05434 0.10266 -0.05434 0.0918 C -0.05434 0.08093 -0.0552 0.07422 -0.05277 0.0622 C -0.05034 0.05018 -0.04479 0.02983 -0.0401 0.01989 C -0.03541 0.00995 -0.02864 0.00925 -0.02413 0.00301 C -0.01961 -0.00323 -0.02205 -0.01364 -0.01302 -0.01826 C -0.00399 -0.02289 0.01754 -0.02474 0.02986 -0.0245 C 0.04219 -0.02427 0.04844 -0.0215 0.06146 -0.01618 C 0.07448 -0.01086 0.09861 -0.00092 0.10764 0.00717 C 0.11667 0.01526 0.11389 0.02197 0.11545 0.0326 C 0.11702 0.04324 0.11684 0.05619 0.11702 0.07052 C 0.11719 0.08486 0.11407 0.09688 0.11702 0.11931 C 0.11997 0.14174 0.1441 0.18983 0.13455 0.20578 C 0.125 0.22174 0.07448 0.21249 0.0599 0.21434 C 0.04532 0.21619 0.05677 0.21781 0.04723 0.21642 C 0.03768 0.21503 0.01528 0.21064 0.00278 0.20578 C -0.00972 0.20093 -0.01927 0.20047 -0.02743 0.18682 C -0.03559 0.17318 -0.04323 0.14497 -0.04635 0.12347 C -0.04948 0.10197 -0.0493 0.07515 -0.04635 0.05781 C -0.0434 0.04047 -0.03576 0.03145 -0.02899 0.01989 C -0.02222 0.00833 -0.0184 -0.000229999999999999 -0.0052 -0.01179 C 0.00799 -0.02335 0.03108 -0.04346 0.05035 -0.04994 C 0.06962 -0.05641 0.09098 -0.06659 0.11077 -0.04994 C 0.13056 -0.03329 0.15973 0.02706 0.16945 0.04948 C 0.17917 0.07191 0.17049 0.06775 0.16945 0.08532 C 0.16841 0.10289 0.16424 0.13919 0.1632 0.15515 C 0.16216 0.1711 0.16476 0.16902 0.1632 0.18058 C 0.16164 0.19214 0.16233 0.21295 0.15365 0.22497 C 0.14497 0.237 0.12379 0.24578 0.11077 0.25249 C 0.09775 0.25919 0.08455 0.26289 0.07587 0.26497 C 0.06719 0.26706 0.06268 0.2659 0.05834 0.26497 E"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337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ept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74320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The Juran line of premium beers includes 11 different types. We want to ensure that Professor Juran’s production matches student preferences.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Guy with beer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657600"/>
            <a:ext cx="1847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agerial 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the optimal number of each b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or Juran should produce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refer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gets to taste which be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Managerial Formulation (cont’d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7 students in our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udent should taste 4 or 5 b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essor Juran produces 11 types of beer in three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man B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udent should try at least one beer from each categ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essor Juran wants to produce at least 10, but no more than 30 of each type of b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2679840"/>
          <a:ext cx="7081920" cy="394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79840"/>
                    <a:ext cx="7081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19051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r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entifying Student Prefer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each be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rity w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ystal Ball to 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prefer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ranked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er on a scale of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(low) – 5 (high)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esponding prob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410080" y="1600200"/>
          <a:ext cx="320040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600200"/>
                    <a:ext cx="3200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udent P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212920"/>
          <a:ext cx="8226360" cy="387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12920"/>
                    <a:ext cx="82263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12:21Z</dcterms:created>
  <dc:creator>Stern School of Business</dc:creator>
  <dc:description/>
  <dc:language>en-US</dc:language>
  <cp:lastModifiedBy>Ian McDonald</cp:lastModifiedBy>
  <dcterms:modified xsi:type="dcterms:W3CDTF">2004-12-06T13:49:23Z</dcterms:modified>
  <cp:revision>39</cp:revision>
  <dc:subject/>
  <dc:title>Slide 1</dc:title>
</cp:coreProperties>
</file>