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902825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612720" y="4417920"/>
            <a:ext cx="5735520" cy="45864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ldImg"/>
          </p:nvPr>
        </p:nvSpPr>
        <p:spPr>
          <a:xfrm>
            <a:off x="619200" y="213840"/>
            <a:ext cx="5721120" cy="396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1"/>
          </p:nvPr>
        </p:nvSpPr>
        <p:spPr>
          <a:xfrm>
            <a:off x="6734160" y="9116640"/>
            <a:ext cx="231840" cy="1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559D9CEA-8694-4826-81E1-2B90318DAAF6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6734160" y="9116640"/>
            <a:ext cx="231840" cy="1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2AFFE725-A421-41CC-926D-0402341BCF1B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612720" y="4417920"/>
            <a:ext cx="5735520" cy="45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ldImg"/>
          </p:nvPr>
        </p:nvSpPr>
        <p:spPr>
          <a:xfrm>
            <a:off x="619200" y="214200"/>
            <a:ext cx="5721120" cy="3962520"/>
          </a:xfrm>
          <a:prstGeom prst="rect">
            <a:avLst/>
          </a:prstGeom>
          <a:ln w="0">
            <a:noFill/>
          </a:ln>
        </p:spPr>
      </p:sp>
      <p:sp>
        <p:nvSpPr>
          <p:cNvPr id="170" name=""/>
          <p:cNvSpPr/>
          <p:nvPr/>
        </p:nvSpPr>
        <p:spPr>
          <a:xfrm>
            <a:off x="614520" y="4674960"/>
            <a:ext cx="568008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ooz Allen Hamilton Standard Colors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s should be used in the color pairs whenever possible. Do not mix and match colors, use pairs together as shown.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lack, White and Gray can be used with any of the other colors.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1" name=""/>
          <p:cNvSpPr/>
          <p:nvPr/>
        </p:nvSpPr>
        <p:spPr>
          <a:xfrm>
            <a:off x="690480" y="6676920"/>
            <a:ext cx="693720" cy="693720"/>
          </a:xfrm>
          <a:prstGeom prst="rect">
            <a:avLst/>
          </a:prstGeom>
          <a:solidFill>
            <a:srgbClr val="36015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2" name=""/>
          <p:cNvSpPr/>
          <p:nvPr/>
        </p:nvSpPr>
        <p:spPr>
          <a:xfrm>
            <a:off x="1042920" y="7174080"/>
            <a:ext cx="693720" cy="691920"/>
          </a:xfrm>
          <a:prstGeom prst="rect">
            <a:avLst/>
          </a:prstGeom>
          <a:solidFill>
            <a:srgbClr val="f2050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3" name=""/>
          <p:cNvSpPr/>
          <p:nvPr/>
        </p:nvSpPr>
        <p:spPr>
          <a:xfrm>
            <a:off x="1905120" y="6676920"/>
            <a:ext cx="693720" cy="693720"/>
          </a:xfrm>
          <a:prstGeom prst="rect">
            <a:avLst/>
          </a:prstGeom>
          <a:solidFill>
            <a:srgbClr val="0f431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4" name=""/>
          <p:cNvSpPr/>
          <p:nvPr/>
        </p:nvSpPr>
        <p:spPr>
          <a:xfrm>
            <a:off x="2265480" y="7174080"/>
            <a:ext cx="695160" cy="691920"/>
          </a:xfrm>
          <a:prstGeom prst="rect">
            <a:avLst/>
          </a:prstGeom>
          <a:solidFill>
            <a:srgbClr val="e8f40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5" name=""/>
          <p:cNvSpPr/>
          <p:nvPr/>
        </p:nvSpPr>
        <p:spPr>
          <a:xfrm>
            <a:off x="3174840" y="6676920"/>
            <a:ext cx="696960" cy="693720"/>
          </a:xfrm>
          <a:prstGeom prst="rect">
            <a:avLst/>
          </a:prstGeom>
          <a:solidFill>
            <a:srgbClr val="0b1f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6" name=""/>
          <p:cNvSpPr/>
          <p:nvPr/>
        </p:nvSpPr>
        <p:spPr>
          <a:xfrm>
            <a:off x="3517920" y="7174080"/>
            <a:ext cx="693720" cy="691920"/>
          </a:xfrm>
          <a:prstGeom prst="rect">
            <a:avLst/>
          </a:prstGeom>
          <a:solidFill>
            <a:srgbClr val="7ecc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7" name=""/>
          <p:cNvSpPr/>
          <p:nvPr/>
        </p:nvSpPr>
        <p:spPr>
          <a:xfrm>
            <a:off x="5605560" y="6676920"/>
            <a:ext cx="691920" cy="693720"/>
          </a:xfrm>
          <a:prstGeom prst="rect">
            <a:avLst/>
          </a:prstGeom>
          <a:solidFill>
            <a:srgbClr val="9e9e9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8" name=""/>
          <p:cNvSpPr/>
          <p:nvPr/>
        </p:nvSpPr>
        <p:spPr>
          <a:xfrm>
            <a:off x="4390920" y="6676920"/>
            <a:ext cx="692280" cy="69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9" name=""/>
          <p:cNvSpPr/>
          <p:nvPr/>
        </p:nvSpPr>
        <p:spPr>
          <a:xfrm>
            <a:off x="4732200" y="7174080"/>
            <a:ext cx="693720" cy="69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0" name=""/>
          <p:cNvSpPr/>
          <p:nvPr/>
        </p:nvSpPr>
        <p:spPr>
          <a:xfrm>
            <a:off x="720720" y="5794200"/>
            <a:ext cx="77472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780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rple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ntone 2765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780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780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780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1" name=""/>
          <p:cNvSpPr/>
          <p:nvPr/>
        </p:nvSpPr>
        <p:spPr>
          <a:xfrm>
            <a:off x="1909800" y="5794200"/>
            <a:ext cx="77292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780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een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ntone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7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780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780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780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2" name=""/>
          <p:cNvSpPr/>
          <p:nvPr/>
        </p:nvSpPr>
        <p:spPr>
          <a:xfrm>
            <a:off x="3193920" y="5794200"/>
            <a:ext cx="77328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780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lue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ntone 2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780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780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780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3" name=""/>
          <p:cNvSpPr/>
          <p:nvPr/>
        </p:nvSpPr>
        <p:spPr>
          <a:xfrm>
            <a:off x="4408560" y="6402600"/>
            <a:ext cx="776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780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lack 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4" name=""/>
          <p:cNvSpPr/>
          <p:nvPr/>
        </p:nvSpPr>
        <p:spPr>
          <a:xfrm>
            <a:off x="5595840" y="5915880"/>
            <a:ext cx="774720" cy="7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780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ntone Cool Gray 6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780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8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780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8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780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8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5" name=""/>
          <p:cNvSpPr/>
          <p:nvPr/>
        </p:nvSpPr>
        <p:spPr>
          <a:xfrm>
            <a:off x="1076400" y="7932600"/>
            <a:ext cx="77472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780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d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ntone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5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780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2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780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780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6" name=""/>
          <p:cNvSpPr/>
          <p:nvPr/>
        </p:nvSpPr>
        <p:spPr>
          <a:xfrm>
            <a:off x="2263680" y="7932600"/>
            <a:ext cx="77652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780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ellow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ntone 3965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780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2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780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4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780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7" name=""/>
          <p:cNvSpPr/>
          <p:nvPr/>
        </p:nvSpPr>
        <p:spPr>
          <a:xfrm>
            <a:off x="3548160" y="7932600"/>
            <a:ext cx="7761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780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qua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ntone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9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780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780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4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780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9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8" name=""/>
          <p:cNvSpPr/>
          <p:nvPr/>
        </p:nvSpPr>
        <p:spPr>
          <a:xfrm>
            <a:off x="4764240" y="7932600"/>
            <a:ext cx="77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780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hite 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7631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3713400"/>
            <a:ext cx="87631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76080" y="152388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71340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76080" y="371340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821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48600" y="1523880"/>
            <a:ext cx="2821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11400" y="1523880"/>
            <a:ext cx="2821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3713400"/>
            <a:ext cx="2821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48600" y="3713400"/>
            <a:ext cx="2821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11400" y="3713400"/>
            <a:ext cx="2821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8763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763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427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76080" y="1523880"/>
            <a:ext cx="427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6840" y="380520"/>
            <a:ext cx="898524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76080" y="1523880"/>
            <a:ext cx="427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371340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8763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427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76080" y="152388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176080" y="371340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76080" y="152388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13400"/>
            <a:ext cx="87631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7631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85800" y="3713400"/>
            <a:ext cx="87631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76080" y="152388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71340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176080" y="371340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821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648600" y="1523880"/>
            <a:ext cx="2821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611400" y="1523880"/>
            <a:ext cx="2821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5800" y="3713400"/>
            <a:ext cx="2821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648600" y="3713400"/>
            <a:ext cx="2821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611400" y="3713400"/>
            <a:ext cx="2821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763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427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76080" y="1523880"/>
            <a:ext cx="427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6840" y="380520"/>
            <a:ext cx="898524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76080" y="1523880"/>
            <a:ext cx="427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371340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427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76080" y="152388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76080" y="371340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76080" y="152388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713400"/>
            <a:ext cx="87631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523880"/>
            <a:ext cx="8763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5080" indent="-235080"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0680">
              <a:spcBef>
                <a:spcPts val="2001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38360" indent="10800">
              <a:spcBef>
                <a:spcPts val="2001"/>
              </a:spcBef>
              <a:buClr>
                <a:srgbClr val="0b1f65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419200">
              <a:spcBef>
                <a:spcPts val="2001"/>
              </a:spcBef>
              <a:buClr>
                <a:srgbClr val="0b1f65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533680">
              <a:spcBef>
                <a:spcPts val="2001"/>
              </a:spcBef>
              <a:buClr>
                <a:srgbClr val="000000"/>
              </a:buClr>
              <a:buSzPct val="40000"/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533680">
              <a:spcBef>
                <a:spcPts val="2001"/>
              </a:spcBef>
              <a:buClr>
                <a:srgbClr val="000000"/>
              </a:buClr>
              <a:buSzPct val="40000"/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533680">
              <a:spcBef>
                <a:spcPts val="2001"/>
              </a:spcBef>
              <a:buClr>
                <a:srgbClr val="000000"/>
              </a:buClr>
              <a:buSzPct val="40000"/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9193320" y="671508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171E2-3F85-4979-B5B0-B7BFBEC528C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99840" y="12189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1422360" y="1905120"/>
            <a:ext cx="0" cy="457200"/>
          </a:xfrm>
          <a:prstGeom prst="line">
            <a:avLst/>
          </a:prstGeom>
          <a:ln w="76320">
            <a:solidFill>
              <a:srgbClr val="0b1f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" name=""/>
          <p:cNvSpPr/>
          <p:nvPr/>
        </p:nvSpPr>
        <p:spPr>
          <a:xfrm>
            <a:off x="9193320" y="671508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891FD-3F9C-45DE-A6D7-0E448C0B62A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5080" indent="-235080"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16000">
              <a:lnSpc>
                <a:spcPct val="90000"/>
              </a:lnSpc>
              <a:spcBef>
                <a:spcPts val="799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827360">
              <a:lnSpc>
                <a:spcPct val="90000"/>
              </a:lnSpc>
              <a:spcBef>
                <a:spcPts val="799"/>
              </a:spcBef>
              <a:buClr>
                <a:srgbClr val="0b1f65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944720">
              <a:lnSpc>
                <a:spcPct val="90000"/>
              </a:lnSpc>
              <a:spcBef>
                <a:spcPts val="799"/>
              </a:spcBef>
              <a:buClr>
                <a:srgbClr val="0b1f65"/>
              </a:buClr>
              <a:buFont typeface="Arial"/>
              <a:buChar char="-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8840">
              <a:lnSpc>
                <a:spcPct val="90000"/>
              </a:lnSpc>
              <a:spcAft>
                <a:spcPts val="799"/>
              </a:spcAft>
              <a:buClr>
                <a:srgbClr val="000000"/>
              </a:buClr>
              <a:buSzPct val="40000"/>
              <a:buFont typeface="Arial"/>
              <a:buChar char="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8840">
              <a:spcBef>
                <a:spcPts val="400"/>
              </a:spcBef>
              <a:buClr>
                <a:srgbClr val="000000"/>
              </a:buClr>
              <a:buSzPct val="40000"/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8840">
              <a:spcBef>
                <a:spcPts val="400"/>
              </a:spcBef>
              <a:buClr>
                <a:srgbClr val="000000"/>
              </a:buClr>
              <a:buSzPct val="40000"/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738760" y="4094280"/>
            <a:ext cx="25099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York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ember 6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2004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4" name=""/>
          <p:cNvSpPr/>
          <p:nvPr/>
        </p:nvSpPr>
        <p:spPr>
          <a:xfrm>
            <a:off x="1920960" y="1523880"/>
            <a:ext cx="6332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l Report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5" name=""/>
          <p:cNvSpPr/>
          <p:nvPr/>
        </p:nvSpPr>
        <p:spPr>
          <a:xfrm>
            <a:off x="1920960" y="2133720"/>
            <a:ext cx="63849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oosing a Health Care Plan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bert Schlaff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im Schneider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ifki Zable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lissa Haslam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6" name=""/>
          <p:cNvSpPr/>
          <p:nvPr/>
        </p:nvSpPr>
        <p:spPr>
          <a:xfrm>
            <a:off x="1609560" y="1523880"/>
            <a:ext cx="0" cy="1905120"/>
          </a:xfrm>
          <a:prstGeom prst="line">
            <a:avLst/>
          </a:prstGeom>
          <a:ln w="101520">
            <a:solidFill>
              <a:srgbClr val="0b1f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ut health insurance costs are pre-tax, making the $250 deductible with 70% reimbursement the optimal pla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096400" y="182520"/>
            <a:ext cx="1321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ystal Ball model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890720" y="1747800"/>
          <a:ext cx="6108840" cy="3814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90720" y="1747800"/>
                    <a:ext cx="6108840" cy="38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2927520" y="2895480"/>
            <a:ext cx="52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9" name=""/>
          <p:cNvSpPr/>
          <p:nvPr/>
        </p:nvSpPr>
        <p:spPr>
          <a:xfrm>
            <a:off x="2867040" y="3429000"/>
            <a:ext cx="53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0" name=""/>
          <p:cNvSpPr/>
          <p:nvPr/>
        </p:nvSpPr>
        <p:spPr>
          <a:xfrm>
            <a:off x="2835360" y="3992400"/>
            <a:ext cx="53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0%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3247560" y="2971800"/>
            <a:ext cx="8892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3247920" y="4038120"/>
            <a:ext cx="35323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3" name=""/>
          <p:cNvSpPr/>
          <p:nvPr/>
        </p:nvSpPr>
        <p:spPr>
          <a:xfrm>
            <a:off x="3171960" y="4343400"/>
            <a:ext cx="52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250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4" name=""/>
          <p:cNvSpPr/>
          <p:nvPr/>
        </p:nvSpPr>
        <p:spPr>
          <a:xfrm>
            <a:off x="4390920" y="4267080"/>
            <a:ext cx="53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5" name=""/>
          <p:cNvSpPr/>
          <p:nvPr/>
        </p:nvSpPr>
        <p:spPr>
          <a:xfrm>
            <a:off x="6143760" y="4114800"/>
            <a:ext cx="61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1000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6" name=""/>
          <p:cNvSpPr/>
          <p:nvPr/>
        </p:nvSpPr>
        <p:spPr>
          <a:xfrm>
            <a:off x="2714760" y="4419720"/>
            <a:ext cx="123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Optimal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out-of-network preventative spending drops to $0, almost all plans are on the efficient fronti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474960" y="1828800"/>
            <a:ext cx="3048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5080" indent="-235080"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verall cost drops and standard deviation ri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pattern seems to devel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optimal plan is based solely on the client’s risk aver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0680">
              <a:lnSpc>
                <a:spcPct val="90000"/>
              </a:lnSpc>
              <a:spcBef>
                <a:spcPts val="799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 expected, higher risk tolerance means lower expected annual pay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0680">
              <a:lnSpc>
                <a:spcPct val="90000"/>
              </a:lnSpc>
              <a:spcBef>
                <a:spcPts val="799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er deductibles and lower reimbursement rates both add to risk in an unpredictable w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096400" y="182520"/>
            <a:ext cx="1321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ystal Ball model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684360" y="1752480"/>
          <a:ext cx="5181480" cy="3810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752480"/>
                    <a:ext cx="5181480" cy="38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2421000" y="2558880"/>
            <a:ext cx="761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$1000/50%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3" name=""/>
          <p:cNvSpPr/>
          <p:nvPr/>
        </p:nvSpPr>
        <p:spPr>
          <a:xfrm>
            <a:off x="2284560" y="2911320"/>
            <a:ext cx="761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$500/50%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4" name=""/>
          <p:cNvSpPr/>
          <p:nvPr/>
        </p:nvSpPr>
        <p:spPr>
          <a:xfrm>
            <a:off x="3106800" y="2955960"/>
            <a:ext cx="761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$250/50%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5" name=""/>
          <p:cNvSpPr/>
          <p:nvPr/>
        </p:nvSpPr>
        <p:spPr>
          <a:xfrm>
            <a:off x="3427560" y="3108240"/>
            <a:ext cx="761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$1000/60%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6" name=""/>
          <p:cNvSpPr/>
          <p:nvPr/>
        </p:nvSpPr>
        <p:spPr>
          <a:xfrm>
            <a:off x="3122640" y="3429000"/>
            <a:ext cx="76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$500/60%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7" name=""/>
          <p:cNvSpPr/>
          <p:nvPr/>
        </p:nvSpPr>
        <p:spPr>
          <a:xfrm>
            <a:off x="3900600" y="3368520"/>
            <a:ext cx="761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$1000/70%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8" name=""/>
          <p:cNvSpPr/>
          <p:nvPr/>
        </p:nvSpPr>
        <p:spPr>
          <a:xfrm>
            <a:off x="4233960" y="3641760"/>
            <a:ext cx="761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$250/60%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9" name=""/>
          <p:cNvSpPr/>
          <p:nvPr/>
        </p:nvSpPr>
        <p:spPr>
          <a:xfrm>
            <a:off x="3976560" y="3902040"/>
            <a:ext cx="76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$500/70%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0" name=""/>
          <p:cNvSpPr/>
          <p:nvPr/>
        </p:nvSpPr>
        <p:spPr>
          <a:xfrm>
            <a:off x="4405320" y="4206960"/>
            <a:ext cx="76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$250/70%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1" name=""/>
          <p:cNvSpPr/>
          <p:nvPr/>
        </p:nvSpPr>
        <p:spPr>
          <a:xfrm>
            <a:off x="2284560" y="2743200"/>
            <a:ext cx="289548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2" name=""/>
          <p:cNvSpPr/>
          <p:nvPr/>
        </p:nvSpPr>
        <p:spPr>
          <a:xfrm>
            <a:off x="2665440" y="3581280"/>
            <a:ext cx="68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icient Frontier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e can draw some useful conclusions but our model has some significant limita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763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5080" indent="-235080"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verall Conclu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0680">
              <a:lnSpc>
                <a:spcPct val="90000"/>
              </a:lnSpc>
              <a:spcBef>
                <a:spcPts val="799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$250 deductible is optimal for anyone in our initial model with no tax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0680">
              <a:lnSpc>
                <a:spcPct val="90000"/>
              </a:lnSpc>
              <a:spcBef>
                <a:spcPts val="799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$250 deductible with 70% reimbursement is optimal for everyone assuming our model with 40% tax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0680">
              <a:lnSpc>
                <a:spcPct val="90000"/>
              </a:lnSpc>
              <a:spcBef>
                <a:spcPts val="799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a person chooses no out-of-network preventative treatment, all plans are on the efficient frontier each a person needs to determine their own risk toleran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mi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0680">
              <a:lnSpc>
                <a:spcPct val="90000"/>
              </a:lnSpc>
              <a:spcBef>
                <a:spcPts val="799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r model is based on estimates of costs and distribution of diseases which may not be corr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0680">
              <a:lnSpc>
                <a:spcPct val="90000"/>
              </a:lnSpc>
              <a:spcBef>
                <a:spcPts val="799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model does not take into account tax savings accou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072280" y="182520"/>
            <a:ext cx="92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427200" y="2666880"/>
            <a:ext cx="3809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99840" y="12189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599840" y="2742840"/>
            <a:ext cx="670572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35080" indent="-235080"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blem over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tical/graphical interpre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ystal Ball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mons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clusions and limi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starting a new job and need to choose an insurance plan from several available op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763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5080" indent="-235080"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provider allows you to take various different options to create your own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0680">
              <a:lnSpc>
                <a:spcPct val="90000"/>
              </a:lnSpc>
              <a:spcBef>
                <a:spcPts val="799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oice of in-network and out-of-network do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0680">
              <a:lnSpc>
                <a:spcPct val="90000"/>
              </a:lnSpc>
              <a:spcBef>
                <a:spcPts val="799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-payments to in-network do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0680">
              <a:lnSpc>
                <a:spcPct val="90000"/>
              </a:lnSpc>
              <a:spcBef>
                <a:spcPts val="799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duct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0680">
              <a:lnSpc>
                <a:spcPct val="90000"/>
              </a:lnSpc>
              <a:spcBef>
                <a:spcPts val="799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imbursement rate for out-of-network cove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920720" y="182520"/>
            <a:ext cx="133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 Overview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ur goal is to find the health care plan(s) on the efficient fronti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217840" y="1904760"/>
            <a:ext cx="43052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5080" indent="-235080">
              <a:lnSpc>
                <a:spcPct val="90000"/>
              </a:lnSpc>
              <a:spcBef>
                <a:spcPts val="1749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be on the efficient frontier, another plan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nno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have bo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0680">
              <a:lnSpc>
                <a:spcPct val="80000"/>
              </a:lnSpc>
              <a:spcBef>
                <a:spcPts val="700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lower average pay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0680">
              <a:lnSpc>
                <a:spcPct val="80000"/>
              </a:lnSpc>
              <a:spcBef>
                <a:spcPts val="700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lower standard devi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749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ision Varia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0680">
              <a:lnSpc>
                <a:spcPct val="80000"/>
              </a:lnSpc>
              <a:spcBef>
                <a:spcPts val="700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-payment amount ($20 or $4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0680">
              <a:lnSpc>
                <a:spcPct val="80000"/>
              </a:lnSpc>
              <a:spcBef>
                <a:spcPts val="700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ductible ($250, $500, or $10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0680">
              <a:lnSpc>
                <a:spcPct val="80000"/>
              </a:lnSpc>
              <a:spcBef>
                <a:spcPts val="700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-of-network reimbursement rate (50%, 60%, and 70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749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um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0680">
              <a:lnSpc>
                <a:spcPct val="80000"/>
              </a:lnSpc>
              <a:spcBef>
                <a:spcPts val="700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ume that we prefer to visit out-of-network doc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0680">
              <a:lnSpc>
                <a:spcPct val="80000"/>
              </a:lnSpc>
              <a:spcBef>
                <a:spcPts val="700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ximum out of pocket, out-of-network expenses are $5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0680">
              <a:lnSpc>
                <a:spcPct val="80000"/>
              </a:lnSpc>
              <a:spcBef>
                <a:spcPts val="700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thin the limits of the plans, you have little risk of bankruptc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920720" y="182520"/>
            <a:ext cx="133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 Overview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84360" y="1905120"/>
          <a:ext cx="4305240" cy="365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05120"/>
                    <a:ext cx="430524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1293840" y="432756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Optimal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8" name=""/>
          <p:cNvSpPr/>
          <p:nvPr/>
        </p:nvSpPr>
        <p:spPr>
          <a:xfrm>
            <a:off x="1522440" y="3048120"/>
            <a:ext cx="175248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9" name=""/>
          <p:cNvSpPr/>
          <p:nvPr/>
        </p:nvSpPr>
        <p:spPr>
          <a:xfrm>
            <a:off x="1598760" y="3581280"/>
            <a:ext cx="68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icient Frontier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st difference between a $20 and $40 co-payment plan is easy to determin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265400" y="1752480"/>
          <a:ext cx="3076560" cy="3759480"/>
        </p:xfrm>
        <a:graphic>
          <a:graphicData uri="http://schemas.openxmlformats.org/drawingml/2006/table">
            <a:tbl>
              <a:tblPr/>
              <a:tblGrid>
                <a:gridCol w="836640"/>
                <a:gridCol w="1042920"/>
                <a:gridCol w="1197000"/>
              </a:tblGrid>
              <a:tr h="838440">
                <a:tc>
                  <a:txBody>
                    <a:bodyPr lIns="45720" rIns="45720" tIns="46800" bIns="46800" anchor="b" anchorCtr="1">
                      <a:noAutofit/>
                    </a:bodyPr>
                    <a:p>
                      <a:pPr marL="235080" indent="-235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educti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16666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ut of network payment 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16666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ifference in $20 vs. $40 co-p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16666"/>
                    </a:solidFill>
                  </a:tcPr>
                </a:tc>
              </a:tr>
              <a:tr h="323640">
                <a:tc>
                  <a:txBody>
                    <a:bodyPr lIns="45720" rIns="45720" tIns="46800" bIns="46800" anchor="b" anchorCtr="1">
                      <a:noAutofit/>
                    </a:bodyPr>
                    <a:p>
                      <a:pPr marL="235080" indent="-235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25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e1c0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marL="235080" indent="-235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e1c0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marL="235080" indent="-235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01.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4000">
                <a:tc>
                  <a:txBody>
                    <a:bodyPr lIns="45720" rIns="45720" tIns="46800" bIns="46800" anchor="b" anchorCtr="1">
                      <a:noAutofit/>
                    </a:bodyPr>
                    <a:p>
                      <a:pPr marL="235080" indent="-235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25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e1c0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marL="235080" indent="-235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e1c0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marL="235080" indent="-235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01.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5440">
                <a:tc>
                  <a:txBody>
                    <a:bodyPr lIns="45720" rIns="45720" tIns="46800" bIns="46800" anchor="b" anchorCtr="1">
                      <a:noAutofit/>
                    </a:bodyPr>
                    <a:p>
                      <a:pPr marL="235080" indent="-235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25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e1c0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marL="235080" indent="-235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e1c0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marL="235080" indent="-235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01.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3640">
                <a:tc>
                  <a:txBody>
                    <a:bodyPr lIns="45720" rIns="45720" tIns="46800" bIns="46800" anchor="b" anchorCtr="1">
                      <a:noAutofit/>
                    </a:bodyPr>
                    <a:p>
                      <a:pPr marL="235080" indent="-235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5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e1c0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marL="235080" indent="-235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e1c0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marL="235080" indent="-235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01.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5440">
                <a:tc>
                  <a:txBody>
                    <a:bodyPr lIns="45720" rIns="45720" tIns="46800" bIns="46800" anchor="b" anchorCtr="1">
                      <a:noAutofit/>
                    </a:bodyPr>
                    <a:p>
                      <a:pPr marL="235080" indent="-235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5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e1c0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marL="235080" indent="-235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e1c0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marL="235080" indent="-235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01.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5440">
                <a:tc>
                  <a:txBody>
                    <a:bodyPr lIns="45720" rIns="45720" tIns="46800" bIns="46800" anchor="b" anchorCtr="1">
                      <a:noAutofit/>
                    </a:bodyPr>
                    <a:p>
                      <a:pPr marL="235080" indent="-235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5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e1c0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marL="235080" indent="-235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e1c0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marL="235080" indent="-235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01.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4000">
                <a:tc>
                  <a:txBody>
                    <a:bodyPr lIns="45720" rIns="45720" tIns="46800" bIns="46800" anchor="b" anchorCtr="1">
                      <a:noAutofit/>
                    </a:bodyPr>
                    <a:p>
                      <a:pPr marL="235080" indent="-235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,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e1c0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marL="235080" indent="-235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e1c0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marL="235080" indent="-235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00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5440">
                <a:tc>
                  <a:txBody>
                    <a:bodyPr lIns="45720" rIns="45720" tIns="46800" bIns="46800" anchor="b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,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e1c0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marL="235080" indent="-235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e1c0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marL="235080" indent="-235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01.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4000">
                <a:tc>
                  <a:txBody>
                    <a:bodyPr lIns="45720" rIns="45720" tIns="46800" bIns="46800" anchor="b">
                      <a:noAutofit/>
                    </a:bodyPr>
                    <a:p>
                      <a:pPr marL="235080" indent="-235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,000  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e1c0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marL="235080" indent="-235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e1c0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marL="235080" indent="-235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01.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2" name=""/>
          <p:cNvSpPr/>
          <p:nvPr/>
        </p:nvSpPr>
        <p:spPr>
          <a:xfrm>
            <a:off x="5408640" y="1752480"/>
            <a:ext cx="40402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constant difference allows us to make a choice based on a simplified decision rule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price difference for each co-pay is $20 ($40 - $20 = $20)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need to see an In-Network doctor more than five times a year to capture the $101 savings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need to decide if we will go to an In-Network doctor more than 5 times in a year to capture the better deal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allows us to remove this factor from our simulation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3" name=""/>
          <p:cNvSpPr/>
          <p:nvPr/>
        </p:nvSpPr>
        <p:spPr>
          <a:xfrm>
            <a:off x="7920720" y="182520"/>
            <a:ext cx="133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 Overview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graphical approach can provide us with some intuition to the problem but does not give us a complet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520560" y="2133720"/>
          <a:ext cx="722016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560" y="2133720"/>
                    <a:ext cx="722016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4875120" y="1544760"/>
            <a:ext cx="1467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imbursement rates dominat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8" name=""/>
          <p:cNvSpPr/>
          <p:nvPr/>
        </p:nvSpPr>
        <p:spPr>
          <a:xfrm>
            <a:off x="5713560" y="2030400"/>
            <a:ext cx="0" cy="484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9" name=""/>
          <p:cNvSpPr/>
          <p:nvPr/>
        </p:nvSpPr>
        <p:spPr>
          <a:xfrm>
            <a:off x="1751040" y="2106720"/>
            <a:ext cx="0" cy="7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0" name=""/>
          <p:cNvSpPr/>
          <p:nvPr/>
        </p:nvSpPr>
        <p:spPr>
          <a:xfrm>
            <a:off x="1217520" y="1544760"/>
            <a:ext cx="1100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r benefits are cheaper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1" name=""/>
          <p:cNvSpPr/>
          <p:nvPr/>
        </p:nvSpPr>
        <p:spPr>
          <a:xfrm>
            <a:off x="2513160" y="1544760"/>
            <a:ext cx="1100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mbination of factors are relevan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2" name=""/>
          <p:cNvSpPr/>
          <p:nvPr/>
        </p:nvSpPr>
        <p:spPr>
          <a:xfrm>
            <a:off x="3046320" y="2182680"/>
            <a:ext cx="0" cy="117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3" name=""/>
          <p:cNvSpPr/>
          <p:nvPr/>
        </p:nvSpPr>
        <p:spPr>
          <a:xfrm>
            <a:off x="7923960" y="182520"/>
            <a:ext cx="168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ical interpretatio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4" name=""/>
          <p:cNvSpPr/>
          <p:nvPr/>
        </p:nvSpPr>
        <p:spPr>
          <a:xfrm>
            <a:off x="6627960" y="1523880"/>
            <a:ext cx="28209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blems with this model: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our area of interest, it is very hard to determine the cheapest plan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 is hard to determine a risk / return measurement 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 is hard for us to determine the exact spending in a year (we would rather use distributions)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model makes it hard to take into account unlikely events (like severe illnesses) 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lution: run a simulation in Crystal Ball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rystal Ball Mod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096400" y="182520"/>
            <a:ext cx="1321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ystal Ball model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55760" y="1523880"/>
            <a:ext cx="8991360" cy="32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0" y="2666880"/>
            <a:ext cx="3809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monstr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096400" y="182520"/>
            <a:ext cx="1321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ystal Ball model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ithout taking taxes into account, the plans with $250 deductibles lie on the efficient fronti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94440" y="1905120"/>
            <a:ext cx="33544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$250 deductibles lie on the efficient frontier, which indicates that choosing an optimal plan requires individuals to define the their risk aversion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ns with 50% reimbursement rates are the most risky and least costly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ing the same level of reimbursement lower deductibles reduce costs and reduce risk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0" y="182520"/>
            <a:ext cx="1321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ystal Ball model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08040" y="1752480"/>
          <a:ext cx="5257800" cy="4081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8040" y="1752480"/>
                    <a:ext cx="5257800" cy="408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1598760" y="310824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6" name=""/>
          <p:cNvSpPr/>
          <p:nvPr/>
        </p:nvSpPr>
        <p:spPr>
          <a:xfrm>
            <a:off x="2284560" y="364176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7" name=""/>
          <p:cNvSpPr/>
          <p:nvPr/>
        </p:nvSpPr>
        <p:spPr>
          <a:xfrm>
            <a:off x="3046320" y="425124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0%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8" name=""/>
          <p:cNvSpPr/>
          <p:nvPr/>
        </p:nvSpPr>
        <p:spPr>
          <a:xfrm>
            <a:off x="1903320" y="3048120"/>
            <a:ext cx="190512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808440" y="3962160"/>
            <a:ext cx="13716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0" name=""/>
          <p:cNvSpPr/>
          <p:nvPr/>
        </p:nvSpPr>
        <p:spPr>
          <a:xfrm>
            <a:off x="4799160" y="409896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$1000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1" name=""/>
          <p:cNvSpPr/>
          <p:nvPr/>
        </p:nvSpPr>
        <p:spPr>
          <a:xfrm>
            <a:off x="4189320" y="42670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$500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2" name=""/>
          <p:cNvSpPr/>
          <p:nvPr/>
        </p:nvSpPr>
        <p:spPr>
          <a:xfrm>
            <a:off x="3732120" y="441972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$250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3" name=""/>
          <p:cNvSpPr/>
          <p:nvPr/>
        </p:nvSpPr>
        <p:spPr>
          <a:xfrm>
            <a:off x="1446120" y="455616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Optimal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5T03:26:02Z</dcterms:created>
  <dc:creator>robert</dc:creator>
  <dc:description/>
  <dc:language>en-US</dc:language>
  <cp:lastModifiedBy>Robert Schlaff</cp:lastModifiedBy>
  <cp:lastPrinted>2001-09-28T15:01:44Z</cp:lastPrinted>
  <dcterms:modified xsi:type="dcterms:W3CDTF">2004-12-05T20:51:05Z</dcterms:modified>
  <cp:revision>65</cp:revision>
  <dc:subject/>
  <dc:title>Slide 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582121968</vt:r8>
  </property>
  <property fmtid="{D5CDD505-2E9C-101B-9397-08002B2CF9AE}" pid="3" name="_AuthorEmail">
    <vt:lpwstr>robert@schlaff.com</vt:lpwstr>
  </property>
  <property fmtid="{D5CDD505-2E9C-101B-9397-08002B2CF9AE}" pid="4" name="_AuthorEmailDisplayName">
    <vt:lpwstr>Robert Schlaff</vt:lpwstr>
  </property>
  <property fmtid="{D5CDD505-2E9C-101B-9397-08002B2CF9AE}" pid="5" name="_EmailSubject">
    <vt:lpwstr>Decision models project - health insurance plans</vt:lpwstr>
  </property>
</Properties>
</file>