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619200" y="213840"/>
            <a:ext cx="5721120" cy="39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1"/>
          </p:nvPr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002A3D-09FB-4AA5-851E-C50F82711F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9B69181-9EAA-46ED-B614-EBB23A1268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619200" y="214200"/>
            <a:ext cx="5721120" cy="396252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14520" y="4674960"/>
            <a:ext cx="5680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690480" y="6676920"/>
            <a:ext cx="693720" cy="6937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7174080"/>
            <a:ext cx="693720" cy="6919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676920"/>
            <a:ext cx="693720" cy="6937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2265480" y="7174080"/>
            <a:ext cx="695160" cy="6919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3174840" y="6676920"/>
            <a:ext cx="696960" cy="6937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3517920" y="7174080"/>
            <a:ext cx="693720" cy="6919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605560" y="6676920"/>
            <a:ext cx="691920" cy="6937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"/>
          <p:cNvSpPr/>
          <p:nvPr/>
        </p:nvSpPr>
        <p:spPr>
          <a:xfrm>
            <a:off x="4390920" y="6676920"/>
            <a:ext cx="692280" cy="69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732200" y="7174080"/>
            <a:ext cx="69372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720720" y="57942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1909800" y="5794200"/>
            <a:ext cx="772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3193920" y="5794200"/>
            <a:ext cx="773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4408560" y="6402600"/>
            <a:ext cx="776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5595840" y="5915880"/>
            <a:ext cx="7747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1076400" y="79326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>
            <a:off x="2263680" y="7932600"/>
            <a:ext cx="77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"/>
          <p:cNvSpPr/>
          <p:nvPr/>
        </p:nvSpPr>
        <p:spPr>
          <a:xfrm>
            <a:off x="3548160" y="7932600"/>
            <a:ext cx="77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7932600"/>
            <a:ext cx="77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1080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1920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410B-0F3D-4161-8ACA-AF6661C718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3C0A-B967-4767-BC54-298D6B34C4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2736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44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8840">
              <a:lnSpc>
                <a:spcPct val="90000"/>
              </a:lnSpc>
              <a:spcAft>
                <a:spcPts val="799"/>
              </a:spcAft>
              <a:buClr>
                <a:srgbClr val="000000"/>
              </a:buClr>
              <a:buSzPct val="40000"/>
              <a:buFont typeface="Arial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4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1920960" y="2133720"/>
            <a:ext cx="6384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oosing a Health Care Pla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ert Schlaff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m Schneide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fki Zab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lissa Haslam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health insurance costs are pre-tax, making the $250 deductible with 70% reimbursement the optimal 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890720" y="1747800"/>
          <a:ext cx="6108840" cy="38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1747800"/>
                    <a:ext cx="610884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27520" y="289548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2867040" y="34290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2835360" y="39924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47560" y="2971800"/>
            <a:ext cx="88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47920" y="4038120"/>
            <a:ext cx="353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3171960" y="434340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4390920" y="426708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6143760" y="411480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441972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out-of-network preventative spending drops to $0, almost all plans ar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74960" y="1828800"/>
            <a:ext cx="3048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st drops and standard deviation 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attern seems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timal plan is based solely on the client’s risk a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expected, higher risk tolerance means lower expected annual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deductibles and lower reimbursement rates both add to risk in an unpredictable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1752480"/>
          <a:ext cx="51814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52480"/>
                    <a:ext cx="5181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21000" y="255888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2284560" y="29113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3106800" y="29559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3427560" y="310824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3122640" y="34290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3900600" y="33685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233960" y="36417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"/>
          <p:cNvSpPr/>
          <p:nvPr/>
        </p:nvSpPr>
        <p:spPr>
          <a:xfrm>
            <a:off x="3976560" y="39020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4405320" y="420696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2284560" y="2743200"/>
            <a:ext cx="28954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266544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can draw some useful conclusions but our model has some significant limi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nclu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is optimal for anyone in our initial model with 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with 70% reimbursement is optimal for everyone assuming our model with 40%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person chooses no out-of-network preventative treatment, all plans are on the efficient frontier each a person needs to determine their own risk tole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model is based on estimates of costs and distribution of diseases which may not be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del does not take into account tax savings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2280" y="182520"/>
            <a:ext cx="9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6705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al/graphical interpr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 and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tarting a new job and need to choose an insurance plan from several available op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vider allows you to take various different options to create your ow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ice of in-network and out-of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payments to in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duc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imbursement rate for out-of-network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ur goal is to find the health care plan(s)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17840" y="1904760"/>
            <a:ext cx="43052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on the efficient frontier, another pl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b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average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standard 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payment amount ($20 or $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ductible ($250, $500, or $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network reimbursement rate (50%, 60%, and 7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 that we prefer to visit out-of-network do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out of pocket, out-of-network expenses are $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the limits of the plans, you have little risk of bankrupt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905120"/>
          <a:ext cx="43052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05120"/>
                    <a:ext cx="4305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93840" y="4327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1522440" y="30481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st difference between a $20 and $40 co-payment plan is easy to determ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5400" y="1752480"/>
          <a:ext cx="3076560" cy="3759480"/>
        </p:xfrm>
        <a:graphic>
          <a:graphicData uri="http://schemas.openxmlformats.org/drawingml/2006/table">
            <a:tbl>
              <a:tblPr/>
              <a:tblGrid>
                <a:gridCol w="836640"/>
                <a:gridCol w="1042920"/>
                <a:gridCol w="1197000"/>
              </a:tblGrid>
              <a:tr h="838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duct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 of network paymen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fference in $20 vs. $40 co-p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408640" y="1752480"/>
            <a:ext cx="4040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constant difference allows us to make a choice based on a simplified decision ru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ce difference for each co-pay is $20 ($40 - $20 = $20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see an In-Network doctor more than five times a year to capture the $101 saving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decide if we will go to an In-Network doctor more than 5 times in a year to capture the better de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llows us to remove this factor from our simulat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graphical approach can provide us with some intuition to the problem but does not give us a complet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20560" y="2133720"/>
          <a:ext cx="722016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133720"/>
                    <a:ext cx="72201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5120" y="154476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mbursement rates domin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713560" y="20304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1751040" y="210672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1217520" y="1544760"/>
            <a:ext cx="11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benefits are cheap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2513160" y="154476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factors are releva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3046320" y="218268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7923960" y="182520"/>
            <a:ext cx="16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interpre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6627960" y="1523880"/>
            <a:ext cx="2820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this model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ur area of interest, it is very hard to determine the cheapest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to determine a risk / return measurement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for us to determine the exact spending in a year (we would rather use distribution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model makes it hard to take into account unlikely events (like severe illnesses)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: run a simulation in Crystal Bal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rystal Ball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9913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out taking taxes into account, the plans with $250 deductibles li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440" y="1905120"/>
            <a:ext cx="3354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deductibles lie on the efficient frontier, which indicates that choosing an optimal plan requires individuals to define the their risk avers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s with 50% reimbursement rates are the most risky and least cost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the same level of reimbursement lower deductibles reduce costs and reduce ris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752480"/>
          <a:ext cx="5257800" cy="40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752480"/>
                    <a:ext cx="525780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98760" y="3108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2284560" y="364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3046320" y="4251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1903320" y="30481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08440" y="396216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4799160" y="4098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189320" y="4267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3732120" y="4419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1446120" y="45561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3:26:02Z</dcterms:created>
  <dc:creator>robert</dc:creator>
  <dc:description/>
  <dc:language>en-US</dc:language>
  <cp:lastModifiedBy>Robert Schlaff</cp:lastModifiedBy>
  <cp:lastPrinted>2001-09-28T15:01:44Z</cp:lastPrinted>
  <dcterms:modified xsi:type="dcterms:W3CDTF">2004-12-05T20:51:05Z</dcterms:modified>
  <cp:revision>65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2121968</vt:r8>
  </property>
  <property fmtid="{D5CDD505-2E9C-101B-9397-08002B2CF9AE}" pid="3" name="_AuthorEmail">
    <vt:lpwstr>robert@schlaff.com</vt:lpwstr>
  </property>
  <property fmtid="{D5CDD505-2E9C-101B-9397-08002B2CF9AE}" pid="4" name="_AuthorEmailDisplayName">
    <vt:lpwstr>Robert Schlaff</vt:lpwstr>
  </property>
  <property fmtid="{D5CDD505-2E9C-101B-9397-08002B2CF9AE}" pid="5" name="_EmailSubject">
    <vt:lpwstr>Decision models project - health insurance plans</vt:lpwstr>
  </property>
</Properties>
</file>