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2825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12720" y="4417920"/>
            <a:ext cx="5735520" cy="4586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619200" y="213840"/>
            <a:ext cx="5721120" cy="396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1"/>
          </p:nvPr>
        </p:nvSpPr>
        <p:spPr>
          <a:xfrm>
            <a:off x="6734160" y="9116640"/>
            <a:ext cx="231840" cy="1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ABB88B1-A9ED-46E0-A39C-D55AE221747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734160" y="9116640"/>
            <a:ext cx="231840" cy="1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D33C94F-ACAE-4523-8BD9-53E4AD2475D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12720" y="4417920"/>
            <a:ext cx="573552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619200" y="214200"/>
            <a:ext cx="5721120" cy="396252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14520" y="4674960"/>
            <a:ext cx="5680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"/>
          <p:cNvSpPr/>
          <p:nvPr/>
        </p:nvSpPr>
        <p:spPr>
          <a:xfrm>
            <a:off x="690480" y="6676920"/>
            <a:ext cx="693720" cy="69372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7174080"/>
            <a:ext cx="693720" cy="6919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676920"/>
            <a:ext cx="693720" cy="69372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"/>
          <p:cNvSpPr/>
          <p:nvPr/>
        </p:nvSpPr>
        <p:spPr>
          <a:xfrm>
            <a:off x="2265480" y="7174080"/>
            <a:ext cx="695160" cy="6919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"/>
          <p:cNvSpPr/>
          <p:nvPr/>
        </p:nvSpPr>
        <p:spPr>
          <a:xfrm>
            <a:off x="3174840" y="6676920"/>
            <a:ext cx="696960" cy="69372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3517920" y="7174080"/>
            <a:ext cx="693720" cy="6919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5605560" y="6676920"/>
            <a:ext cx="691920" cy="69372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"/>
          <p:cNvSpPr/>
          <p:nvPr/>
        </p:nvSpPr>
        <p:spPr>
          <a:xfrm>
            <a:off x="4390920" y="6676920"/>
            <a:ext cx="692280" cy="69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"/>
          <p:cNvSpPr/>
          <p:nvPr/>
        </p:nvSpPr>
        <p:spPr>
          <a:xfrm>
            <a:off x="4732200" y="7174080"/>
            <a:ext cx="693720" cy="6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"/>
          <p:cNvSpPr/>
          <p:nvPr/>
        </p:nvSpPr>
        <p:spPr>
          <a:xfrm>
            <a:off x="720720" y="5794200"/>
            <a:ext cx="77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"/>
          <p:cNvSpPr/>
          <p:nvPr/>
        </p:nvSpPr>
        <p:spPr>
          <a:xfrm>
            <a:off x="1909800" y="5794200"/>
            <a:ext cx="7729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"/>
          <p:cNvSpPr/>
          <p:nvPr/>
        </p:nvSpPr>
        <p:spPr>
          <a:xfrm>
            <a:off x="3193920" y="5794200"/>
            <a:ext cx="773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"/>
          <p:cNvSpPr/>
          <p:nvPr/>
        </p:nvSpPr>
        <p:spPr>
          <a:xfrm>
            <a:off x="4408560" y="6402600"/>
            <a:ext cx="776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"/>
          <p:cNvSpPr/>
          <p:nvPr/>
        </p:nvSpPr>
        <p:spPr>
          <a:xfrm>
            <a:off x="5595840" y="5915880"/>
            <a:ext cx="77472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"/>
          <p:cNvSpPr/>
          <p:nvPr/>
        </p:nvSpPr>
        <p:spPr>
          <a:xfrm>
            <a:off x="1076400" y="7932600"/>
            <a:ext cx="774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"/>
          <p:cNvSpPr/>
          <p:nvPr/>
        </p:nvSpPr>
        <p:spPr>
          <a:xfrm>
            <a:off x="2263680" y="7932600"/>
            <a:ext cx="77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"/>
          <p:cNvSpPr/>
          <p:nvPr/>
        </p:nvSpPr>
        <p:spPr>
          <a:xfrm>
            <a:off x="3548160" y="7932600"/>
            <a:ext cx="776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7932600"/>
            <a:ext cx="77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780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10800">
              <a:spcBef>
                <a:spcPts val="2001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19200">
              <a:spcBef>
                <a:spcPts val="2001"/>
              </a:spcBef>
              <a:buClr>
                <a:srgbClr val="0b1f6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3368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3368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3368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CBC0-108D-4D9B-9A98-42A6F940F2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422360" y="1905120"/>
            <a:ext cx="0" cy="457200"/>
          </a:xfrm>
          <a:prstGeom prst="line">
            <a:avLst/>
          </a:prstGeom>
          <a:ln w="763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0EDC-E0FF-4299-9F01-F80E26D077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1600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2736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4472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8840">
              <a:lnSpc>
                <a:spcPct val="90000"/>
              </a:lnSpc>
              <a:spcAft>
                <a:spcPts val="799"/>
              </a:spcAft>
              <a:buClr>
                <a:srgbClr val="000000"/>
              </a:buClr>
              <a:buSzPct val="40000"/>
              <a:buFont typeface="Arial"/>
              <a:buChar char="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8840">
              <a:spcBef>
                <a:spcPts val="400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8840">
              <a:spcBef>
                <a:spcPts val="400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738760" y="4094280"/>
            <a:ext cx="250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4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"/>
          <p:cNvSpPr/>
          <p:nvPr/>
        </p:nvSpPr>
        <p:spPr>
          <a:xfrm>
            <a:off x="1920960" y="1523880"/>
            <a:ext cx="63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"/>
          <p:cNvSpPr/>
          <p:nvPr/>
        </p:nvSpPr>
        <p:spPr>
          <a:xfrm>
            <a:off x="1920960" y="2133720"/>
            <a:ext cx="6384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oosing a Health Care Pla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ert Schlaff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m Schneider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fki Zab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lissa Haslam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1609560" y="1523880"/>
            <a:ext cx="0" cy="1905120"/>
          </a:xfrm>
          <a:prstGeom prst="line">
            <a:avLst/>
          </a:prstGeom>
          <a:ln w="1015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health insurance costs are pre-tax, making the $250 deductible with 70% reimbursement the optimal 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890720" y="1747800"/>
          <a:ext cx="6108840" cy="38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720" y="1747800"/>
                    <a:ext cx="6108840" cy="38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927520" y="2895480"/>
            <a:ext cx="52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2867040" y="3429000"/>
            <a:ext cx="5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2835360" y="3992400"/>
            <a:ext cx="5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47560" y="2971800"/>
            <a:ext cx="889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247920" y="4038120"/>
            <a:ext cx="3532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3171960" y="4343400"/>
            <a:ext cx="52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5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"/>
          <p:cNvSpPr/>
          <p:nvPr/>
        </p:nvSpPr>
        <p:spPr>
          <a:xfrm>
            <a:off x="4390920" y="4267080"/>
            <a:ext cx="5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"/>
          <p:cNvSpPr/>
          <p:nvPr/>
        </p:nvSpPr>
        <p:spPr>
          <a:xfrm>
            <a:off x="6143760" y="4114800"/>
            <a:ext cx="6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0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2714760" y="4419720"/>
            <a:ext cx="12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out-of-network preventative spending drops to $0, almost all plans are on the efficient fronti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74960" y="1828800"/>
            <a:ext cx="3048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cost drops and standard deviation 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pattern seems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ptimal plan is based solely on the client’s risk a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expected, higher risk tolerance means lower expected annual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deductibles and lower reimbursement rates both add to risk in an unpredictable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1752480"/>
          <a:ext cx="518148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52480"/>
                    <a:ext cx="5181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421000" y="255888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000/5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2284560" y="291132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00/5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"/>
          <p:cNvSpPr/>
          <p:nvPr/>
        </p:nvSpPr>
        <p:spPr>
          <a:xfrm>
            <a:off x="3106800" y="295596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50/5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"/>
          <p:cNvSpPr/>
          <p:nvPr/>
        </p:nvSpPr>
        <p:spPr>
          <a:xfrm>
            <a:off x="3427560" y="310824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000/6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"/>
          <p:cNvSpPr/>
          <p:nvPr/>
        </p:nvSpPr>
        <p:spPr>
          <a:xfrm>
            <a:off x="3122640" y="34290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00/6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"/>
          <p:cNvSpPr/>
          <p:nvPr/>
        </p:nvSpPr>
        <p:spPr>
          <a:xfrm>
            <a:off x="3900600" y="336852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000/7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"/>
          <p:cNvSpPr/>
          <p:nvPr/>
        </p:nvSpPr>
        <p:spPr>
          <a:xfrm>
            <a:off x="4233960" y="364176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50/6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"/>
          <p:cNvSpPr/>
          <p:nvPr/>
        </p:nvSpPr>
        <p:spPr>
          <a:xfrm>
            <a:off x="3976560" y="39020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500/7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"/>
          <p:cNvSpPr/>
          <p:nvPr/>
        </p:nvSpPr>
        <p:spPr>
          <a:xfrm>
            <a:off x="4405320" y="420696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50/7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"/>
          <p:cNvSpPr/>
          <p:nvPr/>
        </p:nvSpPr>
        <p:spPr>
          <a:xfrm>
            <a:off x="2284560" y="2743200"/>
            <a:ext cx="28954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"/>
          <p:cNvSpPr/>
          <p:nvPr/>
        </p:nvSpPr>
        <p:spPr>
          <a:xfrm>
            <a:off x="2665440" y="35812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can draw some useful conclusions but our model has some significant limit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 Conclu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$250 deductible is optimal for anyone in our initial model with no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$250 deductible with 70% reimbursement is optimal for everyone assuming our model with 40%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person chooses no out-of-network preventative treatment, all plans are on the efficient frontier each a person needs to determine their own risk toler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model is based on estimates of costs and distribution of diseases which may not be 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del does not take into account tax savings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72280" y="182520"/>
            <a:ext cx="9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0" y="26668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99840" y="2742840"/>
            <a:ext cx="67057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al/graphical interpr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 and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tarting a new job and need to choose an insurance plan from several available op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vider allows you to take various different options to create your ow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ice of in-network and out-of-network 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-payments to in-network 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duc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imbursement rate for out-of-network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720" y="18252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ur goal is to find the health care plan(s) on the efficient fronti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17840" y="1904760"/>
            <a:ext cx="43052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on the efficient frontier, another pla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ve b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ower average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ower standard dev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payment amount ($20 or $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ductible ($250, $500, or $1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network reimbursement rate (50%, 60%, and 7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e that we prefer to visit out-of-network do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out of pocket, out-of-network expenses are $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8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in the limits of the plans, you have little risk of bankrupt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720" y="18252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905120"/>
          <a:ext cx="430524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05120"/>
                    <a:ext cx="4305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293840" y="4327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1522440" y="3048120"/>
            <a:ext cx="17524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35812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st difference between a $20 and $40 co-payment plan is easy to determi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65400" y="1752480"/>
          <a:ext cx="3076560" cy="3759480"/>
        </p:xfrm>
        <a:graphic>
          <a:graphicData uri="http://schemas.openxmlformats.org/drawingml/2006/table">
            <a:tbl>
              <a:tblPr/>
              <a:tblGrid>
                <a:gridCol w="836640"/>
                <a:gridCol w="1042920"/>
                <a:gridCol w="1197000"/>
              </a:tblGrid>
              <a:tr h="838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duct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6666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 of network payment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6666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fference in $20 vs. $40 co-p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6666"/>
                    </a:solidFill>
                  </a:tcPr>
                </a:tc>
              </a:tr>
              <a:tr h="3236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45720" rIns="45720" tIns="46800" bIns="46800" anchor="b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00 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1c0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marL="235080" indent="-235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1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5408640" y="1752480"/>
            <a:ext cx="4040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constant difference allows us to make a choice based on a simplified decision rul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ice difference for each co-pay is $20 ($40 - $20 = $20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need to see an In-Network doctor more than five times a year to capture the $101 saving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need to decide if we will go to an In-Network doctor more than 5 times in a year to capture the better dea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allows us to remove this factor from our simulation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7920720" y="18252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graphical approach can provide us with some intuition to the problem but does not give us a complet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20560" y="2133720"/>
          <a:ext cx="722016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133720"/>
                    <a:ext cx="72201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5120" y="1544760"/>
            <a:ext cx="146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mbursement rates domin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"/>
          <p:cNvSpPr/>
          <p:nvPr/>
        </p:nvSpPr>
        <p:spPr>
          <a:xfrm>
            <a:off x="5713560" y="203040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1751040" y="2106720"/>
            <a:ext cx="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1217520" y="1544760"/>
            <a:ext cx="11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benefits are cheap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"/>
          <p:cNvSpPr/>
          <p:nvPr/>
        </p:nvSpPr>
        <p:spPr>
          <a:xfrm>
            <a:off x="2513160" y="154476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factors are releva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"/>
          <p:cNvSpPr/>
          <p:nvPr/>
        </p:nvSpPr>
        <p:spPr>
          <a:xfrm>
            <a:off x="3046320" y="2182680"/>
            <a:ext cx="0" cy="11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"/>
          <p:cNvSpPr/>
          <p:nvPr/>
        </p:nvSpPr>
        <p:spPr>
          <a:xfrm>
            <a:off x="7923960" y="182520"/>
            <a:ext cx="16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al interpret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"/>
          <p:cNvSpPr/>
          <p:nvPr/>
        </p:nvSpPr>
        <p:spPr>
          <a:xfrm>
            <a:off x="6627960" y="1523880"/>
            <a:ext cx="2820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s with this model: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our area of interest, it is very hard to determine the cheapest pla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hard to determine a risk / return measurement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hard for us to determine the exact spending in a year (we would rather use distributions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model makes it hard to take into account unlikely events (like severe illnesses)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: run a simulation in Crystal Bal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rystal Ball Mod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5760" y="1523880"/>
            <a:ext cx="899136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0" y="26668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thout taking taxes into account, the plans with $250 deductibles lie on the efficient fronti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440" y="1905120"/>
            <a:ext cx="3354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deductibles lie on the efficient frontier, which indicates that choosing an optimal plan requires individuals to define the their risk aversion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s with 50% reimbursement rates are the most risky and least costly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ing the same level of reimbursement lower deductibles reduce costs and reduce risk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0" y="182520"/>
            <a:ext cx="13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8040" y="1752480"/>
          <a:ext cx="5257800" cy="40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752480"/>
                    <a:ext cx="5257800" cy="40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98760" y="3108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"/>
          <p:cNvSpPr/>
          <p:nvPr/>
        </p:nvSpPr>
        <p:spPr>
          <a:xfrm>
            <a:off x="2284560" y="364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3046320" y="4251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"/>
          <p:cNvSpPr/>
          <p:nvPr/>
        </p:nvSpPr>
        <p:spPr>
          <a:xfrm>
            <a:off x="1903320" y="3048120"/>
            <a:ext cx="19051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08440" y="396216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>
            <a:off x="4799160" y="40989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1000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4189320" y="42670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"/>
          <p:cNvSpPr/>
          <p:nvPr/>
        </p:nvSpPr>
        <p:spPr>
          <a:xfrm>
            <a:off x="3732120" y="4419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250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"/>
          <p:cNvSpPr/>
          <p:nvPr/>
        </p:nvSpPr>
        <p:spPr>
          <a:xfrm>
            <a:off x="1446120" y="455616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ptima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3:26:02Z</dcterms:created>
  <dc:creator>robert</dc:creator>
  <dc:description/>
  <dc:language>en-US</dc:language>
  <cp:lastModifiedBy>Robert Schlaff</cp:lastModifiedBy>
  <cp:lastPrinted>2001-09-28T15:01:44Z</cp:lastPrinted>
  <dcterms:modified xsi:type="dcterms:W3CDTF">2004-12-05T20:51:05Z</dcterms:modified>
  <cp:revision>65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2121968</vt:r8>
  </property>
  <property fmtid="{D5CDD505-2E9C-101B-9397-08002B2CF9AE}" pid="3" name="_AuthorEmail">
    <vt:lpwstr>robert@schlaff.com</vt:lpwstr>
  </property>
  <property fmtid="{D5CDD505-2E9C-101B-9397-08002B2CF9AE}" pid="4" name="_AuthorEmailDisplayName">
    <vt:lpwstr>Robert Schlaff</vt:lpwstr>
  </property>
  <property fmtid="{D5CDD505-2E9C-101B-9397-08002B2CF9AE}" pid="5" name="_EmailSubject">
    <vt:lpwstr>Decision models project - health insurance plans</vt:lpwstr>
  </property>
</Properties>
</file>