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066-3CBE-4E99-8050-EB8EDD40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BD5-915F-483F-9A22-9E58C279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51E-D95C-44E4-B263-42F86239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39F-FED8-4AF7-B476-90F166F2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840F-6109-4D81-B678-BC923F81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8B37-B4FC-4E94-B3B9-3E862725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E5D8-DA54-494F-9CFE-DBB194D0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F768-C787-4FA0-A764-6DC9506A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5D7F-F99E-41B5-ACBE-F169DBF8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6FB6-CE99-4065-BB93-B5EEA1F3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256B-4BAD-4093-BAEE-64B94920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6FF-E827-4104-B0E2-6EAD5458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0746-31A6-49C4-A51D-4F53E995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4491-0F7F-4863-8651-92B1DDA6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17FC-2B04-4A08-B96D-67334FB8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DC33-63F3-4604-88FE-E2F37AD6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C2BF-1B8C-4FF3-B6D1-E6C36258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B4A-590B-425D-87FD-B5D1F3C8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D55-A7AC-4744-8EE5-63E40D6D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B2C-01FA-48B3-8117-0D9A5C77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313-38B7-4960-B3CE-86698551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2E4-A678-45E2-8D9C-FF24B0B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CBD-2970-4D23-9701-275AA3FE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F33-BA43-472C-9C6B-6B110B5B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22E2-3490-4E4E-98A6-FD4572EF9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911C-971F-485C-8BC9-2C76B4BAF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20257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Saving Your Penni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4197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model construct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4791240"/>
            <a:ext cx="27432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ard B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ya Gordon Burst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an Francisco-Tip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iten Naralase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ael Redelman Si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44197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model inspir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483080"/>
            <a:ext cx="30481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ttle 6-year old Davey 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essor David Juran, P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vid “Aspiring Rock Star” J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48320" y="1371600"/>
            <a:ext cx="4038480" cy="533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295280"/>
            <a:ext cx="4038480" cy="5334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1600200"/>
            <a:ext cx="3047760" cy="3048120"/>
          </a:xfrm>
          <a:prstGeom prst="irregularSeal2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20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590920"/>
            <a:ext cx="3886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street flyer from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657600"/>
            <a:ext cx="3048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447920"/>
            <a:ext cx="3047760" cy="3047760"/>
          </a:xfrm>
          <a:prstGeom prst="irregularSeal2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619200" cy="76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648320" y="48769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e here the world famous artist David, “DJ114,” Juran croon his top new h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stal Ball Is Your Best Frien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20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202280" cy="116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4202280" cy="1166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876920" y="2971800"/>
            <a:ext cx="3593880" cy="525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066680" y="2971800"/>
            <a:ext cx="3594240" cy="598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2895480" y="4572000"/>
            <a:ext cx="299556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-76320" y="228600"/>
            <a:ext cx="746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Model limita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523880"/>
            <a:ext cx="815364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wth rate of income/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bility to control number and birth date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variability in life expect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Variability in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ability to save almost all spare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90720" y="25909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48320" y="1371600"/>
            <a:ext cx="4038480" cy="533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196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295280"/>
            <a:ext cx="40384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1676520"/>
            <a:ext cx="3504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 grow up i wanna be like elvis presley i wanna play the guitar and i wanna be a famous rock star and have a lotta money and a big house and a big car and a big barky dog and re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da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708280"/>
            <a:ext cx="3429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found note  written by a six-year 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343400"/>
            <a:ext cx="3048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565452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 – my own homemade beer would be nic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196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90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will Little Davey achieve his drea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778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Arial"/>
              </a:rPr>
              <a:t>By saving his pennies and earn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Formulati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Variab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% of Davey’s net income should he save for his retirement and the other things he 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ize his retirement f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irement fund must be &gt;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rement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when you bu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 of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 pa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on mortg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 of mortg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childcare and education expe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6320" y="228600"/>
            <a:ext cx="41911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Inpu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H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 grow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on sav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on ca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alty for early withdraw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Health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Car/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Sund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th Rates for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76320" y="228600"/>
            <a:ext cx="5029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More Inpu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196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98520" y="1752480"/>
            <a:ext cx="4202280" cy="1166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9440" y="3048120"/>
            <a:ext cx="2995560" cy="1201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69920" y="4419720"/>
            <a:ext cx="4202280" cy="1166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819520" y="5791320"/>
            <a:ext cx="299556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199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1371600"/>
            <a:ext cx="4038480" cy="533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295280"/>
            <a:ext cx="40384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5238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371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r Admissions Committ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905120"/>
            <a:ext cx="373356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 accept my application to business school.  I believe that I am a perfect candidate for the school.  My aspirations are to become a professional decision modeler. I am intimately familiar with Excel and consider the Solver application as my best friend.  Should modeling not work out as a career, I believe that business school will give me the skills to be an excellent beer purvey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vid Ju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59092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ver letter from an aspiring business school 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724280"/>
            <a:ext cx="3048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7632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cc"/>
                </a:solidFill>
                <a:latin typeface="Arial"/>
              </a:rPr>
              <a:t>Year 199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201920" cy="1166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594240" cy="100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299556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419720" y="2895480"/>
            <a:ext cx="4201920" cy="1166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04920" y="4419720"/>
            <a:ext cx="3593880" cy="84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886200" y="5638680"/>
            <a:ext cx="29955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8:24:55Z</dcterms:created>
  <dc:creator>Chaya Gordon Burstyn</dc:creator>
  <dc:description/>
  <dc:language>en-US</dc:language>
  <cp:lastModifiedBy>Yael Redelman-Sidi</cp:lastModifiedBy>
  <dcterms:modified xsi:type="dcterms:W3CDTF">2005-12-04T16:42:43Z</dcterms:modified>
  <cp:revision>20</cp:revision>
  <dc:subject/>
  <dc:title>Should I be a banker or a baker?</dc:title>
</cp:coreProperties>
</file>