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8.png" ContentType="image/png"/>
  <Override PartName="/ppt/media/image16.wmf" ContentType="image/x-wm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7F7D-A3EE-41E7-931F-F963D69F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variables with a triangular distribution with minimum =0%, most likely = 1%, maximum = 2%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0421-0FFC-4F34-9B7C-490A1733A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C7A6-5F0B-4007-938C-31BF105EF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4F01-BB90-4E0F-A7A5-F5B7A1F09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5F8D-7957-474B-BD28-FD6B748C5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7080-386B-4861-A84E-58F03D3C6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909F-9B90-4E17-B800-0A5770F30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DE12-6E5D-48CF-9430-BE071E58D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8FB9-4C56-4580-BE01-A607944DF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7DB0-F97A-4A36-9FD4-CC3FA33C6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099B-BFA7-4A07-99D4-6F14AFFDD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4F85-B61C-4F2D-8587-A94FF5F17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D901-B2A2-47DC-9B50-0842ECB7A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DEA-0452-4B8D-9F1C-943A35E8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262160" cy="1981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0" y="4800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6095880"/>
            <a:ext cx="1295280" cy="4111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4724280"/>
            <a:ext cx="1295280" cy="1905120"/>
          </a:xfrm>
          <a:prstGeom prst="rect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1295280" cy="259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0" y="4114800"/>
            <a:ext cx="1295280" cy="39384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2743200"/>
            <a:ext cx="1295280" cy="1828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7620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should a toothbrush cost, any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810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th Dam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stin Ma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Pazder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d Ps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 Se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 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supermarket channel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ONLY buy a new toothbrush every thirteen wee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mount of customers each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promotion schedule of th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 customers remain loyal until they buy a ‘defective’ tooth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Recommendation - 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648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Promo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62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 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s assumption that we know the competition’s promo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1 binomial distribution now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ix strategies to choose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1 – Run a price promotion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2 – Never run a price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3 – Run a price promotion every 4th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4 – Run a price promotion if at least one competitor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5 – Run a price promotion if only 1 competitor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6 - Run a price promotion only if  both competitors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- Screensh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841560" cy="215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4012920" cy="1322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521080" y="1606680"/>
            <a:ext cx="7476840" cy="2303280"/>
            <a:chOff x="2521080" y="1606680"/>
            <a:chExt cx="7476840" cy="2303280"/>
          </a:xfrm>
        </p:grpSpPr>
        <p:sp>
          <p:nvSpPr>
            <p:cNvPr id="116" name=""/>
            <p:cNvSpPr/>
            <p:nvPr/>
          </p:nvSpPr>
          <p:spPr>
            <a:xfrm>
              <a:off x="2521080" y="1606680"/>
              <a:ext cx="4863960" cy="1652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1080" y="3259080"/>
              <a:ext cx="1760400" cy="484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0040" y="3259080"/>
              <a:ext cx="3105000" cy="484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1080" y="3743280"/>
              <a:ext cx="1760400" cy="162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0040" y="3743280"/>
              <a:ext cx="3105000" cy="16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7560" y="161784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duct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07720" y="161784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rket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05680" y="197640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al-B Indicat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7120" y="21384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Oral-BI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4840" y="19764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ach-Advanc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4760" y="2138400"/>
              <a:ext cx="53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Reach-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02320" y="197640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quafresh Flex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15800" y="213840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Aqu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65360" y="2300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ufacturer Net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3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8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6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53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68600" y="2624040"/>
              <a:ext cx="59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tail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5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8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2120" y="294480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scount During Promo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83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8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3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66080" y="3106800"/>
              <a:ext cx="142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ood Market Share (Vol 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9512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3048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368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.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2480" y="3267000"/>
              <a:ext cx="137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oyal Customer % (Won'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5360" y="342900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witc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824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180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0680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65720" y="3592440"/>
              <a:ext cx="110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pected Defect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9512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3048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368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1400" y="3753000"/>
              <a:ext cx="144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n-Loyal Conversion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6344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9700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6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00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3560" y="2284560"/>
              <a:ext cx="1440" cy="162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3560" y="2284560"/>
              <a:ext cx="12600" cy="162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2295360"/>
              <a:ext cx="180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8560" y="2295360"/>
              <a:ext cx="1260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43560" y="2295360"/>
              <a:ext cx="180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43560" y="2295360"/>
              <a:ext cx="1116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7120" y="2295360"/>
              <a:ext cx="144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77120" y="2295360"/>
              <a:ext cx="1260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6160" y="22845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6160" y="22845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6160" y="24447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86160" y="24447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86160" y="27687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6160" y="27687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86160" y="30909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6160" y="30909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86160" y="32529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86160" y="32529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6160" y="35751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86160" y="35751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6160" y="3736800"/>
              <a:ext cx="310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6160" y="3736800"/>
              <a:ext cx="3103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86160" y="38973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6160" y="38973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76916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86600" y="48006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 -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924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stitutes assumption that we know competition’s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s assumption that customers only buy every 13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will buy “early” when they see a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8480" y="3098880"/>
            <a:ext cx="1020600" cy="11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t Weekly Pro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14520" y="3098880"/>
            <a:ext cx="1158840" cy="1146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Generate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057400"/>
            <a:ext cx="1303200" cy="121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A. Derive Market Share Information for Purch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191120"/>
            <a:ext cx="1227240" cy="1228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B. Identify and Re-route Early Purch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41880" y="1825560"/>
            <a:ext cx="1159200" cy="7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A. Loyal Purchas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124080"/>
            <a:ext cx="1158840" cy="982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B. Unloyal Purchas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2514600"/>
            <a:ext cx="1082520" cy="816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Prepare for Next Week or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9" idx="3"/>
            <a:endCxn id="192" idx="1"/>
          </p:cNvCxnSpPr>
          <p:nvPr/>
        </p:nvCxnSpPr>
        <p:spPr>
          <a:xfrm>
            <a:off x="4159080" y="3672000"/>
            <a:ext cx="185040" cy="1134000"/>
          </a:xfrm>
          <a:prstGeom prst="bentConnector3">
            <a:avLst>
              <a:gd name="adj1" fmla="val 491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9" idx="3"/>
            <a:endCxn id="191" idx="1"/>
          </p:cNvCxnSpPr>
          <p:nvPr/>
        </p:nvCxnSpPr>
        <p:spPr>
          <a:xfrm flipV="1">
            <a:off x="4159080" y="2666520"/>
            <a:ext cx="185040" cy="1005840"/>
          </a:xfrm>
          <a:prstGeom prst="bentConnector3">
            <a:avLst>
              <a:gd name="adj1" fmla="val 491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3"/>
            <a:endCxn id="189" idx="1"/>
          </p:cNvCxnSpPr>
          <p:nvPr/>
        </p:nvCxnSpPr>
        <p:spPr>
          <a:xfrm>
            <a:off x="2673360" y="3671640"/>
            <a:ext cx="465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5" idx="1"/>
          </p:cNvCxnSpPr>
          <p:nvPr/>
        </p:nvCxnSpPr>
        <p:spPr>
          <a:xfrm flipV="1">
            <a:off x="5570640" y="2922120"/>
            <a:ext cx="2278800" cy="1883520"/>
          </a:xfrm>
          <a:prstGeom prst="bentConnector3">
            <a:avLst>
              <a:gd name="adj1" fmla="val 854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1" idx="3"/>
            <a:endCxn id="193" idx="1"/>
          </p:cNvCxnSpPr>
          <p:nvPr/>
        </p:nvCxnSpPr>
        <p:spPr>
          <a:xfrm flipV="1">
            <a:off x="5646600" y="2194920"/>
            <a:ext cx="396000" cy="471960"/>
          </a:xfrm>
          <a:prstGeom prst="bentConnector3">
            <a:avLst>
              <a:gd name="adj1" fmla="val 497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1" idx="3"/>
            <a:endCxn id="194" idx="1"/>
          </p:cNvCxnSpPr>
          <p:nvPr/>
        </p:nvCxnSpPr>
        <p:spPr>
          <a:xfrm>
            <a:off x="5646240" y="2666520"/>
            <a:ext cx="374040" cy="950040"/>
          </a:xfrm>
          <a:prstGeom prst="bentConnector3">
            <a:avLst>
              <a:gd name="adj1" fmla="val 497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3" idx="3"/>
            <a:endCxn id="195" idx="1"/>
          </p:cNvCxnSpPr>
          <p:nvPr/>
        </p:nvCxnSpPr>
        <p:spPr>
          <a:xfrm>
            <a:off x="7200720" y="2195280"/>
            <a:ext cx="648360" cy="727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3"/>
            <a:endCxn id="195" idx="1"/>
          </p:cNvCxnSpPr>
          <p:nvPr/>
        </p:nvCxnSpPr>
        <p:spPr>
          <a:xfrm flipV="1">
            <a:off x="7178400" y="2921760"/>
            <a:ext cx="670680" cy="694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2" idx="0"/>
            <a:endCxn id="191" idx="2"/>
          </p:cNvCxnSpPr>
          <p:nvPr/>
        </p:nvCxnSpPr>
        <p:spPr>
          <a:xfrm flipH="1" flipV="1" rot="5400000">
            <a:off x="4518360" y="3713400"/>
            <a:ext cx="916920" cy="38520"/>
          </a:xfrm>
          <a:prstGeom prst="bentConnector3">
            <a:avLst>
              <a:gd name="adj1" fmla="val 500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" name=""/>
          <p:cNvCxnSpPr>
            <a:stCxn id="195" idx="0"/>
            <a:endCxn id="189" idx="0"/>
          </p:cNvCxnSpPr>
          <p:nvPr/>
        </p:nvCxnSpPr>
        <p:spPr>
          <a:xfrm rot="5400000">
            <a:off x="5726880" y="435600"/>
            <a:ext cx="585000" cy="4740840"/>
          </a:xfrm>
          <a:prstGeom prst="bentConnector3">
            <a:avLst>
              <a:gd name="adj1" fmla="val -16576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 Model - 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creased complexity – gross profit is 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B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brush Fun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timiz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ystal B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en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relaxation of competitor strategy and customer buying behavior assum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mpetitor strategy more reali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new product introductions in addition to price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22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brush Fun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American spends nearly 1,000 hours brushing teeth over a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brush for at least two to three minutes, twice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toothbrush color is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othbrush was selected as the number one invention Americans could not live without (beating the automobile and personal computer, according to the Lemelson-MIT Invention Index in 200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63244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http://www.deltadentalca.org/health/selectToothbrus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keting gurus for the Oral-B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compet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dvanced and Aquafresh 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ur market share and our profitability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how the competition will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lver to optimize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 Ball Simul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prices in a way that appears ‘random’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imulate several scenarios to choose optim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Simul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lax assumptions on customer buying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5240" y="1752480"/>
            <a:ext cx="433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Total Consumers (B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,0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,6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y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5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1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Loy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,4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Did s/he buy a defective toothbrush last time (meaning one that did not meet his/her expectation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7467480" cy="1062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352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18144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7160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Is s/he a loyal cust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33600" y="2143080"/>
            <a:ext cx="6689520" cy="1639800"/>
            <a:chOff x="1533600" y="2143080"/>
            <a:chExt cx="6689520" cy="1639800"/>
          </a:xfrm>
        </p:grpSpPr>
        <p:sp>
          <p:nvSpPr>
            <p:cNvPr id="79" name=""/>
            <p:cNvSpPr/>
            <p:nvPr/>
          </p:nvSpPr>
          <p:spPr>
            <a:xfrm>
              <a:off x="1629000" y="2625840"/>
              <a:ext cx="82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othbru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6520" y="2389320"/>
              <a:ext cx="123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l-B Indica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0320" y="262404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Oral-B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6280" y="2389320"/>
              <a:ext cx="127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ch-Advanc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21520" y="2624040"/>
              <a:ext cx="75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each-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9920" y="2389320"/>
              <a:ext cx="11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quafresh Flex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0120" y="26240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Aqu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62120" y="2862360"/>
              <a:ext cx="192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yal Customer % (Won'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20720" y="309564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witc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9876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708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9432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52760" y="3330720"/>
              <a:ext cx="170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ice-Switcher Loyal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40520" y="3564000"/>
              <a:ext cx="120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version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196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844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752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18080" y="2143080"/>
              <a:ext cx="1440" cy="163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18080" y="2143080"/>
              <a:ext cx="17280" cy="163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3600" y="2835360"/>
              <a:ext cx="668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33600" y="2835360"/>
              <a:ext cx="66895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Is the product on s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725560" cy="281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6782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5:27:49Z</dcterms:created>
  <dc:creator>Beth M. Selig</dc:creator>
  <dc:description/>
  <dc:language>en-US</dc:language>
  <cp:lastModifiedBy>Brad Pseres</cp:lastModifiedBy>
  <dcterms:modified xsi:type="dcterms:W3CDTF">2005-12-05T13:41:59Z</dcterms:modified>
  <cp:revision>27</cp:revision>
  <dc:subject/>
  <dc:title>Slide 1</dc:title>
</cp:coreProperties>
</file>