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14.png" ContentType="image/png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D23-7D93-4195-9FE0-B43F1F84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888-6B96-4A1D-8D4C-7EFFC716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483-7480-4CC7-A246-97697102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986-0567-440D-8276-D0266BAA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65D0-68F1-433B-AD95-191F58C9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D16-29A1-4F96-9D0E-6DCAAB3F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5EC4-7DB4-44B1-9D0F-E782A8A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A953-8394-4F85-9F6B-B13AB9F5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3EC6-3A05-4F2D-9332-CE3BFF51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877-3E3E-4412-9E7A-E2486DDD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49EE-EC77-470D-A654-A887763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6B8-3B4C-4D70-9CC6-B2ABE1EB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E97E-EF1F-4BDB-B363-331360F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A7DD-7A26-42AD-8297-A9C22B6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DC4C-30D3-4560-9922-4C5A853F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388A-21D9-425D-BEF6-D282749C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2E89-3312-4ACE-B1A2-D6067F2C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92D-1B14-426C-B9A9-53519BB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C1C-6E13-4860-AFDE-FC577B97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93E-9C3A-4B3B-A6F1-10CAFD2A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AE0-AEB4-4AE4-9A28-A7FC46FF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853-0011-44B0-8AB8-79942AF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EEA-0080-4E2B-9C40-DFEA7C9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FD0-FFFE-477E-9C63-81D30E6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940A-B60F-486E-B0F3-FA19ED4767E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3320-379E-4E80-984D-1B5D9976AF8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gi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New Century Schoolbook"/>
              </a:rPr>
              <a:t>“</a:t>
            </a:r>
            <a:r>
              <a:rPr b="1" lang="en-US" sz="4400" spc="-1" strike="noStrike">
                <a:solidFill>
                  <a:srgbClr val="003366"/>
                </a:solidFill>
                <a:latin typeface="New Century Schoolbook"/>
              </a:rPr>
              <a:t>I Wish I had a Crystal Ball 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8300160" y="74124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Wingdings 2"/>
                <a:ea typeface="Wingdings 2"/>
              </a:rPr>
              <a:t>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244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New Century Schoolbook"/>
              </a:rPr>
              <a:t>DeMello, Jim, Cases in Finance, 2</a:t>
            </a:r>
            <a:r>
              <a:rPr b="0" lang="en-US" sz="1200" spc="-1" strike="noStrike" baseline="30000">
                <a:solidFill>
                  <a:srgbClr val="003366"/>
                </a:solidFill>
                <a:latin typeface="New Century Schoolbook"/>
              </a:rPr>
              <a:t>nd</a:t>
            </a:r>
            <a:r>
              <a:rPr b="0" lang="en-US" sz="1200" spc="-1" strike="noStrike">
                <a:solidFill>
                  <a:srgbClr val="003366"/>
                </a:solidFill>
                <a:latin typeface="New Century Schoolbook"/>
              </a:rPr>
              <a:t> Edition, The McGraw Hill Companies, Inc., NY, 2003, Pp. 82-86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3067200"/>
            <a:ext cx="3200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NYU Stern School of Busines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Decision Model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Prof. David Jura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Final Projec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Geetha Sundaram, EMBA X06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12/16/200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7040" y="6248520"/>
            <a:ext cx="22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Wingdings 2"/>
                <a:ea typeface="Wingdings 2"/>
              </a:rPr>
              <a:t>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NewCenturySchlbk"/>
              </a:rPr>
              <a:t>Analysis of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4191120" cy="304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557856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CenturySchlbk"/>
              </a:rPr>
              <a:t>55.3% certainty that IRR will be &gt; Discount Rate of 12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57856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CenturySchlbk"/>
              </a:rPr>
              <a:t>59.83% certainty that NPV will be positive or &gt; zer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1828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CenturySchlbk"/>
              </a:rPr>
              <a:t>Based on 10,000 tria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24280" y="2532240"/>
            <a:ext cx="4191120" cy="3039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3581280" cy="3352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1774800" cy="190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9320" y="5943600"/>
            <a:ext cx="6324480" cy="609480"/>
          </a:xfrm>
          <a:prstGeom prst="roundRect">
            <a:avLst>
              <a:gd name="adj" fmla="val 16667"/>
            </a:avLst>
          </a:prstGeom>
          <a:solidFill>
            <a:srgbClr val="8eb3c8"/>
          </a:solidFill>
          <a:ln cap="sq" w="12600">
            <a:solidFill>
              <a:srgbClr val="b5cddb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438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CenturySchlbk"/>
              </a:rPr>
              <a:t>Net Present Value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781680" y="2743200"/>
            <a:ext cx="175284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705720" y="2438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CenturySchlbk"/>
              </a:rPr>
              <a:t>Internal Rate of Return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NewCenturySchlbk"/>
              </a:rPr>
              <a:t>Analysis of Results (Cont’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60958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Overall, simulation results indicate launch of “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ClearView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is a relatively low risk, positive return strateg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New Century Schoolbook"/>
              </a:rPr>
              <a:t>Evaluating “ClearView” Project as a Real O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 Century Schoolbook"/>
              </a:rPr>
              <a:t>Note: NPV &amp; IRR based on single iteration of the simul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41280" y="1676520"/>
            <a:ext cx="7140600" cy="4592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28800" y="638496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Wingdings"/>
                <a:ea typeface="Wingdings"/>
              </a:rPr>
              <a:t>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Limi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362320"/>
            <a:ext cx="7620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Paucity of ti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Inability to create decision tree to depict real options available to managem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Could used an exponential growth rate (for e.g., 0.5% or 1% per year) in model for market shar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Sensitivity Analysis could have been performed to</a:t>
            </a: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365760" indent="-7308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identify critical variables, an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65760" indent="-7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better estimate risks/return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451"/>
              </a:spcBef>
              <a:spcAft>
                <a:spcPts val="1349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63960" y="1752480"/>
            <a:ext cx="55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New Century Schoolbook"/>
              </a:rPr>
              <a:t>Main limitations of this simula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91120" y="2666880"/>
            <a:ext cx="685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111111"/>
                  </a:outerShdw>
                </a:effectLst>
                <a:latin typeface="Bookman Old Style"/>
              </a:rPr>
              <a:t>?</a:t>
            </a:r>
            <a:endParaRPr b="0" lang="en-US" sz="2400" spc="1" strike="noStrike">
              <a:ln cap="sq" w="19080">
                <a:solidFill>
                  <a:srgbClr val="003366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111111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Table of Cont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095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Case Background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Managerial Problem Definition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Model Overview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Key Assumptions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The Model in MS Excel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Analysis of Results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Evaluating “ClearView” Project as a Real Option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Limitations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Q&amp;A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4680" y="5105520"/>
            <a:ext cx="914400" cy="1600200"/>
            <a:chOff x="7924680" y="5105520"/>
            <a:chExt cx="914400" cy="1600200"/>
          </a:xfrm>
        </p:grpSpPr>
        <p:grpSp>
          <p:nvGrpSpPr>
            <p:cNvPr id="90" name=""/>
            <p:cNvGrpSpPr/>
            <p:nvPr/>
          </p:nvGrpSpPr>
          <p:grpSpPr>
            <a:xfrm>
              <a:off x="7924680" y="5105520"/>
              <a:ext cx="888840" cy="1600200"/>
              <a:chOff x="7924680" y="5105520"/>
              <a:chExt cx="888840" cy="16002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rcRect l="18008" t="7147" r="21995" b="7147"/>
              <a:stretch/>
            </p:blipFill>
            <p:spPr>
              <a:xfrm>
                <a:off x="7924680" y="5105520"/>
                <a:ext cx="88884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7924680" y="5414400"/>
                <a:ext cx="888840" cy="362160"/>
              </a:xfrm>
              <a:prstGeom prst="rect">
                <a:avLst/>
              </a:prstGeom>
              <a:solidFill>
                <a:srgbClr val="bad9e4"/>
              </a:solidFill>
              <a:ln w="9360">
                <a:solidFill>
                  <a:srgbClr val="8eb3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7924680" y="5469120"/>
              <a:ext cx="9144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ClearView</a:t>
              </a:r>
              <a:endPara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8120" y="5410080"/>
            <a:ext cx="105120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848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Case Backgrou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Vision Research Division of Premier Pharmaceuticals has developed new drug called “</a:t>
            </a:r>
            <a:r>
              <a:rPr b="0" i="1" lang="en-US" sz="2400" spc="-1" strike="noStrike">
                <a:solidFill>
                  <a:srgbClr val="003366"/>
                </a:solidFill>
                <a:latin typeface="New Century Schoolbook"/>
              </a:rPr>
              <a:t>ClearView</a:t>
            </a: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” for curing myopia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Preliminary test results are very promising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Drug to be launched to a growing market segment pending FDA approv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Once launched product expected to revolutionize the world of Ophthalmolog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4680" t="0" r="54471" b="14058"/>
          <a:stretch/>
        </p:blipFill>
        <p:spPr>
          <a:xfrm>
            <a:off x="228600" y="57913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848720" y="5867280"/>
            <a:ext cx="114300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21878" t="0" r="21878" b="0"/>
          <a:stretch/>
        </p:blipFill>
        <p:spPr>
          <a:xfrm>
            <a:off x="152280" y="5486400"/>
            <a:ext cx="68580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426708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Curtailment of marketing cos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Degree of market share achieved by compan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Probability of delay in getting FDA approv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4040" y="3809880"/>
            <a:ext cx="60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Outcome of the project heavily dependent on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6800" y="53352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nagerial Problem Defini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1200" y="175248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Objectives of this exercis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09680"/>
            <a:ext cx="6934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Use Monte Carlo simulation to model uncertain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Forecast Net Present Value (NPV) and Internal Rate of Return (IRR) for projec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Evaluate effect of delay in getting FDA approv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943600"/>
            <a:ext cx="6858000" cy="685800"/>
          </a:xfrm>
          <a:prstGeom prst="roundRect">
            <a:avLst>
              <a:gd name="adj" fmla="val 16667"/>
            </a:avLst>
          </a:prstGeom>
          <a:solidFill>
            <a:srgbClr val="8eb3c8"/>
          </a:solidFill>
          <a:ln cap="sq" w="12600">
            <a:solidFill>
              <a:srgbClr val="6f97b3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Century Schoolbook"/>
              </a:rPr>
              <a:t>Major problem facing Pharma industry is making reasonably accurate risk/returns projection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772400" y="3657600"/>
            <a:ext cx="92376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22860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Marketing Cos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Probability of getting FDA Approv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Growth Rate of Population with myop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Market share for “</a:t>
            </a:r>
            <a:r>
              <a:rPr b="0" i="1" lang="en-US" sz="1800" spc="-1" strike="noStrike">
                <a:solidFill>
                  <a:srgbClr val="003366"/>
                </a:solidFill>
                <a:latin typeface="New Century Schoolbook"/>
              </a:rPr>
              <a:t>ClearView</a:t>
            </a: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Model 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1727" t="0" r="8635" b="8705"/>
          <a:stretch/>
        </p:blipFill>
        <p:spPr>
          <a:xfrm>
            <a:off x="228600" y="3048120"/>
            <a:ext cx="1104840" cy="14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2760" y="396252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Forecast Variabl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3920" y="17524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Key Input Variabl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4419720"/>
            <a:ext cx="4876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Internal Rate of Return (IR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Net Present Value (NPV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60800" y="533412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Number of Trials:</a:t>
            </a:r>
            <a:r>
              <a:rPr b="1" lang="en-US" sz="2400" spc="-1" strike="noStrike">
                <a:solidFill>
                  <a:srgbClr val="003366"/>
                </a:solidFill>
                <a:latin typeface="New Century Schoolbook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10,0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0" t="9996" r="71648" b="6673"/>
          <a:stretch/>
        </p:blipFill>
        <p:spPr>
          <a:xfrm>
            <a:off x="7620120" y="4572000"/>
            <a:ext cx="92376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Key Assum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7204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2819520"/>
            <a:ext cx="4267080" cy="294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981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Probability of 1 year delay in FDA Approval = 40%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1949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bability  of 2 year delay in FDA Approval = 10%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611172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 Century Schoolbook"/>
              </a:rPr>
              <a:t>Conditional probability: If Drug approved in Year 1, then probability of approval in Year 2 = 1, Else probability of approval in Year 2 = 0.9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91360" y="1965240"/>
            <a:ext cx="22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Wingdings 2"/>
                <a:ea typeface="Wingdings 2"/>
              </a:rPr>
              <a:t>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1280" y="6095880"/>
            <a:ext cx="22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Wingdings 2"/>
                <a:ea typeface="Wingdings 2"/>
              </a:rPr>
              <a:t>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952880" y="5486400"/>
            <a:ext cx="152640" cy="304920"/>
          </a:xfrm>
          <a:prstGeom prst="rect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ey Assumptions (Cont’d.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429000" cy="24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29400" y="1905120"/>
            <a:ext cx="209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arketing Costs: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ean = $100,000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Std Dev = $10,0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3533760" cy="2538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7220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1294920" y="3886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209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Growth Rate of Population w/ Myopia: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in = 2%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Likely = 3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ax = 5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562720" y="4267080"/>
            <a:ext cx="350496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2880" y="5638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4664160"/>
            <a:ext cx="140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arket Share: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in = 6%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Likely = 8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ax = 10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5238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Cash Flow Projec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w/ 1 year delay in getting FDA Approv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New Century Schoolbook"/>
              </a:rPr>
              <a:t>The Model in MS Exc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783" t="22789" r="7811" b="26958"/>
          <a:stretch/>
        </p:blipFill>
        <p:spPr>
          <a:xfrm>
            <a:off x="76320" y="2362320"/>
            <a:ext cx="899136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 Century Schoolbook"/>
              </a:rPr>
              <a:t>Based on single iteration of the simul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7600" y="1536840"/>
            <a:ext cx="29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Symbol"/>
                <a:ea typeface="Symbol"/>
              </a:rPr>
              <a:t>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7040" y="6550200"/>
            <a:ext cx="29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Symbol"/>
                <a:ea typeface="Symbol"/>
              </a:rPr>
              <a:t>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150804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Cash Flow Projec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w/ 2 year delay in getting FDA Approv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New Century Schoolbook"/>
              </a:rPr>
              <a:t>The Model in MS Exc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 Century Schoolbook"/>
              </a:rPr>
              <a:t>Based on single iteration of the simul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21878" r="8594" b="25004"/>
          <a:stretch/>
        </p:blipFill>
        <p:spPr>
          <a:xfrm>
            <a:off x="76320" y="2362320"/>
            <a:ext cx="8991360" cy="3886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99560" y="6400800"/>
            <a:ext cx="28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Symbol"/>
                <a:ea typeface="Symbol"/>
              </a:rPr>
              <a:t>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23640" y="1523880"/>
            <a:ext cx="28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Symbol"/>
                <a:ea typeface="Symbol"/>
              </a:rPr>
              <a:t>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0:26:28Z</dcterms:created>
  <dc:creator>Sundaram, Geetha</dc:creator>
  <dc:description/>
  <dc:language>en-US</dc:language>
  <cp:lastModifiedBy>Geetha</cp:lastModifiedBy>
  <dcterms:modified xsi:type="dcterms:W3CDTF">2005-12-18T15:53:56Z</dcterms:modified>
  <cp:revision>50</cp:revision>
  <dc:subject/>
  <dc:title>“I Wish I has a Crystal Ball 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33</vt:lpwstr>
  </property>
</Properties>
</file>