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14.png" ContentType="image/png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642-179A-467F-AB40-0F419EA0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43C-9034-457D-BC33-121B1D37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D4D-258D-4BF4-925C-3C6DDF7F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AD1-D2E4-4197-978C-2AF85341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FF70-E76B-4BCB-B265-ABBF8346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41DF-11EA-49AA-BB4E-3AB3AB8C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FE5B-058D-4A89-9272-B09FBF01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9D64-AA37-4DE3-B479-33286F94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302A-5673-4DD6-9A6E-E364CEFB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36F7-8505-40C7-BE3C-5C2D8EB6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BD81-6E20-400A-B8A4-5BC84FB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5A3-5F58-4BF8-8990-C4931D20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B6C6-E6FE-42EC-9CDF-24C7D8E0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3B63-1B07-444E-87AE-E41923C9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30EE-79B1-4A2D-857E-50038EC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3D33-DE22-4CCA-848F-158B8FBC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2FEA-EEA4-4983-B847-B58D19A3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A07-2D2A-4EC2-8E9A-AE9FD5D6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77D-A734-40C9-85EF-0ABBCB3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EE1-684D-4686-847D-E81DDD89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7FE-AD5A-42BB-AD9A-2A7A1164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487-B963-4A3D-B63B-20AD67E5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8A8-4052-4782-B0B8-B17E3266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8F3-414F-46CC-950B-C58AD774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6A2F-4292-4FF8-BFCC-4E45C00784E5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4BB3-D244-4ABA-8948-92C3F617861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gi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New Century Schoolbook"/>
              </a:rPr>
              <a:t>“</a:t>
            </a:r>
            <a:r>
              <a:rPr b="1" lang="en-US" sz="4400" spc="-1" strike="noStrike">
                <a:solidFill>
                  <a:srgbClr val="003366"/>
                </a:solidFill>
                <a:latin typeface="New Century Schoolbook"/>
              </a:rPr>
              <a:t>I Wish I had a Crystal Ball 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8300160" y="741240"/>
            <a:ext cx="2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Wingdings 2"/>
                <a:ea typeface="Wingdings 2"/>
              </a:rPr>
              <a:t>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244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New Century Schoolbook"/>
              </a:rPr>
              <a:t>DeMello, Jim, Cases in Finance, 2</a:t>
            </a:r>
            <a:r>
              <a:rPr b="0" lang="en-US" sz="1200" spc="-1" strike="noStrike" baseline="30000">
                <a:solidFill>
                  <a:srgbClr val="003366"/>
                </a:solidFill>
                <a:latin typeface="New Century Schoolbook"/>
              </a:rPr>
              <a:t>nd</a:t>
            </a:r>
            <a:r>
              <a:rPr b="0" lang="en-US" sz="1200" spc="-1" strike="noStrike">
                <a:solidFill>
                  <a:srgbClr val="003366"/>
                </a:solidFill>
                <a:latin typeface="New Century Schoolbook"/>
              </a:rPr>
              <a:t> Edition, The McGraw Hill Companies, Inc., NY, 2003, Pp. 82-86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3067200"/>
            <a:ext cx="3200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NYU Stern School of Busines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Decision Modelin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Prof. David Jura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Final Projec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Geetha Sundaram, EMBA X06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New Century Schoolbook"/>
              </a:rPr>
              <a:t>12/16/2005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7040" y="6248520"/>
            <a:ext cx="22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Wingdings 2"/>
                <a:ea typeface="Wingdings 2"/>
              </a:rPr>
              <a:t>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NewCenturySchlbk"/>
              </a:rPr>
              <a:t>Analysis of 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4191120" cy="304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557856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CenturySchlbk"/>
              </a:rPr>
              <a:t>55.3% certainty that IRR will be &gt; Discount Rate of 12%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57856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CenturySchlbk"/>
              </a:rPr>
              <a:t>59.83% certainty that NPV will be positive or &gt; zer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1828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CenturySchlbk"/>
              </a:rPr>
              <a:t>Based on 10,000 tria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724280" y="2532240"/>
            <a:ext cx="4191120" cy="3039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3581280" cy="3352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572000" y="2743200"/>
            <a:ext cx="1774800" cy="190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6960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19320" y="5943600"/>
            <a:ext cx="6324480" cy="609480"/>
          </a:xfrm>
          <a:prstGeom prst="roundRect">
            <a:avLst>
              <a:gd name="adj" fmla="val 16667"/>
            </a:avLst>
          </a:prstGeom>
          <a:solidFill>
            <a:srgbClr val="8eb3c8"/>
          </a:solidFill>
          <a:ln cap="sq" w="12600">
            <a:solidFill>
              <a:srgbClr val="b5cddb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438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CenturySchlbk"/>
              </a:rPr>
              <a:t>Net Present Value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781680" y="2743200"/>
            <a:ext cx="1752840" cy="1905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705720" y="2438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CenturySchlbk"/>
              </a:rPr>
              <a:t>Internal Rate of Return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NewCenturySchlbk"/>
              </a:rPr>
              <a:t>Analysis of Results (Cont’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60958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Overall, simulation results indicate launch of “</a:t>
            </a:r>
            <a:r>
              <a:rPr b="0" i="1" lang="en-US" sz="1800" spc="-1" strike="noStrike">
                <a:solidFill>
                  <a:srgbClr val="000000"/>
                </a:solidFill>
                <a:latin typeface="NewCenturySchlbk"/>
              </a:rPr>
              <a:t>ClearView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NewCenturySchlbk"/>
              </a:rPr>
              <a:t>is a relatively low risk, positive return strateg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New Century Schoolbook"/>
              </a:rPr>
              <a:t>Evaluating “ClearView” Project as a Real O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 Century Schoolbook"/>
              </a:rPr>
              <a:t>Note: NPV &amp; IRR based on single iteration of the simul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41280" y="1676520"/>
            <a:ext cx="7140600" cy="4592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28800" y="6384960"/>
            <a:ext cx="29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Wingdings"/>
                <a:ea typeface="Wingdings"/>
              </a:rPr>
              <a:t>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Limi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362320"/>
            <a:ext cx="7620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Paucity of ti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Inability to create decision tree to depict real options available to managem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Could used an exponential growth rate (for e.g., 0.5% or 1% per year) in model for market shar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Sensitivity Analysis could have been performed to</a:t>
            </a: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365760" indent="-7308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identify critical variables, and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365760" indent="-7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better estimate risks/return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451"/>
              </a:spcBef>
              <a:spcAft>
                <a:spcPts val="1349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63960" y="1752480"/>
            <a:ext cx="55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New Century Schoolbook"/>
              </a:rPr>
              <a:t>Main limitations of this simula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191120" y="2666880"/>
            <a:ext cx="685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003366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111111"/>
                  </a:outerShdw>
                </a:effectLst>
                <a:latin typeface="Bookman Old Style"/>
              </a:rPr>
              <a:t>?</a:t>
            </a:r>
            <a:endParaRPr b="0" lang="en-US" sz="2400" spc="1" strike="noStrike">
              <a:ln cap="sq" w="19080">
                <a:solidFill>
                  <a:srgbClr val="003366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111111"/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Table of Cont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095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Case Background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Managerial Problem Definition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Model Overview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Key Assumptions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The Model in MS Excel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Analysis of Results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Evaluating “ClearView” Project as a Real Option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Limitations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Q&amp;A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4680" y="5105520"/>
            <a:ext cx="914400" cy="1600200"/>
            <a:chOff x="7924680" y="5105520"/>
            <a:chExt cx="914400" cy="1600200"/>
          </a:xfrm>
        </p:grpSpPr>
        <p:grpSp>
          <p:nvGrpSpPr>
            <p:cNvPr id="90" name=""/>
            <p:cNvGrpSpPr/>
            <p:nvPr/>
          </p:nvGrpSpPr>
          <p:grpSpPr>
            <a:xfrm>
              <a:off x="7924680" y="5105520"/>
              <a:ext cx="888840" cy="1600200"/>
              <a:chOff x="7924680" y="5105520"/>
              <a:chExt cx="888840" cy="16002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rcRect l="18008" t="7147" r="21995" b="7147"/>
              <a:stretch/>
            </p:blipFill>
            <p:spPr>
              <a:xfrm>
                <a:off x="7924680" y="5105520"/>
                <a:ext cx="888840" cy="16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7924680" y="5414400"/>
                <a:ext cx="888840" cy="362160"/>
              </a:xfrm>
              <a:prstGeom prst="rect">
                <a:avLst/>
              </a:prstGeom>
              <a:solidFill>
                <a:srgbClr val="bad9e4"/>
              </a:solidFill>
              <a:ln w="9360">
                <a:solidFill>
                  <a:srgbClr val="8eb3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7924680" y="5469120"/>
              <a:ext cx="9144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ClearView</a:t>
              </a:r>
              <a:endPara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8120" y="5410080"/>
            <a:ext cx="105120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848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Case Backgrou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601"/>
              </a:spcBef>
              <a:spcAft>
                <a:spcPts val="21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Vision Research Division of Premier Pharmaceuticals has developed new drug called “</a:t>
            </a:r>
            <a:r>
              <a:rPr b="0" i="1" lang="en-US" sz="2400" spc="-1" strike="noStrike">
                <a:solidFill>
                  <a:srgbClr val="003366"/>
                </a:solidFill>
                <a:latin typeface="New Century Schoolbook"/>
              </a:rPr>
              <a:t>ClearView</a:t>
            </a: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” for curing myopia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spcAft>
                <a:spcPts val="21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Preliminary test results are very promising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spcAft>
                <a:spcPts val="21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Drug to be launched to a growing market segment pending FDA approval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spcAft>
                <a:spcPts val="2100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New Century Schoolbook"/>
              </a:rPr>
              <a:t>Once launched product expected to revolutionize the world of Ophthalmolog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4680" t="0" r="54471" b="14058"/>
          <a:stretch/>
        </p:blipFill>
        <p:spPr>
          <a:xfrm>
            <a:off x="228600" y="5791320"/>
            <a:ext cx="91440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848720" y="5867280"/>
            <a:ext cx="1143000" cy="831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21878" t="0" r="21878" b="0"/>
          <a:stretch/>
        </p:blipFill>
        <p:spPr>
          <a:xfrm>
            <a:off x="152280" y="5486400"/>
            <a:ext cx="68580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4267080"/>
            <a:ext cx="6858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Curtailment of marketing cos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Degree of market share achieved by compan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Probability of delay in getting FDA approv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4040" y="3809880"/>
            <a:ext cx="60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Century Schoolbook"/>
              </a:rPr>
              <a:t>Outcome of the project heavily dependent on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6800" y="53352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nagerial Problem Defini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1200" y="175248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Century Schoolbook"/>
              </a:rPr>
              <a:t>Objectives of this exercis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09680"/>
            <a:ext cx="6934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Use Monte Carlo simulation to model uncertaint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Forecast Net Present Value (NPV) and Internal Rate of Return (IRR) for projec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Evaluate effect of delay in getting FDA approv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943600"/>
            <a:ext cx="6858000" cy="685800"/>
          </a:xfrm>
          <a:prstGeom prst="roundRect">
            <a:avLst>
              <a:gd name="adj" fmla="val 16667"/>
            </a:avLst>
          </a:prstGeom>
          <a:solidFill>
            <a:srgbClr val="8eb3c8"/>
          </a:solidFill>
          <a:ln cap="sq" w="12600">
            <a:solidFill>
              <a:srgbClr val="6f97b3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 Century Schoolbook"/>
              </a:rPr>
              <a:t>Major problem facing Pharma industry is making reasonably accurate risk/returns projection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772400" y="3657600"/>
            <a:ext cx="92376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14600" y="22860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Marketing Cos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Probability of getting FDA Approv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Growth Rate of Population with myopi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Market share for “</a:t>
            </a:r>
            <a:r>
              <a:rPr b="0" i="1" lang="en-US" sz="1800" spc="-1" strike="noStrike">
                <a:solidFill>
                  <a:srgbClr val="003366"/>
                </a:solidFill>
                <a:latin typeface="New Century Schoolbook"/>
              </a:rPr>
              <a:t>ClearView</a:t>
            </a: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Model 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1727" t="0" r="8635" b="8705"/>
          <a:stretch/>
        </p:blipFill>
        <p:spPr>
          <a:xfrm>
            <a:off x="228600" y="3048120"/>
            <a:ext cx="1104840" cy="14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2760" y="396252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Century Schoolbook"/>
              </a:rPr>
              <a:t>Forecast Variable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3920" y="17524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Century Schoolbook"/>
              </a:rPr>
              <a:t>Key Input Variable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4419720"/>
            <a:ext cx="4876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Internal Rate of Return (IR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Net Present Value (NPV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60800" y="533412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New Century Schoolbook"/>
              </a:rPr>
              <a:t>Number of Trials:</a:t>
            </a:r>
            <a:r>
              <a:rPr b="1" lang="en-US" sz="2400" spc="-1" strike="noStrike">
                <a:solidFill>
                  <a:srgbClr val="003366"/>
                </a:solidFill>
                <a:latin typeface="New Century Schoolbook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10,0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rcRect l="0" t="9996" r="71648" b="6673"/>
          <a:stretch/>
        </p:blipFill>
        <p:spPr>
          <a:xfrm>
            <a:off x="7620120" y="4572000"/>
            <a:ext cx="92376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New Century Schoolbook"/>
              </a:rPr>
              <a:t>Key Assump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17204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8320" y="2819520"/>
            <a:ext cx="4267080" cy="294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981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New Century Schoolbook"/>
              </a:rPr>
              <a:t>Probability of 1 year delay in FDA Approval = 40%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19494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obability  of 2 year delay in FDA Approval = 10%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6111720"/>
            <a:ext cx="70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 Century Schoolbook"/>
              </a:rPr>
              <a:t>Conditional probability: If Drug approved in Year 1, then probability of approval in Year 2 = 1, Else probability of approval in Year 2 = 0.9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91360" y="1965240"/>
            <a:ext cx="22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Wingdings 2"/>
                <a:ea typeface="Wingdings 2"/>
              </a:rPr>
              <a:t>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81280" y="6095880"/>
            <a:ext cx="22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Wingdings 2"/>
                <a:ea typeface="Wingdings 2"/>
              </a:rPr>
              <a:t>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952880" y="5486400"/>
            <a:ext cx="152640" cy="304920"/>
          </a:xfrm>
          <a:prstGeom prst="rect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2860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Key Assumptions (Cont’d.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429000" cy="24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29400" y="1905120"/>
            <a:ext cx="209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arketing Costs: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ean = $100,000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Std Dev = $10,0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52280" y="4267080"/>
            <a:ext cx="3533760" cy="2538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72200" y="21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1294920" y="38862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209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Growth Rate of Population w/ Myopia: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in = 2%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Likely = 3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ax = 5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562720" y="4267080"/>
            <a:ext cx="3504960" cy="2514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52880" y="56386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4664160"/>
            <a:ext cx="140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arket Share: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in = 6%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Likely = 8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New Century Schoolbook"/>
              </a:rPr>
              <a:t>Max = 10%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15238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Cash Flow Projec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w/ 1 year delay in getting FDA Approv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New Century Schoolbook"/>
              </a:rPr>
              <a:t>The Model in MS Exc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783" t="22789" r="7811" b="26958"/>
          <a:stretch/>
        </p:blipFill>
        <p:spPr>
          <a:xfrm>
            <a:off x="76320" y="2362320"/>
            <a:ext cx="899136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 Century Schoolbook"/>
              </a:rPr>
              <a:t>Based on single iteration of the simul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27600" y="1536840"/>
            <a:ext cx="29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Symbol"/>
                <a:ea typeface="Symbol"/>
              </a:rPr>
              <a:t></a:t>
            </a: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7040" y="6550200"/>
            <a:ext cx="29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Symbol"/>
                <a:ea typeface="Symbol"/>
              </a:rPr>
              <a:t></a:t>
            </a: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150804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Cash Flow Projec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New Century Schoolbook"/>
              </a:rPr>
              <a:t>w/ 2 year delay in getting FDA Approv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New Century Schoolbook"/>
              </a:rPr>
              <a:t>The Model in MS Exc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New Century Schoolbook"/>
              </a:rPr>
              <a:t>Based on single iteration of the simulatio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21878" r="8594" b="25004"/>
          <a:stretch/>
        </p:blipFill>
        <p:spPr>
          <a:xfrm>
            <a:off x="76320" y="2362320"/>
            <a:ext cx="8991360" cy="3886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99560" y="6400800"/>
            <a:ext cx="28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Symbol"/>
                <a:ea typeface="Symbol"/>
              </a:rPr>
              <a:t></a:t>
            </a: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23640" y="1523880"/>
            <a:ext cx="28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Symbol"/>
                <a:ea typeface="Symbol"/>
              </a:rPr>
              <a:t></a:t>
            </a: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20:26:28Z</dcterms:created>
  <dc:creator>Sundaram, Geetha</dc:creator>
  <dc:description/>
  <dc:language>en-US</dc:language>
  <cp:lastModifiedBy>Geetha</cp:lastModifiedBy>
  <dcterms:modified xsi:type="dcterms:W3CDTF">2005-12-18T15:53:56Z</dcterms:modified>
  <cp:revision>50</cp:revision>
  <dc:subject/>
  <dc:title>“I Wish I has a Crystal Ball 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1033</vt:lpwstr>
  </property>
</Properties>
</file>