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6B44-D89F-4FFE-B793-3B89CD909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Total Age 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8C4-FB0C-465B-A54D-015B01E3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95C7-6134-4FA3-B9C7-125F092E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F234-0195-44A9-9355-1FB5DB89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394D-7847-4439-88F4-B2CA8480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3CBE-42E9-42EC-8BD7-09388DB9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C7D8-1B88-4F9B-A794-4DA18428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CE54-68D8-44BE-A4E1-B092126E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AA63-7B3E-4C1B-ADB1-FEA02112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D8DA-B2E0-4B48-9E4E-02476EEE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68D2-2E83-4CCB-B92F-31073ABC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5984-94A0-46B4-A2AE-3AB7AA56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961-0BFB-47F9-A106-D969AF10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112D-6781-47FD-95CB-9A8B2EBA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69C6-6449-4359-B9D9-E7A14911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4F42-4A0E-4A46-9586-E4AB5C38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CFB3-B836-45F1-9CEC-9D138865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9667-A25F-4F67-92E3-227C02F3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5C0-ABC8-44AF-B250-E3DE290D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217-82FD-44DF-9370-EA504A4E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EBE4-BEE7-499F-93E7-D700B709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C2A-1504-4342-8DCB-AD6D1F70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DA7-3AA2-4F8F-9775-83692223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B94-3366-4F7F-99F2-42C2693D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74B-5D91-4D55-A80F-46EA4A2A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A913-ED19-4E4B-AB73-351F9155B62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E2B7-DC40-4553-BC56-ABF16E85251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03720" y="1554120"/>
            <a:ext cx="59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The Future of Social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56200" y="3276720"/>
            <a:ext cx="231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cision Mod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fessor Jur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cember 12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Team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onathan C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chele Ry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chard Schlip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ndice W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The Mode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2848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Solver Result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197320" y="2211480"/>
            <a:ext cx="2946600" cy="1598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47640" y="2209680"/>
            <a:ext cx="3260880" cy="1598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184040" y="1295280"/>
            <a:ext cx="676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inimum tax rate and retirement age required 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each Social Security Solvenc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3960" y="2971800"/>
            <a:ext cx="3048120" cy="3049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24400" y="2971800"/>
            <a:ext cx="2743200" cy="3049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4343400"/>
            <a:ext cx="4038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ith a 30 year time horizon the required tax rate given the retirement age of 65 is 5.0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 order to cover benefits ow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4343400"/>
            <a:ext cx="4038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ith a 30 year time horizon the legal retirement age to receive 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given a tax rate of 4.5% should b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67 years old or ol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Monte Carl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95680" y="4114800"/>
            <a:ext cx="4343400" cy="2216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495680" y="1515960"/>
            <a:ext cx="4343400" cy="22179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5919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30 year time horizon: Solver found required tax rate of 5%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Monte Carlo: 5% tax rate only results in 24.4% probability of solvency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4114800"/>
            <a:ext cx="4114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30 year time horizon: Solver found minimum retirement age of 67 years 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Monte Carlo: 67 year old retirement age only results in 37.2% probability of solv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Conclusion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ocial Security Insolvency is driven by: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Aging in population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Expected rise in benefits per retiree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mall moves in the decision variables (retirement age and tax rate) greatly affect the solvency of the system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We conclude with confidence that when we retire, we will all receive our expected benefits!!!!!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Verdana"/>
              </a:rPr>
              <a:t>Question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Agend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ocial Security Background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Problem Definition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Formulation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axes &amp; benefits modeling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Population modeling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ssumption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he Model &amp; Result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Solver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Monte Carlo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onclusion and Recommendation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" y="4572000"/>
            <a:ext cx="403848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523880"/>
            <a:ext cx="4038480" cy="1067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3048120"/>
            <a:ext cx="403848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Social Securit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Pay-as-you-go system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523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Less workers today per retir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In less than 15 years, the program benefits will exceed intake from  payroll tax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8006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Poor inves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304812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312408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The Social Security “Tr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Fund” does not really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Rate of return of less than 2% for Baby boomers and even lower for Gen X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31240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Dependent on Tax Collection o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Borrowing Mon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Defining the Problem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Key Issue: Social Security predicated on growing population. Declining birth rates result in a demographic shift towards an older population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We analyzed the policy choices that will determine the future of the social security system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Objective: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 Determine the appropriate retirement age and tax rate necessary to keep the system solvent 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Formulation: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Taxes &amp; Benefits Model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Equalize taxes collected and benefits paid for a given time horizon (10,20,30,40,50 years)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axes collected assumed to be % GDP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Benefits paid are a function of the number of people at or above the retirement age and the benefits paid / retiree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Key to social security solvency is understanding population migration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280" y="1371600"/>
            <a:ext cx="8839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Formulation: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Population Migratio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00600" y="3871800"/>
            <a:ext cx="3807000" cy="2281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523880" y="3505320"/>
            <a:ext cx="20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Millions of peop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85800" y="3933720"/>
            <a:ext cx="3627360" cy="2189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52280" y="1467000"/>
                <a:ext cx="88394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R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R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838080" y="2160720"/>
            <a:ext cx="3124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= age b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 =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 = number of peo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29280" y="216072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R = mortality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= immigr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6216480"/>
            <a:ext cx="891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* Formula for age bands 5-79.  Age band 0-4: new births are migration into the band.  Age band 80+: excludes migration (except death) out of ban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Baseline Assumption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1614240"/>
            <a:ext cx="4190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Population Assumptions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Net Immigration rates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Year 0: 946,142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2% subsequent growth</a:t>
            </a:r>
            <a:r>
              <a:rPr b="0" lang="en-US" sz="14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Births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Year 0: 4 million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1% subsequent growth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Mortality rates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GDP Growth 1% Real for the 20-65 population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1571760"/>
            <a:ext cx="41911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Benefi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Year 0: $13,626 per retir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0.6% real grow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Tax Rate 4.5% of GD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Time Horizon 30 yea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Interest Rate 2% re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Retirement age 6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Verdana"/>
              </a:rPr>
              <a:t>Baseline Result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6626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Verdana"/>
              </a:rPr>
              <a:t>Social Security Cost Projection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239240" cy="43257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133720" y="3567240"/>
            <a:ext cx="5823000" cy="1657080"/>
          </a:xfrm>
          <a:prstGeom prst="rect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Covered by Tax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7:36:54Z</dcterms:created>
  <dc:creator> mryba</dc:creator>
  <dc:description/>
  <dc:language>en-US</dc:language>
  <cp:lastModifiedBy>Stern Business School</cp:lastModifiedBy>
  <dcterms:modified xsi:type="dcterms:W3CDTF">2005-12-11T23:17:06Z</dcterms:modified>
  <cp:revision>53</cp:revision>
  <dc:subject/>
  <dc:title>Slide 1</dc:title>
</cp:coreProperties>
</file>