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0983-D223-4C51-B049-AA50314B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FE0A-C7E5-4C26-A654-9A8528AE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D1E2-11AD-466E-846C-56C26237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4E59-8C53-4DA7-9471-51C06A1A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1E4A-B309-4956-AF9E-0E8DBD2A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A60E-5FB6-4A14-AB1A-B5469184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C645-9F68-4D0C-8977-190714BE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3ECA-DA22-4EF0-9B5D-0652CE46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C032-F706-44E7-B7D9-D6D35567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54D7-280C-4DF3-BAD2-F2A1F346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89FA-0AF8-498A-8F21-B0720D08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FF93-7396-4C94-BA65-E2766248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51F6-48FE-4EDE-B97E-F461DB86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FF5A-F0FC-4243-ABD6-244716B2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A73B-3668-4B9E-8C83-7E760833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8ABF-F832-43FB-8FBE-C154B7BE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366E-B195-45D3-BD1F-6E0BB8C3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AC3-D4CE-496D-BCCF-BF32187A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B4A4-3B10-48C5-BC3A-8E0DFECC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95A-5960-47EF-9FD8-6C83E1AE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B7C9-CCAC-4012-BE30-FDA5FA09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DDFB-FBA7-4268-92D0-084789D3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4231-CB4A-4B6D-A87B-126705AC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91C-C5DB-44F7-BD20-1C33D87A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2F17-71FF-45BC-9141-C3DA643B8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C4E0-7B94-4E3F-88A4-3D911A36D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tirement Cho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blended retirement plan with two choice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ption 2 – 401(k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1828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749"/>
              </a:spcBef>
              <a:tabLst>
                <a:tab algn="l" pos="0"/>
                <a:tab algn="l" pos="2292480"/>
                <a:tab algn="l" pos="3938760"/>
                <a:tab algn="dec" pos="4684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 for $1 company match (same as Option 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2679840"/>
            <a:ext cx="685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054160"/>
                <a:tab algn="l" pos="3995640"/>
                <a:tab algn="dec" pos="4965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P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addition match base on 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4160"/>
                <a:tab algn="l" pos="3995640"/>
                <a:tab algn="dec" pos="4965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4160"/>
                <a:tab algn="l" pos="3995640"/>
                <a:tab algn="dec" pos="4965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0.25 ad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4160"/>
                <a:tab algn="l" pos="3995640"/>
                <a:tab algn="dec" pos="4965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35-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0.50 ad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.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4160"/>
                <a:tab algn="l" pos="3995640"/>
                <a:tab algn="dec" pos="4965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45-4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0.75 ad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4160"/>
                <a:tab algn="l" pos="3995640"/>
                <a:tab algn="dec" pos="4965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50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.00 ad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eneral Assump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1676520"/>
            <a:ext cx="7620120" cy="47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3510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Age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3510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re at age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3510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to age 90 (Total 42 year pl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3510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 Savings Balance of $3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3510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Contributions to 401(k)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3510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401(k) Contribu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% per year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3510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Pay increase 5% per year </a:t>
            </a:r>
            <a:r>
              <a:rPr b="0" lang="en-US" sz="2400" spc="-1" strike="noStrike">
                <a:solidFill>
                  <a:srgbClr val="00b800"/>
                </a:solidFill>
                <a:latin typeface="Arial"/>
              </a:rPr>
              <a:t>(Green 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3510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TW Base Increases 4% per year** </a:t>
            </a:r>
            <a:r>
              <a:rPr b="0" lang="en-US" sz="2400" spc="-1" strike="noStrike">
                <a:solidFill>
                  <a:srgbClr val="00b800"/>
                </a:solidFill>
                <a:latin typeface="Arial"/>
              </a:rPr>
              <a:t>(Green 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351000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ttp://beginnersinvest.about.com/od/401k/a/aa122104a_4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3680" indent="-351000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*http://www.ssa.gov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eneral Assump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2057400"/>
            <a:ext cx="69343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1(k) invested in index fund to give return that is distributed (fit) to historical stock market return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V of Pension Plan payout based on i=6% for n=25 years (to age 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ttp://pages.stern.nyu.edu/~adamodar/pc/datasets/histretSP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oject Pl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Aft>
                <a:spcPts val="2999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spreadsheet model to simulate the two 401(k) Options to age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Aft>
                <a:spcPts val="2999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100,000 iterations of the two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Aft>
                <a:spcPts val="2999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NPV of the Pension Bene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Aft>
                <a:spcPts val="2999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the two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Aft>
                <a:spcPts val="2999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plan that offers the highest p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76520" y="798480"/>
            <a:ext cx="73152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61048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ystal Bal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14400" y="1328760"/>
            <a:ext cx="769608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880" y="17953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1600" y="6172200"/>
            <a:ext cx="80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: http://pages.stern.nyu.edu/~adamodar/pc/datasets/histretSP.x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ystal Ball - Distribu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1523880"/>
            <a:ext cx="6019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 Extreme distribution with parameter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li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54118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ults – Option 1  401(k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914400" y="1905120"/>
            <a:ext cx="7162920" cy="3871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90720" y="5791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1(k) Matched $1 for 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4424400"/>
            <a:ext cx="2514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= 1,173,882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tirement Cho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Components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Pens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ings Plan – 401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ed into Two O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 1 – More P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 2 – More 401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914400" y="1905120"/>
            <a:ext cx="7162920" cy="38718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ults – Option 2  401(k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579132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1(k) Matched $1.25 - $2.00 Based on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4419720"/>
            <a:ext cx="2514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= 1,361,530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1981080"/>
            <a:ext cx="4190760" cy="3498840"/>
            <a:chOff x="304920" y="1981080"/>
            <a:chExt cx="4190760" cy="34988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304920" y="2428920"/>
              <a:ext cx="4190760" cy="3051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49" name=""/>
            <p:cNvSpPr/>
            <p:nvPr/>
          </p:nvSpPr>
          <p:spPr>
            <a:xfrm>
              <a:off x="380880" y="19810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ption 1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648320" y="1981080"/>
            <a:ext cx="4190760" cy="3498840"/>
            <a:chOff x="4648320" y="1981080"/>
            <a:chExt cx="4190760" cy="3498840"/>
          </a:xfrm>
        </p:grpSpPr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4648320" y="2428920"/>
              <a:ext cx="4190760" cy="3051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2" name=""/>
            <p:cNvSpPr/>
            <p:nvPr/>
          </p:nvSpPr>
          <p:spPr>
            <a:xfrm>
              <a:off x="4724280" y="19810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ption 2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ults - Pens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80880" y="1828800"/>
            <a:ext cx="3962520" cy="3733920"/>
            <a:chOff x="380880" y="1828800"/>
            <a:chExt cx="3962520" cy="373392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990720" y="2209680"/>
              <a:ext cx="2500200" cy="335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80880" y="182880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Data Set (Last 120 Months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495680" y="152388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Option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%) Final Average Pay – (0.5%) Social Security Taxable Wage Base  x (n) Years of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4267080"/>
            <a:ext cx="39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Option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%) Final Average Pay x (n) Years of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2971800"/>
            <a:ext cx="39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%) $278,749 / 12 – (0.5%) $183,492 / 12  x (20) Years of Service = 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$7,763.00 /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533412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%) $278,749 / 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(20) Years of Service = 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$4,646.00 /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ults - Combin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95280" y="1801800"/>
            <a:ext cx="662940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39625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% Pension Pla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1(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$1 for $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first 5% of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* Reduced by an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24280" y="1828440"/>
            <a:ext cx="381024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% Pens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01(k)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$1.25 - $2.00 for every $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first 5% of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* Based on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ther Factors for Further Analysi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nsion Ri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$200,000 Max Salary + 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$160,000 Max annual pension pay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2 + 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rly Retirement o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nsion pays for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s to 50% for life of sp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ther Factors for Further Analysi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nsion payout o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(50-6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mp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Life Ann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and Life Ann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Joint and Survivor Annu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01(k) invest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tirement Cho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re are numerous factors that could determine which option is better for you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ears of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urrent 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ge at retir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ge at de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ntribution to 401(k) (Max – mi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ase pay versus SS Taxable Wage 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ay increases / decr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vestment ch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39625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% Pension Pla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1(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$1 for $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first 5% of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* Reduced by an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24280" y="1828440"/>
            <a:ext cx="381024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% Pens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01(k)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$1.25 - $2.00 for every $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first 5% of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* Based on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ption 1 – Pension Offs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Aft>
                <a:spcPts val="3501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% of the Average of Highest 36 Consecutive Months of Pay in the last 120 Month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nal Average P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3501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us 0.5% of the lesser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nal Average P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cial Security Taxable Wag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3501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s Years of Service After July 1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ption 1 – Pension Offs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200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960" indent="0">
              <a:lnSpc>
                <a:spcPct val="8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s 0.5% of the less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" indent="0">
              <a:lnSpc>
                <a:spcPct val="8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al Average P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" indent="0">
              <a:lnSpc>
                <a:spcPct val="8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 Security Taxable Wag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" indent="0">
              <a:lnSpc>
                <a:spcPct val="80000"/>
              </a:lnSpc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267080" y="1600200"/>
          <a:ext cx="4267080" cy="4381560"/>
        </p:xfrm>
        <a:graphic>
          <a:graphicData uri="http://schemas.openxmlformats.org/drawingml/2006/table">
            <a:tbl>
              <a:tblPr/>
              <a:tblGrid>
                <a:gridCol w="1698480"/>
                <a:gridCol w="25686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2,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eff6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3520" y="61102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: http://www.ss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ption 1 – Pension Offs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99040" y="1523880"/>
            <a:ext cx="2043360" cy="4724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480" y="2286000"/>
            <a:ext cx="4724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 Security Taxable Wage B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based on 4% increase each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61102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: http://www.ss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1911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at SSTWB will be the less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ption 1 – Pension Offs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%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nal Average P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.5%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cial Security Taxable Wage 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(n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ears of Serv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447560" y="3657240"/>
            <a:ext cx="6553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Final Base Pay $120,000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% ($10,000) – 0.5% ($8,000) x 10 years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- $40 x 10 = $1,600 pe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.6% Pension Benefit (4% Off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ption 2 – Pension Benefi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0872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%) x (n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ears of Serv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nal Average P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284904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on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% x 10 years x $10,000 = $1,000.00 per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95680"/>
            <a:ext cx="71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% ($10,000) – 0.5% ($8,000) x 10 years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- $40 x 10 = $1,600 per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3:30:17Z</dcterms:created>
  <dc:creator>lptdl</dc:creator>
  <dc:description/>
  <dc:language>en-US</dc:language>
  <cp:lastModifiedBy>lptdl</cp:lastModifiedBy>
  <dcterms:modified xsi:type="dcterms:W3CDTF">2005-12-16T04:27:23Z</dcterms:modified>
  <cp:revision>33</cp:revision>
  <dc:subject/>
  <dc:title>Pfizer Choice</dc:title>
</cp:coreProperties>
</file>