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4.png" ContentType="image/png"/>
  <Override PartName="/ppt/media/image26.jpeg" ContentType="image/jpeg"/>
  <Override PartName="/ppt/media/image5.jpeg" ContentType="image/jpeg"/>
  <Override PartName="/ppt/media/image11.wmf" ContentType="image/x-wmf"/>
  <Override PartName="/ppt/media/image27.jpeg" ContentType="image/jpeg"/>
  <Override PartName="/ppt/media/image8.png" ContentType="image/png"/>
  <Override PartName="/ppt/media/image14.jpeg" ContentType="image/jpeg"/>
  <Override PartName="/ppt/media/image13.png" ContentType="image/png"/>
  <Override PartName="/ppt/media/image28.jpeg" ContentType="image/jpeg"/>
  <Override PartName="/ppt/media/image7.jpeg" ContentType="image/jpeg"/>
  <Override PartName="/ppt/media/image6.jpeg" ContentType="image/jpeg"/>
  <Override PartName="/ppt/media/image18.png" ContentType="image/png"/>
  <Override PartName="/ppt/media/image17.wmf" ContentType="image/x-wmf"/>
  <Override PartName="/ppt/media/image31.png" ContentType="image/png"/>
  <Override PartName="/ppt/media/image4.jpeg" ContentType="image/jpeg"/>
  <Override PartName="/ppt/media/image25.jpeg" ContentType="image/jpeg"/>
  <Override PartName="/ppt/media/image30.png" ContentType="image/png"/>
  <Override PartName="/ppt/media/image3.jpeg" ContentType="image/jpeg"/>
  <Override PartName="/ppt/media/image2.jpeg" ContentType="image/jpeg"/>
  <Override PartName="/ppt/media/image23.jpeg" ContentType="image/jpeg"/>
  <Override PartName="/ppt/media/image12.png" ContentType="image/png"/>
  <Override PartName="/ppt/media/image10.png" ContentType="image/png"/>
  <Override PartName="/ppt/media/image1.jpeg" ContentType="image/jpeg"/>
  <Override PartName="/ppt/media/image9.png" ContentType="image/png"/>
  <Override PartName="/ppt/media/image22.jpeg" ContentType="image/jpeg"/>
  <Override PartName="/ppt/media/image15.jpeg" ContentType="image/jpeg"/>
  <Override PartName="/ppt/media/image16.jpeg" ContentType="image/jpeg"/>
  <Override PartName="/ppt/media/image20.jpeg" ContentType="image/jpeg"/>
  <Override PartName="/ppt/media/image1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move the slide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11F24-45ED-48AE-BF1E-9BC7BF2187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llected data on neighborhoo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ulated percent change in value year to year from 1994-20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as range of possible inputs for model in Crystal B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uted average CAGR for five years out and probability of hitting certain minimum threshol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 Model Contraints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artment ty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umber of bedroo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ffordabil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E05F7-3AC7-496E-85F2-862555644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630F-4C91-4C98-84E5-2008FF99D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12140-F0BB-4D45-B194-EDEF8D17F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80AE1-E31E-46DC-AF47-3DF9A3585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8EBA2-0489-4223-8F68-5B582164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45ACB-4F53-41D2-AC67-D696ED76D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CA2A-3FFA-45E5-9894-7DB73F93B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92B8F-FB29-4E50-8C0A-B08FFBC5B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0A02F-6922-405C-8330-B47F4293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F93A5-3129-4C49-8C9B-0E9F8A41F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87FAA-F2F8-4D3E-B6F4-13A644DF5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E3F10-B248-45D7-AEA8-9C0568ED1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393BF-20D8-4D76-8E00-B5C38CE72C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3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0.png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New York City Homebuying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762120" y="1447920"/>
            <a:ext cx="3157560" cy="236196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2"/>
          <a:stretch/>
        </p:blipFill>
        <p:spPr>
          <a:xfrm>
            <a:off x="4343400" y="29718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1371600" y="3757680"/>
            <a:ext cx="3886200" cy="213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rantz Alex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Kobla Asamoah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Gabriel Rodriguez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Josh Segal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Cathy Wo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648320" y="1797120"/>
            <a:ext cx="3276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600" spc="-1" strike="noStrike">
                <a:solidFill>
                  <a:srgbClr val="ffffff"/>
                </a:solidFill>
                <a:latin typeface="Times New Roman"/>
              </a:rPr>
              <a:t>Where Will You Live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1" dur="10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autoRev="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5" dur="1000" fill="hold"/>
                                        <p:tgtEl>
                                          <p:spTgt spid="5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7877160" y="0"/>
            <a:ext cx="1266840" cy="12952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152280" y="1523880"/>
            <a:ext cx="4295880" cy="50482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4648320" y="1523880"/>
            <a:ext cx="4295520" cy="502920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1: Philip Mee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914400" y="1371600"/>
            <a:ext cx="6742080" cy="528948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877160" y="0"/>
            <a:ext cx="1266840" cy="129528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Phil’s Future Home! 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ould you choose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2666880" y="1676520"/>
            <a:ext cx="1781280" cy="2381040"/>
          </a:xfrm>
          <a:prstGeom prst="rect">
            <a:avLst/>
          </a:prstGeom>
          <a:ln w="0">
            <a:noFill/>
          </a:ln>
        </p:spPr>
      </p:pic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90920" y="4248000"/>
            <a:ext cx="2857320" cy="177192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50286" b="0"/>
          <a:stretch/>
        </p:blipFill>
        <p:spPr>
          <a:xfrm>
            <a:off x="5562720" y="1447920"/>
            <a:ext cx="3352680" cy="528624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4"/>
          <a:stretch/>
        </p:blipFill>
        <p:spPr>
          <a:xfrm>
            <a:off x="533520" y="2019240"/>
            <a:ext cx="1854000" cy="339084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457200" y="1371600"/>
            <a:ext cx="41911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ncome $50k/year – Manager at Starbucks (The MBA didn’t quite work out for Frantz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76920" y="1371600"/>
            <a:ext cx="4105080" cy="52578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2: Frantz Alexi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7848720" y="0"/>
            <a:ext cx="1295280" cy="127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52280" y="1447920"/>
            <a:ext cx="4295880" cy="504828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573440" y="1447920"/>
            <a:ext cx="4295880" cy="50292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2: Frantz Alexi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286" b="0"/>
          <a:stretch/>
        </p:blipFill>
        <p:spPr>
          <a:xfrm>
            <a:off x="457200" y="1371600"/>
            <a:ext cx="3352680" cy="5286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Frantz – What are his choices?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4038480" y="1523880"/>
            <a:ext cx="3276720" cy="205740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4"/>
          <a:stretch/>
        </p:blipFill>
        <p:spPr>
          <a:xfrm>
            <a:off x="4038480" y="4095720"/>
            <a:ext cx="3276720" cy="24573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7470000" y="202104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o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7393680" y="449568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Bron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5029200"/>
            <a:ext cx="9191520" cy="18288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457200" y="137160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e can’t afford to buy in Manhattan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ven with the prestigious STERN MB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Harlem IS HOT!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79% probability of getting a 15% capital gain EVERY YEA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heapest apartment is in Riverdale at $190K –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ffordable, but put your travel boots on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ant to act like a “baller”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Financial District is waiting for you at $1.45M!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What we learned…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5029200"/>
            <a:ext cx="276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lloooooooo JERSEY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Happy Hunting!!!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04920" y="54100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Q&amp;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2371" t="3225" r="7503" b="3225"/>
          <a:stretch/>
        </p:blipFill>
        <p:spPr>
          <a:xfrm>
            <a:off x="2819520" y="1676520"/>
            <a:ext cx="2895480" cy="44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4495680" y="3592440"/>
            <a:ext cx="4114800" cy="27320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jective/Managerial Probl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2 Scenario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What We Learn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genda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457200" y="3429000"/>
            <a:ext cx="4343400" cy="30481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1911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There almost too many factors to consider when purchasing a dwelling in the greater New York area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6515280" y="5208480"/>
            <a:ext cx="2171520" cy="142092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43600" y="3657600"/>
            <a:ext cx="12952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Quee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934320" y="4724280"/>
            <a:ext cx="190476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chool Distric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34320" y="345924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rookly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800600" y="35053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ark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029200" y="51814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estchest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553080" y="4343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Amen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620120" y="41911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Walk-u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952880" y="4678200"/>
            <a:ext cx="22100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quare Foota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772400" y="380988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% Dow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05520" y="396252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Cr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5181480" y="4343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2 Bedro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6553080" y="3992400"/>
            <a:ext cx="16002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Bronx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3"/>
          <a:stretch/>
        </p:blipFill>
        <p:spPr>
          <a:xfrm>
            <a:off x="4800600" y="304920"/>
            <a:ext cx="4038480" cy="31417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anagerial Problem</a:t>
            </a:r>
            <a:endParaRPr b="1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path" presetID="55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4 -0.08923 -0.046 -0.16647 -0.113 -0.1718 C -0.177 -0.17846 -0.237 -0.11853 -0.241 -0.03196 C -0.246 0.04794 -0.204 0.12252 -0.144 0.12785 C -0.089 0.13185 -0.037 0.08257 -0.033 0.00799 C -0.029 -0.05993 -0.064 -0.12386 -0.115 -0.12918 C -0.162 -0.13318 -0.206 -0.09189 -0.209 -0.0293 C -0.212 0.02664 -0.184 0.08124 -0.142 0.0839 C -0.104 0.0879 -0.068 0.05594 -0.065 0.00533 C -0.063 -0.03995 -0.084 -0.0839 -0.117 -0.08657 C -0.146 -0.08923 -0.175 -0.06526 -0.177 -0.02664 C -0.179 0.00666 -0.164 0.03862 -0.14 0.04129 C -0.12 0.04395 -0.099 0.0293 -0.098 0.00266 C -0.096 -0.01865 -0.104 -0.04129 -0.119 -0.04395 C -0.131 -0.04395 -0.143 -0.03862 -0.145 -0.02397 C -0.146 -0.01465 -0.144 -0.00533 -0.138 -0.00133 C -0.135 0 -0.133 0 -0.13 -0.00133 E">
                                      <p:cBhvr>
                                        <p:cTn id="21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28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7 0 0.031 0.01865 0.031 0.04129 C 0.031 0.06526 0.017 0.0839 0 0.0839 C -0.017 0.0839 -0.031 0.10255 -0.031 0.12519 C -0.031 0.14783 -0.017 0.16647 0 0.16647 C 0.017 0.16647 0.031 0.18512 0.031 0.20776 C 0.031 0.2304 0.017 0.24905 0 0.24905 C -0.017 0.24905 -0.031 0.26769 -0.031 0.29166 C -0.031 0.3143 -0.017 0.33295 0 0.33295 C 0.017 0.33295 0.031 0.3143 0.031 0.29166 C 0.031 0.26769 0.017 0.24905 0 0.24905 C -0.017 0.24905 -0.031 0.2304 -0.031 0.20776 C -0.031 0.18512 -0.017 0.16647 0 0.16647 C 0.017 0.16647 0.031 0.14783 0.031 0.12519 C 0.031 0.10255 0.017 0.0839 0 0.0839 C -0.017 0.0839 -0.031 0.06526 -0.031 0.04129 C -0.031 0.01865 -0.017 0 0 0 Z">
                                      <p:cBhvr>
                                        <p:cTn id="23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2 -0.004 0.012 -0.04528 0.037 -0.04262 C 0.075 -0.03862 0.09 -0.00932 0.125 -0.03862 C 0.147 -0.05594 0.173 -0.09988 0.192 -0.09855 C 0.235 -0.09722 0.244 -0.05194 0.244 -0.01065 C 0.245 0.04794 0.189 0.09722 0.121 0.10255 C 0.052 0.10654 -0.005 0.04395 0 0 Z">
                                      <p:cBhvr>
                                        <p:cTn id="25" dur="3000" fill="hold"/>
                                        <p:tgtEl>
                                          <p:spTgt spid="6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" nodeType="withEffect" fill="hold" presetClass="path" presetID="2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6 0.00799 0.011 0.01465 0.015 0.02264 C 0.02 0.01465 0.024 0.00799 0.03 0 C 0.065 -0.04661 0.107 -0.06659 0.124 -0.04528 C 0.14 -0.02264 0.125 0.03329 0.09 0.07991 C 0.084 0.08657 0.079 0.09323 0.073 0.09988 C 0.079 0.10521 0.084 0.11187 0.09 0.11986 C 0.125 0.16647 0.14 0.22241 0.124 0.24372 C 0.107 0.26636 0.065 0.24638 0.03 0.19977 C 0.024 0.19178 0.02 0.18512 0.015 0.17713 C 0.011 0.18512 0.006 0.19178 0 0.19977 C -0.035 0.24638 -0.077 0.26636 -0.094 0.24372 C -0.11 0.22241 -0.095 0.16647 -0.06 0.11986 C -0.054 0.11187 -0.049 0.10521 -0.043 0.09988 C -0.049 0.09323 -0.054 0.08657 -0.06 0.07991 C -0.095 0.03329 -0.11 -0.02264 -0.094 -0.04528 C -0.077 -0.06659 -0.035 -0.04661 0 0 Z">
                                      <p:cBhvr>
                                        <p:cTn id="27" dur="3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8" nodeType="withEffect" fill="hold" presetClass="path" presetID="2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72 0.07724 0.1 0.20243 0.077 0.31697 C -0.015 0.31031 -0.093 0.2304 -0.125 0.12119 C -0.047 0.05327 0.051 0.05727 0.125 0.12119 C 0.092 0.23706 0.011 0.31031 -0.077 0.31697 C -0.101 0.19711 -0.068 0.07458 0 0 Z">
                                      <p:cBhvr>
                                        <p:cTn id="29" dur="3000" fill="hold"/>
                                        <p:tgtEl>
                                          <p:spTgt spid="6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0" nodeType="withEffect" fill="hold" presetClass="pat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4.04624E-006 C 0.01493 0.0319 0.03698 0.0652 0.05503 0.07861 C 0.08194 0.09988 0.10799 0.10797 0.11302 0.09711 C 0.11701 0.08647 0.09896 0.05988 0.07205 0.03861 C 0.05399 0.0252 0.02101 0.01595 -0.00799 0.01456 C -0.03594 0.01595 -0.06997 0.0252 -0.08802 0.03861 C -0.11493 0.05988 -0.13299 0.08647 -0.12795 0.09711 C -0.12292 0.10797 -0.09705 0.09988 -0.07101 0.07861 C -0.05295 0.0652 -0.03003 0.0319 -0.01597 4.04624E-006 C -0.00104 -0.0333 0.00903 -0.07723 0.00903 -0.10521 C 0.00903 -0.14775 0.00069 -0.10682 -0.00937 -0.10682 C -0.0184 -0.10682 -0.025 -0.14775 -0.025 -0.10521 C -0.025 -0.07723 -0.01406 -0.0333 0 4.04624E-006 Z">
                                      <p:cBhvr>
                                        <p:cTn id="31" dur="3000" fill="hold"/>
                                        <p:tgtEl>
                                          <p:spTgt spid="6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33" dur="3000" fill="hold"/>
                                        <p:tgtEl>
                                          <p:spTgt spid="6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58 0.124 -0.16647 C 0.124 -0.07458 0.179 -0.00133 0.248 -0.00133 C 0.179 -0.00133 0.125 0.07458 0.125 0.16647 C 0.125 0.07458 0.069 0 0 0 Z">
                                      <p:cBhvr>
                                        <p:cTn id="35" dur="3000" fill="hold"/>
                                        <p:tgtEl>
                                          <p:spTgt spid="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6" nodeType="withEffect" fill="hold" presetClass="path" presetID="2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07 -0.01332 0.014 -0.02797 0.021 -0.04661 C 0.04 -0.09988 0.045 -0.15182 0.031 -0.15982 C 0.017 -0.16914 -0.01 -0.13185 -0.029 -0.07858 C -0.039 -0.05061 -0.045 -0.02397 -0.047 -0.004 C -0.05 0.01199 -0.051 0.02797 -0.051 0.04661 C -0.051 0.10654 -0.038 0.15582 -0.023 0.15582 C -0.008 0.15582 0.005 0.10654 0.005 0.04661 C 0.005 0.01865 0.002 -0.00799 -0.003 -0.02664 C -0.005 -0.04262 -0.01 -0.05993 -0.016 -0.07724 C -0.036 -0.13185 -0.063 -0.16914 -0.077 -0.15982 C -0.091 -0.15049 -0.086 -0.09988 -0.066 -0.04528 C -0.058 -0.01998 -0.047 0.00133 -0.036 0.01598 C -0.028 0.0293 -0.019 0.04129 -0.007 0.05327 C 0.029 0.09189 0.065 0.10921 0.075 0.09323 C 0.084 0.07724 0.064 0.03329 0.028 -0.004 C 0.013 -0.01998 -0.003 -0.03196 -0.016 -0.03995 C -0.028 -0.04794 -0.043 -0.0546 -0.059 -0.0586 C -0.103 -0.07192 -0.141 -0.06792 -0.144 -0.04661 C -0.148 -0.02664 -0.115 0 -0.071 0.01332 C -0.051 0.01865 -0.032 0.02131 -0.017 0.01998 C -0.004 0.01998 0.01 0.01731 0.025 0.01332 C 0.069 0 0.102 -0.02797 0.098 -0.04794 C 0.095 -0.06792 0.057 -0.07325 0.013 -0.05993 C -0.008 -0.05327 -0.027 -0.04395 -0.04 -0.03329 C -0.051 -0.0253 -0.062 -0.01598 -0.074 -0.004 C -0.109 0.03463 -0.13 0.07724 -0.12 0.09323 C -0.111 0.10921 -0.074 0.09189 -0.039 0.0546 C -0.022 0.03596 -0.008 0.01731 0 0 Z">
                                      <p:cBhvr>
                                        <p:cTn id="37" dur="3000" fill="hold"/>
                                        <p:tgtEl>
                                          <p:spTgt spid="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8" nodeType="withEffect" fill="hold" presetClass="path" presetID="20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 -0.04262 0.026 -0.07724 0.058 -0.07724 L 0.192 -0.07724 C 0.224 -0.07724 0.25 -0.04262 0.25 0 L 0.25 0.1758 C 0.25 0.21841 0.224 0.25437 0.192 0.25437 L 0.058 0.25437 C 0.026 0.25437 0 0.21841 0 0.1758 Z">
                                      <p:cBhvr>
                                        <p:cTn id="39" dur="3000" fill="hold"/>
                                        <p:tgtEl>
                                          <p:spTgt spid="7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0" nodeType="withEffect" fill="hold" presetClass="path" presetID="22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33 0 0.06 0.03596 0.06 0.07991 C 0.06 0.13185 0.03 0.15049 0.012 0.15848 L -0.012 0.16647 C -0.03 0.17446 -0.06 0.19444 -0.06 0.25304 C -0.06 0.29033 -0.033 0.33295 0 0.33295 C 0.033 0.33295 0.06 0.29033 0.06 0.25304 C 0.06 0.19444 0.03 0.17446 0.012 0.16647 L -0.012 0.15848 C -0.03 0.15049 -0.06 0.13185 -0.06 0.07991 C -0.06 0.03596 -0.033 0 0 0 Z">
                                      <p:cBhvr>
                                        <p:cTn id="41" dur="3000" fill="hold"/>
                                        <p:tgtEl>
                                          <p:spTgt spid="6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2" nodeType="withEffect" fill="hold" presetClass="path" presetID="31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45087E-006 C 0.00208 -0.00394 0.01198 -0.04532 0.03698 -0.04255 C 0.075 -0.03862 0.08993 -0.00925 0.125 -0.03862 C 0.14705 -0.05596 0.17152 -0.10451 0.19062 -0.10313 C 0.23368 -0.10174 0.24392 -0.05203 0.24392 -0.01064 C 0.24496 0.04786 0.18906 0.09711 0.121 0.10265 C 0.05208 0.10659 -0.00504 0.04393 3.33333E-006 4.45087E-006 Z">
                                      <p:cBhvr>
                                        <p:cTn id="43" dur="3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33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15 0.03196 0.037 0.06526 0.055 0.07858 C 0.082 0.09988 0.108 0.10788 0.113 0.09722 C 0.117 0.08657 0.099 0.05993 0.072 0.03862 C 0.054 0.0253 0.021 0.01598 -0.008 0.01465 C -0.036 0.01598 -0.07 0.0253 -0.088 0.03862 C -0.115 0.05993 -0.133 0.08657 -0.128 0.09722 C -0.123 0.10788 -0.097 0.09988 -0.071 0.07858 C -0.053 0.06526 -0.03 0.03196 -0.016 0 C -0.001 -0.03329 0.009 -0.07724 0.009 -0.10521 C 0.009 -0.14783 0.002 -0.18112 -0.008 -0.18112 C -0.017 -0.18112 -0.025 -0.14783 -0.025 -0.10521 C -0.025 -0.07724 -0.014 -0.03329 0 0 Z">
                                      <p:cBhvr>
                                        <p:cTn id="45" dur="3000" fill="hold"/>
                                        <p:tgtEl>
                                          <p:spTgt spid="6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path" presetID="1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0.069 0 0.124 -0.07458 0.124 -0.16647 C 0.124 -0.07458 0.179 -0.00133 0.248 -0.00133 C 0.179 -0.00133 0.125 0.07458 0.125 0.16647 C 0.125 0.07458 0.069 0 0 0 Z">
                                      <p:cBhvr>
                                        <p:cTn id="47" dur="3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 - Input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nancial Situa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rning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iabil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ssets (for down payment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us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ype of Hous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. of Bedroo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ank 12 attributes and select preferen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Capital G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Par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uilding Ameniti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Laundry Roo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Distance from Subwa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chool District Rank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Movie Theat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Ba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Access to Restaurant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eighborhood Safety (Crime Rate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errace / Outdoor Spac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Minimum Siz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62120" y="4038480"/>
            <a:ext cx="2485800" cy="19908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ximize utility to the buyer based on rankings and preferences of attribu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ision Variab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Solver to choose the optimal apartment amongst list of apartments currently on the mark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trai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ffordabi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onthly expenses cannot exceed Maximum Allowable Housing Allowance (28% of gross or 36% debt less other liabiliti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inimum of 10% down paymen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ust meet No. of bedroom and Type of housing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ward and Penal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rewards for meeting preferences of b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ssign penalties for not meeting preferences of buy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The Model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467480" y="0"/>
            <a:ext cx="167652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495360" y="2120760"/>
            <a:ext cx="7962840" cy="42800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90" name="" descr=""/>
          <p:cNvPicPr/>
          <p:nvPr/>
        </p:nvPicPr>
        <p:blipFill>
          <a:blip r:embed="rId2">
            <a:lum bright="-54000"/>
          </a:blip>
          <a:stretch/>
        </p:blipFill>
        <p:spPr>
          <a:xfrm>
            <a:off x="1752480" y="4343400"/>
            <a:ext cx="7086600" cy="2209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1905120" y="4514760"/>
            <a:ext cx="6791040" cy="18860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92" name=""/>
          <p:cNvSpPr/>
          <p:nvPr/>
        </p:nvSpPr>
        <p:spPr>
          <a:xfrm>
            <a:off x="528840" y="1452600"/>
            <a:ext cx="578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mulate Capital Gains for 50 Neighborhoo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pecial Attribute: Capital Gai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4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295280" y="1447920"/>
            <a:ext cx="6477120" cy="340524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97" name=""/>
          <p:cNvSpPr/>
          <p:nvPr/>
        </p:nvSpPr>
        <p:spPr>
          <a:xfrm>
            <a:off x="838080" y="5105520"/>
            <a:ext cx="7848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ptured 5 year gains from Crystal Bal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d as input in final mo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A Special Attribute: Capital Gains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8466120" y="0"/>
            <a:ext cx="67788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304920" y="1295280"/>
            <a:ext cx="85341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770960" y="0"/>
            <a:ext cx="1076040" cy="129528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304920" y="1447920"/>
            <a:ext cx="358128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Engag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Fiancée earns 60k/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Phil earns $30K/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Times New Roman"/>
              </a:rPr>
              <a:t>Undocumented income - pok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876920" y="1447920"/>
            <a:ext cx="4105080" cy="541008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</a:rPr>
              <a:t>Scenario 1: Philip Meer</a:t>
            </a:r>
            <a:endParaRPr b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5:43:39Z</dcterms:created>
  <dc:creator>Kobla</dc:creator>
  <dc:description/>
  <dc:language>en-US</dc:language>
  <cp:lastModifiedBy>Cathy Wong</cp:lastModifiedBy>
  <dcterms:modified xsi:type="dcterms:W3CDTF">2005-12-14T01:09:03Z</dcterms:modified>
  <cp:revision>37</cp:revision>
  <dc:subject/>
  <dc:title>Slide 1</dc:title>
</cp:coreProperties>
</file>