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26.jpeg" ContentType="image/jpeg"/>
  <Override PartName="/ppt/media/image5.jpeg" ContentType="image/jpeg"/>
  <Override PartName="/ppt/media/image11.wmf" ContentType="image/x-wmf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7.wmf" ContentType="image/x-wmf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0059-6A1F-424F-980D-C329D128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data on neighbor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percent change in value year to year from 1994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as range of possible inputs for model in Crystal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d average CAGR for five years out and probability of hitting certain minimum thresho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Model Contrain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men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bedr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B5D-5E8B-48B9-A094-FA0B55AF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AA3-9621-47CB-B668-3E6FF9C2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1FD-A05F-4C45-8C44-C0FB5EBC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A17-F2FE-42E1-AB87-4CA6EE72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0D0-740F-421B-AFA2-B3E6176C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2C3-978B-40E4-9A10-C48466D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CF9-DDED-41F2-85B7-6E590F03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128-8C36-48DD-9E0D-54228D71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73C-FA6B-4D46-8793-DD5772F2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E89-177B-4A88-9EF1-A95CB65A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1B5-770D-4049-93FC-301689B8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301-41CA-4A0D-ADB8-78339A6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BFBA-75CA-4EB2-BCE7-990FA555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York City Homebuy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575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3757680"/>
            <a:ext cx="3886200" cy="21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rantz Ale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obla Asamo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abriel Rodrigu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osh Seg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athy W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97120"/>
            <a:ext cx="32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Where Will You Li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77160" y="0"/>
            <a:ext cx="12668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295880" cy="504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955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1: Philip Mee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742080" cy="5289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877160" y="0"/>
            <a:ext cx="126684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il’s Future Home!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ould you choose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1781280" cy="2381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90920" y="424800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50286" b="0"/>
          <a:stretch/>
        </p:blipFill>
        <p:spPr>
          <a:xfrm>
            <a:off x="5562720" y="1447920"/>
            <a:ext cx="3352680" cy="5286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3520" y="2019240"/>
            <a:ext cx="1854000" cy="3390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ome $50k/year – Manager at Starbucks (The MBA didn’t quite work out for Fran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4105080" cy="525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2: Frantz Alexi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29588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3440" y="1447920"/>
            <a:ext cx="429588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2: Frantz Alexi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286" b="0"/>
          <a:stretch/>
        </p:blipFill>
        <p:spPr>
          <a:xfrm>
            <a:off x="457200" y="1371600"/>
            <a:ext cx="3352680" cy="52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tz – What are his choices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038480" y="40957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70000" y="2021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o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3680" y="44956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o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9152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can’t afford to buy in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n with the prestigious STERN M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lem IS H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9% probability of getting a 15% capital gain EVERY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apest apartment is in Riverdale at $190K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ffordable, but put your travel boots 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t to act like a “baller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nancial District is waiting for you at $1.45M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 learned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0292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ooooooo JERS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ppy Hunting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71" t="3225" r="7503" b="3225"/>
          <a:stretch/>
        </p:blipFill>
        <p:spPr>
          <a:xfrm>
            <a:off x="2819520" y="1676520"/>
            <a:ext cx="2895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592440"/>
            <a:ext cx="4114800" cy="2732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ctive/Manager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We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re almost too many factors to consider when purchasing a dwelling in the greater New York are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5280" y="5208480"/>
            <a:ext cx="217152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36576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ue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72428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chool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34592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rookly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5053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181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ch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4343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191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al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67820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quare Foo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38098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%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9625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43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Bed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992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ron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4038480" cy="3141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rial 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3 -0.046 -0.16647 -0.113 -0.1718 C -0.177 -0.17846 -0.237 -0.11853 -0.241 -0.03196 C -0.246 0.04794 -0.204 0.12252 -0.144 0.12785 C -0.089 0.13185 -0.037 0.08257 -0.033 0.00799 C -0.029 -0.05993 -0.064 -0.12386 -0.115 -0.12918 C -0.162 -0.13318 -0.206 -0.09189 -0.209 -0.0293 C -0.212 0.02664 -0.184 0.08124 -0.142 0.0839 C -0.104 0.0879 -0.068 0.05594 -0.065 0.00533 C -0.063 -0.03995 -0.084 -0.0839 -0.117 -0.08657 C -0.146 -0.08923 -0.175 -0.06526 -0.177 -0.02664 C -0.179 0.00666 -0.164 0.03862 -0.14 0.04129 C -0.12 0.04395 -0.099 0.0293 -0.098 0.00266 C -0.096 -0.01865 -0.104 -0.04129 -0.119 -0.04395 C -0.131 -0.04395 -0.143 -0.03862 -0.145 -0.02397 C -0.146 -0.01465 -0.144 -0.00533 -0.138 -0.00133 C -0.135 0 -0.133 0 -0.13 -0.00133 E">
                                      <p:cBhvr>
                                        <p:cTn id="21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23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8 0.037 -0.04262 C 0.075 -0.03862 0.09 -0.00932 0.125 -0.03862 C 0.147 -0.05594 0.173 -0.09988 0.192 -0.09855 C 0.235 -0.09722 0.244 -0.05194 0.244 -0.01065 C 0.245 0.04794 0.189 0.09722 0.121 0.10255 C 0.052 0.10654 -0.005 0.04395 0 0 Z">
                                      <p:cBhvr>
                                        <p:cTn id="25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799 0.011 0.01465 0.015 0.02264 C 0.02 0.01465 0.024 0.00799 0.03 0 C 0.065 -0.04661 0.107 -0.06659 0.124 -0.04528 C 0.14 -0.02264 0.125 0.03329 0.09 0.07991 C 0.084 0.08657 0.079 0.09323 0.073 0.09988 C 0.079 0.10521 0.084 0.11187 0.09 0.11986 C 0.125 0.16647 0.14 0.22241 0.124 0.24372 C 0.107 0.26636 0.065 0.24638 0.03 0.19977 C 0.024 0.19178 0.02 0.18512 0.015 0.17713 C 0.011 0.18512 0.006 0.19178 0 0.19977 C -0.035 0.24638 -0.077 0.26636 -0.094 0.24372 C -0.11 0.22241 -0.095 0.16647 -0.06 0.11986 C -0.054 0.11187 -0.049 0.10521 -0.043 0.09988 C -0.049 0.09323 -0.054 0.08657 -0.06 0.07991 C -0.095 0.03329 -0.11 -0.02264 -0.094 -0.04528 C -0.077 -0.06659 -0.035 -0.04661 0 0 Z">
                                      <p:cBhvr>
                                        <p:cTn id="2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29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6 C 0.01493 0.0319 0.03698 0.0652 0.05503 0.07861 C 0.08194 0.09988 0.10799 0.10797 0.11302 0.09711 C 0.11701 0.08647 0.09896 0.05988 0.07205 0.03861 C 0.05399 0.0252 0.02101 0.01595 -0.00799 0.01456 C -0.03594 0.01595 -0.06997 0.0252 -0.08802 0.03861 C -0.11493 0.05988 -0.13299 0.08647 -0.12795 0.09711 C -0.12292 0.10797 -0.09705 0.09988 -0.07101 0.07861 C -0.05295 0.0652 -0.03003 0.0319 -0.01597 4.04624E-006 C -0.00104 -0.0333 0.00903 -0.07723 0.00903 -0.10521 C 0.00903 -0.14775 0.00069 -0.10682 -0.00937 -0.10682 C -0.0184 -0.10682 -0.025 -0.14775 -0.025 -0.10521 C -0.025 -0.07723 -0.01406 -0.0333 0 4.04624E-006 Z">
                                      <p:cBhvr>
                                        <p:cTn id="3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3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58 0.124 -0.16647 C 0.124 -0.07458 0.179 -0.00133 0.248 -0.00133 C 0.179 -0.00133 0.125 0.07458 0.125 0.16647 C 0.125 0.07458 0.069 0 0 0 Z">
                                      <p:cBhvr>
                                        <p:cTn id="35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37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2 0.026 -0.07724 0.058 -0.07724 L 0.192 -0.07724 C 0.224 -0.07724 0.25 -0.04262 0.25 0 L 0.25 0.1758 C 0.25 0.21841 0.224 0.25437 0.192 0.25437 L 0.058 0.25437 C 0.026 0.25437 0 0.21841 0 0.1758 Z">
                                      <p:cBhvr>
                                        <p:cTn id="39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41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5087E-006 C 0.00208 -0.00394 0.01198 -0.04532 0.03698 -0.04255 C 0.075 -0.03862 0.08993 -0.00925 0.125 -0.03862 C 0.14705 -0.05596 0.17152 -0.10451 0.19062 -0.10313 C 0.23368 -0.10174 0.24392 -0.05203 0.24392 -0.01064 C 0.24496 0.04786 0.18906 0.09711 0.121 0.10265 C 0.05208 0.10659 -0.00504 0.04393 3.33333E-006 4.45087E-006 Z">
                                      <p:cBhvr>
                                        <p:cTn id="43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4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58 0.124 -0.16647 C 0.124 -0.07458 0.179 -0.00133 0.248 -0.00133 C 0.179 -0.00133 0.125 0.07458 0.125 0.16647 C 0.125 0.07458 0.069 0 0 0 Z">
                                      <p:cBhvr>
                                        <p:cTn id="47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 - Inpu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ts (for down 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Hou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. of Bedro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k 12 attributes and select p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pital 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ilding Ame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undry 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tance from Sub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ool District Ra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Movie The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B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Restaur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ighborhood Safety (Crim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race / Outdoor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nimum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485800" cy="19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utility to the buyer based on rankings and preferences of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olver to choose the optimal apartment amongst list of apartments currently on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expenses cannot exceed Maximum Allowable Housing Allowance (28% of gross or 36% debt less other liabil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um of 10% down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meet No. of bedroom and Type of hous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ward and Pen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rewards for meeting preferences of b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penalties for not meeting preferences of b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360" y="2120760"/>
            <a:ext cx="7962840" cy="4280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1752480" y="4343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905120" y="4514760"/>
            <a:ext cx="679104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28840" y="14526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e Capital Gains for 50 Neighbor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pecial Attribute: Capital Gai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3405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838080" y="51055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d 5 year gains from Crystal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as input in fi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pecial Attribute: Capital Gai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70960" y="0"/>
            <a:ext cx="107604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4479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g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iancée earns 60k/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hil earns $30K/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documented income - po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105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1: Philip Mee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3:39Z</dcterms:created>
  <dc:creator>Kobla</dc:creator>
  <dc:description/>
  <dc:language>en-US</dc:language>
  <cp:lastModifiedBy>Cathy Wong</cp:lastModifiedBy>
  <dcterms:modified xsi:type="dcterms:W3CDTF">2005-12-14T01:09:03Z</dcterms:modified>
  <cp:revision>37</cp:revision>
  <dc:subject/>
  <dc:title>Slide 1</dc:title>
</cp:coreProperties>
</file>