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564-4BED-43C4-8DC0-5BAE24B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703-087C-42CD-ACE7-877327D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EB7-902B-4C11-8281-B587278F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C7E-C8EE-456D-BF72-3D00E745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8DC4-7F2A-4525-BD04-DDCAB3EC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E4F-633E-490F-974E-87E569F0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AC4-08CC-45E1-A605-795618B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6797-288F-4719-86C4-D59F177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3BAF-E641-482B-B234-5481F94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800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BE06-0525-4601-8BF8-85DD0E4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B402-D7B9-4DF0-A5B3-90758DA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D0F-DC3F-4638-9AAC-CBFF3D9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87D-7A3D-4102-8CBA-A3631DB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9153-CD24-4957-9302-E591CCDC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EDF-3DD6-40BA-B474-453FAE75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82AF-8235-4FC7-A9A8-C9E7E249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68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50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68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50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98F-3728-4F1E-9DBB-C4E7EC25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51B-7B48-42F3-8648-CFEF337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92A-195C-4720-8B85-1B4345C5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536-A619-42E8-9333-9F0245E6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800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B6C-FC99-4CF8-9C70-5916664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98D-271C-480D-AAE7-B8E771D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F90-3C23-4548-B49D-D0E7465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0D6-965B-4818-9203-F122E05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slideLayout" Target="../slideLayouts/slideLayout1.xml"/><Relationship Id="rId43" Type="http://schemas.openxmlformats.org/officeDocument/2006/relationships/slideLayout" Target="../slideLayouts/slideLayout2.xml"/><Relationship Id="rId44" Type="http://schemas.openxmlformats.org/officeDocument/2006/relationships/slideLayout" Target="../slideLayouts/slideLayout3.xml"/><Relationship Id="rId45" Type="http://schemas.openxmlformats.org/officeDocument/2006/relationships/slideLayout" Target="../slideLayouts/slideLayout4.xml"/><Relationship Id="rId46" Type="http://schemas.openxmlformats.org/officeDocument/2006/relationships/slideLayout" Target="../slideLayouts/slideLayout5.xml"/><Relationship Id="rId47" Type="http://schemas.openxmlformats.org/officeDocument/2006/relationships/slideLayout" Target="../slideLayouts/slideLayout6.xml"/><Relationship Id="rId48" Type="http://schemas.openxmlformats.org/officeDocument/2006/relationships/slideLayout" Target="../slideLayouts/slideLayout7.xml"/><Relationship Id="rId49" Type="http://schemas.openxmlformats.org/officeDocument/2006/relationships/slideLayout" Target="../slideLayouts/slideLayout8.xml"/><Relationship Id="rId50" Type="http://schemas.openxmlformats.org/officeDocument/2006/relationships/slideLayout" Target="../slideLayouts/slideLayout9.xml"/><Relationship Id="rId51" Type="http://schemas.openxmlformats.org/officeDocument/2006/relationships/slideLayout" Target="../slideLayouts/slideLayout10.xml"/><Relationship Id="rId52" Type="http://schemas.openxmlformats.org/officeDocument/2006/relationships/slideLayout" Target="../slideLayouts/slideLayout11.xml"/><Relationship Id="rId5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940B-8596-4F80-B84D-4C1983EDB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1143000"/>
            <a:ext cx="762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440" y="76320"/>
            <a:ext cx="1143000" cy="1098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6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04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533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62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990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1219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9"/>
          <a:stretch/>
        </p:blipFill>
        <p:spPr>
          <a:xfrm>
            <a:off x="1447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1676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1905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2"/>
          <a:stretch/>
        </p:blipFill>
        <p:spPr>
          <a:xfrm>
            <a:off x="2133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3"/>
          <a:stretch/>
        </p:blipFill>
        <p:spPr>
          <a:xfrm>
            <a:off x="2362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4"/>
          <a:stretch/>
        </p:blipFill>
        <p:spPr>
          <a:xfrm>
            <a:off x="2590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5"/>
          <a:stretch/>
        </p:blipFill>
        <p:spPr>
          <a:xfrm>
            <a:off x="2819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6"/>
          <a:stretch/>
        </p:blipFill>
        <p:spPr>
          <a:xfrm>
            <a:off x="3048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7"/>
          <a:stretch/>
        </p:blipFill>
        <p:spPr>
          <a:xfrm>
            <a:off x="3276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18"/>
          <a:stretch/>
        </p:blipFill>
        <p:spPr>
          <a:xfrm>
            <a:off x="3505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19"/>
          <a:stretch/>
        </p:blipFill>
        <p:spPr>
          <a:xfrm>
            <a:off x="3733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0"/>
          <a:stretch/>
        </p:blipFill>
        <p:spPr>
          <a:xfrm>
            <a:off x="3962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5" name="" descr=""/>
          <p:cNvPicPr/>
          <p:nvPr/>
        </p:nvPicPr>
        <p:blipFill>
          <a:blip r:embed="rId21"/>
          <a:stretch/>
        </p:blipFill>
        <p:spPr>
          <a:xfrm>
            <a:off x="4191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22"/>
          <a:stretch/>
        </p:blipFill>
        <p:spPr>
          <a:xfrm>
            <a:off x="4419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7" name="" descr=""/>
          <p:cNvPicPr/>
          <p:nvPr/>
        </p:nvPicPr>
        <p:blipFill>
          <a:blip r:embed="rId23"/>
          <a:stretch/>
        </p:blipFill>
        <p:spPr>
          <a:xfrm>
            <a:off x="4648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8" name="" descr=""/>
          <p:cNvPicPr/>
          <p:nvPr/>
        </p:nvPicPr>
        <p:blipFill>
          <a:blip r:embed="rId24"/>
          <a:stretch/>
        </p:blipFill>
        <p:spPr>
          <a:xfrm>
            <a:off x="4876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25"/>
          <a:stretch/>
        </p:blipFill>
        <p:spPr>
          <a:xfrm>
            <a:off x="5105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26"/>
          <a:stretch/>
        </p:blipFill>
        <p:spPr>
          <a:xfrm>
            <a:off x="5334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27"/>
          <a:stretch/>
        </p:blipFill>
        <p:spPr>
          <a:xfrm>
            <a:off x="5562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28"/>
          <a:stretch/>
        </p:blipFill>
        <p:spPr>
          <a:xfrm>
            <a:off x="5791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29"/>
          <a:stretch/>
        </p:blipFill>
        <p:spPr>
          <a:xfrm>
            <a:off x="6019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30"/>
          <a:stretch/>
        </p:blipFill>
        <p:spPr>
          <a:xfrm>
            <a:off x="6248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31"/>
          <a:stretch/>
        </p:blipFill>
        <p:spPr>
          <a:xfrm>
            <a:off x="6477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32"/>
          <a:stretch/>
        </p:blipFill>
        <p:spPr>
          <a:xfrm>
            <a:off x="6705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33"/>
          <a:stretch/>
        </p:blipFill>
        <p:spPr>
          <a:xfrm>
            <a:off x="6934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34"/>
          <a:stretch/>
        </p:blipFill>
        <p:spPr>
          <a:xfrm>
            <a:off x="7162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5"/>
          <a:stretch/>
        </p:blipFill>
        <p:spPr>
          <a:xfrm>
            <a:off x="7391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6"/>
          <a:stretch/>
        </p:blipFill>
        <p:spPr>
          <a:xfrm>
            <a:off x="7620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7"/>
          <a:stretch/>
        </p:blipFill>
        <p:spPr>
          <a:xfrm>
            <a:off x="7848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8"/>
          <a:stretch/>
        </p:blipFill>
        <p:spPr>
          <a:xfrm>
            <a:off x="8077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9"/>
          <a:stretch/>
        </p:blipFill>
        <p:spPr>
          <a:xfrm>
            <a:off x="8305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0"/>
          <a:stretch/>
        </p:blipFill>
        <p:spPr>
          <a:xfrm>
            <a:off x="8534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1"/>
          <a:stretch/>
        </p:blipFill>
        <p:spPr>
          <a:xfrm>
            <a:off x="8763120" y="6553080"/>
            <a:ext cx="3045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2"/>
    <p:sldLayoutId id="2147483650" r:id="rId43"/>
    <p:sldLayoutId id="2147483651" r:id="rId44"/>
    <p:sldLayoutId id="2147483652" r:id="rId45"/>
    <p:sldLayoutId id="2147483653" r:id="rId46"/>
    <p:sldLayoutId id="2147483654" r:id="rId47"/>
    <p:sldLayoutId id="2147483655" r:id="rId48"/>
    <p:sldLayoutId id="2147483656" r:id="rId49"/>
    <p:sldLayoutId id="2147483657" r:id="rId50"/>
    <p:sldLayoutId id="2147483658" r:id="rId51"/>
    <p:sldLayoutId id="2147483659" r:id="rId52"/>
    <p:sldLayoutId id="2147483660" r:id="rId5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CDB9-409B-4F4E-9621-C35921671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NCAA Tickets"/>
          <p:cNvPicPr/>
          <p:nvPr/>
        </p:nvPicPr>
        <p:blipFill>
          <a:blip r:embed="rId2"/>
          <a:stretch/>
        </p:blipFill>
        <p:spPr>
          <a:xfrm>
            <a:off x="2590920" y="246240"/>
            <a:ext cx="3504960" cy="188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335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2590920"/>
            <a:ext cx="670572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rystal Ball to Your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alyzing the NCAA Basketball Tourna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4859280"/>
            <a:ext cx="200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que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ward Carlst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an Giuli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a K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na Pa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828800"/>
            <a:ext cx="876312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del was structured as follows for each reg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3440" y="2057400"/>
            <a:ext cx="875196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3886200"/>
            <a:ext cx="876312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828800"/>
            <a:ext cx="876312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xamples of Final Four match-up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2960" y="3987720"/>
            <a:ext cx="6421680" cy="1497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0" y="2262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ulation showing Duke w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189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ulation with Duke not even close to winn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68280" y="2006640"/>
            <a:ext cx="642636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by Reg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3870360" cy="246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870360" cy="2463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082520" y="4038480"/>
            <a:ext cx="3870360" cy="246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68720" y="4038480"/>
            <a:ext cx="3870360" cy="2463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ion of winner by seed for each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1800360"/>
            <a:ext cx="5705640" cy="4524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ng to our simulation of the 2005 tournament, there was a 57% chance that a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ed would wi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fortunately for Monique, Duke was only predicted to win 13% of th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fortunately for Professor Juran, UCLA was never predicted to win in 5,000 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85760" y="2249640"/>
            <a:ext cx="7524720" cy="41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hanc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into account other statistics, such a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 records of c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ning percentage against other high-ranked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vs. Top 10 or Top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: use Professor Juran’s NCAA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can be adapted to simulate other situation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office pools (World Cup, Fantasy Football / Baseb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ide variety of gambling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results to Las Vegas o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Juran’s Spring NCAA Poo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105520"/>
            <a:ext cx="708660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st year, I used my Crystal Ball model to enter pools at both NYU and Columbia. I came in about 15th at NYU and 1st at Columbia, illustrating the relative level of skill in those two fine institu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-David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484720" cy="313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86200" y="4079880"/>
            <a:ext cx="1066680" cy="10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Definition &amp;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&amp;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a is in her first year on the job, and she is trying to make a good impression.   The office pool is getting circulated, and it is her turn to fill it out next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that “March Madness” refers to sample sales, she has NO clue about college basketba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’s staring out the window wondering what to do nex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64 college teams are seeded (1-16) and split into 4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ach region,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ed plays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ions continue within each region until Final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Bracket -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7760" y="1206360"/>
            <a:ext cx="7772400" cy="534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28800" y="2616120"/>
            <a:ext cx="77796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eet Sixt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7360" y="2666880"/>
            <a:ext cx="77796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ite Ei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3809880"/>
            <a:ext cx="77796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 Fo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9880" y="2819520"/>
            <a:ext cx="1526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14240" y="201924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76360" y="22860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3368520"/>
            <a:ext cx="115884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mpion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7960" y="3200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 &amp; Assum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a complete tournament given calculated probabilities for match-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years is a relevant proxy for historical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s within each region assumed to have the same probabilities of winning for various match-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 of 5,000 is a good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2005 tournament &amp; ratings as basis for testing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ed probabilities to various seed pairings based on 10 years of historical data and Sagarin rat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 performance by seed pairings calculated for last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garin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O Chess: Based on wins &amp; lo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or: Pure points / Score mar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que’s estimate of Duke’s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ical results based on pairing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19240" cy="487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960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abilities for various match-ups for each reg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3360" y="1943280"/>
            <a:ext cx="8582040" cy="286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21:07:43Z</dcterms:created>
  <dc:creator>Monique Blanco</dc:creator>
  <dc:description/>
  <dc:language>en-US</dc:language>
  <cp:lastModifiedBy>Monique Blanco</cp:lastModifiedBy>
  <dcterms:modified xsi:type="dcterms:W3CDTF">2005-12-12T13:36:32Z</dcterms:modified>
  <cp:revision>103</cp:revision>
  <dc:subject/>
  <dc:title>Slide 1</dc:title>
</cp:coreProperties>
</file>