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39D8-7A6E-419F-9D26-05A302F87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52280" y="3818160"/>
            <a:ext cx="8686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5968-CF3A-482B-8A0E-EEE2C403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52280" y="381816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03680" y="381816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7807-A0AE-4440-A995-4C97F944A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089520" y="129492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6400" y="129492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52280" y="381816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089520" y="381816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6400" y="381816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7C71-493D-4591-85AE-8F578B144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52280" y="129492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E18C-C050-414A-8B03-4DD146D6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B809-A756-4D94-B490-36C67E1C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4239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4239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6D43-45BF-45E4-B50A-C39DED95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0341-F5CB-4C76-9744-2A1BCADF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686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012F-3416-4C5B-A967-C49D5CFB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4239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1816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46F2-1407-4707-931B-F641F423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4239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03680" y="381816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EA1D-D3CB-445D-9994-9A6EB0D0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2280" y="3818160"/>
            <a:ext cx="8686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4568-CB84-4D22-B880-D366BD4C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716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3812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67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CCFE-C0DD-4E2B-BE90-5A80F578D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4400" y="6084720"/>
            <a:ext cx="1143000" cy="7369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2300400" y="609588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3443400" y="609588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157400" y="609588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6"/>
          <a:stretch/>
        </p:blipFill>
        <p:spPr>
          <a:xfrm>
            <a:off x="4586400" y="609588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7"/>
          <a:stretch/>
        </p:blipFill>
        <p:spPr>
          <a:xfrm>
            <a:off x="5729400" y="609588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8"/>
          <a:stretch/>
        </p:blipFill>
        <p:spPr>
          <a:xfrm>
            <a:off x="6872400" y="608976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9"/>
          <a:stretch/>
        </p:blipFill>
        <p:spPr>
          <a:xfrm>
            <a:off x="8029440" y="6089760"/>
            <a:ext cx="1143000" cy="739800"/>
          </a:xfrm>
          <a:prstGeom prst="rect">
            <a:avLst/>
          </a:prstGeom>
          <a:ln w="0">
            <a:noFill/>
          </a:ln>
        </p:spPr>
      </p:pic>
      <p:grpSp>
        <p:nvGrpSpPr>
          <p:cNvPr id="12" name=""/>
          <p:cNvGrpSpPr/>
          <p:nvPr/>
        </p:nvGrpSpPr>
        <p:grpSpPr>
          <a:xfrm>
            <a:off x="6095880" y="3108240"/>
            <a:ext cx="2971800" cy="2606400"/>
            <a:chOff x="6095880" y="3108240"/>
            <a:chExt cx="2971800" cy="2606400"/>
          </a:xfrm>
        </p:grpSpPr>
        <p:pic>
          <p:nvPicPr>
            <p:cNvPr id="13" name="" descr=""/>
            <p:cNvPicPr/>
            <p:nvPr/>
          </p:nvPicPr>
          <p:blipFill>
            <a:blip r:embed="rId10">
              <a:lum bright="70000" contrast="-70000"/>
            </a:blip>
            <a:stretch/>
          </p:blipFill>
          <p:spPr>
            <a:xfrm>
              <a:off x="6324480" y="3260520"/>
              <a:ext cx="2743200" cy="24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6095880" y="3108240"/>
              <a:ext cx="1218960" cy="45720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PlaceHolder 5"/>
          <p:cNvSpPr>
            <a:spLocks noGrp="1"/>
          </p:cNvSpPr>
          <p:nvPr>
            <p:ph type="body"/>
          </p:nvPr>
        </p:nvSpPr>
        <p:spPr>
          <a:xfrm>
            <a:off x="152280" y="129492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"/>
          <p:cNvSpPr/>
          <p:nvPr/>
        </p:nvSpPr>
        <p:spPr>
          <a:xfrm>
            <a:off x="152280" y="1168560"/>
            <a:ext cx="8686800" cy="0"/>
          </a:xfrm>
          <a:prstGeom prst="line">
            <a:avLst/>
          </a:prstGeom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WOMEN’s GOLFWEAR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Group 8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Kathy Cheng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Gregory Day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Matchayanee Dejkraisak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Erika Maxin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Leela Rao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" name=""/>
          <p:cNvSpPr/>
          <p:nvPr/>
        </p:nvSpPr>
        <p:spPr>
          <a:xfrm>
            <a:off x="4716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3848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674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5D5B-FF0F-48A4-9949-395488F83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400" y="6084720"/>
            <a:ext cx="1143000" cy="736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00400" y="609588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443400" y="609588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1157400" y="609588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4586400" y="609588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5729400" y="609588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6872400" y="608976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8029440" y="6089760"/>
            <a:ext cx="1143000" cy="73980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5791320" y="2590920"/>
            <a:ext cx="2971800" cy="2606400"/>
            <a:chOff x="5791320" y="2590920"/>
            <a:chExt cx="2971800" cy="2606400"/>
          </a:xfrm>
        </p:grpSpPr>
        <p:pic>
          <p:nvPicPr>
            <p:cNvPr id="67" name="" descr=""/>
            <p:cNvPicPr/>
            <p:nvPr/>
          </p:nvPicPr>
          <p:blipFill>
            <a:blip r:embed="rId9">
              <a:lum bright="70000" contrast="-70000"/>
            </a:blip>
            <a:stretch/>
          </p:blipFill>
          <p:spPr>
            <a:xfrm>
              <a:off x="6019920" y="2743200"/>
              <a:ext cx="2743200" cy="24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5791320" y="2590920"/>
              <a:ext cx="1218960" cy="45720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Other consideration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oo many SKUs to manag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lver has lots of limitati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2 Simulated Scenario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volutionary Solver - to deal wi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ptimization proble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rystal Ball: To account for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ariation in demand on profits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iven the solution from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evolutionary solv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The Model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1828800"/>
            <a:ext cx="1295640" cy="762120"/>
          </a:xfrm>
          <a:prstGeom prst="rect">
            <a:avLst/>
          </a:prstGeom>
          <a:solidFill>
            <a:srgbClr val="c0c0c0"/>
          </a:solidFill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and f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K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362320"/>
            <a:ext cx="1600200" cy="228600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bj Function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fit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ross profit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olding Cost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livery C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2514600"/>
            <a:ext cx="1295280" cy="762120"/>
          </a:xfrm>
          <a:prstGeom prst="rect">
            <a:avLst/>
          </a:prstGeom>
          <a:solidFill>
            <a:srgbClr val="c0c0c0"/>
          </a:solidFill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lding C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3276720"/>
            <a:ext cx="1295280" cy="761760"/>
          </a:xfrm>
          <a:prstGeom prst="rect">
            <a:avLst/>
          </a:prstGeom>
          <a:solidFill>
            <a:srgbClr val="c0c0c0"/>
          </a:solidFill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2971800"/>
            <a:ext cx="1600200" cy="7621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ecision V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rdering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Quant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102" idx="3"/>
            <a:endCxn id="106" idx="1"/>
          </p:cNvCxnSpPr>
          <p:nvPr/>
        </p:nvCxnSpPr>
        <p:spPr>
          <a:xfrm>
            <a:off x="1690560" y="2209320"/>
            <a:ext cx="58140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3"/>
            <a:endCxn id="106" idx="1"/>
          </p:cNvCxnSpPr>
          <p:nvPr/>
        </p:nvCxnSpPr>
        <p:spPr>
          <a:xfrm flipV="1">
            <a:off x="1614240" y="3351960"/>
            <a:ext cx="6577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4572000" y="3505320"/>
            <a:ext cx="1295280" cy="761760"/>
          </a:xfrm>
          <a:prstGeom prst="rect">
            <a:avLst/>
          </a:prstGeom>
          <a:solidFill>
            <a:srgbClr val="c0c0c0"/>
          </a:solidFill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y C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106" idx="3"/>
            <a:endCxn id="104" idx="1"/>
          </p:cNvCxnSpPr>
          <p:nvPr/>
        </p:nvCxnSpPr>
        <p:spPr>
          <a:xfrm flipV="1">
            <a:off x="3900240" y="2895120"/>
            <a:ext cx="6577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6" idx="3"/>
            <a:endCxn id="109" idx="1"/>
          </p:cNvCxnSpPr>
          <p:nvPr/>
        </p:nvCxnSpPr>
        <p:spPr>
          <a:xfrm>
            <a:off x="3900240" y="3352680"/>
            <a:ext cx="6577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304920" y="4572000"/>
            <a:ext cx="1295280" cy="762120"/>
          </a:xfrm>
          <a:prstGeom prst="rect">
            <a:avLst/>
          </a:prstGeom>
          <a:solidFill>
            <a:srgbClr val="c0c0c0"/>
          </a:solidFill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112" idx="3"/>
            <a:endCxn id="106" idx="1"/>
          </p:cNvCxnSpPr>
          <p:nvPr/>
        </p:nvCxnSpPr>
        <p:spPr>
          <a:xfrm flipV="1">
            <a:off x="1614240" y="3351960"/>
            <a:ext cx="657720" cy="16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6095880" y="3124080"/>
            <a:ext cx="914400" cy="6858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16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3848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674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ED4D-C48C-4458-AA02-A7046541E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4400" y="6084720"/>
            <a:ext cx="1143000" cy="736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300400" y="609588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443400" y="609588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157400" y="609588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4586400" y="609588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5729400" y="609588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6872400" y="608976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>
            <a:off x="8029440" y="6089760"/>
            <a:ext cx="1143000" cy="739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52280" y="1168560"/>
            <a:ext cx="8686800" cy="0"/>
          </a:xfrm>
          <a:prstGeom prst="line">
            <a:avLst/>
          </a:prstGeom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Evolutionary Solver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8600" y="3276720"/>
            <a:ext cx="8686800" cy="23810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438280" y="1447920"/>
            <a:ext cx="3657600" cy="1066680"/>
          </a:xfrm>
          <a:prstGeom prst="wedgeRoundRectCallout">
            <a:avLst>
              <a:gd name="adj1" fmla="val 60199"/>
              <a:gd name="adj2" fmla="val 183930"/>
              <a:gd name="adj3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order quantity per week based on the average dem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Solution Methodology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1676520"/>
            <a:ext cx="1600200" cy="533160"/>
          </a:xfrm>
          <a:prstGeom prst="wedgeRoundRectCallout">
            <a:avLst>
              <a:gd name="adj1" fmla="val 17657"/>
              <a:gd name="adj2" fmla="val 229763"/>
              <a:gd name="adj3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1676520"/>
            <a:ext cx="1828800" cy="533160"/>
          </a:xfrm>
          <a:prstGeom prst="wedgeRoundRectCallout">
            <a:avLst>
              <a:gd name="adj1" fmla="val -38365"/>
              <a:gd name="adj2" fmla="val 208037"/>
              <a:gd name="adj3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n De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15000" y="1752480"/>
            <a:ext cx="1600200" cy="533520"/>
          </a:xfrm>
          <a:prstGeom prst="wedgeRoundRectCallout">
            <a:avLst>
              <a:gd name="adj1" fmla="val -155953"/>
              <a:gd name="adj2" fmla="val 205060"/>
              <a:gd name="adj3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d D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16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3848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674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0664-2AC5-4727-8F94-EB88D2678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4400" y="6084720"/>
            <a:ext cx="1143000" cy="736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300400" y="609588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443400" y="609588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157400" y="609588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4586400" y="609588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5729400" y="609588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6872400" y="608976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8029440" y="6089760"/>
            <a:ext cx="1143000" cy="7398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52280" y="1168560"/>
            <a:ext cx="8686800" cy="0"/>
          </a:xfrm>
          <a:prstGeom prst="line">
            <a:avLst/>
          </a:prstGeom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9"/>
          <a:stretch/>
        </p:blipFill>
        <p:spPr>
          <a:xfrm>
            <a:off x="152280" y="3054240"/>
            <a:ext cx="8686800" cy="1312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867280" y="5029200"/>
            <a:ext cx="2133720" cy="533520"/>
          </a:xfrm>
          <a:prstGeom prst="wedgeRoundRectCallout">
            <a:avLst>
              <a:gd name="adj1" fmla="val 20685"/>
              <a:gd name="adj2" fmla="val -292560"/>
              <a:gd name="adj3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d De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Result – Crystal Ball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80880" y="2362320"/>
          <a:ext cx="4267440" cy="26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4267440" cy="26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4716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3848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5674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3853-844B-4854-B135-B2CE1E572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14400" y="6084720"/>
            <a:ext cx="1143000" cy="736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2300400" y="609588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3443400" y="609588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1157400" y="609588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>
            <a:off x="4586400" y="609588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8"/>
          <a:stretch/>
        </p:blipFill>
        <p:spPr>
          <a:xfrm>
            <a:off x="5729400" y="609588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9"/>
          <a:stretch/>
        </p:blipFill>
        <p:spPr>
          <a:xfrm>
            <a:off x="6872400" y="608976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0"/>
          <a:stretch/>
        </p:blipFill>
        <p:spPr>
          <a:xfrm>
            <a:off x="8029440" y="6089760"/>
            <a:ext cx="1143000" cy="7398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52280" y="1168560"/>
            <a:ext cx="8686800" cy="0"/>
          </a:xfrm>
          <a:prstGeom prst="line">
            <a:avLst/>
          </a:prstGeom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1"/>
          <a:stretch/>
        </p:blipFill>
        <p:spPr>
          <a:xfrm>
            <a:off x="5334120" y="2362320"/>
            <a:ext cx="306216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Recommendation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commendation on Busines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emand can not always be met given profit maximization objectiv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imited store capacity implies that company should concentrate on high margin produc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commendation on Model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xpand model to cover the entire produc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(360 items) with a longer perio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corporate minimum service level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corporate yearly and weekl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asonality of the Mod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280" y="22096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Questions &amp; Answer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Agenda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Women’s Golfwea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usiness Objectiv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anagerial Problem Defini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rmul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lution Methodolog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Mod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sul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nclusion and Recommend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Q &amp; 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The Women’s Golfwear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usiness Overview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art-up compan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mplete line of women’s golfwear with 15 produc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mall retail store with limited storag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pac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rder products from wholesale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Business Objective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aximize profits b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inimize the delivery cos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inimize the holding cost of invento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inimize the inventory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Managerial Problem Definition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etermine the optimal order quantity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Formulation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bjectiv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aximize profi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rder quant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onstraint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orage capac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rder capac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Formulation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ach product has a demand pattern (mean &amp; SD) based on the forecas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emand of Product i = Normal Distribution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"/>
          <p:cNvSpPr/>
          <p:nvPr/>
        </p:nvSpPr>
        <p:spPr>
          <a:xfrm>
            <a:off x="2940120" y="3138480"/>
            <a:ext cx="1981080" cy="762120"/>
          </a:xfrm>
          <a:custGeom>
            <a:avLst/>
            <a:gdLst/>
            <a:ahLst/>
            <a:rect l="l" t="t" r="r" b="b"/>
            <a:pathLst>
              <a:path w="1248" h="816">
                <a:moveTo>
                  <a:pt x="0" y="816"/>
                </a:moveTo>
                <a:cubicBezTo>
                  <a:pt x="556" y="810"/>
                  <a:pt x="368" y="0"/>
                  <a:pt x="576" y="0"/>
                </a:cubicBezTo>
                <a:cubicBezTo>
                  <a:pt x="784" y="0"/>
                  <a:pt x="556" y="801"/>
                  <a:pt x="1248" y="816"/>
                </a:cubicBezTo>
                <a:cubicBezTo>
                  <a:pt x="1248" y="816"/>
                  <a:pt x="0" y="816"/>
                  <a:pt x="0" y="816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854520" y="30621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06560" y="2909880"/>
            <a:ext cx="22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ecast Mean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mand of Produc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4662360"/>
            <a:ext cx="25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irt , Skirt , Short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25920" y="4052880"/>
            <a:ext cx="533160" cy="533520"/>
          </a:xfrm>
          <a:prstGeom prst="downArrow">
            <a:avLst>
              <a:gd name="adj1" fmla="val 50000"/>
              <a:gd name="adj2" fmla="val 25017"/>
            </a:avLst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Formulation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rofit = Gross Profit – Ordering cost –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olding Cos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Gross Profi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新細明體"/>
              </a:rPr>
              <a:t> Gross margi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x Unit sol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i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Order Cos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新細明體"/>
              </a:rPr>
              <a:t>Fixed Cost / Ord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Holding Cos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Average inventory x COG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x Opportunity Cost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Working Capita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Solution Methodology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9" name=""/>
          <p:cNvSpPr/>
          <p:nvPr/>
        </p:nvSpPr>
        <p:spPr>
          <a:xfrm>
            <a:off x="4348080" y="2627280"/>
            <a:ext cx="2036880" cy="1444680"/>
          </a:xfrm>
          <a:custGeom>
            <a:avLst/>
            <a:gdLst/>
            <a:ahLst/>
            <a:rect l="l" t="t" r="r" b="b"/>
            <a:pathLst>
              <a:path w="1283" h="910">
                <a:moveTo>
                  <a:pt x="23" y="0"/>
                </a:moveTo>
                <a:cubicBezTo>
                  <a:pt x="54" y="115"/>
                  <a:pt x="0" y="551"/>
                  <a:pt x="210" y="693"/>
                </a:cubicBezTo>
                <a:cubicBezTo>
                  <a:pt x="455" y="910"/>
                  <a:pt x="1060" y="817"/>
                  <a:pt x="1283" y="85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3124080"/>
            <a:ext cx="2666880" cy="1600200"/>
          </a:xfrm>
          <a:prstGeom prst="rect">
            <a:avLst/>
          </a:prstGeom>
          <a:solidFill>
            <a:srgbClr val="c0c0c0">
              <a:alpha val="62000"/>
            </a:srgbClr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ekly Ru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 for each Sk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9560" y="350532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35053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ems s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2760" y="2133720"/>
            <a:ext cx="42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ekly Demand (Mean &amp; S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33680" y="52578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lding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57400" y="3886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19720" y="4724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7000" y="1371600"/>
            <a:ext cx="51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the running Inventory work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29400" y="2209680"/>
            <a:ext cx="1981080" cy="1067040"/>
          </a:xfrm>
          <a:prstGeom prst="wedgeRoundRectCallout">
            <a:avLst>
              <a:gd name="adj1" fmla="val -125162"/>
              <a:gd name="adj2" fmla="val 77231"/>
              <a:gd name="adj3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ough inventory to meet dema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3T16:23:57Z</dcterms:created>
  <dc:creator>Matchayanee Dejkraisak</dc:creator>
  <dc:description/>
  <dc:language>en-US</dc:language>
  <cp:lastModifiedBy>Kathy Cheng</cp:lastModifiedBy>
  <dcterms:modified xsi:type="dcterms:W3CDTF">2005-12-05T14:05:39Z</dcterms:modified>
  <cp:revision>73</cp:revision>
  <dc:subject/>
  <dc:title>Slide 1</dc:title>
</cp:coreProperties>
</file>