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gif" ContentType="image/gif"/>
  <Override PartName="/ppt/media/image8.gif" ContentType="image/gif"/>
  <Override PartName="/ppt/media/image7.gif" ContentType="image/gif"/>
  <Override PartName="/ppt/media/image6.gif" ContentType="image/gif"/>
  <Override PartName="/ppt/media/image10.gif" ContentType="image/gif"/>
  <Override PartName="/ppt/media/image12.jpeg" ContentType="image/jpeg"/>
  <Override PartName="/ppt/media/image5.gif" ContentType="image/gif"/>
  <Override PartName="/ppt/media/image14.jpeg" ContentType="image/jpeg"/>
  <Override PartName="/ppt/media/image22.gif" ContentType="image/gif"/>
  <Override PartName="/ppt/media/image20.jpeg" ContentType="image/jpeg"/>
  <Override PartName="/ppt/media/image18.png" ContentType="image/png"/>
  <Override PartName="/ppt/media/image15.jpeg" ContentType="image/jpeg"/>
  <Override PartName="/ppt/media/image19.jpeg" ContentType="image/jpeg"/>
  <Override PartName="/ppt/media/image16.jpeg" ContentType="image/jpeg"/>
  <Override PartName="/ppt/media/image21.jpeg" ContentType="image/jpeg"/>
  <Override PartName="/ppt/media/image17.gif" ContentType="image/gif"/>
  <Override PartName="/ppt/media/image2.gif" ContentType="image/gif"/>
  <Override PartName="/ppt/media/image3.gif" ContentType="image/gif"/>
  <Override PartName="/ppt/media/image1.jpeg" ContentType="image/jpeg"/>
  <Override PartName="/ppt/media/image4.gif" ContentType="image/gif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9DA0-B494-49A6-BE75-C61AB68AA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EB64-6BBE-47D7-A25B-3714EB94C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91EB-CCC1-47FB-B389-79AAAD331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E906-DF2B-4E6A-A108-792C1A53C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A7894-14B3-48C1-AB51-7994E25BE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5D86E-A3C3-49FE-AC75-CDED3022E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77CEE-483F-41D5-B12F-943BDEB3A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97501-2E62-41E8-BC0F-64C963F51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754B9-0443-41C3-BA7B-5641FD8F1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891B8-BC2C-4D3E-8AE4-0578E4B78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15309-26FA-4344-8AEA-AB4FDBE62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C56E-A337-485D-8651-8255B51BE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F206F-CC54-4B29-B8F4-BFC5F6692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DA8DB-5DA7-43A1-AB06-A5B95AEC3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889AC-3C16-4A68-97CF-E6FF08281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6DD68-3734-440A-9159-12B8586A5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03755-190A-49EE-8DD8-CBE9CA620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1729-2D90-4D1B-83A3-1FCAA3E4B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C49D-E512-4ABB-B9B8-7507346A8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B3A7-0637-4438-9C7F-71BFD3670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92CA-9E34-4835-925F-2022BA001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B7E1-06F6-4D87-8DC6-17EB89DA6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27B5-B520-42AD-9BB9-EA3C7339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9C88-3B75-4F2B-A32D-D2B1E9BBD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3C15C-150E-489B-9BE3-D2FC68C475C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858000" y="228600"/>
            <a:ext cx="2066760" cy="80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80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4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9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A5CFC-6FAC-4C53-9609-EABE1EE9B7B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image" Target="../media/image9.gif"/><Relationship Id="rId9" Type="http://schemas.openxmlformats.org/officeDocument/2006/relationships/image" Target="../media/image10.gif"/><Relationship Id="rId10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images.google.com/imgres?imgurl=http://www.sensaciondeportiva.com/fotos/fifa_logo.jpg&amp;imgrefurl=http://www.sensaciondeportiva.com/notasdetalle.php%3Fid%3D237&amp;h=200&amp;w=200&amp;sz=7&amp;tbnid=DeDGpv_PCKkJ:&amp;tbnh=99&amp;tbnw=99&amp;hl=en&amp;start=8&amp;prev=/images%3Fq%3Dfifa%2Blogo%26svnum%3D10%26hl%3Den%26lr%3D%26safe%3Doff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image" Target="../media/image14.jpe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25520"/>
            <a:ext cx="777240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FIFA World Cup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218960" y="3733920"/>
            <a:ext cx="327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ecision Model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60.2350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ofessor Jura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ecember 12</a:t>
            </a:r>
            <a:r>
              <a:rPr b="0" lang="en-US" sz="2000" spc="-1" strike="noStrike" baseline="30000">
                <a:solidFill>
                  <a:srgbClr val="ffffff"/>
                </a:solidFill>
                <a:latin typeface="Verdana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, 2005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32767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Julio Burciag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ndres Cope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auricio Garz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ssidor Ili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hao Mu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114800" y="380880"/>
            <a:ext cx="800280" cy="5428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1447920" y="1295280"/>
            <a:ext cx="799920" cy="5428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2590920" y="1295280"/>
            <a:ext cx="799920" cy="5428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3657600" y="1295280"/>
            <a:ext cx="800280" cy="5428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4724280" y="1295280"/>
            <a:ext cx="800280" cy="5428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6"/>
          <a:stretch/>
        </p:blipFill>
        <p:spPr>
          <a:xfrm>
            <a:off x="5791320" y="1295280"/>
            <a:ext cx="799920" cy="5428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7"/>
          <a:stretch/>
        </p:blipFill>
        <p:spPr>
          <a:xfrm>
            <a:off x="7010280" y="1295280"/>
            <a:ext cx="800280" cy="5428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8"/>
          <a:stretch/>
        </p:blipFill>
        <p:spPr>
          <a:xfrm>
            <a:off x="8153280" y="1295280"/>
            <a:ext cx="800280" cy="5428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9"/>
          <a:stretch/>
        </p:blipFill>
        <p:spPr>
          <a:xfrm>
            <a:off x="380880" y="1295280"/>
            <a:ext cx="80028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ode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"/>
          <p:cNvSpPr/>
          <p:nvPr/>
        </p:nvSpPr>
        <p:spPr>
          <a:xfrm>
            <a:off x="533520" y="1066680"/>
            <a:ext cx="822960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39760" y="2057400"/>
            <a:ext cx="1256760" cy="11912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ier 1 P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ier 2 P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ier 3 P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ier 4 P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04920" y="13716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Inpu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" y="3429000"/>
            <a:ext cx="1828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 set of pots is defined by using a certain criteria (i.e. FIFA Rank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676520" y="2743200"/>
            <a:ext cx="99036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66880" y="2133720"/>
            <a:ext cx="1600200" cy="6426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8 groups, 4 teams ea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2590920"/>
            <a:ext cx="76212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105520" y="1447920"/>
            <a:ext cx="1600200" cy="9169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64 Games are simulate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00200" y="23623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and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105520" y="2895480"/>
            <a:ext cx="1600200" cy="17398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odel calculates revenue associated to each g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629400" y="2590920"/>
            <a:ext cx="76212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467480" y="2133720"/>
            <a:ext cx="1447920" cy="642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cc"/>
                </a:solidFill>
                <a:latin typeface="Verdana"/>
              </a:rPr>
              <a:t>World Cup Revenu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8077320" y="3276720"/>
            <a:ext cx="0" cy="167616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2209320" y="4952880"/>
            <a:ext cx="586764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2209680" y="2971440"/>
            <a:ext cx="0" cy="198108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362320" y="5181480"/>
            <a:ext cx="601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he model runs 10,000 world cups for each set of po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4479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Outpu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791320" y="2362320"/>
            <a:ext cx="0" cy="533160"/>
          </a:xfrm>
          <a:prstGeom prst="line">
            <a:avLst/>
          </a:prstGeom>
          <a:ln w="507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28600" y="551484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del tests one set of pots at a 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5942160"/>
            <a:ext cx="4114800" cy="642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cc"/>
                </a:solidFill>
                <a:latin typeface="Verdana"/>
              </a:rPr>
              <a:t>Distribution of World Cup Revenues for a set of po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odel Assump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"/>
          <p:cNvSpPr/>
          <p:nvPr/>
        </p:nvSpPr>
        <p:spPr>
          <a:xfrm>
            <a:off x="609480" y="13716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a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reate a probability table to simulate individual gam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robabilities are based on data from Sports betting hou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ven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an Index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opulation, number of stadiu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urchasing Po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D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atch relev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igher weight on advanced roun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ased on previous World C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eneral soccer fan spillover eff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7684920" y="3962520"/>
            <a:ext cx="14590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venue Calcul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"/>
          <p:cNvSpPr/>
          <p:nvPr/>
        </p:nvSpPr>
        <p:spPr>
          <a:xfrm>
            <a:off x="228600" y="1752480"/>
            <a:ext cx="891540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ctual Formu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DP x Fan Index x % soccer spending x Round Weig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he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DP=Gross Domestic Product of participating n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an Index = # soccer stadiums over 30k spectators per 100,000 people; normalized to host count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occer spending=average spending of available income in world cup related i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ound weight=weight assigned to relevance of mat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cenari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e tested 7 different Pot combinations, grouping the teams based on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untry’s GDP (largest in tier 1 Pot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A Ranking (top ranked in tier 1 Pot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orld Cup Seeding (top ranked in tier 1 Pot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etting odds (best odds in tier 1 pot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eographic location (grouped by continents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lphabetically (descending order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opulation (larger countries in tier 1 Pot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228600" y="3505320"/>
            <a:ext cx="657360" cy="63792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943600" y="5943600"/>
            <a:ext cx="657360" cy="63828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7848720" y="2286000"/>
            <a:ext cx="657000" cy="6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25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commenda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62485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standard deviation of the average revenues is very small (~$16 million). FIFA seems to have a fool-proof cash cow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owever, the geographical criteria seems to produce the lowest revenue, while the World Cup ranking criteria the highes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actual criteria chosen by FIFA is a hybrid of these two.  Tier 1 Pot is for the highest ranked, and the other pots are arranged according to geography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6248520" y="1828800"/>
            <a:ext cx="2895480" cy="24526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781680" y="327672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commenda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aving the richest countries in Tier 1 pot, where they are less likely to eliminate each others before the final rounds, is not as efficient as having the best ranked teams in the tier 1 po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explanation for this is that despite being richer, certain countries (like the US) have a much smaller fan base.  Thus they will not generate as much revenues as less affluent countries with more fan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A could increase revenues generated in future World Cups by shifting to a pot structure based on FIFA country ranking alon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5638680" y="5316480"/>
            <a:ext cx="2133720" cy="15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3520" y="32004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6477120" y="2438280"/>
            <a:ext cx="65232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nagerial Proble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rmul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odel Overview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ot Scenario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commendatio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Q &amp; 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is World Cup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904760" y="1143000"/>
            <a:ext cx="7010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FIFA World Cup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s the most important competition in international footbal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most widely-viewed and followed sporting event in the world exceeding even the Olympic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eld every 4 year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97 national soccer teams play qualifying rounds over three years and only 32 qualify for the final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190512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it works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28600" y="3276720"/>
            <a:ext cx="5105520" cy="33876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392400" y="1295280"/>
            <a:ext cx="1256760" cy="11912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ier 1 P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ier 2 P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ier 3 P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ier 4 P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981080" y="1981080"/>
            <a:ext cx="12193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828800" y="144792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Draw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581280" y="1447920"/>
            <a:ext cx="1600200" cy="6426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8 groups, 4 teams ea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553080" y="4495680"/>
            <a:ext cx="2133720" cy="14655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inner and runner up of each group goes on to the next st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98108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467480" y="3429000"/>
            <a:ext cx="0" cy="10666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477120" y="1600200"/>
            <a:ext cx="2209680" cy="20142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ams within the groups play each other (round robin) to determine winner and runner 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333760" y="4876920"/>
            <a:ext cx="11430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143000" y="28954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irect Elimination St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629400" y="12193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roup St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5181480" y="3429000"/>
            <a:ext cx="2895840" cy="3124080"/>
          </a:xfrm>
          <a:prstGeom prst="rect">
            <a:avLst/>
          </a:prstGeom>
          <a:noFill/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rawing Procedur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33520" y="1295280"/>
            <a:ext cx="838080" cy="17528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523880" y="1295280"/>
            <a:ext cx="838440" cy="17528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1295280"/>
            <a:ext cx="838080" cy="17528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581280" y="1295280"/>
            <a:ext cx="838440" cy="17528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57200" y="9144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o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447920" y="9144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o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38280" y="9144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ot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9144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ot 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358128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GROUP 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943600" y="41911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TEAM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43600" y="57913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TEAM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43600" y="47242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TEAM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943600" y="52578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TEAM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2" name=""/>
          <p:cNvCxnSpPr>
            <a:stCxn id="189" idx="2"/>
            <a:endCxn id="198" idx="1"/>
          </p:cNvCxnSpPr>
          <p:nvPr/>
        </p:nvCxnSpPr>
        <p:spPr>
          <a:xfrm flipH="1" rot="16200000">
            <a:off x="2762280" y="1238040"/>
            <a:ext cx="1372320" cy="499176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03" name=""/>
          <p:cNvCxnSpPr>
            <a:stCxn id="190" idx="2"/>
          </p:cNvCxnSpPr>
          <p:nvPr/>
        </p:nvCxnSpPr>
        <p:spPr>
          <a:xfrm flipH="1" rot="16200000">
            <a:off x="2952720" y="2037960"/>
            <a:ext cx="1905480" cy="392472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04" name=""/>
          <p:cNvCxnSpPr>
            <a:stCxn id="191" idx="2"/>
            <a:endCxn id="201" idx="1"/>
          </p:cNvCxnSpPr>
          <p:nvPr/>
        </p:nvCxnSpPr>
        <p:spPr>
          <a:xfrm flipH="1" rot="16200000">
            <a:off x="3218400" y="2761920"/>
            <a:ext cx="2439000" cy="301068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05" name=""/>
          <p:cNvCxnSpPr>
            <a:stCxn id="192" idx="2"/>
            <a:endCxn id="199" idx="1"/>
          </p:cNvCxnSpPr>
          <p:nvPr/>
        </p:nvCxnSpPr>
        <p:spPr>
          <a:xfrm flipH="1" rot="16200000">
            <a:off x="3485160" y="3562200"/>
            <a:ext cx="2972520" cy="194364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ots Exampl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676520" y="1336320"/>
            <a:ext cx="2133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Tier 2 Po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og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ra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ollan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ortug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han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olan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S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Kore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/>
          <p:nvPr/>
        </p:nvSpPr>
        <p:spPr>
          <a:xfrm>
            <a:off x="3733920" y="1143000"/>
            <a:ext cx="44193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Group 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Group 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Group 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Group 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172200" y="1143000"/>
            <a:ext cx="21337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Group 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Group 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Group 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Group 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1295280"/>
            <a:ext cx="213372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Tier 1 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erma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raz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ng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p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ex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r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rgenti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ta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1.11111E-006 L 0.67152 0.50278 E">
                                      <p:cBhvr>
                                        <p:cTn id="6" dur="2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0 L 0.68507 -0.10556 E">
                                      <p:cBhvr>
                                        <p:cTn id="10" dur="2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893 0.00833 L 0.41441 0.18611 E">
                                      <p:cBhvr>
                                        <p:cTn id="14" dur="20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45 0.02222 C 0.16406 -0.01019 0.34375 -0.04259 0.41319 -0.05463 C 0.48264 -0.06667 0.44184 -0.05857 0.40121 -0.05047 E">
                                      <p:cBhvr>
                                        <p:cTn id="18" dur="20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3889E-018 -2.22222E-006 C 0.17708 -0.1243 0.35417 -0.24838 0.425 -0.29791 E">
                                      <p:cBhvr>
                                        <p:cTn id="22" dur="20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25573 -0.01528 0.51146 -0.03033 0.57882 -0.00209 C 0.64619 0.02615 0.43455 0.14166 0.40469 0.16967 E">
                                      <p:cBhvr>
                                        <p:cTn id="26" dur="20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26059 0.00023 0.52118 0.00046 0.63489 -0.01227 C 0.74861 -0.025 0.71528 -0.05092 0.68194 -0.07685 E">
                                      <p:cBhvr>
                                        <p:cTn id="30" dur="2000" fill="hold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5851 -0.08472 0.71702 -0.16945 0.83334 -0.22014 C 0.94966 -0.27083 0.82396 -0.28796 0.69844 -0.30486 E">
                                      <p:cBhvr>
                                        <p:cTn id="34" dur="2000" fill="hold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15365 0.19653 0.30747 0.39329 0.34844 0.48287 C 0.38941 0.57222 0.31736 0.55486 0.24549 0.53727 E">
                                      <p:cBhvr>
                                        <p:cTn id="38" dur="2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16459 0.04514 0.32934 0.09028 0.41511 0.08496 C 0.50087 0.07963 0.50799 0.02361 0.51511 -0.03217 E">
                                      <p:cBhvr>
                                        <p:cTn id="42" dur="2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 0 0.11129 -0.04445 0.22274 -0.08889 E">
                                      <p:cBhvr>
                                        <p:cTn id="46" dur="2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 0 0.24306 0.1919 0.48628 0.3838 E">
                                      <p:cBhvr>
                                        <p:cTn id="50" dur="2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 0 0.25157 -0.01528 0.50313 -0.03032 E">
                                      <p:cBhvr>
                                        <p:cTn id="54" dur="20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 0 0.26198 0.03635 0.52413 0.07269 E">
                                      <p:cBhvr>
                                        <p:cTn id="58" dur="2000" fill="hold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 0 0.12274 0.01597 0.24548 0.03218 E">
                                      <p:cBhvr>
                                        <p:cTn id="62" dur="2000" fill="hold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1073 0.11203 0.21459 0.2243 0.25469 0.19004 C 0.2948 0.15578 0.26789 -0.02524 0.24098 -0.20602 E">
                                      <p:cBhvr>
                                        <p:cTn id="66" dur="2000" fill="hold"/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roups for Next WC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359000" y="1066680"/>
            <a:ext cx="6489720" cy="570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anagerial Proble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A generates TV licensing, merchandising, and ticket revenue from the World Cup ($3 Billion for last World Cup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Verdana"/>
              </a:rPr>
              <a:t>Question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o what extend can FIFA increase revenues from the World Cup by manipulating the Pots from which it draws the group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5362560"/>
            <a:ext cx="1504800" cy="14954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4267080" y="5362560"/>
            <a:ext cx="1505160" cy="14954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2819520" y="5362560"/>
            <a:ext cx="1504800" cy="14954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1447920" y="5362560"/>
            <a:ext cx="1504800" cy="149544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7639200" y="5362560"/>
            <a:ext cx="1504800" cy="1495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162920" y="5362560"/>
            <a:ext cx="1504800" cy="14954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5715000" y="5362560"/>
            <a:ext cx="150480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ormul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791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Modeling Technique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onte Carlo Simul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Decision Variabl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ots – used in drawing for group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Objectiv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crease expected revenues by testing different pots arrangemen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6248520" y="1981080"/>
            <a:ext cx="268920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21:08:26Z</dcterms:created>
  <dc:creator>Chao W. Mui</dc:creator>
  <dc:description/>
  <dc:language>en-US</dc:language>
  <cp:lastModifiedBy>Chao W. Mui</cp:lastModifiedBy>
  <dcterms:modified xsi:type="dcterms:W3CDTF">2005-12-12T01:58:30Z</dcterms:modified>
  <cp:revision>56</cp:revision>
  <dc:subject/>
  <dc:title>2006 World Cup Revenue Maximization</dc:title>
</cp:coreProperties>
</file>