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E4C-1845-4F11-9279-1F6FC3AD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130-F682-40E4-BAD0-50E6DBFC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CD4-300E-4ACE-9E47-AEE51295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3B0-8C7D-441B-A620-C35048D1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60B-C0BB-4FE6-8F70-199A6AE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FC8-8255-452E-A29D-5A09E30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EC4-692A-49C3-BA2B-40B2E560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B62-A156-4F00-A3F0-E0601A3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CE1-FB10-4EF4-AF6E-2843C9C1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154-65D8-44D3-B8D1-2B6FAEE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432-BD76-414F-80CA-9E199A8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01E-9E10-4CA4-9765-537AC09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06C-2685-4801-9823-15CA43D3C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hyperlink" Target="http://photos1.blogger.com/blogger/7715/1414/1600/JenniferAniston-GQ-1.jpg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1780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azine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 Base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n Isra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rea Ludw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chel Schlen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 Sie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itlin Wea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00" y="41911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7803" r="12637" b="24333"/>
          <a:stretch/>
        </p:blipFill>
        <p:spPr>
          <a:xfrm>
            <a:off x="609480" y="44956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7803" r="12637" b="24333"/>
          <a:stretch/>
        </p:blipFill>
        <p:spPr>
          <a:xfrm>
            <a:off x="7772400" y="426708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7803" r="12637" b="24333"/>
          <a:stretch/>
        </p:blipFill>
        <p:spPr>
          <a:xfrm>
            <a:off x="685800" y="38088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ver image - issue 14"/>
          <p:cNvPicPr/>
          <p:nvPr/>
        </p:nvPicPr>
        <p:blipFill>
          <a:blip r:embed="rId7"/>
          <a:stretch/>
        </p:blipFill>
        <p:spPr>
          <a:xfrm>
            <a:off x="3513240" y="0"/>
            <a:ext cx="2047680" cy="266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rcRect l="0" t="7803" r="12637" b="24333"/>
          <a:stretch/>
        </p:blipFill>
        <p:spPr>
          <a:xfrm>
            <a:off x="3809880" y="685800"/>
            <a:ext cx="569880" cy="59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22960" y="0"/>
            <a:ext cx="202104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7803" r="12637" b="24333"/>
          <a:stretch/>
        </p:blipFill>
        <p:spPr>
          <a:xfrm>
            <a:off x="7966080" y="284040"/>
            <a:ext cx="5698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cription expenses become incrementally more costly beyond the natural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61722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ted subscription expense line for each mag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429000" cy="2290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6440" y="609480"/>
            <a:ext cx="3427560" cy="2289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567320"/>
            <a:ext cx="3429000" cy="2290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743200" y="2590920"/>
            <a:ext cx="3427560" cy="229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34275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gazines can incur penalties for performance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to meet rate base in actu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on fees for rate base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69339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 ∑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agazine 1 – 5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∆ Ad Revenue + ∆ Subscription Expense – Penalties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∆ JMC 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0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 flipV="1">
            <a:off x="6400440" y="3429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7057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mizing the rate base yields savings for each magaz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80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0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 flipH="1" flipV="1">
            <a:off x="6400440" y="3429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057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 Ball Profit Forec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6360" cy="452304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835280"/>
            <a:ext cx="6705720" cy="342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5120" y="5638680"/>
            <a:ext cx="5943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 Ball Pen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2880" y="1757520"/>
            <a:ext cx="6710400" cy="3423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7360" y="5410080"/>
            <a:ext cx="5941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generates profit of $14.8MM (+18.2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 analysis generates profit at $17.0MM with penalties of $0.5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sales teams will need to start calling their clients to discuss implement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/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18040" y="1600200"/>
          <a:ext cx="397836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8040" y="1600200"/>
                    <a:ext cx="39783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0600" y="1611360"/>
          <a:ext cx="405756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00" y="1611360"/>
                    <a:ext cx="4057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rculation and ad pages are weak for the magazine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34440" y="1650960"/>
            <a:ext cx="125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 Ad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15160" y="1820880"/>
            <a:ext cx="1254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rowth in Ad Sales (CAGR 00-0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70120" y="1324080"/>
            <a:ext cx="4254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5760" y="6221880"/>
            <a:ext cx="798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Circulation numbers only include magazines reported in ABC audit reports; Ad sales only include magazines reported through PIB rate card report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cquisitions/divestitures are recorded with current owner. Only includes magazines in operation since 2000 without acquisition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Magazine Publishers of America: Circulation all ABC Magazines, Ad Pages 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30320" y="1650960"/>
            <a:ext cx="392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 Circulation – Top 10 Compan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08480" y="1819440"/>
            <a:ext cx="162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rowth in Circulation (CAGR 00-0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1800" y="2209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1800" y="26827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9120" y="31240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4.7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5812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5880" y="40384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0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38920" y="4495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1800" y="49687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1800" y="54100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9040" y="216540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0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9040" y="26668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3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82080" y="30481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82080" y="35053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9040" y="40384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5.9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9040" y="443556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2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82080" y="489276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6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82080" y="53341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715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62320" y="58514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57006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33840" y="58374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2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ted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tly, profitability has been declining recen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1415880"/>
            <a:ext cx="746748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rial Problem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solution that will improve operating profitability for J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optimal rate base for each magazine that considers the trade off between ad revenue and subscription acquisition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range of profit scenarios that will occur following any rate bas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Based on Data from 5 Magaz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an Magazine Company (JMC) owns 5 magazines competing in the relatively unknown readership category of decision model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Excel Your B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U Ju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n the World is President Me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ystal Bal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MC magazines have been facing circulation and profitability declines over the last few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 Base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ly commitment to advertisers for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consumers reached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criptions and newsstan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gazines are a dual revenue bus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1363680"/>
            <a:ext cx="76201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 revenue depends on the magazines rate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1:14Z</dcterms:created>
  <dc:creator>Matthew Siegel</dc:creator>
  <dc:description/>
  <dc:language>en-US</dc:language>
  <cp:lastModifiedBy>Stern Business School</cp:lastModifiedBy>
  <dcterms:modified xsi:type="dcterms:W3CDTF">2005-12-05T13:31:44Z</dcterms:modified>
  <cp:revision>33</cp:revision>
  <dc:subject/>
  <dc:title>Slide 1</dc:title>
</cp:coreProperties>
</file>