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43B3-FDA8-4F73-A4BF-CD0DA311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8600-10D0-4A3D-A9DB-65E9E57A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97CF-60DE-4114-8318-3806FC3D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0BEE-B444-4E20-8788-1CED892A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E3EA-4BF1-412C-9CF2-162C130B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CA9B-D9B4-4583-AA69-88AF906B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3D9E-84CD-45F4-9FDB-8FE71F1F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2CE4-99A1-4D5C-8C32-AC69336E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621B-0485-4E98-B105-260F3ACF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D9AC-8367-4FBB-8192-A0E9811F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85F0-A287-43AC-9C82-C7F9970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E8AA-2C36-41EA-AC80-54409331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290F-F27A-4BD2-93DC-DA9E9D8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8EE0-340D-4E9B-B8A7-DF970836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2D2-7C7A-4258-92A7-EABC7A1F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903F-73E9-4DBF-9DDE-58436CFD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1D80-EA07-4A15-9E15-8B006CA7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DCD6-7D23-4FD7-93FD-F4C73F58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176F-B4A9-488A-848B-56CBB78E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DD01-D065-4A84-BF3A-4AA65829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D98A-8921-4F84-8DF2-7CBFD8DB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20B0-6394-42FB-A862-6EB03330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9276-D036-4AA5-9ACB-FFEDCD64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83FF-07AF-4EFC-8456-BF92B81F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6372-AA0C-4B3A-BD62-476850458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16BA-FE74-4F5C-8701-75C7B1CA21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p73.pvamu.edu/bfactory-collaborators-map.gif&amp;imgrefurl=http://hp73.pvamu.edu/pvhep_babar.html&amp;h=906&amp;w=1703&amp;sz=186&amp;tbnid=WBHPwEvBnZ8J:&amp;tbnh=79&amp;tbnw=150&amp;hl=en&amp;start=75&amp;prev=/images%3Fq%3Dworld%2Bmap%26start%3D6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naging a Long-Distance Tea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mar Maldona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cision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ll 200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8098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del: Job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914400"/>
          <a:ext cx="830556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3055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del: Product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990720"/>
          <a:ext cx="8305920" cy="48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305920" cy="48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 Allocation - Init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990720"/>
          <a:ext cx="838188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8188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 Allocation -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838080"/>
          <a:ext cx="8458200" cy="45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458200" cy="45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7524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traveling long-distance from a team that you manage and need a method to keep track of available capacity to determine whether or not you can accept additional client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2767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800600"/>
            <a:ext cx="815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Variab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products you can assign to employees o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aximize product 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standardized yet slight differences per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duct has a QC Time factor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pe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Availability Schedule (toggle vacation / sick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: Efficiency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722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: Availability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1447920"/>
          <a:ext cx="7848720" cy="51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8487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del: Total Capacity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8600" y="1523880"/>
          <a:ext cx="86104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104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- Product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2286000"/>
          <a:ext cx="822960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82296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0 Variables in Model; Traditional Solver has a 200 variable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line systems has additional large-scale solvers that do not limit variables or constr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0" y="2514600"/>
          <a:ext cx="4191120" cy="32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14600"/>
                    <a:ext cx="419112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8:22:39Z</dcterms:created>
  <dc:creator>bm</dc:creator>
  <dc:description/>
  <dc:language>en-US</dc:language>
  <cp:lastModifiedBy>bm</cp:lastModifiedBy>
  <dcterms:modified xsi:type="dcterms:W3CDTF">2005-12-12T16:39:13Z</dcterms:modified>
  <cp:revision>6</cp:revision>
  <dc:subject/>
  <dc:title>Managing an Outsourced Team</dc:title>
</cp:coreProperties>
</file>