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28.jpeg" ContentType="image/jpeg"/>
  <Override PartName="/ppt/media/image21.png" ContentType="image/png"/>
  <Override PartName="/ppt/media/image18.jpeg" ContentType="image/jpeg"/>
  <Override PartName="/ppt/media/image15.png" ContentType="image/png"/>
  <Override PartName="/ppt/media/image16.jpeg" ContentType="image/jpeg"/>
  <Override PartName="/ppt/media/image35.wmf" ContentType="image/x-wmf"/>
  <Override PartName="/ppt/media/image24.jpeg" ContentType="image/jpeg"/>
  <Override PartName="/ppt/media/image1.png" ContentType="image/png"/>
  <Override PartName="/ppt/media/image23.jpeg" ContentType="image/jpeg"/>
  <Override PartName="/ppt/media/image12.png" ContentType="image/png"/>
  <Override PartName="/ppt/media/image2.jpeg" ContentType="image/jpeg"/>
  <Override PartName="/ppt/media/image10.png" ContentType="image/png"/>
  <Override PartName="/ppt/media/image27.jpeg" ContentType="image/jpeg"/>
  <Override PartName="/ppt/media/image13.wmf" ContentType="image/x-wmf"/>
  <Override PartName="/ppt/media/image30.jpeg" ContentType="image/jpeg"/>
  <Override PartName="/ppt/media/image37.wmf" ContentType="image/x-wmf"/>
  <Override PartName="/ppt/media/image31.wmf" ContentType="image/x-wmf"/>
  <Override PartName="/ppt/media/image11.png" ContentType="image/png"/>
  <Override PartName="/ppt/media/image19.jpeg" ContentType="image/jpeg"/>
  <Override PartName="/ppt/media/image32.wmf" ContentType="image/x-wmf"/>
  <Override PartName="/ppt/media/image20.jpeg" ContentType="image/jpeg"/>
  <Override PartName="/ppt/media/image34.wmf" ContentType="image/x-wmf"/>
  <Override PartName="/ppt/media/image36.wmf" ContentType="image/x-wmf"/>
  <Override PartName="/ppt/media/image29.jpeg" ContentType="image/jpeg"/>
  <Override PartName="/ppt/media/image33.wmf" ContentType="image/x-wmf"/>
  <Override PartName="/ppt/media/image40.jpeg" ContentType="image/jpeg"/>
  <Override PartName="/ppt/media/image39.jpeg" ContentType="image/jpeg"/>
  <Override PartName="/ppt/media/image38.png" ContentType="image/png"/>
  <Override PartName="/ppt/media/image8.png" ContentType="image/png"/>
  <Override PartName="/ppt/media/image7.png" ContentType="image/png"/>
  <Override PartName="/ppt/media/image9.png" ContentType="image/png"/>
  <Override PartName="/ppt/media/image22.jpeg" ContentType="image/jpeg"/>
  <Override PartName="/ppt/media/image6.png" ContentType="image/png"/>
  <Override PartName="/ppt/media/image14.wmf" ContentType="image/x-wm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240E-126B-484D-BA01-5C0474323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1F8C-8D50-4182-9F41-55A56D6B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5240-E266-4E27-BF36-FB34236E9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4C2-F114-4173-B774-4B5587B2E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089EF-A77F-4A48-BB1C-3EA88C9D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80BF9-F4F0-4CCF-8175-BB20952E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AA850-9DA2-4285-8BF2-A57CD97A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22AE-40B0-4321-BC34-612D918B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1AD7B-AA47-4D9A-B595-33970CEB8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9684-7DA1-4A2F-80A3-512D0123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F4BF-12DE-43DD-82FA-CCA2C80E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D732-6423-40CC-ABC5-E240D9B4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612C9-215C-47A8-B1A8-ED995CE3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F12E-8D0C-4673-9653-E6F617D8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9D05-3DB9-48C4-A3AF-B3050DC9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EFEC2-477D-4BF3-A689-30A3BF267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74245-D9D4-4ABF-BBBC-F295ABB7E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57A5-1A7C-4067-A29D-A86536803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C8A4-160B-4E7B-9E2D-022A271A7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7574-5C47-426E-877D-7219A7752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3F53-ECA9-4447-A86C-30DE1D087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078D-CB42-4955-A372-0803CD4A4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B77-3CB5-40DB-AB18-D1C8D133A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AF71-689A-453B-ABEA-874EC7CF0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8B16-F53F-4B2D-B9A8-2881D4E3808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F24EE-3DDA-469E-878C-76DE08FCDB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1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hs.ca.gov/ps/cdic/cpns/press/downloads/Sandwich.pn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hyperlink" Target="http://images.google.com/imgres?imgurl=http://upload.wikimedia.org/wikipedia/en/thumb/4/49/NyuTorch.jpg/150px-NyuTorch.jpg&amp;imgrefurl=http://en.wikipedia.org/wiki/New_York_University_School_of_Law&amp;h=168&amp;w=150&amp;sz=3&amp;hl=en&amp;start=2&amp;tbnid=4Z3h0FxWkGXPfM:&amp;tbnh=99&amp;tbnw=88&amp;prev=/images%3Fq%3Dnyu%2Btorch%26svnum%3D10%26hl%3Den%26lr%3D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4941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Lunch with Jura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3047760"/>
            <a:ext cx="6324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taurants and Eating Out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e C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nnifer May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mas Yag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ennifer Y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ggie Arvedlun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5411880" y="914400"/>
          <a:ext cx="1600200" cy="16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1880" y="914400"/>
                    <a:ext cx="1600200" cy="16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Individual Penalti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47520" y="2300400"/>
            <a:ext cx="9068040" cy="255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Group Penaltie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57040" y="1981080"/>
            <a:ext cx="8691840" cy="32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un Solver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6840" y="1798200"/>
            <a:ext cx="8458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inimize Overall Penalty based on group constrai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2371680" y="3124080"/>
            <a:ext cx="4400640" cy="23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olver Solu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2 groups at 10 different restaur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shifts each at Chipotle &amp; LeBas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one wants Hot Dogs or Mamoun’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group constraints m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 very unhappy  / 12 perfectly happy individu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onclusions &amp; Implications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7848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20200" indent="-520200">
              <a:spcBef>
                <a:spcPts val="15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ran is going to Choga at 1pm with this lucky bunch, and this group wants to drin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4280" indent="-450720">
              <a:spcBef>
                <a:spcPts val="150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ication:  Juran will be late to class, so don’t show up ’til the 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429000" y="4343400"/>
            <a:ext cx="1330200" cy="149400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7543800" y="5105520"/>
            <a:ext cx="1360440" cy="152388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2133720" y="5181480"/>
            <a:ext cx="1292040" cy="14479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4"/>
          <a:stretch/>
        </p:blipFill>
        <p:spPr>
          <a:xfrm>
            <a:off x="4800600" y="5105520"/>
            <a:ext cx="1208160" cy="14382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5"/>
          <a:stretch/>
        </p:blipFill>
        <p:spPr>
          <a:xfrm>
            <a:off x="6172200" y="4495680"/>
            <a:ext cx="1158840" cy="1285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6"/>
          <a:stretch/>
        </p:blipFill>
        <p:spPr>
          <a:xfrm>
            <a:off x="457200" y="4191120"/>
            <a:ext cx="1595520" cy="2133360"/>
          </a:xfrm>
          <a:prstGeom prst="rect">
            <a:avLst/>
          </a:prstGeom>
          <a:ln w="0">
            <a:noFill/>
          </a:ln>
        </p:spPr>
      </p:pic>
      <p:grpSp>
        <p:nvGrpSpPr>
          <p:cNvPr id="272" name=""/>
          <p:cNvGrpSpPr/>
          <p:nvPr/>
        </p:nvGrpSpPr>
        <p:grpSpPr>
          <a:xfrm>
            <a:off x="1905120" y="3581280"/>
            <a:ext cx="2286000" cy="1365120"/>
            <a:chOff x="1905120" y="3581280"/>
            <a:chExt cx="2286000" cy="1365120"/>
          </a:xfrm>
        </p:grpSpPr>
        <p:sp>
          <p:nvSpPr>
            <p:cNvPr id="273" name=""/>
            <p:cNvSpPr/>
            <p:nvPr/>
          </p:nvSpPr>
          <p:spPr>
            <a:xfrm>
              <a:off x="1905120" y="3581280"/>
              <a:ext cx="2286000" cy="1143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me to lunch with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e for a “good discussion.”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071800" y="4633560"/>
              <a:ext cx="747720" cy="312840"/>
            </a:xfrm>
            <a:custGeom>
              <a:avLst/>
              <a:gdLst/>
              <a:ahLst/>
              <a:rect l="l" t="t" r="r" b="b"/>
              <a:pathLst>
                <a:path w="471" h="197">
                  <a:moveTo>
                    <a:pt x="237" y="0"/>
                  </a:moveTo>
                  <a:cubicBezTo>
                    <a:pt x="214" y="106"/>
                    <a:pt x="169" y="127"/>
                    <a:pt x="76" y="160"/>
                  </a:cubicBezTo>
                  <a:cubicBezTo>
                    <a:pt x="52" y="168"/>
                    <a:pt x="20" y="197"/>
                    <a:pt x="0" y="179"/>
                  </a:cubicBezTo>
                  <a:lnTo>
                    <a:pt x="471" y="5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Highlights – </a:t>
            </a:r>
            <a:r>
              <a:rPr b="1" lang="en-US" sz="2800" spc="-1" strike="noStrike">
                <a:solidFill>
                  <a:srgbClr val="7c1302"/>
                </a:solidFill>
                <a:latin typeface="Arial"/>
              </a:rPr>
              <a:t>Headed to the Dosa Cart</a:t>
            </a:r>
            <a:endParaRPr b="1" lang="en-US" sz="28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791320" y="2590920"/>
            <a:ext cx="2415960" cy="32763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6397200" y="594288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sa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33520" y="4114800"/>
            <a:ext cx="1687320" cy="189216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3"/>
          <a:stretch/>
        </p:blipFill>
        <p:spPr>
          <a:xfrm>
            <a:off x="2743200" y="1752480"/>
            <a:ext cx="1619280" cy="181620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4"/>
          <a:stretch/>
        </p:blipFill>
        <p:spPr>
          <a:xfrm>
            <a:off x="550800" y="1752480"/>
            <a:ext cx="1563840" cy="17528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5"/>
          <a:stretch/>
        </p:blipFill>
        <p:spPr>
          <a:xfrm>
            <a:off x="2743200" y="4191120"/>
            <a:ext cx="1623960" cy="1820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625320" y="606420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even D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4320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oshua Fis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724280" y="228600"/>
            <a:ext cx="1905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590920" y="609588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yank Toshniw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3581280"/>
            <a:ext cx="16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lly Thu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4800" y="19810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43400" y="167652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cel is his bitch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Highlight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04920" y="3429000"/>
            <a:ext cx="8458200" cy="2013480"/>
            <a:chOff x="304920" y="3429000"/>
            <a:chExt cx="8458200" cy="2013480"/>
          </a:xfrm>
        </p:grpSpPr>
        <p:pic>
          <p:nvPicPr>
            <p:cNvPr id="291" name="" descr=""/>
            <p:cNvPicPr/>
            <p:nvPr/>
          </p:nvPicPr>
          <p:blipFill>
            <a:blip r:embed="rId1"/>
            <a:stretch/>
          </p:blipFill>
          <p:spPr>
            <a:xfrm>
              <a:off x="381240" y="3429000"/>
              <a:ext cx="136044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2" name="" descr=""/>
            <p:cNvPicPr/>
            <p:nvPr/>
          </p:nvPicPr>
          <p:blipFill>
            <a:blip r:embed="rId2"/>
            <a:stretch/>
          </p:blipFill>
          <p:spPr>
            <a:xfrm>
              <a:off x="3810240" y="3504960"/>
              <a:ext cx="1319040" cy="147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3" name="" descr=""/>
            <p:cNvPicPr/>
            <p:nvPr/>
          </p:nvPicPr>
          <p:blipFill>
            <a:blip r:embed="rId3"/>
            <a:stretch/>
          </p:blipFill>
          <p:spPr>
            <a:xfrm>
              <a:off x="2065320" y="3429000"/>
              <a:ext cx="13608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4" name="" descr=""/>
            <p:cNvPicPr/>
            <p:nvPr/>
          </p:nvPicPr>
          <p:blipFill>
            <a:blip r:embed="rId4"/>
            <a:stretch/>
          </p:blipFill>
          <p:spPr>
            <a:xfrm>
              <a:off x="7315200" y="3504960"/>
              <a:ext cx="129240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" descr=""/>
            <p:cNvPicPr/>
            <p:nvPr/>
          </p:nvPicPr>
          <p:blipFill>
            <a:blip r:embed="rId5"/>
            <a:stretch/>
          </p:blipFill>
          <p:spPr>
            <a:xfrm>
              <a:off x="5562720" y="3504960"/>
              <a:ext cx="1292400" cy="14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7162920" y="51051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assan Ka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639040" y="510516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lleen Now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810240" y="5105160"/>
              <a:ext cx="182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uzanne Girolam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4920" y="5105160"/>
              <a:ext cx="160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rother Curt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981440" y="5105160"/>
              <a:ext cx="1904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manda Gumber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990720" y="205740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se 2 lucky guys get to go eat veggies with 3 lovely ladies at Quantum L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An Alternative Solu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: Minimize the “differences” between groups of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ke the MBA Clusters model: For a given number of groups, have Solver assign the groups to minimize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rt with raw 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ndardize the data by coming up with z-sc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85080" indent="-344160">
              <a:lnSpc>
                <a:spcPct val="90000"/>
              </a:lnSpc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lver picks the “midpoints” such that the sum of the squares of the differences is minim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aw Data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do not use gender because that is a difference that we do not want to remov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33520" y="2948040"/>
            <a:ext cx="766116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tandardized Data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27120" y="2189160"/>
            <a:ext cx="78883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38680" y="2209680"/>
            <a:ext cx="2971800" cy="19764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Decision Model Final Projec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267080"/>
            <a:ext cx="761760" cy="7621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133720"/>
            <a:ext cx="761760" cy="76176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3200400"/>
            <a:ext cx="761760" cy="7621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257800"/>
            <a:ext cx="761760" cy="76212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2243160"/>
            <a:ext cx="3962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lem Overview &amp; Defin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321000"/>
            <a:ext cx="4419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rmulation &amp; Solution Methodolog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05120" y="4387680"/>
            <a:ext cx="6476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lution &amp; Find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5365800"/>
            <a:ext cx="6476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clusion and Wrap-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odel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457200" y="2378160"/>
            <a:ext cx="8229600" cy="30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uster Results – 12 Group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066680" y="1655640"/>
            <a:ext cx="6535800" cy="423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uster Results – 8 Group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971640" y="1763640"/>
            <a:ext cx="657216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uster Results – 4 Group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14400" y="1606680"/>
            <a:ext cx="6543720" cy="41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uster Results – 2 Group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990720" y="1477800"/>
            <a:ext cx="62452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Questions? 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98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5334120" y="1809720"/>
            <a:ext cx="2286000" cy="166860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cc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762120" y="1447920"/>
            <a:ext cx="2666880" cy="2028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3886200" y="426708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Problem Overview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9072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unch time dilemma – where do Stern students choose to eat lunch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ariety of different food, drink and time preferences among stude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ts of restaurant options…and budget constrain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p of Available Option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533520" y="1752480"/>
          <a:ext cx="2057400" cy="4411440"/>
        </p:xfrm>
        <a:graphic>
          <a:graphicData uri="http://schemas.openxmlformats.org/drawingml/2006/table">
            <a:tbl>
              <a:tblPr/>
              <a:tblGrid>
                <a:gridCol w="2057400"/>
              </a:tblGrid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  Mamoun'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  Quantum Lea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.  Dosa Ca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  Space Mar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.  Sp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.  Cafetas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.  Chipot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.  ‘Wichcra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.  Au Bon Pa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1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.  Le Bask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743200" y="1523880"/>
            <a:ext cx="6121080" cy="5106600"/>
            <a:chOff x="2743200" y="1523880"/>
            <a:chExt cx="6121080" cy="5106600"/>
          </a:xfrm>
        </p:grpSpPr>
        <p:graphicFrame>
          <p:nvGraphicFramePr>
            <p:cNvPr id="177" name=""/>
            <p:cNvGraphicFramePr/>
            <p:nvPr/>
          </p:nvGraphicFramePr>
          <p:xfrm>
            <a:off x="2743200" y="1600560"/>
            <a:ext cx="6121080" cy="502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743200" y="1600560"/>
                      <a:ext cx="6121080" cy="502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"/>
            <p:cNvSpPr/>
            <p:nvPr/>
          </p:nvSpPr>
          <p:spPr>
            <a:xfrm>
              <a:off x="5574240" y="2830680"/>
              <a:ext cx="382320" cy="30708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259160" y="5016600"/>
              <a:ext cx="382320" cy="30744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70200 h 307440"/>
                <a:gd name="textAreaBottom" fmla="*/ 23724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46280" y="2830680"/>
              <a:ext cx="382680" cy="30708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405280" y="3061440"/>
              <a:ext cx="382680" cy="30708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27920" y="5367240"/>
              <a:ext cx="382680" cy="30708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563600" y="2599920"/>
              <a:ext cx="382320" cy="30708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98600" y="2676600"/>
              <a:ext cx="382680" cy="30744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70200 h 307440"/>
                <a:gd name="textAreaBottom" fmla="*/ 23724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55200" y="3983760"/>
              <a:ext cx="382680" cy="30708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257600" y="2446200"/>
              <a:ext cx="382680" cy="307440"/>
            </a:xfrm>
            <a:custGeom>
              <a:avLst/>
              <a:gdLst>
                <a:gd name="textAreaLeft" fmla="*/ 87120 w 382680"/>
                <a:gd name="textAreaRight" fmla="*/ 295560 w 382680"/>
                <a:gd name="textAreaTop" fmla="*/ 70200 h 307440"/>
                <a:gd name="textAreaBottom" fmla="*/ 23724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40280" y="1523880"/>
              <a:ext cx="382320" cy="30744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70200 h 307440"/>
                <a:gd name="textAreaBottom" fmla="*/ 23724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9880" y="4444920"/>
              <a:ext cx="382320" cy="30708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69840 h 307080"/>
                <a:gd name="textAreaBottom" fmla="*/ 237240 h 30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579560" y="2676600"/>
              <a:ext cx="382320" cy="307440"/>
            </a:xfrm>
            <a:custGeom>
              <a:avLst/>
              <a:gdLst>
                <a:gd name="textAreaLeft" fmla="*/ 87120 w 382320"/>
                <a:gd name="textAreaRight" fmla="*/ 295200 w 382320"/>
                <a:gd name="textAreaTop" fmla="*/ 70200 h 307440"/>
                <a:gd name="textAreaBottom" fmla="*/ 237240 h 307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3104" y="13909"/>
                  </a:lnTo>
                  <a:lnTo>
                    <a:pt x="3163" y="18437"/>
                  </a:lnTo>
                  <a:lnTo>
                    <a:pt x="7557" y="18440"/>
                  </a:lnTo>
                  <a:lnTo>
                    <a:pt x="10800" y="21600"/>
                  </a:lnTo>
                  <a:lnTo>
                    <a:pt x="13909" y="18496"/>
                  </a:lnTo>
                  <a:lnTo>
                    <a:pt x="18437" y="18437"/>
                  </a:lnTo>
                  <a:lnTo>
                    <a:pt x="18440" y="14043"/>
                  </a:lnTo>
                  <a:lnTo>
                    <a:pt x="21600" y="10800"/>
                  </a:lnTo>
                  <a:lnTo>
                    <a:pt x="18496" y="7691"/>
                  </a:lnTo>
                  <a:lnTo>
                    <a:pt x="18437" y="3163"/>
                  </a:lnTo>
                  <a:lnTo>
                    <a:pt x="14043" y="3160"/>
                  </a:lnTo>
                  <a:lnTo>
                    <a:pt x="10800" y="0"/>
                  </a:lnTo>
                  <a:lnTo>
                    <a:pt x="7691" y="3104"/>
                  </a:lnTo>
                  <a:lnTo>
                    <a:pt x="3163" y="3163"/>
                  </a:lnTo>
                  <a:lnTo>
                    <a:pt x="3160" y="7557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19920" y="4419720"/>
            <a:ext cx="585720" cy="66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Managerial Problem Defini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ide 62 students + Professor Juran into a maximum of 24 different restaurant / time groups based on both individual and group criteri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dividual: Food, Eat in / take out, time, drinks, co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oup: size between 4 and 6 people, no on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inks alone, no one eats alone, at least one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male in each group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Formulation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99072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ision variable:  Lunch group assignment fo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ch pers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bjective:  Minimize penalties associated with creating individual dissatisfaction with assigned lunch group as well as not meeting group cri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traints:  # of lunch groups must be an integer between 1 and 24 (12 restaurants x 2 shift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olution Methodology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719360"/>
            <a:ext cx="84582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rvey 62 students and Professor Jur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Preferences fo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Slot: 12-1pm or 1-2pm (late to Jura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ce: Under $5, $5 -$10, Over $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rink? Yes or N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ake out or eat in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550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od Typ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010280" y="1752480"/>
            <a:ext cx="1082880" cy="1447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552760" y="5181480"/>
            <a:ext cx="1866960" cy="12956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04920" y="5181480"/>
            <a:ext cx="1904760" cy="127008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7010280" y="5181480"/>
            <a:ext cx="1905120" cy="12700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4800600" y="5181480"/>
            <a:ext cx="1905120" cy="12668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4267080" y="3505320"/>
            <a:ext cx="711360" cy="1066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-228600" y="4765680"/>
            <a:ext cx="92203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692280" indent="-3477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udy/Junk Foo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      Asi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egetaria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Soup &amp; Sandw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Survey Monkey Results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09480" y="1749600"/>
            <a:ext cx="7925040" cy="44989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981080" y="6248520"/>
            <a:ext cx="678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e:  Randomly assigned preference for each student that did not respond + Professor Jur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Restaurant Assessmen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84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65530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990720" y="6554880"/>
            <a:ext cx="22860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6320" y="6553080"/>
            <a:ext cx="228600" cy="228600"/>
          </a:xfrm>
          <a:prstGeom prst="ellipse">
            <a:avLst/>
          </a:prstGeom>
          <a:solidFill>
            <a:srgbClr val="7c13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6553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476360" y="1809720"/>
            <a:ext cx="6191280" cy="4057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23:26:06Z</dcterms:created>
  <dc:creator>Suzanne Doctor</dc:creator>
  <dc:description/>
  <dc:language>en-US</dc:language>
  <cp:lastModifiedBy>Stern School of Business</cp:lastModifiedBy>
  <dcterms:modified xsi:type="dcterms:W3CDTF">2006-12-06T18:29:24Z</dcterms:modified>
  <cp:revision>115</cp:revision>
  <dc:subject/>
  <dc:title>CHINA’S EXPORTS</dc:title>
</cp:coreProperties>
</file>