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8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35.wmf" ContentType="image/x-wmf"/>
  <Override PartName="/ppt/media/image24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10.png" ContentType="image/png"/>
  <Override PartName="/ppt/media/image27.jpeg" ContentType="image/jpeg"/>
  <Override PartName="/ppt/media/image13.wmf" ContentType="image/x-wmf"/>
  <Override PartName="/ppt/media/image30.jpeg" ContentType="image/jpeg"/>
  <Override PartName="/ppt/media/image37.wmf" ContentType="image/x-wmf"/>
  <Override PartName="/ppt/media/image31.wmf" ContentType="image/x-wmf"/>
  <Override PartName="/ppt/media/image11.png" ContentType="image/png"/>
  <Override PartName="/ppt/media/image19.jpeg" ContentType="image/jpeg"/>
  <Override PartName="/ppt/media/image32.wmf" ContentType="image/x-wmf"/>
  <Override PartName="/ppt/media/image20.jpeg" ContentType="image/jpeg"/>
  <Override PartName="/ppt/media/image34.wmf" ContentType="image/x-wmf"/>
  <Override PartName="/ppt/media/image36.wmf" ContentType="image/x-wmf"/>
  <Override PartName="/ppt/media/image29.jpeg" ContentType="image/jpeg"/>
  <Override PartName="/ppt/media/image33.wmf" ContentType="image/x-wmf"/>
  <Override PartName="/ppt/media/image40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538-78C1-46D5-9849-E8B84537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3780-DD55-40AE-A7B9-C9DC737C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F9C-D2C8-40F6-9E0A-4ECB47CF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314-8657-4B12-BDD2-FEDB08C5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D09C-116B-41DD-BF34-B11CAFB8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D97B-5C73-4859-ADEC-6720D56B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6223-9476-4F5B-8AD0-B9F94FDB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A3A4-0D48-4325-8E68-408CE750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0E15-0BE9-437E-9CC1-7CBC1FA9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FB23-4824-4516-96B4-D5903205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1DA0-4AEB-4C69-A956-25010753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887-C96D-46BA-826C-5A62497B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3F95-83E3-4967-A092-7616BB8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2BD3-0531-4261-A45B-45023218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F134-7C8B-4CA9-AE3C-5094407C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2B9D-F4EF-47D5-B966-6190679A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C57F-D018-4223-A428-A4684694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437-582A-464F-9CA7-8AC8652C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C4C-7250-40CF-96E5-287A25DB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CEA-E05D-4451-85F3-603161DB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01C-71B2-4D9F-AA0C-774D1319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F05-3594-4EE5-A5B9-654E3951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303-AD88-483F-83B8-80C4097E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3C8-225A-473E-9A79-044620C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C13B-8C9F-45A8-ADFC-81932FAB0E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295F-47A8-4649-9BB9-8461D815FB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hs.ca.gov/ps/cdic/cpns/press/downloads/Sandwich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upload.wikimedia.org/wikipedia/en/thumb/4/49/NyuTorch.jpg/150px-NyuTorch.jpg&amp;imgrefurl=http://en.wikipedia.org/wiki/New_York_University_School_of_Law&amp;h=168&amp;w=150&amp;sz=3&amp;hl=en&amp;start=2&amp;tbnid=4Z3h0FxWkGXPfM:&amp;tbnh=99&amp;tbnw=88&amp;prev=/images%3Fq%3Dnyu%2Btorch%26svnum%3D10%26hl%3Den%26lr%3D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494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Lunch with Jura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aurants and Eating Ou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e C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nnifer M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mas Yag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nnifer Y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gie Arvedlu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1880" y="914400"/>
          <a:ext cx="1600200" cy="16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1880" y="914400"/>
                    <a:ext cx="160020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dividual Penalti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7520" y="2300400"/>
            <a:ext cx="906804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Group Penalti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7040" y="1981080"/>
            <a:ext cx="869184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un Solver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79820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ize Overall Penalty based on group constra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371680" y="3124080"/>
            <a:ext cx="440064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olver 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2 groups at 10 different restaur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shifts each at Chipotle &amp; LeBas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wants Hot Dogs or Mamoun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group constraints m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very unhappy  / 12 perfectly happy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nclusions &amp; Implications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-520200">
              <a:spcBef>
                <a:spcPts val="15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ran is going to Choga at 1pm with this lucky bunch, and this group wants to drin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4280" indent="-450720">
              <a:spcBef>
                <a:spcPts val="15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:  Juran will be late to class, so don’t show up ’til the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1330200" cy="1494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543800" y="5105520"/>
            <a:ext cx="1360440" cy="1523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2133720" y="5181480"/>
            <a:ext cx="1292040" cy="1447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800600" y="5105520"/>
            <a:ext cx="1208160" cy="1438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172200" y="4495680"/>
            <a:ext cx="1158840" cy="1285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5955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1905120" y="3581280"/>
            <a:ext cx="2286000" cy="1365120"/>
            <a:chOff x="1905120" y="3581280"/>
            <a:chExt cx="2286000" cy="1365120"/>
          </a:xfrm>
        </p:grpSpPr>
        <p:sp>
          <p:nvSpPr>
            <p:cNvPr id="273" name=""/>
            <p:cNvSpPr/>
            <p:nvPr/>
          </p:nvSpPr>
          <p:spPr>
            <a:xfrm>
              <a:off x="1905120" y="3581280"/>
              <a:ext cx="2286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e to lunch wit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 for a “good discussion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71800" y="4633560"/>
              <a:ext cx="747720" cy="312840"/>
            </a:xfrm>
            <a:custGeom>
              <a:avLst/>
              <a:gdLst/>
              <a:ahLst/>
              <a:rect l="l" t="t" r="r" b="b"/>
              <a:pathLst>
                <a:path w="471" h="197">
                  <a:moveTo>
                    <a:pt x="237" y="0"/>
                  </a:moveTo>
                  <a:cubicBezTo>
                    <a:pt x="214" y="106"/>
                    <a:pt x="169" y="127"/>
                    <a:pt x="76" y="160"/>
                  </a:cubicBezTo>
                  <a:cubicBezTo>
                    <a:pt x="52" y="168"/>
                    <a:pt x="20" y="197"/>
                    <a:pt x="0" y="179"/>
                  </a:cubicBezTo>
                  <a:lnTo>
                    <a:pt x="471" y="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Highlights – </a:t>
            </a:r>
            <a:r>
              <a:rPr b="1" lang="en-US" sz="2800" spc="-1" strike="noStrike">
                <a:solidFill>
                  <a:srgbClr val="7c1302"/>
                </a:solidFill>
                <a:latin typeface="Arial"/>
              </a:rPr>
              <a:t>Headed to the Dosa Cart</a:t>
            </a:r>
            <a:endParaRPr b="1" lang="en-US" sz="28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415960" cy="32763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397200" y="5942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a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1687320" cy="1892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743200" y="1752480"/>
            <a:ext cx="1619280" cy="1816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550800" y="1752480"/>
            <a:ext cx="1563840" cy="17528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2743200" y="4191120"/>
            <a:ext cx="1623960" cy="1820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25320" y="60642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ven D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hua Fis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228600"/>
            <a:ext cx="1905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60958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ank Toshniw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lly Thu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4800" y="1981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16765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is his bit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Highligh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4920" y="3429000"/>
            <a:ext cx="8458200" cy="2013480"/>
            <a:chOff x="304920" y="3429000"/>
            <a:chExt cx="8458200" cy="201348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381240" y="34290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>
              <a:off x="3810240" y="3504960"/>
              <a:ext cx="1319040" cy="14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>
              <a:off x="2065320" y="3429000"/>
              <a:ext cx="1360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4"/>
            <a:stretch/>
          </p:blipFill>
          <p:spPr>
            <a:xfrm>
              <a:off x="7315200" y="3504960"/>
              <a:ext cx="12924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5"/>
            <a:stretch/>
          </p:blipFill>
          <p:spPr>
            <a:xfrm>
              <a:off x="5562720" y="3504960"/>
              <a:ext cx="12924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162920" y="5105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assan K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39040" y="510516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lleen Now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10240" y="510516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zanne Girola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4920" y="5105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other Curt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81440" y="510516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manda Gumber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990720" y="20574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2 lucky guys get to go eat veggies with 3 lovely ladies at Quantum L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n Alternative 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: Minimize the “differences” between groups of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 the MBA Clusters model: For a given number of groups, have Solver assign the groups to minimize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with raw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ize the data by coming up with z-sc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r picks the “midpoints” such that the sum of the squares of the differences is minim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aw Dat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do not use gender because that is a difference that we do not want to rem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33520" y="2948040"/>
            <a:ext cx="76611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andardized Dat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27120" y="2189160"/>
            <a:ext cx="7888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209680"/>
            <a:ext cx="2971800" cy="1976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cision Model Final Projec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267080"/>
            <a:ext cx="76176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133720"/>
            <a:ext cx="761760" cy="76176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200400"/>
            <a:ext cx="761760" cy="7621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257800"/>
            <a:ext cx="761760" cy="7621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24316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Overview &amp;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32100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ulation &amp; Solu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4387680"/>
            <a:ext cx="647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&amp; 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5365800"/>
            <a:ext cx="647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 and Wrap-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odel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2378160"/>
            <a:ext cx="82296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12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066680" y="1655640"/>
            <a:ext cx="653580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8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971640" y="1763640"/>
            <a:ext cx="65721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4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14400" y="1606680"/>
            <a:ext cx="654372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2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990720" y="1477800"/>
            <a:ext cx="6245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Questions?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334120" y="1809720"/>
            <a:ext cx="2286000" cy="16686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2666880" cy="2028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3886200" y="42670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roblem 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nch time dilemma – where do Stern students choose to eat lun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ety of different food, drink and time preferences among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restaurant options…and budget constra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 of Available Option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33520" y="1752480"/>
          <a:ext cx="2057400" cy="4411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 Mamoun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 Quantum L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 Dosa 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 Space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 Sp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  Cafeta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  Chipo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 ‘Wichc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 Au Bon 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 Le Bas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743200" y="1523880"/>
            <a:ext cx="6121080" cy="5106600"/>
            <a:chOff x="2743200" y="1523880"/>
            <a:chExt cx="6121080" cy="5106600"/>
          </a:xfrm>
        </p:grpSpPr>
        <p:graphicFrame>
          <p:nvGraphicFramePr>
            <p:cNvPr id="177" name=""/>
            <p:cNvGraphicFramePr/>
            <p:nvPr/>
          </p:nvGraphicFramePr>
          <p:xfrm>
            <a:off x="2743200" y="1600560"/>
            <a:ext cx="6121080" cy="502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1600560"/>
                      <a:ext cx="6121080" cy="50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5574240" y="2830680"/>
              <a:ext cx="382320" cy="30708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59160" y="5016600"/>
              <a:ext cx="382320" cy="30744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46280" y="283068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05280" y="306144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27920" y="536724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3600" y="2599920"/>
              <a:ext cx="382320" cy="30708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98600" y="2676600"/>
              <a:ext cx="382680" cy="30744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5200" y="398376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57600" y="2446200"/>
              <a:ext cx="382680" cy="30744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40280" y="1523880"/>
              <a:ext cx="382320" cy="30744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9880" y="4444920"/>
              <a:ext cx="382320" cy="30708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9560" y="2676600"/>
              <a:ext cx="382320" cy="30744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419720"/>
            <a:ext cx="585720" cy="6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nagerial Problem Defini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62 students + Professor Juran into a maximum of 24 different restaurant / time groups based on both individual and group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: Food, Eat in / take out, time, drinks, c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: size between 4 and 6 people, no on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inks alone, no one eats alone, at least on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male in each gro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variable:  Lunch group assignment f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pe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:  Minimize penalties associated with creating individual dissatisfaction with assigned lunch group as well as not meeting group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aints:  # of lunch groups must be an integer between 1 and 24 (12 restaurants x 2 shif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olution Methodology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y 62 students and Professor Jur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Preferences f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Slot: 12-1pm or 1-2pm (late to Jur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ce: Under $5, $5 -$10, Over $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ink? Yes or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out or eat 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Typ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08288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52760" y="5181480"/>
            <a:ext cx="1866960" cy="1295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04920" y="518148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010280" y="51814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4800600" y="518148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267080" y="3505320"/>
            <a:ext cx="711360" cy="1066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-228600" y="4765680"/>
            <a:ext cx="9220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y/Junk Foo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Asi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getari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oup &amp; Sandw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urvey Monkey Resul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09480" y="1749600"/>
            <a:ext cx="7925040" cy="449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981080" y="6248520"/>
            <a:ext cx="678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Randomly assigned preference for each student that did not respond + Professor Ju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staurant Assessmen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76360" y="1809720"/>
            <a:ext cx="6191280" cy="405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3:26:06Z</dcterms:created>
  <dc:creator>Suzanne Doctor</dc:creator>
  <dc:description/>
  <dc:language>en-US</dc:language>
  <cp:lastModifiedBy>Stern School of Business</cp:lastModifiedBy>
  <dcterms:modified xsi:type="dcterms:W3CDTF">2006-12-06T18:29:24Z</dcterms:modified>
  <cp:revision>115</cp:revision>
  <dc:subject/>
  <dc:title>CHINA’S EXPORTS</dc:title>
</cp:coreProperties>
</file>